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25.pct" ContentType="image/x-pict"/>
  <Override PartName="/ppt/media/image2.pct" ContentType="image/x-pict"/>
  <Override PartName="/ppt/media/image32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45.pct" ContentType="image/x-pict"/>
  <Override PartName="/ppt/media/image46.pct" ContentType="image/x-pict"/>
  <Override PartName="/ppt/media/image48.pct" ContentType="image/x-pict"/>
  <Override PartName="/ppt/media/image11.pct" ContentType="image/x-pict"/>
  <Override PartName="/ppt/media/image49.pct" ContentType="image/x-pict"/>
  <Override PartName="/ppt/media/image12.pct" ContentType="image/x-pict"/>
  <Override PartName="/ppt/media/image10.pct" ContentType="image/x-pict"/>
  <Override PartName="/ppt/media/image47.pct" ContentType="image/x-pict"/>
  <Override PartName="/ppt/media/image37.pct" ContentType="image/x-pict"/>
  <Override PartName="/ppt/media/image7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907588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B44-53B8-496F-AC82-491B526C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B69-905C-4F61-82FB-D475B65A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9C9-B18C-4501-BC64-18967E57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195-2B26-4881-B43E-E5BD2EEC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EA7-43E6-4B5B-9163-44321CDA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A6B-0CA5-4CE8-B230-87F12E0B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7AA-0766-4EF2-B887-CCA15BBC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7E4-A2DD-4C8D-950C-DD2DB49E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3C4-1FB6-4D43-97D1-8DD6A46C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49E-64F6-44C5-A310-16C06E8E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95E-1C31-4378-B06C-DAC8FE2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79D-5BFA-48B2-98F4-8AA701A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C31D-64C8-4058-972B-6D90B37D99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image" Target="../media/image44.pct"/><Relationship Id="rId3" Type="http://schemas.openxmlformats.org/officeDocument/2006/relationships/image" Target="../media/image45.pct"/><Relationship Id="rId4" Type="http://schemas.openxmlformats.org/officeDocument/2006/relationships/image" Target="../media/image46.pct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image" Target="../media/image13.pct"/><Relationship Id="rId6" Type="http://schemas.openxmlformats.org/officeDocument/2006/relationships/image" Target="../media/image14.pct"/><Relationship Id="rId7" Type="http://schemas.openxmlformats.org/officeDocument/2006/relationships/image" Target="../media/image15.pct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image" Target="../media/image20.pct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image" Target="../media/image24.pct"/><Relationship Id="rId5" Type="http://schemas.openxmlformats.org/officeDocument/2006/relationships/image" Target="../media/image25.pct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image" Target="../media/image32.pct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image" Target="../media/image35.pct"/><Relationship Id="rId5" Type="http://schemas.openxmlformats.org/officeDocument/2006/relationships/image" Target="../media/image36.pct"/><Relationship Id="rId6" Type="http://schemas.openxmlformats.org/officeDocument/2006/relationships/image" Target="../media/image37.pct"/><Relationship Id="rId7" Type="http://schemas.openxmlformats.org/officeDocument/2006/relationships/image" Target="../media/image38.pct"/><Relationship Id="rId8" Type="http://schemas.openxmlformats.org/officeDocument/2006/relationships/image" Target="../media/image39.pct"/><Relationship Id="rId9" Type="http://schemas.openxmlformats.org/officeDocument/2006/relationships/image" Target="../media/image40.pct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621036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</a:rPr>
              <a:t>A model prediction for polarized antiquark flavor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362320"/>
            <a:ext cx="556236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Shunzo K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Sag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umanos@cc.saga-u.ac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http://hs.phys.saga-u.ac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llaborator :</a:t>
            </a: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 </a:t>
            </a:r>
            <a:r>
              <a:rPr b="1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M. Miyama</a:t>
            </a: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                            </a:t>
            </a: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(Tokyo Metro. U.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3rd Circum-Pan-Pacific Symposium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"High Energy Spin Physic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ct. 8-13, 2001, Beijing, China</a:t>
            </a:r>
            <a:r>
              <a:rPr b="0" lang="ja-JP" sz="26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Ref. SAGA-HE-176 (hep-ph/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</a:rPr>
              <a:t>0110097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9400" y="8610480"/>
            <a:ext cx="18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. 11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Meson distributions (</a:t>
            </a:r>
            <a:r>
              <a:rPr b="0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N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410440" cy="75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Meson distributions (</a:t>
            </a:r>
            <a:r>
              <a:rPr b="0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5575320" cy="778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639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Parton distributions in </a:t>
            </a:r>
            <a:r>
              <a:rPr b="0" lang="ja-JP" sz="3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768760" cy="35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3682800" cy="66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3048120"/>
            <a:ext cx="4597200" cy="660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38680" y="3886200"/>
            <a:ext cx="51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M. Glück et al. (GRS), Euro. Phys. J. C10 (1999) 3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14400" y="4724280"/>
            <a:ext cx="52959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479760" cy="482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5473800" cy="79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561348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7520" y="74304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4738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5320" y="3733920"/>
            <a:ext cx="47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Drell-Yan, semi-inclusive 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0360" y="8305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from hep-ex/01030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144000"/>
            <a:ext cx="456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cd"/>
                </a:solidFill>
                <a:latin typeface="Times New Roman"/>
                <a:ea typeface="ＭＳ 明朝"/>
              </a:rPr>
              <a:t>see SK, Phys. Rep. 303 (1998) 1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34240" y="1295280"/>
            <a:ext cx="5276160" cy="2143080"/>
            <a:chOff x="534240" y="1295280"/>
            <a:chExt cx="5276160" cy="2143080"/>
          </a:xfrm>
        </p:grpSpPr>
        <p:grpSp>
          <p:nvGrpSpPr>
            <p:cNvPr id="50" name=""/>
            <p:cNvGrpSpPr/>
            <p:nvPr/>
          </p:nvGrpSpPr>
          <p:grpSpPr>
            <a:xfrm>
              <a:off x="534240" y="1295280"/>
              <a:ext cx="5276160" cy="520560"/>
              <a:chOff x="534240" y="1295280"/>
              <a:chExt cx="5276160" cy="520560"/>
            </a:xfrm>
          </p:grpSpPr>
          <p:sp>
            <p:nvSpPr>
              <p:cNvPr id="51" name=""/>
              <p:cNvSpPr/>
              <p:nvPr/>
            </p:nvSpPr>
            <p:spPr>
              <a:xfrm>
                <a:off x="534240" y="1295280"/>
                <a:ext cx="237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buClr>
                    <a:srgbClr val="008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8000"/>
                    </a:solidFill>
                    <a:latin typeface="Times New Roman"/>
                    <a:ea typeface="ＭＳ 明朝"/>
                  </a:rPr>
                  <a:t> </a:t>
                </a:r>
                <a:r>
                  <a:rPr b="0" lang="ja-JP" sz="2800" spc="-1" strike="noStrike">
                    <a:solidFill>
                      <a:srgbClr val="008000"/>
                    </a:solidFill>
                    <a:latin typeface="Times New Roman"/>
                    <a:ea typeface="ＭＳ 明朝"/>
                  </a:rPr>
                  <a:t>Gottfried su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52720" y="1417680"/>
                <a:ext cx="285768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608120" y="1863720"/>
              <a:ext cx="382284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0880" y="51814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429000" y="5181480"/>
            <a:ext cx="3083040" cy="3083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71600" y="4419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ermilab E772/E866, NA51, H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33520" y="457200"/>
            <a:ext cx="3073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768760" cy="55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5600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791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eson-cloud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3555720" cy="10414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533520" y="4191120"/>
            <a:ext cx="6095880" cy="3479760"/>
            <a:chOff x="533520" y="4191120"/>
            <a:chExt cx="6095880" cy="347976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200400" y="4800600"/>
              <a:ext cx="17017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08760" y="472464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e also the work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82480" y="5105520"/>
              <a:ext cx="3115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900" spc="-1" strike="noStrike">
                  <a:solidFill>
                    <a:srgbClr val="000000"/>
                  </a:solidFill>
                  <a:latin typeface="Arial"/>
                </a:rPr>
                <a:t>Phys. Lett. B443 (1998) 40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838080" y="5639040"/>
              <a:ext cx="5791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1371600" y="6629400"/>
              <a:ext cx="448308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533520" y="4191120"/>
              <a:ext cx="392436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09480" y="1447920"/>
            <a:ext cx="2502000" cy="2222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09480" y="8153280"/>
            <a:ext cx="49914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59120" cy="48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62120" y="2819520"/>
            <a:ext cx="5448240" cy="349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1447920"/>
            <a:ext cx="5143680" cy="977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9480" y="8305920"/>
            <a:ext cx="5981760" cy="647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85800" y="6705720"/>
            <a:ext cx="56768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5410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and g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908440" cy="571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5283360" cy="698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133344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724280" y="3657600"/>
            <a:ext cx="1600200" cy="762120"/>
          </a:xfrm>
          <a:prstGeom prst="rect">
            <a:avLst/>
          </a:pr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4800" y="579132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Longitudin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219320" y="8305920"/>
            <a:ext cx="4152960" cy="67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5800" y="1828800"/>
            <a:ext cx="5651640" cy="1308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1371600" y="6400800"/>
            <a:ext cx="43434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822cd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1822cd"/>
                </a:solidFill>
                <a:latin typeface="Times New Roman"/>
              </a:rPr>
              <a:t>-meson contribution to g</a:t>
            </a:r>
            <a:r>
              <a:rPr b="0" lang="en-US" sz="3600" spc="-1" strike="noStrike" baseline="-25000">
                <a:solidFill>
                  <a:srgbClr val="1822c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4800" y="28954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Longitudin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6240" y="502920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ransverse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7086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4965840" cy="1536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86400"/>
            <a:ext cx="496584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38080" y="7238880"/>
            <a:ext cx="5715000" cy="2387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3520" y="1523880"/>
            <a:ext cx="3797280" cy="660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038480" y="1600200"/>
            <a:ext cx="2502000" cy="2222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09480" y="2362320"/>
            <a:ext cx="2210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876920" y="4952880"/>
            <a:ext cx="533160" cy="609480"/>
            <a:chOff x="4876920" y="4952880"/>
            <a:chExt cx="533160" cy="609480"/>
          </a:xfrm>
        </p:grpSpPr>
        <p:sp>
          <p:nvSpPr>
            <p:cNvPr id="96" name=""/>
            <p:cNvSpPr/>
            <p:nvPr/>
          </p:nvSpPr>
          <p:spPr>
            <a:xfrm flipH="1">
              <a:off x="4876920" y="495288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29200" y="495288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742840" y="5791320"/>
            <a:ext cx="533880" cy="609480"/>
            <a:chOff x="2742840" y="5791320"/>
            <a:chExt cx="533880" cy="609480"/>
          </a:xfrm>
        </p:grpSpPr>
        <p:sp>
          <p:nvSpPr>
            <p:cNvPr id="99" name=""/>
            <p:cNvSpPr/>
            <p:nvPr/>
          </p:nvSpPr>
          <p:spPr>
            <a:xfrm flipH="1">
              <a:off x="2742840" y="579132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95840" y="579132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24280" y="5791320"/>
            <a:ext cx="533160" cy="609480"/>
            <a:chOff x="4724280" y="5791320"/>
            <a:chExt cx="533160" cy="609480"/>
          </a:xfrm>
        </p:grpSpPr>
        <p:sp>
          <p:nvSpPr>
            <p:cNvPr id="102" name=""/>
            <p:cNvSpPr/>
            <p:nvPr/>
          </p:nvSpPr>
          <p:spPr>
            <a:xfrm flipH="1">
              <a:off x="4724280" y="579132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876560" y="579132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276720" y="64771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800600" y="1371600"/>
            <a:ext cx="1600200" cy="761760"/>
            <a:chOff x="4800600" y="1371600"/>
            <a:chExt cx="1600200" cy="7617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952880" y="1447560"/>
              <a:ext cx="1333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800600" y="1371600"/>
              <a:ext cx="1600200" cy="761760"/>
            </a:xfrm>
            <a:prstGeom prst="rect">
              <a:avLst/>
            </a:prstGeom>
            <a:noFill/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447560" y="5257800"/>
            <a:ext cx="304560" cy="380880"/>
            <a:chOff x="1447560" y="5257800"/>
            <a:chExt cx="304560" cy="380880"/>
          </a:xfrm>
        </p:grpSpPr>
        <p:sp>
          <p:nvSpPr>
            <p:cNvPr id="109" name=""/>
            <p:cNvSpPr/>
            <p:nvPr/>
          </p:nvSpPr>
          <p:spPr>
            <a:xfrm flipH="1">
              <a:off x="1447560" y="52578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523520" y="52578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38280" y="8153280"/>
            <a:ext cx="2934000" cy="381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5029200" cy="482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9480" y="1905120"/>
            <a:ext cx="392436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09480" y="2666880"/>
            <a:ext cx="1067040" cy="432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609480" y="2819520"/>
            <a:ext cx="5956560" cy="1409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85800" y="4114800"/>
            <a:ext cx="5651640" cy="2324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1676520" y="7086600"/>
            <a:ext cx="3581280" cy="749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505320" y="6553080"/>
            <a:ext cx="7747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1T06:38:28Z</dcterms:created>
  <dc:creator>原子核理論研究室</dc:creator>
  <dc:description/>
  <dc:language>en-US</dc:language>
  <cp:lastModifiedBy>S. Kumano</cp:lastModifiedBy>
  <cp:lastPrinted>2001-10-16T00:36:42Z</cp:lastPrinted>
  <dcterms:modified xsi:type="dcterms:W3CDTF">2001-10-16T00:36:58Z</dcterms:modified>
  <cp:revision>239</cp:revision>
  <dc:subject/>
  <dc:title>Flavor asymmetry in polarized antiquark distributions</dc:title>
</cp:coreProperties>
</file>