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ct" ContentType="image/x-pict"/>
  <Override PartName="/ppt/media/image55.pct" ContentType="image/x-pict"/>
  <Override PartName="/ppt/media/image54.pct" ContentType="image/x-pict"/>
  <Override PartName="/ppt/media/image53.pct" ContentType="image/x-pict"/>
  <Override PartName="/ppt/media/image52.pct" ContentType="image/x-pict"/>
  <Override PartName="/ppt/media/image51.png" ContentType="image/png"/>
  <Override PartName="/ppt/media/image65.pct" ContentType="image/x-pict"/>
  <Override PartName="/ppt/media/image50.pct" ContentType="image/x-pict"/>
  <Override PartName="/ppt/media/image46.pct" ContentType="image/x-pict"/>
  <Override PartName="/ppt/media/image44.pct" ContentType="image/x-pict"/>
  <Override PartName="/ppt/media/image43.pct" ContentType="image/x-pict"/>
  <Override PartName="/ppt/media/image42.pct" ContentType="image/x-pict"/>
  <Override PartName="/ppt/media/image41.pct" ContentType="image/x-pict"/>
  <Override PartName="/ppt/media/image57.jpeg" ContentType="image/jpeg"/>
  <Override PartName="/ppt/media/image77.pct" ContentType="image/x-pict"/>
  <Override PartName="/ppt/media/image40.pct" ContentType="image/x-pict"/>
  <Override PartName="/ppt/media/image39.pct" ContentType="image/x-pict"/>
  <Override PartName="/ppt/media/image38.pct" ContentType="image/x-pict"/>
  <Override PartName="/ppt/media/image30.pct" ContentType="image/x-pict"/>
  <Override PartName="/ppt/media/image13.pct" ContentType="image/x-pict"/>
  <Override PartName="/ppt/media/image1.pct" ContentType="image/x-pict"/>
  <Override PartName="/ppt/media/image45.pct" ContentType="image/x-pict"/>
  <Override PartName="/ppt/media/image9.jpeg" ContentType="image/jpeg"/>
  <Override PartName="/ppt/media/image33.pct" ContentType="image/x-pict"/>
  <Override PartName="/ppt/media/image3.pct" ContentType="image/x-pict"/>
  <Override PartName="/ppt/media/image15.pct" ContentType="image/x-pict"/>
  <Override PartName="/ppt/media/image80.pct" ContentType="image/x-pict"/>
  <Override PartName="/ppt/media/image26.pct" ContentType="image/x-pict"/>
  <Override PartName="/ppt/media/image91.pct" ContentType="image/x-pict"/>
  <Override PartName="/ppt/media/image49.pct" ContentType="image/x-pict"/>
  <Override PartName="/ppt/media/image12.pct" ContentType="image/x-pict"/>
  <Override PartName="/ppt/media/image37.pct" ContentType="image/x-pict"/>
  <Override PartName="/ppt/media/image7.pct" ContentType="image/x-pict"/>
  <Override PartName="/ppt/media/image19.pct" ContentType="image/x-pict"/>
  <Override PartName="/ppt/media/image84.pct" ContentType="image/x-pict"/>
  <Override PartName="/ppt/media/image48.pct" ContentType="image/x-pict"/>
  <Override PartName="/ppt/media/image11.pct" ContentType="image/x-pict"/>
  <Override PartName="/ppt/media/image36.pct" ContentType="image/x-pict"/>
  <Override PartName="/ppt/media/image22.pct" ContentType="image/x-pict"/>
  <Override PartName="/ppt/media/image59.pct" ContentType="image/x-pict"/>
  <Override PartName="/ppt/media/image63.pct" ContentType="image/x-pict"/>
  <Override PartName="/ppt/media/image66.pct" ContentType="image/x-pict"/>
  <Override PartName="/ppt/media/image67.pct" ContentType="image/x-pict"/>
  <Override PartName="/ppt/media/image68.pct" ContentType="image/x-pict"/>
  <Override PartName="/ppt/media/image31.pct" ContentType="image/x-pict"/>
  <Override PartName="/ppt/media/image70.pct" ContentType="image/x-pict"/>
  <Override PartName="/ppt/media/image69.pct" ContentType="image/x-pict"/>
  <Override PartName="/ppt/media/image32.pct" ContentType="image/x-pict"/>
  <Override PartName="/ppt/media/image71.pct" ContentType="image/x-pict"/>
  <Override PartName="/ppt/media/image72.pct" ContentType="image/x-pict"/>
  <Override PartName="/ppt/media/image62.pct" ContentType="image/x-pict"/>
  <Override PartName="/ppt/media/image97.pct" ContentType="image/x-pict"/>
  <Override PartName="/ppt/media/image60.pct" ContentType="image/x-pict"/>
  <Override PartName="/ppt/media/image85.pct" ContentType="image/x-pict"/>
  <Override PartName="/ppt/media/image73.pct" ContentType="image/x-pict"/>
  <Override PartName="/ppt/media/image61.pct" ContentType="image/x-pict"/>
  <Override PartName="/ppt/media/image78.pct" ContentType="image/x-pict"/>
  <Override PartName="/ppt/media/image64.png" ContentType="image/png"/>
  <Override PartName="/ppt/media/image96.pct" ContentType="image/x-pict"/>
  <Override PartName="/ppt/media/image23.pct" ContentType="image/x-pict"/>
  <Override PartName="/ppt/media/image95.pct" ContentType="image/x-pict"/>
  <Override PartName="/ppt/media/image89.pct" ContentType="image/x-pict"/>
  <Override PartName="/ppt/media/image88.pct" ContentType="image/x-pict"/>
  <Override PartName="/ppt/media/image76.pct" ContentType="image/x-pict"/>
  <Override PartName="/ppt/media/image87.pct" ContentType="image/x-pict"/>
  <Override PartName="/ppt/media/image75.pct" ContentType="image/x-pict"/>
  <Override PartName="/ppt/media/image86.pct" ContentType="image/x-pict"/>
  <Override PartName="/ppt/media/image74.pct" ContentType="image/x-pict"/>
  <Override PartName="/ppt/media/image79.pct" ContentType="image/x-pict"/>
  <Override PartName="/ppt/media/image21.pct" ContentType="image/x-pict"/>
  <Override PartName="/ppt/media/image58.pct" ContentType="image/x-pict"/>
  <Override PartName="/ppt/media/image20.pct" ContentType="image/x-pict"/>
  <Override PartName="/ppt/media/image24.pct" ContentType="image/x-pict"/>
  <Override PartName="/ppt/media/image8.jpeg" ContentType="image/jpeg"/>
  <Override PartName="/ppt/media/image35.pct" ContentType="image/x-pict"/>
  <Override PartName="/ppt/media/image17.pct" ContentType="image/x-pict"/>
  <Override PartName="/ppt/media/image5.pct" ContentType="image/x-pict"/>
  <Override PartName="/ppt/media/image82.pct" ContentType="image/x-pict"/>
  <Override PartName="/ppt/media/image90.pct" ContentType="image/x-pict"/>
  <Override PartName="/ppt/media/image25.pct" ContentType="image/x-pict"/>
  <Override PartName="/ppt/media/image2.pct" ContentType="image/x-pict"/>
  <Override PartName="/ppt/media/image14.pct" ContentType="image/x-pict"/>
  <Override PartName="/ppt/media/image28.pct" ContentType="image/x-pict"/>
  <Override PartName="/ppt/media/image93.pct" ContentType="image/x-pict"/>
  <Override PartName="/ppt/media/image92.pct" ContentType="image/x-pict"/>
  <Override PartName="/ppt/media/image27.pct" ContentType="image/x-pict"/>
  <Override PartName="/ppt/media/image16.pct" ContentType="image/x-pict"/>
  <Override PartName="/ppt/media/image81.pct" ContentType="image/x-pict"/>
  <Override PartName="/ppt/media/image4.pct" ContentType="image/x-pict"/>
  <Override PartName="/ppt/media/image34.pct" ContentType="image/x-pict"/>
  <Override PartName="/ppt/media/image10.pct" ContentType="image/x-pict"/>
  <Override PartName="/ppt/media/image47.pct" ContentType="image/x-pict"/>
  <Override PartName="/ppt/media/image29.pct" ContentType="image/x-pict"/>
  <Override PartName="/ppt/media/image94.pct" ContentType="image/x-pict"/>
  <Override PartName="/ppt/media/image18.pct" ContentType="image/x-pict"/>
  <Override PartName="/ppt/media/image83.pct" ContentType="image/x-pict"/>
  <Override PartName="/ppt/media/image6.pct" ContentType="image/x-pi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6858000" cy="9907588"/>
  <p:notesSz cx="9831388" cy="6721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2FBC-6508-4E37-A3DA-CD352A74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596A-4FBE-4E74-AA7E-89C4D243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799A-C3B7-4120-BB32-B18E07F7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A490-D155-412F-9629-274F16920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3174-E693-4F1C-8F36-E8D86DAC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2246-92C4-4524-AFEC-A021CD06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0E17-03E4-45F4-8FBE-90111CF2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4CF7-033D-48AE-B232-637603CC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9AFF-1247-4C3D-8E74-62F33865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D759-31E7-4A63-A0B0-54EF1284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013E-DCE1-4417-976B-C4661524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17FF-7F1C-4408-BBD9-FD2CFD29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DA17-5A00-4C31-A2CC-514A9D325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pct"/><Relationship Id="rId3" Type="http://schemas.openxmlformats.org/officeDocument/2006/relationships/image" Target="../media/image41.pct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pct"/><Relationship Id="rId9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ct"/><Relationship Id="rId3" Type="http://schemas.openxmlformats.org/officeDocument/2006/relationships/image" Target="../media/image53.pct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4.pct"/><Relationship Id="rId3" Type="http://schemas.openxmlformats.org/officeDocument/2006/relationships/image" Target="../media/image55.pct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ct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pct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9.pct"/><Relationship Id="rId2" Type="http://schemas.openxmlformats.org/officeDocument/2006/relationships/image" Target="../media/image60.pct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pct"/><Relationship Id="rId2" Type="http://schemas.openxmlformats.org/officeDocument/2006/relationships/image" Target="../media/image6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pct"/><Relationship Id="rId6" Type="http://schemas.openxmlformats.org/officeDocument/2006/relationships/image" Target="../media/image6.pct"/><Relationship Id="rId7" Type="http://schemas.openxmlformats.org/officeDocument/2006/relationships/image" Target="../media/image7.pct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pct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4.png"/><Relationship Id="rId3" Type="http://schemas.openxmlformats.org/officeDocument/2006/relationships/image" Target="../media/image64.png"/><Relationship Id="rId4" Type="http://schemas.openxmlformats.org/officeDocument/2006/relationships/image" Target="../media/image64.png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5.pct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6.pct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7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8.pct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9.pct"/><Relationship Id="rId2" Type="http://schemas.openxmlformats.org/officeDocument/2006/relationships/image" Target="../media/image70.pct"/><Relationship Id="rId3" Type="http://schemas.openxmlformats.org/officeDocument/2006/relationships/image" Target="../media/image71.pct"/><Relationship Id="rId4" Type="http://schemas.openxmlformats.org/officeDocument/2006/relationships/image" Target="../media/image72.pct"/><Relationship Id="rId5" Type="http://schemas.openxmlformats.org/officeDocument/2006/relationships/image" Target="../media/image73.pct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4.pct"/><Relationship Id="rId2" Type="http://schemas.openxmlformats.org/officeDocument/2006/relationships/image" Target="../media/image75.pct"/><Relationship Id="rId3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6.pct"/><Relationship Id="rId2" Type="http://schemas.openxmlformats.org/officeDocument/2006/relationships/image" Target="../media/image77.pct"/><Relationship Id="rId3" Type="http://schemas.openxmlformats.org/officeDocument/2006/relationships/image" Target="../media/image78.pct"/><Relationship Id="rId4" Type="http://schemas.openxmlformats.org/officeDocument/2006/relationships/image" Target="../media/image79.pct"/><Relationship Id="rId5" Type="http://schemas.openxmlformats.org/officeDocument/2006/relationships/image" Target="../media/image80.pct"/><Relationship Id="rId6" Type="http://schemas.openxmlformats.org/officeDocument/2006/relationships/image" Target="../media/image81.pct"/><Relationship Id="rId7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2.pct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3.pct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4.pct"/><Relationship Id="rId2" Type="http://schemas.openxmlformats.org/officeDocument/2006/relationships/image" Target="../media/image85.pct"/><Relationship Id="rId3" Type="http://schemas.openxmlformats.org/officeDocument/2006/relationships/image" Target="../media/image86.pct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7.pct"/><Relationship Id="rId2" Type="http://schemas.openxmlformats.org/officeDocument/2006/relationships/image" Target="../media/image88.pct"/><Relationship Id="rId3" Type="http://schemas.openxmlformats.org/officeDocument/2006/relationships/image" Target="../media/image89.pct"/><Relationship Id="rId4" Type="http://schemas.openxmlformats.org/officeDocument/2006/relationships/image" Target="../media/image90.pct"/><Relationship Id="rId5" Type="http://schemas.openxmlformats.org/officeDocument/2006/relationships/image" Target="../media/image91.pct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2.pct"/><Relationship Id="rId2" Type="http://schemas.openxmlformats.org/officeDocument/2006/relationships/image" Target="../media/image93.pct"/><Relationship Id="rId3" Type="http://schemas.openxmlformats.org/officeDocument/2006/relationships/image" Target="../media/image94.pct"/><Relationship Id="rId4" Type="http://schemas.openxmlformats.org/officeDocument/2006/relationships/image" Target="../media/image95.pct"/><Relationship Id="rId5" Type="http://schemas.openxmlformats.org/officeDocument/2006/relationships/image" Target="../media/image96.pct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7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image" Target="../media/image14.pct"/><Relationship Id="rId6" Type="http://schemas.openxmlformats.org/officeDocument/2006/relationships/image" Target="../media/image15.pct"/><Relationship Id="rId7" Type="http://schemas.openxmlformats.org/officeDocument/2006/relationships/image" Target="../media/image16.pct"/><Relationship Id="rId8" Type="http://schemas.openxmlformats.org/officeDocument/2006/relationships/image" Target="../media/image17.pct"/><Relationship Id="rId9" Type="http://schemas.openxmlformats.org/officeDocument/2006/relationships/image" Target="../media/image18.pct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image" Target="../media/image20.pct"/><Relationship Id="rId3" Type="http://schemas.openxmlformats.org/officeDocument/2006/relationships/image" Target="../media/image21.pct"/><Relationship Id="rId4" Type="http://schemas.openxmlformats.org/officeDocument/2006/relationships/image" Target="../media/image22.pct"/><Relationship Id="rId5" Type="http://schemas.openxmlformats.org/officeDocument/2006/relationships/image" Target="../media/image23.pct"/><Relationship Id="rId6" Type="http://schemas.openxmlformats.org/officeDocument/2006/relationships/image" Target="../media/image24.pct"/><Relationship Id="rId7" Type="http://schemas.openxmlformats.org/officeDocument/2006/relationships/image" Target="../media/image25.pct"/><Relationship Id="rId8" Type="http://schemas.openxmlformats.org/officeDocument/2006/relationships/image" Target="../media/image26.pct"/><Relationship Id="rId9" Type="http://schemas.openxmlformats.org/officeDocument/2006/relationships/image" Target="../media/image27.pct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image" Target="../media/image29.pct"/><Relationship Id="rId3" Type="http://schemas.openxmlformats.org/officeDocument/2006/relationships/image" Target="../media/image30.pct"/><Relationship Id="rId4" Type="http://schemas.openxmlformats.org/officeDocument/2006/relationships/image" Target="../media/image31.pct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ct"/><Relationship Id="rId2" Type="http://schemas.openxmlformats.org/officeDocument/2006/relationships/image" Target="../media/image33.pct"/><Relationship Id="rId3" Type="http://schemas.openxmlformats.org/officeDocument/2006/relationships/image" Target="../media/image34.pct"/><Relationship Id="rId4" Type="http://schemas.openxmlformats.org/officeDocument/2006/relationships/image" Target="../media/image35.pct"/><Relationship Id="rId5" Type="http://schemas.openxmlformats.org/officeDocument/2006/relationships/image" Target="../media/image36.pct"/><Relationship Id="rId6" Type="http://schemas.openxmlformats.org/officeDocument/2006/relationships/image" Target="../media/image37.pct"/><Relationship Id="rId7" Type="http://schemas.openxmlformats.org/officeDocument/2006/relationships/image" Target="../media/image38.pct"/><Relationship Id="rId8" Type="http://schemas.openxmlformats.org/officeDocument/2006/relationships/image" Target="../media/image39.pct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Times New Roman"/>
                <a:ea typeface="Osaka−等幅"/>
              </a:rPr>
              <a:t>Parton distributions</a:t>
            </a:r>
            <a:br>
              <a:rPr sz="3600"/>
            </a:br>
            <a:r>
              <a:rPr b="1" lang="ja-JP" sz="3600" spc="-1" strike="noStrike">
                <a:solidFill>
                  <a:srgbClr val="0000ff"/>
                </a:solidFill>
                <a:latin typeface="Times New Roman"/>
                <a:ea typeface="Osaka−等幅"/>
              </a:rPr>
              <a:t>in the nucleon and nucl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3124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8080"/>
                </a:solidFill>
                <a:latin typeface="Times New Roman"/>
              </a:rPr>
              <a:t>Shunzo K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8080"/>
                </a:solidFill>
                <a:latin typeface="Times New Roman"/>
              </a:rPr>
              <a:t>Saga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kumanos@cc.saga-u.ac.j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Osaka−等幅"/>
              </a:rPr>
              <a:t>http://hs.phys.saga-u.ac.j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8000"/>
                </a:solidFill>
                <a:latin typeface="Times New Roman"/>
              </a:rPr>
              <a:t>Workshop on </a:t>
            </a:r>
            <a:r>
              <a:rPr b="0" lang="ja-JP" sz="2400" spc="-1" strike="noStrike">
                <a:solidFill>
                  <a:srgbClr val="008000"/>
                </a:solidFill>
                <a:latin typeface="Times New Roman"/>
                <a:ea typeface="Osaka−等幅"/>
              </a:rPr>
              <a:t>Physics in ep Collision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8000"/>
                </a:solidFill>
                <a:latin typeface="Times New Roman"/>
              </a:rPr>
              <a:t>Nov. 9-10, 2001, KEK, 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ff"/>
                </a:solidFill>
                <a:latin typeface="Times New Roman"/>
              </a:rPr>
              <a:t>Nov. 9,  2001</a:t>
            </a:r>
            <a:r>
              <a:rPr b="0" lang="ja-JP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29400" y="979560"/>
            <a:ext cx="466884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Polariz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parton  distribu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3494160"/>
            <a:ext cx="607068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Refs.  (1) Y. Goto,  N. Hayashi, M. Hirai, H. Horikaw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               </a:t>
            </a:r>
            <a:r>
              <a:rPr b="0" lang="ja-JP" sz="20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S. Kumano, M. Miyama, T. Morii, N. Sait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               </a:t>
            </a:r>
            <a:r>
              <a:rPr b="0" lang="ja-JP" sz="20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T.-A. Shibata, E. Taniguchi, T. Yamanish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               </a:t>
            </a:r>
            <a:r>
              <a:rPr b="0" lang="ja-JP" sz="2000" spc="-1" strike="noStrike">
                <a:solidFill>
                  <a:srgbClr val="800080"/>
                </a:solidFill>
                <a:latin typeface="Times New Roman"/>
                <a:ea typeface="ＭＳ 明朝"/>
              </a:rPr>
              <a:t>Asymmetry Analysis Collaboration (A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               </a:t>
            </a:r>
            <a:r>
              <a:rPr b="0" lang="ja-JP" sz="20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Phys. Rev. D62 (2000) 03401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          </a:t>
            </a:r>
            <a:r>
              <a:rPr b="0" lang="ja-JP" sz="20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(2) AAC, research in progr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A library for polarized parton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can be obtained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 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http://spin.riken.bnl.gov/a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458640" y="2386080"/>
            <a:ext cx="6127920" cy="7190640"/>
            <a:chOff x="458640" y="2386080"/>
            <a:chExt cx="6127920" cy="7190640"/>
          </a:xfrm>
        </p:grpSpPr>
        <p:sp>
          <p:nvSpPr>
            <p:cNvPr id="130" name=""/>
            <p:cNvSpPr/>
            <p:nvPr/>
          </p:nvSpPr>
          <p:spPr>
            <a:xfrm>
              <a:off x="458640" y="2386080"/>
              <a:ext cx="586728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ff"/>
                  </a:solidFill>
                  <a:latin typeface="Times New Roman"/>
                  <a:ea typeface="ＭＳ 明朝"/>
                </a:rPr>
                <a:t>polarized e/</a:t>
              </a:r>
              <a:r>
                <a:rPr b="0" lang="ja-JP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</a:t>
              </a:r>
              <a:r>
                <a:rPr b="0" lang="ja-JP" sz="3200" spc="-1" strike="noStrike">
                  <a:solidFill>
                    <a:srgbClr val="0000ff"/>
                  </a:solidFill>
                  <a:latin typeface="Times New Roman"/>
                  <a:ea typeface="ＭＳ 明朝"/>
                </a:rPr>
                <a:t>-proton scatter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        </a:t>
              </a:r>
              <a:r>
                <a:rPr b="0" lang="ja-JP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ja-JP" sz="3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 </a:t>
              </a:r>
              <a:r>
                <a:rPr b="0" lang="ja-JP" sz="3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measurement of </a:t>
              </a:r>
              <a:r>
                <a:rPr b="0" lang="ja-JP" sz="3200" spc="-1" strike="noStrike">
                  <a:solidFill>
                    <a:srgbClr val="009900"/>
                  </a:solidFill>
                  <a:latin typeface="Times New Roman"/>
                  <a:ea typeface="ＭＳ 明朝"/>
                </a:rPr>
                <a:t>g</a:t>
              </a:r>
              <a:r>
                <a:rPr b="0" lang="ja-JP" sz="3200" spc="-1" strike="noStrike" baseline="-25000">
                  <a:solidFill>
                    <a:srgbClr val="009900"/>
                  </a:solidFill>
                  <a:latin typeface="Times New Roman"/>
                  <a:ea typeface="ＭＳ 明朝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1220760" y="3511080"/>
                  <a:ext cx="4147920" cy="94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g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LO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i</m:t>
                          </m:r>
                        </m:sub>
                        <m:sup/>
                        <m:e>
                          <m:sSubSup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D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+</m:t>
                      </m:r>
                      <m:r>
                        <m:t xml:space="preserve">D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q</m:t>
                              </m:r>
                            </m:e>
                          </m:acc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2" name=""/>
            <p:cNvSpPr/>
            <p:nvPr/>
          </p:nvSpPr>
          <p:spPr>
            <a:xfrm>
              <a:off x="534960" y="4704840"/>
              <a:ext cx="601956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proton, deuteron, </a:t>
              </a:r>
              <a:r>
                <a:rPr b="0" lang="ja-JP" sz="3200" spc="-1" strike="noStrike" baseline="30000">
                  <a:solidFill>
                    <a:srgbClr val="000000"/>
                  </a:solidFill>
                  <a:latin typeface="Times New Roman"/>
                  <a:ea typeface="ＭＳ 明朝"/>
                </a:rPr>
                <a:t>3</a:t>
              </a:r>
              <a:r>
                <a:rPr b="0" lang="ja-JP" sz="3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He g</a:t>
              </a:r>
              <a:r>
                <a:rPr b="0" lang="ja-JP" sz="3200" spc="-1" strike="noStrike" baseline="-25000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r>
                <a:rPr b="0" lang="ja-JP" sz="3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66"/>
                  </a:solidFill>
                  <a:latin typeface="Times New Roman"/>
                  <a:ea typeface="ＭＳ 明朝"/>
                </a:rPr>
                <a:t>with isospin symmet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      </a:t>
              </a:r>
              <a:r>
                <a:rPr b="0" lang="ja-JP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ja-JP" sz="3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 </a:t>
              </a:r>
              <a:r>
                <a:rPr b="0" lang="ja-JP" sz="3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valence and sea polariz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2592360" y="6183000"/>
                  <a:ext cx="2609640" cy="57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u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Dd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D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1373040" y="7448400"/>
                  <a:ext cx="4495680" cy="52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S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Du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Dd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⋅</m:t>
                      </m:r>
                      <m:r>
                        <m:t xml:space="preserve">D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5" name=""/>
            <p:cNvSpPr/>
            <p:nvPr/>
          </p:nvSpPr>
          <p:spPr>
            <a:xfrm>
              <a:off x="531000" y="6887520"/>
              <a:ext cx="319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  <a:ea typeface="ＭＳ 明朝"/>
                </a:rPr>
                <a:t>quark spin cont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8760" y="8223480"/>
              <a:ext cx="27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experimentally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3354120" y="8151840"/>
                  <a:ext cx="3232440" cy="68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rPr>
                          <m:lit/>
                          <m:nor/>
                        </m:rPr>
                        <m:t xml:space="preserve">DS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»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8" name=""/>
            <p:cNvSpPr/>
            <p:nvPr/>
          </p:nvSpPr>
          <p:spPr>
            <a:xfrm>
              <a:off x="2360880" y="8995320"/>
              <a:ext cx="323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ff"/>
                  </a:solidFill>
                  <a:latin typeface="Times New Roman"/>
                  <a:ea typeface="ＭＳ 明朝"/>
                </a:rPr>
                <a:t>rest of the spin ??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99960" y="1265400"/>
            <a:ext cx="467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status of proton-spin 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6280" y="371520"/>
            <a:ext cx="5013360" cy="58140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</a:t>
            </a:r>
            <a:r>
              <a:rPr b="0" lang="ja-JP" sz="32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polarized </a:t>
            </a:r>
            <a:r>
              <a:rPr b="0" lang="ja-JP" sz="30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parton distribu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ff"/>
                </a:solidFill>
                <a:latin typeface="Times New Roman"/>
              </a:rPr>
              <a:t>Initial parton distrib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609588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i="1" lang="ja-JP" sz="2800" spc="-1" strike="noStrike" baseline="-30000">
                <a:solidFill>
                  <a:srgbClr val="000000"/>
                </a:solidFill>
                <a:latin typeface="Times New Roman"/>
                <a:ea typeface="ＭＳ 明朝"/>
              </a:rPr>
              <a:t>i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(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x,Q</a:t>
            </a:r>
            <a:r>
              <a:rPr b="0" lang="ja-JP" sz="2800" spc="-1" strike="noStrike" baseline="-30000">
                <a:solidFill>
                  <a:srgbClr val="000000"/>
                </a:solidFill>
                <a:latin typeface="Times New Roman"/>
                <a:ea typeface="ＭＳ 明朝"/>
              </a:rPr>
              <a:t>0</a:t>
            </a:r>
            <a:r>
              <a:rPr b="0" lang="ja-JP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)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=</a:t>
            </a:r>
            <a:r>
              <a:rPr b="0" i="1" lang="ja-JP" sz="2800" spc="-1" strike="noStrike">
                <a:solidFill>
                  <a:srgbClr val="0033cc"/>
                </a:solidFill>
                <a:latin typeface="Times New Roman"/>
                <a:ea typeface="ＭＳ 明朝"/>
              </a:rPr>
              <a:t> </a:t>
            </a:r>
            <a:r>
              <a:rPr b="0" i="1" lang="ja-JP" sz="28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A</a:t>
            </a:r>
            <a:r>
              <a:rPr b="0" i="1" lang="ja-JP" sz="2800" spc="-1" strike="noStrike" baseline="-30000">
                <a:solidFill>
                  <a:srgbClr val="ff0000"/>
                </a:solidFill>
                <a:latin typeface="Times New Roman"/>
                <a:ea typeface="ＭＳ 明朝"/>
              </a:rPr>
              <a:t>i</a:t>
            </a:r>
            <a:r>
              <a:rPr b="0" lang="ja-JP" sz="2800" spc="-1" strike="noStrike">
                <a:solidFill>
                  <a:srgbClr val="0033cc"/>
                </a:solidFill>
                <a:latin typeface="Times New Roman"/>
                <a:ea typeface="ＭＳ 明朝"/>
              </a:rPr>
              <a:t> 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x</a:t>
            </a:r>
            <a:r>
              <a:rPr b="0" i="1" lang="ja-JP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i="1" lang="ja-JP" sz="2000" spc="-1" strike="noStrike" baseline="30000">
                <a:solidFill>
                  <a:srgbClr val="ff0000"/>
                </a:solidFill>
                <a:latin typeface="Times New Roman"/>
                <a:ea typeface="ＭＳ 明朝"/>
              </a:rPr>
              <a:t>i</a:t>
            </a:r>
            <a:r>
              <a:rPr b="0" lang="ja-JP" sz="2800" spc="-1" strike="noStrike">
                <a:solidFill>
                  <a:srgbClr val="0033cc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(1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+</a:t>
            </a:r>
            <a:r>
              <a:rPr b="0" i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i="1" lang="ja-JP" sz="2800" spc="-1" strike="noStrike" baseline="-30000">
                <a:solidFill>
                  <a:srgbClr val="ff0000"/>
                </a:solidFill>
                <a:latin typeface="Times New Roman"/>
                <a:ea typeface="ＭＳ 明朝"/>
              </a:rPr>
              <a:t>i</a:t>
            </a:r>
            <a:r>
              <a:rPr b="0" i="1" lang="ja-JP" sz="2800" spc="-1" strike="noStrike" baseline="-30000">
                <a:solidFill>
                  <a:srgbClr val="0033cc"/>
                </a:solidFill>
                <a:latin typeface="Times New Roman"/>
                <a:ea typeface="ＭＳ 明朝"/>
              </a:rPr>
              <a:t> 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x</a:t>
            </a:r>
            <a:r>
              <a:rPr b="0" i="1" lang="ja-JP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i="1" lang="ja-JP" sz="2000" spc="-1" strike="noStrike" baseline="30000">
                <a:solidFill>
                  <a:srgbClr val="ff0000"/>
                </a:solidFill>
                <a:latin typeface="Times New Roman"/>
                <a:ea typeface="ＭＳ 明朝"/>
              </a:rPr>
              <a:t>i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)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f</a:t>
            </a:r>
            <a:r>
              <a:rPr b="0" i="1" lang="ja-JP" sz="2800" spc="-1" strike="noStrike" baseline="-30000">
                <a:solidFill>
                  <a:srgbClr val="000000"/>
                </a:solidFill>
                <a:latin typeface="Times New Roman"/>
                <a:ea typeface="ＭＳ 明朝"/>
              </a:rPr>
              <a:t>i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(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x,Q</a:t>
            </a:r>
            <a:r>
              <a:rPr b="0" lang="ja-JP" sz="2800" spc="-1" strike="noStrike" baseline="-30000">
                <a:solidFill>
                  <a:srgbClr val="000000"/>
                </a:solidFill>
                <a:latin typeface="Times New Roman"/>
                <a:ea typeface="ＭＳ 明朝"/>
              </a:rPr>
              <a:t>0</a:t>
            </a:r>
            <a:r>
              <a:rPr b="0" lang="ja-JP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</a:rPr>
              <a:t>i=u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Times New Roman"/>
              </a:rPr>
              <a:t>v 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Times New Roman"/>
              </a:rPr>
              <a:t>v 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</a:rPr>
              <a:t>, q, g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i="1" lang="ja-JP" sz="28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A</a:t>
            </a:r>
            <a:r>
              <a:rPr b="0" i="1" lang="ja-JP" sz="2800" spc="-1" strike="noStrike" baseline="-25000">
                <a:solidFill>
                  <a:srgbClr val="ff0000"/>
                </a:solidFill>
                <a:latin typeface="Times New Roman"/>
                <a:ea typeface="ＭＳ 明朝"/>
              </a:rPr>
              <a:t>i 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,</a:t>
            </a:r>
            <a:r>
              <a:rPr b="0" i="1" lang="ja-JP" sz="28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</a:t>
            </a:r>
            <a:r>
              <a:rPr b="0" i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i="1" lang="ja-JP" sz="2800" spc="-1" strike="noStrike" baseline="-25000">
                <a:solidFill>
                  <a:srgbClr val="ff0000"/>
                </a:solidFill>
                <a:latin typeface="Times New Roman"/>
                <a:ea typeface="ＭＳ 明朝"/>
              </a:rPr>
              <a:t>i 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,</a:t>
            </a:r>
            <a:r>
              <a:rPr b="0" i="1" lang="ja-JP" sz="28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</a:t>
            </a:r>
            <a:r>
              <a:rPr b="0" i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i="1" lang="ja-JP" sz="2800" spc="-1" strike="noStrike" baseline="-30000">
                <a:solidFill>
                  <a:srgbClr val="ff0000"/>
                </a:solidFill>
                <a:latin typeface="Times New Roman"/>
                <a:ea typeface="ＭＳ 明朝"/>
              </a:rPr>
              <a:t>i </a:t>
            </a:r>
            <a:r>
              <a:rPr b="0" i="1" lang="ja-JP" sz="2800" spc="-1" strike="noStrike" baseline="-30000">
                <a:solidFill>
                  <a:srgbClr val="0033cc"/>
                </a:solidFill>
                <a:latin typeface="Times New Roman"/>
                <a:ea typeface="ＭＳ 明朝"/>
              </a:rPr>
              <a:t> 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,</a:t>
            </a:r>
            <a:r>
              <a:rPr b="0" i="1" lang="ja-JP" sz="2800" spc="-1" strike="noStrike">
                <a:solidFill>
                  <a:srgbClr val="0033cc"/>
                </a:solidFill>
                <a:latin typeface="Times New Roman"/>
                <a:ea typeface="ＭＳ 明朝"/>
              </a:rPr>
              <a:t> </a:t>
            </a:r>
            <a:r>
              <a:rPr b="0" i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i="1" lang="ja-JP" sz="2800" spc="-1" strike="noStrike" baseline="-25000">
                <a:solidFill>
                  <a:srgbClr val="ff0000"/>
                </a:solidFill>
                <a:latin typeface="Times New Roman"/>
                <a:ea typeface="ＭＳ 明朝"/>
              </a:rPr>
              <a:t>i</a:t>
            </a:r>
            <a:r>
              <a:rPr b="0" i="1" lang="ja-JP" sz="28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: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cc"/>
                </a:solidFill>
                <a:latin typeface="Times New Roman"/>
                <a:ea typeface="ＭＳ 明朝"/>
              </a:rPr>
              <a:t>positiv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209680" y="2743200"/>
                <a:ext cx="30481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D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d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2362320" y="22096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410080" y="2743200"/>
                <a:ext cx="1143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380880" y="3505320"/>
            <a:ext cx="6019920" cy="73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8080"/>
                </a:solidFill>
                <a:latin typeface="Times New Roman"/>
                <a:ea typeface="ＭＳ 明朝"/>
              </a:rPr>
              <a:t>flavor-symmetric distributions  at initial Q</a:t>
            </a:r>
            <a:r>
              <a:rPr b="1" lang="ja-JP" sz="2400" spc="-1" strike="noStrike" baseline="-30000">
                <a:solidFill>
                  <a:srgbClr val="008080"/>
                </a:solidFill>
                <a:latin typeface="Times New Roman"/>
                <a:ea typeface="ＭＳ 明朝"/>
              </a:rPr>
              <a:t>0</a:t>
            </a:r>
            <a:r>
              <a:rPr b="1" lang="ja-JP" sz="2400" spc="-1" strike="noStrike" baseline="30000">
                <a:solidFill>
                  <a:srgbClr val="008080"/>
                </a:solidFill>
                <a:latin typeface="Times New Roman"/>
                <a:ea typeface="ＭＳ 明朝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8080"/>
                </a:solidFill>
                <a:latin typeface="Times New Roman"/>
                <a:ea typeface="ＭＳ 明朝"/>
              </a:rPr>
              <a:t>first moments </a:t>
            </a:r>
            <a:r>
              <a:rPr b="1" i="1" lang="ja-JP" sz="24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r>
              <a:rPr b="1" i="1" lang="ja-JP" sz="2400" spc="-1" strike="noStrike" baseline="-30000">
                <a:solidFill>
                  <a:srgbClr val="ff0000"/>
                </a:solidFill>
                <a:latin typeface="Times New Roman"/>
                <a:ea typeface="ＭＳ 明朝"/>
              </a:rPr>
              <a:t>uv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,</a:t>
            </a:r>
            <a:r>
              <a:rPr b="1" i="1" lang="ja-JP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</a:t>
            </a:r>
            <a:r>
              <a:rPr b="1" i="1" lang="ja-JP" sz="24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r>
              <a:rPr b="1" i="1" lang="ja-JP" sz="2400" spc="-1" strike="noStrike" baseline="-30000">
                <a:solidFill>
                  <a:srgbClr val="ff0000"/>
                </a:solidFill>
                <a:latin typeface="Times New Roman"/>
                <a:ea typeface="ＭＳ 明朝"/>
              </a:rPr>
              <a:t>dv</a:t>
            </a:r>
            <a:r>
              <a:rPr b="1" i="1" lang="ja-JP" sz="2400" spc="-1" strike="noStrike" baseline="-30000">
                <a:solidFill>
                  <a:srgbClr val="008080"/>
                </a:solidFill>
                <a:latin typeface="Times New Roman"/>
                <a:ea typeface="ＭＳ 明朝"/>
              </a:rPr>
              <a:t> </a:t>
            </a:r>
            <a:r>
              <a:rPr b="1" lang="ja-JP" sz="2400" spc="-1" strike="noStrike">
                <a:solidFill>
                  <a:srgbClr val="008080"/>
                </a:solidFill>
                <a:latin typeface="Times New Roman"/>
                <a:ea typeface="ＭＳ 明朝"/>
              </a:rPr>
              <a:t> are 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 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= 0.463 ± 0.008, 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D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= 0.804 ± 0.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9933ff"/>
                </a:solidFill>
                <a:latin typeface="Symbol"/>
                <a:ea typeface="Symbol"/>
              </a:rPr>
              <a:t></a:t>
            </a:r>
            <a:r>
              <a:rPr b="1" i="1" lang="ja-JP" sz="2800" spc="-1" strike="noStrike" baseline="-30000">
                <a:solidFill>
                  <a:srgbClr val="9933ff"/>
                </a:solidFill>
                <a:latin typeface="Times New Roman"/>
                <a:ea typeface="ＭＳ 明朝"/>
              </a:rPr>
              <a:t>uv</a:t>
            </a:r>
            <a:r>
              <a:rPr b="1" lang="ja-JP" sz="2800" spc="-1" strike="noStrike">
                <a:solidFill>
                  <a:srgbClr val="9933ff"/>
                </a:solidFill>
                <a:latin typeface="Times New Roman"/>
                <a:ea typeface="ＭＳ 明朝"/>
              </a:rPr>
              <a:t> = 0.986, </a:t>
            </a:r>
            <a:r>
              <a:rPr b="1" i="1" lang="ja-JP" sz="2800" spc="-1" strike="noStrike">
                <a:solidFill>
                  <a:srgbClr val="9933ff"/>
                </a:solidFill>
                <a:latin typeface="Times New Roman"/>
                <a:ea typeface="ＭＳ 明朝"/>
              </a:rPr>
              <a:t> </a:t>
            </a:r>
            <a:r>
              <a:rPr b="1" i="1" lang="ja-JP" sz="2800" spc="-1" strike="noStrike">
                <a:solidFill>
                  <a:srgbClr val="9933ff"/>
                </a:solidFill>
                <a:latin typeface="Symbol"/>
                <a:ea typeface="Symbol"/>
              </a:rPr>
              <a:t></a:t>
            </a:r>
            <a:r>
              <a:rPr b="1" i="1" lang="ja-JP" sz="2800" spc="-1" strike="noStrike" baseline="-30000">
                <a:solidFill>
                  <a:srgbClr val="9933ff"/>
                </a:solidFill>
                <a:latin typeface="Times New Roman"/>
                <a:ea typeface="ＭＳ 明朝"/>
              </a:rPr>
              <a:t>dv</a:t>
            </a:r>
            <a:r>
              <a:rPr b="1" i="1" lang="ja-JP" sz="2800" spc="-1" strike="noStrike">
                <a:solidFill>
                  <a:srgbClr val="9933ff"/>
                </a:solidFill>
                <a:latin typeface="Times New Roman"/>
                <a:ea typeface="ＭＳ 明朝"/>
              </a:rPr>
              <a:t>= -</a:t>
            </a:r>
            <a:r>
              <a:rPr b="1" lang="ja-JP" sz="2800" spc="-1" strike="noStrike">
                <a:solidFill>
                  <a:srgbClr val="9933ff"/>
                </a:solidFill>
                <a:latin typeface="Times New Roman"/>
                <a:ea typeface="ＭＳ 明朝"/>
              </a:rPr>
              <a:t>0.341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>
                <a:solidFill>
                  <a:srgbClr val="000080"/>
                </a:solidFill>
                <a:latin typeface="Symbol"/>
                <a:ea typeface="Symbol"/>
              </a:rPr>
              <a:t></a:t>
            </a:r>
            <a:r>
              <a:rPr b="1" i="1" lang="ja-JP" sz="2400" spc="-1" strike="noStrike" baseline="-25000">
                <a:solidFill>
                  <a:srgbClr val="000080"/>
                </a:solidFill>
                <a:latin typeface="Times New Roman"/>
                <a:ea typeface="ＭＳ 明朝"/>
              </a:rPr>
              <a:t>uv</a:t>
            </a:r>
            <a:r>
              <a:rPr b="1" i="1" lang="ja-JP" sz="24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 </a:t>
            </a:r>
            <a:r>
              <a:rPr b="1" lang="ja-JP" sz="24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and </a:t>
            </a:r>
            <a:r>
              <a:rPr b="1" i="1" lang="ja-JP" sz="2400" spc="-1" strike="noStrike">
                <a:solidFill>
                  <a:srgbClr val="000080"/>
                </a:solidFill>
                <a:latin typeface="Symbol"/>
                <a:ea typeface="Symbol"/>
              </a:rPr>
              <a:t></a:t>
            </a:r>
            <a:r>
              <a:rPr b="1" i="1" lang="ja-JP" sz="2400" spc="-1" strike="noStrike" baseline="-25000">
                <a:solidFill>
                  <a:srgbClr val="000080"/>
                </a:solidFill>
                <a:latin typeface="Times New Roman"/>
                <a:ea typeface="ＭＳ 明朝"/>
              </a:rPr>
              <a:t>dv</a:t>
            </a:r>
            <a:r>
              <a:rPr b="1" i="1" lang="ja-JP" sz="24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 </a:t>
            </a:r>
            <a:r>
              <a:rPr b="1" lang="ja-JP" sz="24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are determined so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            </a:t>
            </a:r>
            <a:r>
              <a:rPr b="1" lang="ja-JP" sz="24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to satisfy these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We determine </a:t>
            </a:r>
            <a:r>
              <a:rPr b="1" lang="ja-JP" sz="20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14 </a:t>
            </a:r>
            <a:r>
              <a:rPr b="1" i="1" lang="ja-JP" sz="20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parameters by theχ</a:t>
            </a:r>
            <a:r>
              <a:rPr b="1" i="1" lang="ja-JP" sz="2000" spc="-1" strike="noStrike" baseline="30000">
                <a:solidFill>
                  <a:srgbClr val="ff0000"/>
                </a:solidFill>
                <a:latin typeface="Times New Roman"/>
                <a:ea typeface="ＭＳ 明朝"/>
              </a:rPr>
              <a:t>2</a:t>
            </a:r>
            <a:r>
              <a:rPr b="1" i="1" lang="ja-JP" sz="20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-fitting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371600" y="4038480"/>
                <a:ext cx="36259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D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D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752480" y="6934320"/>
                <a:ext cx="35118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g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371600" y="8381880"/>
                <a:ext cx="38116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066680" y="8915400"/>
                <a:ext cx="4469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/>
                          <m:sub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q</m:t>
                                </m:r>
                              </m:e>
                            </m:ba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sSub>
                          <m:e/>
                          <m:sub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q</m:t>
                                </m:r>
                              </m:e>
                            </m:ba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/>
                          <m:sub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q</m:t>
                                </m:r>
                              </m:e>
                            </m:ba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sSub>
                          <m:e/>
                          <m:sub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q</m:t>
                                </m:r>
                              </m:e>
                            </m:ba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6840" y="533520"/>
            <a:ext cx="6172200" cy="91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χ</a:t>
            </a:r>
            <a:r>
              <a:rPr b="1" i="1" lang="ja-JP" sz="2800" spc="-1" strike="noStrike" baseline="30000">
                <a:solidFill>
                  <a:srgbClr val="000080"/>
                </a:solidFill>
                <a:latin typeface="Times New Roman"/>
                <a:ea typeface="ＭＳ 明朝"/>
              </a:rPr>
              <a:t>2</a:t>
            </a:r>
            <a:r>
              <a:rPr b="1" lang="ja-JP" sz="28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-fitting to the d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[proton, neutron (</a:t>
            </a:r>
            <a:r>
              <a:rPr b="1" lang="ja-JP" sz="2800" spc="-1" strike="noStrike" baseline="30000">
                <a:solidFill>
                  <a:srgbClr val="000080"/>
                </a:solidFill>
                <a:latin typeface="Times New Roman"/>
                <a:ea typeface="ＭＳ 明朝"/>
              </a:rPr>
              <a:t>3</a:t>
            </a:r>
            <a:r>
              <a:rPr b="1" lang="ja-JP" sz="28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He), deutero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which is minimized by the subroutine MIN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We analyzed with the following condi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ff"/>
                </a:solidFill>
                <a:latin typeface="Times New Roman"/>
              </a:rPr>
              <a:t>Unpolarized PDF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GRV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ff"/>
                </a:solidFill>
                <a:latin typeface="Times New Roman"/>
              </a:rPr>
              <a:t>Initial Q</a:t>
            </a:r>
            <a:r>
              <a:rPr b="1" lang="ja-JP" sz="20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ja-JP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ja-JP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= 1 GeV </a:t>
            </a:r>
            <a:r>
              <a:rPr b="1" lang="ja-JP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ff"/>
                </a:solidFill>
                <a:latin typeface="Times New Roman"/>
              </a:rPr>
              <a:t>Number of flavor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ja-JP" sz="2400" spc="-1" strike="noStrike" baseline="-30000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ff"/>
                </a:solidFill>
                <a:latin typeface="Symbol"/>
                <a:ea typeface="Symbol"/>
              </a:rPr>
              <a:t></a:t>
            </a:r>
            <a:r>
              <a:rPr b="1" lang="ja-JP" sz="2000" spc="-1" strike="noStrike" baseline="-30000">
                <a:solidFill>
                  <a:srgbClr val="0000ff"/>
                </a:solidFill>
                <a:latin typeface="Times New Roman"/>
              </a:rPr>
              <a:t>QCD</a:t>
            </a:r>
            <a:r>
              <a:rPr b="1" lang="ja-JP" sz="2000" spc="-1" strike="noStrike">
                <a:solidFill>
                  <a:srgbClr val="0000ff"/>
                </a:solidFill>
                <a:latin typeface="Times New Roman"/>
              </a:rPr>
              <a:t>                          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1" lang="ja-JP" sz="2400" spc="-1" strike="noStrike" baseline="-30000">
                <a:solidFill>
                  <a:srgbClr val="000000"/>
                </a:solidFill>
                <a:latin typeface="Times New Roman"/>
              </a:rPr>
              <a:t>LO  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= 204 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                               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1" lang="ja-JP" sz="2400" spc="-1" strike="noStrike" baseline="-30000">
                <a:solidFill>
                  <a:srgbClr val="000000"/>
                </a:solidFill>
                <a:latin typeface="Times New Roman"/>
                <a:ea typeface="ＭＳ 明朝"/>
              </a:rPr>
              <a:t>NLO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= 299 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143000" y="4191120"/>
                <a:ext cx="434340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ata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al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ata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85800" y="1600200"/>
                <a:ext cx="5029200" cy="15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den>
                    </m:f>
                    <m:r>
                      <m:t xml:space="preserve">»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971800" y="3124080"/>
                <a:ext cx="35528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3886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Experimental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447920" y="1295280"/>
          <a:ext cx="4343400" cy="35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4343400" cy="35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05360" y="5357880"/>
            <a:ext cx="6840" cy="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" spc="-1" strike="noStrike">
                <a:solidFill>
                  <a:srgbClr val="000000"/>
                </a:solidFill>
                <a:latin typeface="Trebuchet MS"/>
                <a:ea typeface="ＭＳ 明朝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5360" y="5357880"/>
            <a:ext cx="6840" cy="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" spc="-1" strike="noStrike">
                <a:solidFill>
                  <a:srgbClr val="000000"/>
                </a:solidFill>
                <a:latin typeface="Chicago"/>
                <a:ea typeface="ＭＳ 明朝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4640" y="5365800"/>
            <a:ext cx="6840" cy="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4640" y="5365800"/>
            <a:ext cx="6840" cy="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228600" y="5105520"/>
            <a:ext cx="632448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3733560"/>
            <a:ext cx="3600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pin asymmetry A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ff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8600" y="4572000"/>
            <a:ext cx="6324480" cy="4595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4600" y="45720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2360" y="1600200"/>
            <a:ext cx="41832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Total</a:t>
            </a:r>
            <a:r>
              <a:rPr b="1" i="1" lang="en-US" sz="24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χ</a:t>
            </a:r>
            <a:r>
              <a:rPr b="1" i="1" lang="en-US" sz="2400" spc="-1" strike="noStrike" baseline="30000">
                <a:solidFill>
                  <a:srgbClr val="000080"/>
                </a:solidFill>
                <a:latin typeface="Times New Roman"/>
                <a:ea typeface="ＭＳ 明朝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LO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χ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ＭＳ 明朝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/d.o.f = 0.8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NLO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χ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ＭＳ 明朝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/d.o.f = 0.8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Total data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3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5540400" cy="801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582948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0" lang="en-US" sz="4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 dependence of A</a:t>
            </a:r>
            <a:r>
              <a:rPr b="0" lang="en-US" sz="4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400" spc="-1" strike="noStrike" baseline="30000">
                <a:solidFill>
                  <a:srgbClr val="0000ff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2895480"/>
            <a:ext cx="685800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ff"/>
                </a:solidFill>
                <a:latin typeface="Times New Roman"/>
              </a:rPr>
              <a:t>Parton distributions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ja-JP" sz="3200" spc="-1" strike="noStrike">
                <a:solidFill>
                  <a:srgbClr val="0000ff"/>
                </a:solidFill>
                <a:latin typeface="Times New Roman"/>
              </a:rPr>
              <a:t>(Q</a:t>
            </a:r>
            <a:r>
              <a:rPr b="0" lang="ja-JP" sz="32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ja-JP" sz="3200" spc="-1" strike="noStrike">
                <a:solidFill>
                  <a:srgbClr val="0000ff"/>
                </a:solidFill>
                <a:latin typeface="Times New Roman"/>
              </a:rPr>
              <a:t>=1 GeV</a:t>
            </a:r>
            <a:r>
              <a:rPr b="0" lang="ja-JP" sz="3200" spc="-1" strike="noStrike" baseline="30000">
                <a:solidFill>
                  <a:srgbClr val="0000ff"/>
                </a:solidFill>
                <a:latin typeface="Times New Roman"/>
              </a:rPr>
              <a:t>2 </a:t>
            </a:r>
            <a:r>
              <a:rPr b="0" lang="ja-JP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685800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60962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First moments 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(Q</a:t>
            </a:r>
            <a:r>
              <a:rPr b="1" lang="ja-JP" sz="24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=1 GeV</a:t>
            </a:r>
            <a:r>
              <a:rPr b="1" lang="ja-JP" sz="24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Spin content </a:t>
            </a:r>
            <a:r>
              <a:rPr b="1" lang="ja-JP" sz="2400" spc="-1" strike="noStrike">
                <a:solidFill>
                  <a:srgbClr val="000080"/>
                </a:solidFill>
                <a:latin typeface="Symbol"/>
                <a:ea typeface="Symbol"/>
              </a:rPr>
              <a:t>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                      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LO  :</a:t>
            </a:r>
            <a:r>
              <a:rPr b="1" lang="ja-JP" sz="24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 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0.2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                    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NLO :</a:t>
            </a:r>
            <a:r>
              <a:rPr b="1" lang="ja-JP" sz="24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 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0.051</a:t>
            </a:r>
            <a:r>
              <a:rPr b="1" lang="ja-JP" sz="24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62120" y="1981080"/>
            <a:ext cx="5486400" cy="1431720"/>
            <a:chOff x="762120" y="1981080"/>
            <a:chExt cx="5486400" cy="1431720"/>
          </a:xfrm>
        </p:grpSpPr>
        <p:grpSp>
          <p:nvGrpSpPr>
            <p:cNvPr id="174" name=""/>
            <p:cNvGrpSpPr/>
            <p:nvPr/>
          </p:nvGrpSpPr>
          <p:grpSpPr>
            <a:xfrm>
              <a:off x="762120" y="1981080"/>
              <a:ext cx="5486400" cy="1431720"/>
              <a:chOff x="762120" y="1981080"/>
              <a:chExt cx="5486400" cy="1431720"/>
            </a:xfrm>
          </p:grpSpPr>
          <p:sp>
            <p:nvSpPr>
              <p:cNvPr id="175" name=""/>
              <p:cNvSpPr/>
              <p:nvPr/>
            </p:nvSpPr>
            <p:spPr>
              <a:xfrm>
                <a:off x="5151600" y="2955600"/>
                <a:ext cx="1096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.53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054320" y="2955600"/>
                <a:ext cx="10972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0.08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955960" y="2955600"/>
                <a:ext cx="1098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0.34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859040" y="2955600"/>
                <a:ext cx="1096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.92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62120" y="2955600"/>
                <a:ext cx="1096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80"/>
                    </a:solidFill>
                    <a:latin typeface="Times New Roman"/>
                    <a:ea typeface="ＭＳ 明朝"/>
                  </a:rPr>
                  <a:t>NLO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151600" y="2498400"/>
                <a:ext cx="1096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.83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054320" y="2498400"/>
                <a:ext cx="10972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0.06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955960" y="2498400"/>
                <a:ext cx="1098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0.34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859040" y="2498400"/>
                <a:ext cx="1096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.92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62120" y="2498400"/>
                <a:ext cx="1096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80"/>
                    </a:solidFill>
                    <a:latin typeface="Times New Roman"/>
                    <a:ea typeface="ＭＳ 明朝"/>
                  </a:rPr>
                  <a:t>LO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151600" y="1981080"/>
                <a:ext cx="109692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g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054320" y="1981080"/>
                <a:ext cx="109728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q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955960" y="1981080"/>
                <a:ext cx="109836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4000"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d</a:t>
                </a:r>
                <a:r>
                  <a:rPr b="0" lang="en-US" sz="2800" spc="-1" strike="noStrike" baseline="-30000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v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859040" y="1981080"/>
                <a:ext cx="109692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4000"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u</a:t>
                </a:r>
                <a:r>
                  <a:rPr b="0" lang="en-US" sz="2800" spc="-1" strike="noStrike" baseline="-30000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v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62120" y="1981080"/>
                <a:ext cx="109692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62120" y="1981080"/>
                <a:ext cx="54864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62120" y="2498400"/>
                <a:ext cx="548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62120" y="2955600"/>
                <a:ext cx="548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62120" y="3412800"/>
                <a:ext cx="54864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62120" y="1981080"/>
                <a:ext cx="0" cy="14317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859040" y="1981080"/>
                <a:ext cx="0" cy="143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955960" y="1981080"/>
                <a:ext cx="0" cy="143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054320" y="1981080"/>
                <a:ext cx="0" cy="143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151600" y="1981080"/>
                <a:ext cx="0" cy="143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248520" y="1981080"/>
                <a:ext cx="0" cy="14317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4648320" y="216360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57200" y="5638680"/>
            <a:ext cx="601992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rather small spin content in the N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                 </a:t>
            </a:r>
            <a:r>
              <a:rPr b="0" lang="ja-JP" sz="2800" spc="-1" strike="noStrike">
                <a:solidFill>
                  <a:srgbClr val="008000"/>
                </a:solidFill>
                <a:latin typeface="Symbol"/>
                <a:ea typeface="Symbol"/>
              </a:rPr>
              <a:t></a:t>
            </a:r>
            <a:r>
              <a:rPr b="0" lang="ja-JP" sz="2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=0.1~0.3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check the antiquark distribu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4240" y="457200"/>
            <a:ext cx="19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3120" y="1757520"/>
            <a:ext cx="5960880" cy="61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18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 </a:t>
            </a:r>
            <a:r>
              <a:rPr b="0" lang="ja-JP" sz="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8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</a:t>
            </a:r>
            <a:r>
              <a:rPr b="0" lang="ja-JP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Unpolarized</a:t>
            </a:r>
            <a:r>
              <a:rPr b="0" lang="ja-JP" sz="32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distribution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8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     </a:t>
            </a:r>
            <a:r>
              <a:rPr b="0" lang="ja-JP" sz="32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in the nuc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8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</a:t>
            </a:r>
            <a:r>
              <a:rPr b="0" lang="ja-JP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Polarized</a:t>
            </a:r>
            <a:r>
              <a:rPr b="0" lang="ja-JP" sz="32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distribution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8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     </a:t>
            </a:r>
            <a:r>
              <a:rPr b="0" lang="ja-JP" sz="32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in the nuc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8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</a:t>
            </a:r>
            <a:r>
              <a:rPr b="0" lang="ja-JP" sz="32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Distributions </a:t>
            </a:r>
            <a:r>
              <a:rPr b="0" lang="ja-JP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in nucl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8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</a:t>
            </a:r>
            <a:r>
              <a:rPr b="0" lang="ja-JP" sz="32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Selected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8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</a:t>
            </a:r>
            <a:r>
              <a:rPr b="0" lang="ja-JP" sz="32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8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1722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ntiquark distribution </a:t>
            </a:r>
            <a:r>
              <a:rPr b="0" lang="en-US" sz="4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1219320"/>
            <a:ext cx="228600" cy="0"/>
          </a:xfrm>
          <a:prstGeom prst="line">
            <a:avLst/>
          </a:prstGeom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6400800"/>
            <a:ext cx="22860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8580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2920" y="385920"/>
            <a:ext cx="375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rror esti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5480" y="1104480"/>
            <a:ext cx="5067360" cy="43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Hessian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is expanded around its minimum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ere Hessian matrix is defin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s error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5596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305596"/>
                </a:solidFill>
                <a:latin typeface="Times New Roman"/>
              </a:rPr>
              <a:t>diagonal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5596"/>
                </a:solidFill>
                <a:latin typeface="Times New Roman"/>
              </a:rPr>
              <a:t>          </a:t>
            </a:r>
            <a:r>
              <a:rPr b="1" lang="en-US" sz="1600" spc="-1" strike="noStrike">
                <a:solidFill>
                  <a:srgbClr val="33cc33"/>
                </a:solidFill>
                <a:latin typeface="Times New Roman"/>
              </a:rPr>
              <a:t>square root of parameter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5596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305596"/>
                </a:solidFill>
                <a:latin typeface="Times New Roman"/>
              </a:rPr>
              <a:t>non-diagonal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5596"/>
                </a:solidFill>
                <a:latin typeface="Times New Roman"/>
              </a:rPr>
              <a:t>          </a:t>
            </a:r>
            <a:r>
              <a:rPr b="1" lang="en-US" sz="1600" spc="-1" strike="noStrike">
                <a:solidFill>
                  <a:srgbClr val="33cc33"/>
                </a:solidFill>
                <a:latin typeface="Times New Roman"/>
              </a:rPr>
              <a:t>correlation effects with other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177920" y="2019240"/>
          <a:ext cx="515304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7920" y="2019240"/>
                    <a:ext cx="51530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930320" y="3035160"/>
          <a:ext cx="2540160" cy="7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30320" y="3035160"/>
                    <a:ext cx="254016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837720" y="5765400"/>
            <a:ext cx="544860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alysis, 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tandard error is given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 N is the number of parame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certainty of a distributio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is given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395360" y="6337440"/>
          <a:ext cx="3900600" cy="51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95360" y="6337440"/>
                    <a:ext cx="390060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981080" y="8432640"/>
          <a:ext cx="3556080" cy="80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8432640"/>
                    <a:ext cx="35560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790640" y="8305920"/>
            <a:ext cx="3886200" cy="1066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609480"/>
            <a:ext cx="5574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Results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lim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41320" y="1679400"/>
            <a:ext cx="3816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41320" y="1679400"/>
            <a:ext cx="38160" cy="381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46000" y="166536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46000" y="166536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40600" y="1655640"/>
            <a:ext cx="20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46000" y="166536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841320" y="1703520"/>
            <a:ext cx="5343120" cy="7805520"/>
            <a:chOff x="841320" y="1703520"/>
            <a:chExt cx="5343120" cy="7805520"/>
          </a:xfrm>
        </p:grpSpPr>
        <p:grpSp>
          <p:nvGrpSpPr>
            <p:cNvPr id="226" name=""/>
            <p:cNvGrpSpPr/>
            <p:nvPr/>
          </p:nvGrpSpPr>
          <p:grpSpPr>
            <a:xfrm>
              <a:off x="1741320" y="1775880"/>
              <a:ext cx="4389480" cy="3067200"/>
              <a:chOff x="1741320" y="1775880"/>
              <a:chExt cx="4389480" cy="3067200"/>
            </a:xfrm>
          </p:grpSpPr>
          <p:sp>
            <p:nvSpPr>
              <p:cNvPr id="227" name=""/>
              <p:cNvSpPr/>
              <p:nvPr/>
            </p:nvSpPr>
            <p:spPr>
              <a:xfrm>
                <a:off x="1798560" y="1776240"/>
                <a:ext cx="4330800" cy="3008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798560" y="4784760"/>
                <a:ext cx="4330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798560" y="1776240"/>
                <a:ext cx="4330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1798560" y="1775880"/>
                <a:ext cx="1800" cy="300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6129360" y="1775880"/>
                <a:ext cx="1440" cy="300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770120" y="478476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770120" y="465948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770120" y="454500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770120" y="441972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770120" y="430380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770120" y="417816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770120" y="406224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770120" y="393696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770120" y="382104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770120" y="369576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770120" y="357984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770120" y="345456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770120" y="333864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70120" y="321300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70120" y="309708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770120" y="297180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770120" y="285588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770120" y="273060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770120" y="261468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770120" y="249876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770120" y="237348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770120" y="225900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770120" y="213372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770120" y="201780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770120" y="189216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770120" y="177624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741320" y="4784760"/>
                <a:ext cx="57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741320" y="4178160"/>
                <a:ext cx="57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741320" y="3579840"/>
                <a:ext cx="57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741320" y="2971800"/>
                <a:ext cx="57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741320" y="2373480"/>
                <a:ext cx="57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741320" y="1776240"/>
                <a:ext cx="57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1798560" y="4784760"/>
                <a:ext cx="18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212580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231624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245124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55600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264168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2709720" y="4784760"/>
                <a:ext cx="18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277668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282420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288144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320688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3398760" y="4784760"/>
                <a:ext cx="18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353376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363852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3724200" y="4784760"/>
                <a:ext cx="18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3790800" y="4784760"/>
                <a:ext cx="18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385920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3906720" y="4784760"/>
                <a:ext cx="18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396396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428940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448164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461484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472140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480708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487368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941720" y="4784760"/>
                <a:ext cx="18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498960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504684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537228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556416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5697360" y="4784760"/>
                <a:ext cx="18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580392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588960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956200" y="4784760"/>
                <a:ext cx="18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6022800" y="4784760"/>
                <a:ext cx="18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6072120" y="4784760"/>
                <a:ext cx="18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612936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798560" y="4784400"/>
                <a:ext cx="180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2881440" y="4784400"/>
                <a:ext cx="144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3963960" y="4784400"/>
                <a:ext cx="144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5046840" y="4784400"/>
                <a:ext cx="144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6129360" y="4784400"/>
                <a:ext cx="144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1798560" y="1775880"/>
                <a:ext cx="1800" cy="300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798560" y="4784760"/>
                <a:ext cx="4330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798560" y="4784760"/>
                <a:ext cx="4330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62760" y="472752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041880" y="4659480"/>
                <a:ext cx="1800" cy="48960"/>
              </a:xfrm>
              <a:custGeom>
                <a:avLst/>
                <a:gdLst/>
                <a:ahLst/>
                <a:rect l="l" t="t" r="r" b="b"/>
                <a:pathLst>
                  <a:path w="0" h="31">
                    <a:moveTo>
                      <a:pt x="0" y="0"/>
                    </a:move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013440" y="4564080"/>
                <a:ext cx="1440" cy="85680"/>
              </a:xfrm>
              <a:custGeom>
                <a:avLst/>
                <a:gdLst/>
                <a:ahLst/>
                <a:rect l="l" t="t" r="r" b="b"/>
                <a:pathLst>
                  <a:path w="0" h="54">
                    <a:moveTo>
                      <a:pt x="0" y="0"/>
                    </a:moveTo>
                    <a:lnTo>
                      <a:pt x="0" y="54"/>
                    </a:lnTo>
                    <a:lnTo>
                      <a:pt x="0" y="54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994360" y="4448160"/>
                <a:ext cx="1800" cy="125280"/>
              </a:xfrm>
              <a:custGeom>
                <a:avLst/>
                <a:gdLst/>
                <a:ahLst/>
                <a:rect l="l" t="t" r="r" b="b"/>
                <a:pathLst>
                  <a:path w="0" h="79">
                    <a:moveTo>
                      <a:pt x="0" y="0"/>
                    </a:moveTo>
                    <a:lnTo>
                      <a:pt x="0" y="79"/>
                    </a:lnTo>
                    <a:lnTo>
                      <a:pt x="0" y="79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975280" y="4303800"/>
                <a:ext cx="1800" cy="172800"/>
              </a:xfrm>
              <a:custGeom>
                <a:avLst/>
                <a:gdLst/>
                <a:ahLst/>
                <a:rect l="l" t="t" r="r" b="b"/>
                <a:pathLst>
                  <a:path w="0" h="109">
                    <a:moveTo>
                      <a:pt x="0" y="0"/>
                    </a:moveTo>
                    <a:lnTo>
                      <a:pt x="0" y="109"/>
                    </a:lnTo>
                    <a:lnTo>
                      <a:pt x="0" y="109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956200" y="4148280"/>
                <a:ext cx="1800" cy="203040"/>
              </a:xfrm>
              <a:custGeom>
                <a:avLst/>
                <a:gdLst/>
                <a:ahLst/>
                <a:rect l="l" t="t" r="r" b="b"/>
                <a:pathLst>
                  <a:path w="0" h="128">
                    <a:moveTo>
                      <a:pt x="0" y="0"/>
                    </a:moveTo>
                    <a:lnTo>
                      <a:pt x="0" y="128"/>
                    </a:lnTo>
                    <a:lnTo>
                      <a:pt x="0" y="12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27760" y="3984480"/>
                <a:ext cx="1440" cy="241560"/>
              </a:xfrm>
              <a:custGeom>
                <a:avLst/>
                <a:gdLst/>
                <a:ahLst/>
                <a:rect l="l" t="t" r="r" b="b"/>
                <a:pathLst>
                  <a:path w="0" h="152">
                    <a:moveTo>
                      <a:pt x="0" y="0"/>
                    </a:moveTo>
                    <a:lnTo>
                      <a:pt x="0" y="152"/>
                    </a:lnTo>
                    <a:lnTo>
                      <a:pt x="0" y="15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908680" y="3811680"/>
                <a:ext cx="1440" cy="279360"/>
              </a:xfrm>
              <a:custGeom>
                <a:avLst/>
                <a:gdLst/>
                <a:ahLst/>
                <a:rect l="l" t="t" r="r" b="b"/>
                <a:pathLst>
                  <a:path w="0" h="176">
                    <a:moveTo>
                      <a:pt x="0" y="0"/>
                    </a:moveTo>
                    <a:lnTo>
                      <a:pt x="0" y="176"/>
                    </a:lnTo>
                    <a:lnTo>
                      <a:pt x="0" y="176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889600" y="3646440"/>
                <a:ext cx="1440" cy="300240"/>
              </a:xfrm>
              <a:custGeom>
                <a:avLst/>
                <a:gdLst/>
                <a:ahLst/>
                <a:rect l="l" t="t" r="r" b="b"/>
                <a:pathLst>
                  <a:path w="0" h="189">
                    <a:moveTo>
                      <a:pt x="0" y="0"/>
                    </a:moveTo>
                    <a:lnTo>
                      <a:pt x="0" y="189"/>
                    </a:lnTo>
                    <a:lnTo>
                      <a:pt x="0" y="189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870520" y="3483000"/>
                <a:ext cx="1800" cy="318960"/>
              </a:xfrm>
              <a:custGeom>
                <a:avLst/>
                <a:gdLst/>
                <a:ahLst/>
                <a:rect l="l" t="t" r="r" b="b"/>
                <a:pathLst>
                  <a:path w="0" h="201">
                    <a:moveTo>
                      <a:pt x="0" y="0"/>
                    </a:moveTo>
                    <a:lnTo>
                      <a:pt x="0" y="201"/>
                    </a:lnTo>
                    <a:lnTo>
                      <a:pt x="0" y="20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842080" y="3328920"/>
                <a:ext cx="1440" cy="328680"/>
              </a:xfrm>
              <a:custGeom>
                <a:avLst/>
                <a:gdLst/>
                <a:ahLst/>
                <a:rect l="l" t="t" r="r" b="b"/>
                <a:pathLst>
                  <a:path w="0" h="207">
                    <a:moveTo>
                      <a:pt x="0" y="0"/>
                    </a:moveTo>
                    <a:lnTo>
                      <a:pt x="0" y="207"/>
                    </a:lnTo>
                    <a:lnTo>
                      <a:pt x="0" y="20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823000" y="3174840"/>
                <a:ext cx="1440" cy="336600"/>
              </a:xfrm>
              <a:custGeom>
                <a:avLst/>
                <a:gdLst/>
                <a:ahLst/>
                <a:rect l="l" t="t" r="r" b="b"/>
                <a:pathLst>
                  <a:path w="0" h="212">
                    <a:moveTo>
                      <a:pt x="0" y="0"/>
                    </a:moveTo>
                    <a:lnTo>
                      <a:pt x="0" y="212"/>
                    </a:lnTo>
                    <a:lnTo>
                      <a:pt x="0" y="2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803920" y="3040200"/>
                <a:ext cx="1440" cy="336240"/>
              </a:xfrm>
              <a:custGeom>
                <a:avLst/>
                <a:gdLst/>
                <a:ahLst/>
                <a:rect l="l" t="t" r="r" b="b"/>
                <a:pathLst>
                  <a:path w="0" h="212">
                    <a:moveTo>
                      <a:pt x="0" y="0"/>
                    </a:moveTo>
                    <a:lnTo>
                      <a:pt x="0" y="212"/>
                    </a:lnTo>
                    <a:lnTo>
                      <a:pt x="0" y="2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75480" y="2924280"/>
                <a:ext cx="1440" cy="336600"/>
              </a:xfrm>
              <a:custGeom>
                <a:avLst/>
                <a:gdLst/>
                <a:ahLst/>
                <a:rect l="l" t="t" r="r" b="b"/>
                <a:pathLst>
                  <a:path w="0" h="212">
                    <a:moveTo>
                      <a:pt x="0" y="0"/>
                    </a:moveTo>
                    <a:lnTo>
                      <a:pt x="0" y="212"/>
                    </a:lnTo>
                    <a:lnTo>
                      <a:pt x="0" y="2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754600" y="2808360"/>
                <a:ext cx="1800" cy="338040"/>
              </a:xfrm>
              <a:custGeom>
                <a:avLst/>
                <a:gdLst/>
                <a:ahLst/>
                <a:rect l="l" t="t" r="r" b="b"/>
                <a:pathLst>
                  <a:path w="0" h="213">
                    <a:moveTo>
                      <a:pt x="0" y="0"/>
                    </a:moveTo>
                    <a:lnTo>
                      <a:pt x="0" y="213"/>
                    </a:lnTo>
                    <a:lnTo>
                      <a:pt x="0" y="213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735520" y="2711520"/>
                <a:ext cx="1800" cy="338040"/>
              </a:xfrm>
              <a:custGeom>
                <a:avLst/>
                <a:gdLst/>
                <a:ahLst/>
                <a:rect l="l" t="t" r="r" b="b"/>
                <a:pathLst>
                  <a:path w="0" h="213">
                    <a:moveTo>
                      <a:pt x="0" y="0"/>
                    </a:moveTo>
                    <a:lnTo>
                      <a:pt x="0" y="213"/>
                    </a:lnTo>
                    <a:lnTo>
                      <a:pt x="0" y="213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16440" y="2624040"/>
                <a:ext cx="1800" cy="338400"/>
              </a:xfrm>
              <a:custGeom>
                <a:avLst/>
                <a:gdLst/>
                <a:ahLst/>
                <a:rect l="l" t="t" r="r" b="b"/>
                <a:pathLst>
                  <a:path w="0" h="213">
                    <a:moveTo>
                      <a:pt x="0" y="0"/>
                    </a:moveTo>
                    <a:lnTo>
                      <a:pt x="0" y="213"/>
                    </a:lnTo>
                    <a:lnTo>
                      <a:pt x="0" y="213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88000" y="2548080"/>
                <a:ext cx="1440" cy="336240"/>
              </a:xfrm>
              <a:custGeom>
                <a:avLst/>
                <a:gdLst/>
                <a:ahLst/>
                <a:rect l="l" t="t" r="r" b="b"/>
                <a:pathLst>
                  <a:path w="0" h="212">
                    <a:moveTo>
                      <a:pt x="0" y="0"/>
                    </a:moveTo>
                    <a:lnTo>
                      <a:pt x="0" y="212"/>
                    </a:lnTo>
                    <a:lnTo>
                      <a:pt x="0" y="2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668920" y="2489040"/>
                <a:ext cx="1800" cy="338400"/>
              </a:xfrm>
              <a:custGeom>
                <a:avLst/>
                <a:gdLst/>
                <a:ahLst/>
                <a:rect l="l" t="t" r="r" b="b"/>
                <a:pathLst>
                  <a:path w="0" h="213">
                    <a:moveTo>
                      <a:pt x="0" y="0"/>
                    </a:moveTo>
                    <a:lnTo>
                      <a:pt x="0" y="213"/>
                    </a:lnTo>
                    <a:lnTo>
                      <a:pt x="0" y="213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649840" y="2441520"/>
                <a:ext cx="1800" cy="338040"/>
              </a:xfrm>
              <a:custGeom>
                <a:avLst/>
                <a:gdLst/>
                <a:ahLst/>
                <a:rect l="l" t="t" r="r" b="b"/>
                <a:pathLst>
                  <a:path w="0" h="213">
                    <a:moveTo>
                      <a:pt x="0" y="0"/>
                    </a:moveTo>
                    <a:lnTo>
                      <a:pt x="0" y="213"/>
                    </a:lnTo>
                    <a:lnTo>
                      <a:pt x="0" y="213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630760" y="2394000"/>
                <a:ext cx="1800" cy="345960"/>
              </a:xfrm>
              <a:custGeom>
                <a:avLst/>
                <a:gdLst/>
                <a:ahLst/>
                <a:rect l="l" t="t" r="r" b="b"/>
                <a:pathLst>
                  <a:path w="0" h="218">
                    <a:moveTo>
                      <a:pt x="0" y="0"/>
                    </a:moveTo>
                    <a:lnTo>
                      <a:pt x="0" y="218"/>
                    </a:lnTo>
                    <a:lnTo>
                      <a:pt x="0" y="2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602320" y="2363760"/>
                <a:ext cx="1440" cy="357120"/>
              </a:xfrm>
              <a:custGeom>
                <a:avLst/>
                <a:gdLst/>
                <a:ahLst/>
                <a:rect l="l" t="t" r="r" b="b"/>
                <a:pathLst>
                  <a:path w="0" h="225">
                    <a:moveTo>
                      <a:pt x="0" y="0"/>
                    </a:moveTo>
                    <a:lnTo>
                      <a:pt x="0" y="225"/>
                    </a:lnTo>
                    <a:lnTo>
                      <a:pt x="0" y="225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83240" y="2344680"/>
                <a:ext cx="1440" cy="366840"/>
              </a:xfrm>
              <a:custGeom>
                <a:avLst/>
                <a:gdLst/>
                <a:ahLst/>
                <a:rect l="l" t="t" r="r" b="b"/>
                <a:pathLst>
                  <a:path w="0" h="231">
                    <a:moveTo>
                      <a:pt x="0" y="0"/>
                    </a:moveTo>
                    <a:lnTo>
                      <a:pt x="0" y="231"/>
                    </a:lnTo>
                    <a:lnTo>
                      <a:pt x="0" y="23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564160" y="2335320"/>
                <a:ext cx="1440" cy="366480"/>
              </a:xfrm>
              <a:custGeom>
                <a:avLst/>
                <a:gdLst/>
                <a:ahLst/>
                <a:rect l="l" t="t" r="r" b="b"/>
                <a:pathLst>
                  <a:path w="0" h="231">
                    <a:moveTo>
                      <a:pt x="0" y="0"/>
                    </a:moveTo>
                    <a:lnTo>
                      <a:pt x="0" y="231"/>
                    </a:lnTo>
                    <a:lnTo>
                      <a:pt x="0" y="23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545080" y="2335320"/>
                <a:ext cx="1800" cy="376200"/>
              </a:xfrm>
              <a:custGeom>
                <a:avLst/>
                <a:gdLst/>
                <a:ahLst/>
                <a:rect l="l" t="t" r="r" b="b"/>
                <a:pathLst>
                  <a:path w="0" h="237">
                    <a:moveTo>
                      <a:pt x="0" y="0"/>
                    </a:moveTo>
                    <a:lnTo>
                      <a:pt x="0" y="237"/>
                    </a:lnTo>
                    <a:lnTo>
                      <a:pt x="0" y="23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516640" y="2344680"/>
                <a:ext cx="1440" cy="376200"/>
              </a:xfrm>
              <a:custGeom>
                <a:avLst/>
                <a:gdLst/>
                <a:ahLst/>
                <a:rect l="l" t="t" r="r" b="b"/>
                <a:pathLst>
                  <a:path w="0" h="237">
                    <a:moveTo>
                      <a:pt x="0" y="0"/>
                    </a:moveTo>
                    <a:lnTo>
                      <a:pt x="0" y="237"/>
                    </a:lnTo>
                    <a:lnTo>
                      <a:pt x="0" y="23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497560" y="2363760"/>
                <a:ext cx="1440" cy="376200"/>
              </a:xfrm>
              <a:custGeom>
                <a:avLst/>
                <a:gdLst/>
                <a:ahLst/>
                <a:rect l="l" t="t" r="r" b="b"/>
                <a:pathLst>
                  <a:path w="0" h="237">
                    <a:moveTo>
                      <a:pt x="0" y="0"/>
                    </a:moveTo>
                    <a:lnTo>
                      <a:pt x="0" y="237"/>
                    </a:lnTo>
                    <a:lnTo>
                      <a:pt x="0" y="23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477040" y="2384280"/>
                <a:ext cx="1440" cy="376560"/>
              </a:xfrm>
              <a:custGeom>
                <a:avLst/>
                <a:gdLst/>
                <a:ahLst/>
                <a:rect l="l" t="t" r="r" b="b"/>
                <a:pathLst>
                  <a:path w="0" h="237">
                    <a:moveTo>
                      <a:pt x="0" y="0"/>
                    </a:moveTo>
                    <a:lnTo>
                      <a:pt x="0" y="237"/>
                    </a:lnTo>
                    <a:lnTo>
                      <a:pt x="0" y="23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457960" y="2413080"/>
                <a:ext cx="1440" cy="376200"/>
              </a:xfrm>
              <a:custGeom>
                <a:avLst/>
                <a:gdLst/>
                <a:ahLst/>
                <a:rect l="l" t="t" r="r" b="b"/>
                <a:pathLst>
                  <a:path w="0" h="237">
                    <a:moveTo>
                      <a:pt x="0" y="0"/>
                    </a:moveTo>
                    <a:lnTo>
                      <a:pt x="0" y="237"/>
                    </a:lnTo>
                    <a:lnTo>
                      <a:pt x="0" y="23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429160" y="2441520"/>
                <a:ext cx="1800" cy="376200"/>
              </a:xfrm>
              <a:custGeom>
                <a:avLst/>
                <a:gdLst/>
                <a:ahLst/>
                <a:rect l="l" t="t" r="r" b="b"/>
                <a:pathLst>
                  <a:path w="0" h="237">
                    <a:moveTo>
                      <a:pt x="0" y="0"/>
                    </a:moveTo>
                    <a:lnTo>
                      <a:pt x="0" y="237"/>
                    </a:lnTo>
                    <a:lnTo>
                      <a:pt x="0" y="23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410080" y="2479680"/>
                <a:ext cx="1800" cy="376200"/>
              </a:xfrm>
              <a:custGeom>
                <a:avLst/>
                <a:gdLst/>
                <a:ahLst/>
                <a:rect l="l" t="t" r="r" b="b"/>
                <a:pathLst>
                  <a:path w="0" h="237">
                    <a:moveTo>
                      <a:pt x="0" y="0"/>
                    </a:moveTo>
                    <a:lnTo>
                      <a:pt x="0" y="237"/>
                    </a:lnTo>
                    <a:lnTo>
                      <a:pt x="0" y="23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391000" y="2529000"/>
                <a:ext cx="1800" cy="366480"/>
              </a:xfrm>
              <a:custGeom>
                <a:avLst/>
                <a:gdLst/>
                <a:ahLst/>
                <a:rect l="l" t="t" r="r" b="b"/>
                <a:pathLst>
                  <a:path w="0" h="231">
                    <a:moveTo>
                      <a:pt x="0" y="0"/>
                    </a:moveTo>
                    <a:lnTo>
                      <a:pt x="0" y="231"/>
                    </a:lnTo>
                    <a:lnTo>
                      <a:pt x="0" y="23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72280" y="2576520"/>
                <a:ext cx="1440" cy="357120"/>
              </a:xfrm>
              <a:custGeom>
                <a:avLst/>
                <a:gdLst/>
                <a:ahLst/>
                <a:rect l="l" t="t" r="r" b="b"/>
                <a:pathLst>
                  <a:path w="0" h="225">
                    <a:moveTo>
                      <a:pt x="0" y="0"/>
                    </a:moveTo>
                    <a:lnTo>
                      <a:pt x="0" y="225"/>
                    </a:lnTo>
                    <a:lnTo>
                      <a:pt x="0" y="225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343480" y="2624040"/>
                <a:ext cx="1800" cy="347760"/>
              </a:xfrm>
              <a:custGeom>
                <a:avLst/>
                <a:gdLst/>
                <a:ahLst/>
                <a:rect l="l" t="t" r="r" b="b"/>
                <a:pathLst>
                  <a:path w="0" h="219">
                    <a:moveTo>
                      <a:pt x="0" y="0"/>
                    </a:moveTo>
                    <a:lnTo>
                      <a:pt x="0" y="219"/>
                    </a:lnTo>
                    <a:lnTo>
                      <a:pt x="0" y="219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324400" y="2673360"/>
                <a:ext cx="1800" cy="336600"/>
              </a:xfrm>
              <a:custGeom>
                <a:avLst/>
                <a:gdLst/>
                <a:ahLst/>
                <a:rect l="l" t="t" r="r" b="b"/>
                <a:pathLst>
                  <a:path w="0" h="212">
                    <a:moveTo>
                      <a:pt x="0" y="0"/>
                    </a:moveTo>
                    <a:lnTo>
                      <a:pt x="0" y="212"/>
                    </a:lnTo>
                    <a:lnTo>
                      <a:pt x="0" y="2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305320" y="2730600"/>
                <a:ext cx="1800" cy="318960"/>
              </a:xfrm>
              <a:custGeom>
                <a:avLst/>
                <a:gdLst/>
                <a:ahLst/>
                <a:rect l="l" t="t" r="r" b="b"/>
                <a:pathLst>
                  <a:path w="0" h="201">
                    <a:moveTo>
                      <a:pt x="0" y="0"/>
                    </a:moveTo>
                    <a:lnTo>
                      <a:pt x="0" y="201"/>
                    </a:lnTo>
                    <a:lnTo>
                      <a:pt x="0" y="20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286240" y="2779560"/>
                <a:ext cx="1800" cy="317520"/>
              </a:xfrm>
              <a:custGeom>
                <a:avLst/>
                <a:gdLst/>
                <a:ahLst/>
                <a:rect l="l" t="t" r="r" b="b"/>
                <a:pathLst>
                  <a:path w="0" h="200">
                    <a:moveTo>
                      <a:pt x="0" y="0"/>
                    </a:moveTo>
                    <a:lnTo>
                      <a:pt x="0" y="200"/>
                    </a:lnTo>
                    <a:lnTo>
                      <a:pt x="0" y="200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257800" y="2836800"/>
                <a:ext cx="1440" cy="298440"/>
              </a:xfrm>
              <a:custGeom>
                <a:avLst/>
                <a:gdLst/>
                <a:ahLst/>
                <a:rect l="l" t="t" r="r" b="b"/>
                <a:pathLst>
                  <a:path w="0" h="188">
                    <a:moveTo>
                      <a:pt x="0" y="0"/>
                    </a:moveTo>
                    <a:lnTo>
                      <a:pt x="0" y="188"/>
                    </a:lnTo>
                    <a:lnTo>
                      <a:pt x="0" y="18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38720" y="2895480"/>
                <a:ext cx="1440" cy="289080"/>
              </a:xfrm>
              <a:custGeom>
                <a:avLst/>
                <a:gdLst/>
                <a:ahLst/>
                <a:rect l="l" t="t" r="r" b="b"/>
                <a:pathLst>
                  <a:path w="0" h="182">
                    <a:moveTo>
                      <a:pt x="0" y="0"/>
                    </a:moveTo>
                    <a:lnTo>
                      <a:pt x="0" y="182"/>
                    </a:lnTo>
                    <a:lnTo>
                      <a:pt x="0" y="18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219640" y="2952720"/>
                <a:ext cx="1800" cy="270000"/>
              </a:xfrm>
              <a:custGeom>
                <a:avLst/>
                <a:gdLst/>
                <a:ahLst/>
                <a:rect l="l" t="t" r="r" b="b"/>
                <a:pathLst>
                  <a:path w="0" h="170">
                    <a:moveTo>
                      <a:pt x="0" y="0"/>
                    </a:moveTo>
                    <a:lnTo>
                      <a:pt x="0" y="170"/>
                    </a:lnTo>
                    <a:lnTo>
                      <a:pt x="0" y="170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189400" y="3000240"/>
                <a:ext cx="1800" cy="260640"/>
              </a:xfrm>
              <a:custGeom>
                <a:avLst/>
                <a:gdLst/>
                <a:ahLst/>
                <a:rect l="l" t="t" r="r" b="b"/>
                <a:pathLst>
                  <a:path w="0" h="164">
                    <a:moveTo>
                      <a:pt x="0" y="0"/>
                    </a:moveTo>
                    <a:lnTo>
                      <a:pt x="0" y="164"/>
                    </a:lnTo>
                    <a:lnTo>
                      <a:pt x="0" y="164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170320" y="3059280"/>
                <a:ext cx="1800" cy="250560"/>
              </a:xfrm>
              <a:custGeom>
                <a:avLst/>
                <a:gdLst/>
                <a:ahLst/>
                <a:rect l="l" t="t" r="r" b="b"/>
                <a:pathLst>
                  <a:path w="0" h="158">
                    <a:moveTo>
                      <a:pt x="0" y="0"/>
                    </a:moveTo>
                    <a:lnTo>
                      <a:pt x="0" y="158"/>
                    </a:lnTo>
                    <a:lnTo>
                      <a:pt x="0" y="15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151600" y="3116160"/>
                <a:ext cx="1440" cy="231840"/>
              </a:xfrm>
              <a:custGeom>
                <a:avLst/>
                <a:gdLst/>
                <a:ahLst/>
                <a:rect l="l" t="t" r="r" b="b"/>
                <a:pathLst>
                  <a:path w="0" h="146">
                    <a:moveTo>
                      <a:pt x="0" y="0"/>
                    </a:moveTo>
                    <a:lnTo>
                      <a:pt x="0" y="146"/>
                    </a:lnTo>
                    <a:lnTo>
                      <a:pt x="0" y="146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132520" y="3174840"/>
                <a:ext cx="1440" cy="211320"/>
              </a:xfrm>
              <a:custGeom>
                <a:avLst/>
                <a:gdLst/>
                <a:ahLst/>
                <a:rect l="l" t="t" r="r" b="b"/>
                <a:pathLst>
                  <a:path w="0" h="133">
                    <a:moveTo>
                      <a:pt x="0" y="0"/>
                    </a:moveTo>
                    <a:lnTo>
                      <a:pt x="0" y="133"/>
                    </a:lnTo>
                    <a:lnTo>
                      <a:pt x="0" y="133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103720" y="3222720"/>
                <a:ext cx="1800" cy="212760"/>
              </a:xfrm>
              <a:custGeom>
                <a:avLst/>
                <a:gdLst/>
                <a:ahLst/>
                <a:rect l="l" t="t" r="r" b="b"/>
                <a:pathLst>
                  <a:path w="0" h="134">
                    <a:moveTo>
                      <a:pt x="0" y="0"/>
                    </a:moveTo>
                    <a:lnTo>
                      <a:pt x="0" y="134"/>
                    </a:lnTo>
                    <a:lnTo>
                      <a:pt x="0" y="134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084640" y="32814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0" h="121">
                    <a:moveTo>
                      <a:pt x="0" y="0"/>
                    </a:moveTo>
                    <a:lnTo>
                      <a:pt x="0" y="121"/>
                    </a:lnTo>
                    <a:lnTo>
                      <a:pt x="0" y="12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065560" y="3328920"/>
                <a:ext cx="1800" cy="182520"/>
              </a:xfrm>
              <a:custGeom>
                <a:avLst/>
                <a:gdLst/>
                <a:ahLst/>
                <a:rect l="l" t="t" r="r" b="b"/>
                <a:pathLst>
                  <a:path w="0" h="115">
                    <a:moveTo>
                      <a:pt x="0" y="0"/>
                    </a:moveTo>
                    <a:lnTo>
                      <a:pt x="0" y="115"/>
                    </a:lnTo>
                    <a:lnTo>
                      <a:pt x="0" y="115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046840" y="3376440"/>
                <a:ext cx="1440" cy="174960"/>
              </a:xfrm>
              <a:custGeom>
                <a:avLst/>
                <a:gdLst/>
                <a:ahLst/>
                <a:rect l="l" t="t" r="r" b="b"/>
                <a:pathLst>
                  <a:path w="0" h="110">
                    <a:moveTo>
                      <a:pt x="0" y="0"/>
                    </a:moveTo>
                    <a:lnTo>
                      <a:pt x="0" y="110"/>
                    </a:lnTo>
                    <a:lnTo>
                      <a:pt x="0" y="110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018040" y="3425760"/>
                <a:ext cx="1800" cy="163440"/>
              </a:xfrm>
              <a:custGeom>
                <a:avLst/>
                <a:gdLst/>
                <a:ahLst/>
                <a:rect l="l" t="t" r="r" b="b"/>
                <a:pathLst>
                  <a:path w="0" h="103">
                    <a:moveTo>
                      <a:pt x="0" y="0"/>
                    </a:moveTo>
                    <a:lnTo>
                      <a:pt x="0" y="103"/>
                    </a:lnTo>
                    <a:lnTo>
                      <a:pt x="0" y="103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998960" y="3473280"/>
                <a:ext cx="1800" cy="144720"/>
              </a:xfrm>
              <a:custGeom>
                <a:avLst/>
                <a:gdLst/>
                <a:ahLst/>
                <a:rect l="l" t="t" r="r" b="b"/>
                <a:pathLst>
                  <a:path w="0" h="91">
                    <a:moveTo>
                      <a:pt x="0" y="0"/>
                    </a:moveTo>
                    <a:lnTo>
                      <a:pt x="0" y="91"/>
                    </a:lnTo>
                    <a:lnTo>
                      <a:pt x="0" y="9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979880" y="3522600"/>
                <a:ext cx="1800" cy="135000"/>
              </a:xfrm>
              <a:custGeom>
                <a:avLst/>
                <a:gdLst/>
                <a:ahLst/>
                <a:rect l="l" t="t" r="r" b="b"/>
                <a:pathLst>
                  <a:path w="0" h="85">
                    <a:moveTo>
                      <a:pt x="0" y="0"/>
                    </a:moveTo>
                    <a:lnTo>
                      <a:pt x="0" y="85"/>
                    </a:lnTo>
                    <a:lnTo>
                      <a:pt x="0" y="85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960800" y="3560760"/>
                <a:ext cx="1800" cy="135000"/>
              </a:xfrm>
              <a:custGeom>
                <a:avLst/>
                <a:gdLst/>
                <a:ahLst/>
                <a:rect l="l" t="t" r="r" b="b"/>
                <a:pathLst>
                  <a:path w="0" h="85">
                    <a:moveTo>
                      <a:pt x="0" y="0"/>
                    </a:moveTo>
                    <a:lnTo>
                      <a:pt x="0" y="85"/>
                    </a:lnTo>
                    <a:lnTo>
                      <a:pt x="0" y="85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932360" y="3608280"/>
                <a:ext cx="1440" cy="125640"/>
              </a:xfrm>
              <a:custGeom>
                <a:avLst/>
                <a:gdLst/>
                <a:ahLst/>
                <a:rect l="l" t="t" r="r" b="b"/>
                <a:pathLst>
                  <a:path w="0" h="79">
                    <a:moveTo>
                      <a:pt x="0" y="0"/>
                    </a:moveTo>
                    <a:lnTo>
                      <a:pt x="0" y="79"/>
                    </a:lnTo>
                    <a:lnTo>
                      <a:pt x="0" y="79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911840" y="3646440"/>
                <a:ext cx="1440" cy="115920"/>
              </a:xfrm>
              <a:custGeom>
                <a:avLst/>
                <a:gdLst/>
                <a:ahLst/>
                <a:rect l="l" t="t" r="r" b="b"/>
                <a:pathLst>
                  <a:path w="0" h="73">
                    <a:moveTo>
                      <a:pt x="0" y="0"/>
                    </a:moveTo>
                    <a:lnTo>
                      <a:pt x="0" y="73"/>
                    </a:lnTo>
                    <a:lnTo>
                      <a:pt x="0" y="73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892760" y="3686040"/>
                <a:ext cx="1440" cy="10656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873680" y="3714840"/>
                <a:ext cx="1440" cy="115920"/>
              </a:xfrm>
              <a:custGeom>
                <a:avLst/>
                <a:gdLst/>
                <a:ahLst/>
                <a:rect l="l" t="t" r="r" b="b"/>
                <a:pathLst>
                  <a:path w="0" h="73">
                    <a:moveTo>
                      <a:pt x="0" y="0"/>
                    </a:moveTo>
                    <a:lnTo>
                      <a:pt x="0" y="73"/>
                    </a:lnTo>
                    <a:lnTo>
                      <a:pt x="0" y="73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844880" y="3753000"/>
                <a:ext cx="180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826160" y="3792600"/>
                <a:ext cx="1440" cy="95040"/>
              </a:xfrm>
              <a:custGeom>
                <a:avLst/>
                <a:gdLst/>
                <a:ahLst/>
                <a:rect l="l" t="t" r="r" b="b"/>
                <a:pathLst>
                  <a:path w="0" h="60">
                    <a:moveTo>
                      <a:pt x="0" y="0"/>
                    </a:moveTo>
                    <a:lnTo>
                      <a:pt x="0" y="6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07080" y="3821040"/>
                <a:ext cx="1440" cy="10656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88000" y="3849840"/>
                <a:ext cx="1440" cy="96840"/>
              </a:xfrm>
              <a:custGeom>
                <a:avLst/>
                <a:gdLst/>
                <a:ahLst/>
                <a:rect l="l" t="t" r="r" b="b"/>
                <a:pathLst>
                  <a:path w="0" h="61">
                    <a:moveTo>
                      <a:pt x="0" y="0"/>
                    </a:moveTo>
                    <a:lnTo>
                      <a:pt x="0" y="61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59200" y="3878280"/>
                <a:ext cx="1800" cy="96840"/>
              </a:xfrm>
              <a:custGeom>
                <a:avLst/>
                <a:gdLst/>
                <a:ahLst/>
                <a:rect l="l" t="t" r="r" b="b"/>
                <a:pathLst>
                  <a:path w="0" h="61">
                    <a:moveTo>
                      <a:pt x="0" y="0"/>
                    </a:moveTo>
                    <a:lnTo>
                      <a:pt x="0" y="61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40120" y="3908520"/>
                <a:ext cx="1800" cy="95040"/>
              </a:xfrm>
              <a:custGeom>
                <a:avLst/>
                <a:gdLst/>
                <a:ahLst/>
                <a:rect l="l" t="t" r="r" b="b"/>
                <a:pathLst>
                  <a:path w="0" h="60">
                    <a:moveTo>
                      <a:pt x="0" y="0"/>
                    </a:moveTo>
                    <a:lnTo>
                      <a:pt x="0" y="6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21400" y="3936960"/>
                <a:ext cx="1440" cy="96840"/>
              </a:xfrm>
              <a:custGeom>
                <a:avLst/>
                <a:gdLst/>
                <a:ahLst/>
                <a:rect l="l" t="t" r="r" b="b"/>
                <a:pathLst>
                  <a:path w="0" h="61">
                    <a:moveTo>
                      <a:pt x="0" y="0"/>
                    </a:moveTo>
                    <a:lnTo>
                      <a:pt x="0" y="61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692600" y="3965400"/>
                <a:ext cx="1800" cy="96840"/>
              </a:xfrm>
              <a:custGeom>
                <a:avLst/>
                <a:gdLst/>
                <a:ahLst/>
                <a:rect l="l" t="t" r="r" b="b"/>
                <a:pathLst>
                  <a:path w="0" h="61">
                    <a:moveTo>
                      <a:pt x="0" y="0"/>
                    </a:moveTo>
                    <a:lnTo>
                      <a:pt x="0" y="61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673520" y="3984480"/>
                <a:ext cx="1800" cy="96840"/>
              </a:xfrm>
              <a:custGeom>
                <a:avLst/>
                <a:gdLst/>
                <a:ahLst/>
                <a:rect l="l" t="t" r="r" b="b"/>
                <a:pathLst>
                  <a:path w="0" h="61">
                    <a:moveTo>
                      <a:pt x="0" y="0"/>
                    </a:moveTo>
                    <a:lnTo>
                      <a:pt x="0" y="61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654440" y="4013280"/>
                <a:ext cx="1800" cy="96840"/>
              </a:xfrm>
              <a:custGeom>
                <a:avLst/>
                <a:gdLst/>
                <a:ahLst/>
                <a:rect l="l" t="t" r="r" b="b"/>
                <a:pathLst>
                  <a:path w="0" h="61">
                    <a:moveTo>
                      <a:pt x="0" y="0"/>
                    </a:moveTo>
                    <a:lnTo>
                      <a:pt x="0" y="61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633920" y="4033800"/>
                <a:ext cx="1440" cy="95400"/>
              </a:xfrm>
              <a:custGeom>
                <a:avLst/>
                <a:gdLst/>
                <a:ahLst/>
                <a:rect l="l" t="t" r="r" b="b"/>
                <a:pathLst>
                  <a:path w="0" h="60">
                    <a:moveTo>
                      <a:pt x="0" y="0"/>
                    </a:moveTo>
                    <a:lnTo>
                      <a:pt x="0" y="6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605480" y="4052880"/>
                <a:ext cx="144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586400" y="4071960"/>
                <a:ext cx="144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567320" y="4091040"/>
                <a:ext cx="144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548240" y="4110120"/>
                <a:ext cx="144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519440" y="4129200"/>
                <a:ext cx="180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500720" y="4148280"/>
                <a:ext cx="144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481640" y="4168800"/>
                <a:ext cx="1440" cy="104760"/>
              </a:xfrm>
              <a:custGeom>
                <a:avLst/>
                <a:gdLst/>
                <a:ahLst/>
                <a:rect l="l" t="t" r="r" b="b"/>
                <a:pathLst>
                  <a:path w="0" h="66">
                    <a:moveTo>
                      <a:pt x="0" y="0"/>
                    </a:moveTo>
                    <a:lnTo>
                      <a:pt x="0" y="66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462560" y="4187880"/>
                <a:ext cx="144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433760" y="4206960"/>
                <a:ext cx="180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414680" y="4216320"/>
                <a:ext cx="1800" cy="10656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395960" y="4235400"/>
                <a:ext cx="1440" cy="10656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376880" y="4245120"/>
                <a:ext cx="144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346640" y="4264200"/>
                <a:ext cx="144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327560" y="4273560"/>
                <a:ext cx="144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308480" y="4294080"/>
                <a:ext cx="1440" cy="104760"/>
              </a:xfrm>
              <a:custGeom>
                <a:avLst/>
                <a:gdLst/>
                <a:ahLst/>
                <a:rect l="l" t="t" r="r" b="b"/>
                <a:pathLst>
                  <a:path w="0" h="66">
                    <a:moveTo>
                      <a:pt x="0" y="0"/>
                    </a:moveTo>
                    <a:lnTo>
                      <a:pt x="0" y="66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289400" y="4303800"/>
                <a:ext cx="1440" cy="104760"/>
              </a:xfrm>
              <a:custGeom>
                <a:avLst/>
                <a:gdLst/>
                <a:ahLst/>
                <a:rect l="l" t="t" r="r" b="b"/>
                <a:pathLst>
                  <a:path w="0" h="66">
                    <a:moveTo>
                      <a:pt x="0" y="0"/>
                    </a:moveTo>
                    <a:lnTo>
                      <a:pt x="0" y="66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260960" y="4313160"/>
                <a:ext cx="1440" cy="10656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241880" y="4322880"/>
                <a:ext cx="144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222800" y="4341960"/>
                <a:ext cx="1440" cy="96840"/>
              </a:xfrm>
              <a:custGeom>
                <a:avLst/>
                <a:gdLst/>
                <a:ahLst/>
                <a:rect l="l" t="t" r="r" b="b"/>
                <a:pathLst>
                  <a:path w="0" h="61">
                    <a:moveTo>
                      <a:pt x="0" y="0"/>
                    </a:moveTo>
                    <a:lnTo>
                      <a:pt x="0" y="61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203720" y="4351320"/>
                <a:ext cx="1440" cy="10656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175280" y="4361040"/>
                <a:ext cx="144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156200" y="4370400"/>
                <a:ext cx="144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137120" y="4379760"/>
                <a:ext cx="1440" cy="10656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08320" y="4389480"/>
                <a:ext cx="180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089240" y="4398840"/>
                <a:ext cx="1800" cy="96840"/>
              </a:xfrm>
              <a:custGeom>
                <a:avLst/>
                <a:gdLst/>
                <a:ahLst/>
                <a:rect l="l" t="t" r="r" b="b"/>
                <a:pathLst>
                  <a:path w="0" h="61">
                    <a:moveTo>
                      <a:pt x="0" y="0"/>
                    </a:moveTo>
                    <a:lnTo>
                      <a:pt x="0" y="61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068720" y="4408560"/>
                <a:ext cx="1800" cy="96840"/>
              </a:xfrm>
              <a:custGeom>
                <a:avLst/>
                <a:gdLst/>
                <a:ahLst/>
                <a:rect l="l" t="t" r="r" b="b"/>
                <a:pathLst>
                  <a:path w="0" h="61">
                    <a:moveTo>
                      <a:pt x="0" y="0"/>
                    </a:moveTo>
                    <a:lnTo>
                      <a:pt x="0" y="61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049640" y="4419720"/>
                <a:ext cx="1800" cy="95040"/>
              </a:xfrm>
              <a:custGeom>
                <a:avLst/>
                <a:gdLst/>
                <a:ahLst/>
                <a:rect l="l" t="t" r="r" b="b"/>
                <a:pathLst>
                  <a:path w="0" h="60">
                    <a:moveTo>
                      <a:pt x="0" y="0"/>
                    </a:moveTo>
                    <a:lnTo>
                      <a:pt x="0" y="6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021200" y="4429080"/>
                <a:ext cx="1440" cy="95400"/>
              </a:xfrm>
              <a:custGeom>
                <a:avLst/>
                <a:gdLst/>
                <a:ahLst/>
                <a:rect l="l" t="t" r="r" b="b"/>
                <a:pathLst>
                  <a:path w="0" h="60">
                    <a:moveTo>
                      <a:pt x="0" y="0"/>
                    </a:moveTo>
                    <a:lnTo>
                      <a:pt x="0" y="6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002120" y="4438800"/>
                <a:ext cx="1440" cy="95040"/>
              </a:xfrm>
              <a:custGeom>
                <a:avLst/>
                <a:gdLst/>
                <a:ahLst/>
                <a:rect l="l" t="t" r="r" b="b"/>
                <a:pathLst>
                  <a:path w="0" h="60">
                    <a:moveTo>
                      <a:pt x="0" y="0"/>
                    </a:moveTo>
                    <a:lnTo>
                      <a:pt x="0" y="6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983040" y="4438800"/>
                <a:ext cx="1440" cy="95040"/>
              </a:xfrm>
              <a:custGeom>
                <a:avLst/>
                <a:gdLst/>
                <a:ahLst/>
                <a:rect l="l" t="t" r="r" b="b"/>
                <a:pathLst>
                  <a:path w="0" h="60">
                    <a:moveTo>
                      <a:pt x="0" y="0"/>
                    </a:moveTo>
                    <a:lnTo>
                      <a:pt x="0" y="6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963960" y="4448160"/>
                <a:ext cx="1440" cy="96840"/>
              </a:xfrm>
              <a:custGeom>
                <a:avLst/>
                <a:gdLst/>
                <a:ahLst/>
                <a:rect l="l" t="t" r="r" b="b"/>
                <a:pathLst>
                  <a:path w="0" h="61">
                    <a:moveTo>
                      <a:pt x="0" y="0"/>
                    </a:moveTo>
                    <a:lnTo>
                      <a:pt x="0" y="61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935520" y="4457880"/>
                <a:ext cx="1440" cy="96480"/>
              </a:xfrm>
              <a:custGeom>
                <a:avLst/>
                <a:gdLst/>
                <a:ahLst/>
                <a:rect l="l" t="t" r="r" b="b"/>
                <a:pathLst>
                  <a:path w="0" h="61">
                    <a:moveTo>
                      <a:pt x="0" y="0"/>
                    </a:moveTo>
                    <a:lnTo>
                      <a:pt x="0" y="61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916440" y="4467240"/>
                <a:ext cx="1440" cy="96840"/>
              </a:xfrm>
              <a:custGeom>
                <a:avLst/>
                <a:gdLst/>
                <a:ahLst/>
                <a:rect l="l" t="t" r="r" b="b"/>
                <a:pathLst>
                  <a:path w="0" h="61">
                    <a:moveTo>
                      <a:pt x="0" y="0"/>
                    </a:moveTo>
                    <a:lnTo>
                      <a:pt x="0" y="61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897360" y="4476600"/>
                <a:ext cx="1440" cy="87480"/>
              </a:xfrm>
              <a:custGeom>
                <a:avLst/>
                <a:gdLst/>
                <a:ahLst/>
                <a:rect l="l" t="t" r="r" b="b"/>
                <a:pathLst>
                  <a:path w="0" h="55">
                    <a:moveTo>
                      <a:pt x="0" y="0"/>
                    </a:moveTo>
                    <a:lnTo>
                      <a:pt x="0" y="55"/>
                    </a:lnTo>
                    <a:lnTo>
                      <a:pt x="0" y="55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878280" y="4476600"/>
                <a:ext cx="1440" cy="96840"/>
              </a:xfrm>
              <a:custGeom>
                <a:avLst/>
                <a:gdLst/>
                <a:ahLst/>
                <a:rect l="l" t="t" r="r" b="b"/>
                <a:pathLst>
                  <a:path w="0" h="61">
                    <a:moveTo>
                      <a:pt x="0" y="0"/>
                    </a:moveTo>
                    <a:lnTo>
                      <a:pt x="0" y="61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849840" y="4486320"/>
                <a:ext cx="1440" cy="87120"/>
              </a:xfrm>
              <a:custGeom>
                <a:avLst/>
                <a:gdLst/>
                <a:ahLst/>
                <a:rect l="l" t="t" r="r" b="b"/>
                <a:pathLst>
                  <a:path w="0" h="55">
                    <a:moveTo>
                      <a:pt x="0" y="0"/>
                    </a:moveTo>
                    <a:lnTo>
                      <a:pt x="0" y="55"/>
                    </a:lnTo>
                    <a:lnTo>
                      <a:pt x="0" y="55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830760" y="4495680"/>
                <a:ext cx="1440" cy="87480"/>
              </a:xfrm>
              <a:custGeom>
                <a:avLst/>
                <a:gdLst/>
                <a:ahLst/>
                <a:rect l="l" t="t" r="r" b="b"/>
                <a:pathLst>
                  <a:path w="0" h="55">
                    <a:moveTo>
                      <a:pt x="0" y="0"/>
                    </a:moveTo>
                    <a:lnTo>
                      <a:pt x="0" y="55"/>
                    </a:lnTo>
                    <a:lnTo>
                      <a:pt x="0" y="55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811680" y="4495680"/>
                <a:ext cx="1440" cy="96840"/>
              </a:xfrm>
              <a:custGeom>
                <a:avLst/>
                <a:gdLst/>
                <a:ahLst/>
                <a:rect l="l" t="t" r="r" b="b"/>
                <a:pathLst>
                  <a:path w="0" h="61">
                    <a:moveTo>
                      <a:pt x="0" y="0"/>
                    </a:moveTo>
                    <a:lnTo>
                      <a:pt x="0" y="61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790800" y="4505400"/>
                <a:ext cx="1800" cy="87120"/>
              </a:xfrm>
              <a:custGeom>
                <a:avLst/>
                <a:gdLst/>
                <a:ahLst/>
                <a:rect l="l" t="t" r="r" b="b"/>
                <a:pathLst>
                  <a:path w="0" h="55">
                    <a:moveTo>
                      <a:pt x="0" y="0"/>
                    </a:moveTo>
                    <a:lnTo>
                      <a:pt x="0" y="55"/>
                    </a:lnTo>
                    <a:lnTo>
                      <a:pt x="0" y="55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62360" y="4514760"/>
                <a:ext cx="1440" cy="87480"/>
              </a:xfrm>
              <a:custGeom>
                <a:avLst/>
                <a:gdLst/>
                <a:ahLst/>
                <a:rect l="l" t="t" r="r" b="b"/>
                <a:pathLst>
                  <a:path w="0" h="55">
                    <a:moveTo>
                      <a:pt x="0" y="0"/>
                    </a:moveTo>
                    <a:lnTo>
                      <a:pt x="0" y="55"/>
                    </a:lnTo>
                    <a:lnTo>
                      <a:pt x="0" y="55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743280" y="4514760"/>
                <a:ext cx="1800" cy="87480"/>
              </a:xfrm>
              <a:custGeom>
                <a:avLst/>
                <a:gdLst/>
                <a:ahLst/>
                <a:rect l="l" t="t" r="r" b="b"/>
                <a:pathLst>
                  <a:path w="0" h="55">
                    <a:moveTo>
                      <a:pt x="0" y="0"/>
                    </a:moveTo>
                    <a:lnTo>
                      <a:pt x="0" y="55"/>
                    </a:lnTo>
                    <a:lnTo>
                      <a:pt x="0" y="55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24200" y="4524480"/>
                <a:ext cx="1800" cy="87120"/>
              </a:xfrm>
              <a:custGeom>
                <a:avLst/>
                <a:gdLst/>
                <a:ahLst/>
                <a:rect l="l" t="t" r="r" b="b"/>
                <a:pathLst>
                  <a:path w="0" h="55">
                    <a:moveTo>
                      <a:pt x="0" y="0"/>
                    </a:moveTo>
                    <a:lnTo>
                      <a:pt x="0" y="55"/>
                    </a:lnTo>
                    <a:lnTo>
                      <a:pt x="0" y="55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705120" y="4533840"/>
                <a:ext cx="1800" cy="77760"/>
              </a:xfrm>
              <a:custGeom>
                <a:avLst/>
                <a:gdLst/>
                <a:ahLst/>
                <a:rect l="l" t="t" r="r" b="b"/>
                <a:pathLst>
                  <a:path w="0" h="49">
                    <a:moveTo>
                      <a:pt x="0" y="0"/>
                    </a:move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676680" y="4533840"/>
                <a:ext cx="1440" cy="77760"/>
              </a:xfrm>
              <a:custGeom>
                <a:avLst/>
                <a:gdLst/>
                <a:ahLst/>
                <a:rect l="l" t="t" r="r" b="b"/>
                <a:pathLst>
                  <a:path w="0" h="49">
                    <a:moveTo>
                      <a:pt x="0" y="0"/>
                    </a:move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657600" y="4545000"/>
                <a:ext cx="1440" cy="76320"/>
              </a:xfrm>
              <a:custGeom>
                <a:avLst/>
                <a:gdLst/>
                <a:ahLst/>
                <a:rect l="l" t="t" r="r" b="b"/>
                <a:pathLst>
                  <a:path w="0" h="48">
                    <a:moveTo>
                      <a:pt x="0" y="0"/>
                    </a:move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638520" y="4545000"/>
                <a:ext cx="1440" cy="76320"/>
              </a:xfrm>
              <a:custGeom>
                <a:avLst/>
                <a:gdLst/>
                <a:ahLst/>
                <a:rect l="l" t="t" r="r" b="b"/>
                <a:pathLst>
                  <a:path w="0" h="48">
                    <a:moveTo>
                      <a:pt x="0" y="0"/>
                    </a:move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610080" y="4554360"/>
                <a:ext cx="1440" cy="76320"/>
              </a:xfrm>
              <a:custGeom>
                <a:avLst/>
                <a:gdLst/>
                <a:ahLst/>
                <a:rect l="l" t="t" r="r" b="b"/>
                <a:pathLst>
                  <a:path w="0" h="48">
                    <a:moveTo>
                      <a:pt x="0" y="0"/>
                    </a:move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591000" y="4554360"/>
                <a:ext cx="1440" cy="76320"/>
              </a:xfrm>
              <a:custGeom>
                <a:avLst/>
                <a:gdLst/>
                <a:ahLst/>
                <a:rect l="l" t="t" r="r" b="b"/>
                <a:pathLst>
                  <a:path w="0" h="48">
                    <a:moveTo>
                      <a:pt x="0" y="0"/>
                    </a:move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571920" y="4564080"/>
                <a:ext cx="1440" cy="76320"/>
              </a:xfrm>
              <a:custGeom>
                <a:avLst/>
                <a:gdLst/>
                <a:ahLst/>
                <a:rect l="l" t="t" r="r" b="b"/>
                <a:pathLst>
                  <a:path w="0" h="48">
                    <a:moveTo>
                      <a:pt x="0" y="0"/>
                    </a:move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552840" y="4564080"/>
                <a:ext cx="1440" cy="76320"/>
              </a:xfrm>
              <a:custGeom>
                <a:avLst/>
                <a:gdLst/>
                <a:ahLst/>
                <a:rect l="l" t="t" r="r" b="b"/>
                <a:pathLst>
                  <a:path w="0" h="48">
                    <a:moveTo>
                      <a:pt x="0" y="0"/>
                    </a:move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524400" y="4573440"/>
                <a:ext cx="1440" cy="6696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0"/>
                    </a:move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1505520" y="1703520"/>
              <a:ext cx="4669200" cy="7084440"/>
              <a:chOff x="1505520" y="1703520"/>
              <a:chExt cx="4669200" cy="7084440"/>
            </a:xfrm>
          </p:grpSpPr>
          <p:sp>
            <p:nvSpPr>
              <p:cNvPr id="428" name=""/>
              <p:cNvSpPr/>
              <p:nvPr/>
            </p:nvSpPr>
            <p:spPr>
              <a:xfrm>
                <a:off x="3503520" y="4573440"/>
                <a:ext cx="1800" cy="76320"/>
              </a:xfrm>
              <a:custGeom>
                <a:avLst/>
                <a:gdLst/>
                <a:ahLst/>
                <a:rect l="l" t="t" r="r" b="b"/>
                <a:pathLst>
                  <a:path w="0" h="48">
                    <a:moveTo>
                      <a:pt x="0" y="0"/>
                    </a:move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484440" y="4583160"/>
                <a:ext cx="1800" cy="6660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0"/>
                    </a:move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465360" y="4583160"/>
                <a:ext cx="1800" cy="6660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0"/>
                    </a:move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436920" y="4592520"/>
                <a:ext cx="1440" cy="6696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0"/>
                    </a:move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417840" y="4592520"/>
                <a:ext cx="1800" cy="6696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0"/>
                    </a:move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398760" y="4592520"/>
                <a:ext cx="1800" cy="6696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0"/>
                    </a:move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379680" y="4602240"/>
                <a:ext cx="1800" cy="68040"/>
              </a:xfrm>
              <a:custGeom>
                <a:avLst/>
                <a:gdLst/>
                <a:ahLst/>
                <a:rect l="l" t="t" r="r" b="b"/>
                <a:pathLst>
                  <a:path w="0" h="43">
                    <a:moveTo>
                      <a:pt x="0" y="0"/>
                    </a:moveTo>
                    <a:lnTo>
                      <a:pt x="0" y="43"/>
                    </a:lnTo>
                    <a:lnTo>
                      <a:pt x="0" y="43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351240" y="4602240"/>
                <a:ext cx="1440" cy="68040"/>
              </a:xfrm>
              <a:custGeom>
                <a:avLst/>
                <a:gdLst/>
                <a:ahLst/>
                <a:rect l="l" t="t" r="r" b="b"/>
                <a:pathLst>
                  <a:path w="0" h="43">
                    <a:moveTo>
                      <a:pt x="0" y="0"/>
                    </a:moveTo>
                    <a:lnTo>
                      <a:pt x="0" y="43"/>
                    </a:lnTo>
                    <a:lnTo>
                      <a:pt x="0" y="43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332160" y="4611600"/>
                <a:ext cx="1440" cy="58680"/>
              </a:xfrm>
              <a:custGeom>
                <a:avLst/>
                <a:gdLst/>
                <a:ahLst/>
                <a:rect l="l" t="t" r="r" b="b"/>
                <a:pathLst>
                  <a:path w="0" h="37">
                    <a:moveTo>
                      <a:pt x="0" y="0"/>
                    </a:moveTo>
                    <a:lnTo>
                      <a:pt x="0" y="37"/>
                    </a:lnTo>
                    <a:lnTo>
                      <a:pt x="0" y="3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313080" y="4611600"/>
                <a:ext cx="1800" cy="58680"/>
              </a:xfrm>
              <a:custGeom>
                <a:avLst/>
                <a:gdLst/>
                <a:ahLst/>
                <a:rect l="l" t="t" r="r" b="b"/>
                <a:pathLst>
                  <a:path w="0" h="37">
                    <a:moveTo>
                      <a:pt x="0" y="0"/>
                    </a:moveTo>
                    <a:lnTo>
                      <a:pt x="0" y="37"/>
                    </a:lnTo>
                    <a:lnTo>
                      <a:pt x="0" y="3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294000" y="4611600"/>
                <a:ext cx="1800" cy="68400"/>
              </a:xfrm>
              <a:custGeom>
                <a:avLst/>
                <a:gdLst/>
                <a:ahLst/>
                <a:rect l="l" t="t" r="r" b="b"/>
                <a:pathLst>
                  <a:path w="0" h="43">
                    <a:moveTo>
                      <a:pt x="0" y="0"/>
                    </a:moveTo>
                    <a:lnTo>
                      <a:pt x="0" y="43"/>
                    </a:lnTo>
                    <a:lnTo>
                      <a:pt x="0" y="43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265560" y="4621320"/>
                <a:ext cx="1440" cy="58680"/>
              </a:xfrm>
              <a:custGeom>
                <a:avLst/>
                <a:gdLst/>
                <a:ahLst/>
                <a:rect l="l" t="t" r="r" b="b"/>
                <a:pathLst>
                  <a:path w="0" h="37">
                    <a:moveTo>
                      <a:pt x="0" y="0"/>
                    </a:moveTo>
                    <a:lnTo>
                      <a:pt x="0" y="37"/>
                    </a:lnTo>
                    <a:lnTo>
                      <a:pt x="0" y="3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246480" y="4621320"/>
                <a:ext cx="1440" cy="58680"/>
              </a:xfrm>
              <a:custGeom>
                <a:avLst/>
                <a:gdLst/>
                <a:ahLst/>
                <a:rect l="l" t="t" r="r" b="b"/>
                <a:pathLst>
                  <a:path w="0" h="37">
                    <a:moveTo>
                      <a:pt x="0" y="0"/>
                    </a:moveTo>
                    <a:lnTo>
                      <a:pt x="0" y="37"/>
                    </a:lnTo>
                    <a:lnTo>
                      <a:pt x="0" y="3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225960" y="4621320"/>
                <a:ext cx="1440" cy="58680"/>
              </a:xfrm>
              <a:custGeom>
                <a:avLst/>
                <a:gdLst/>
                <a:ahLst/>
                <a:rect l="l" t="t" r="r" b="b"/>
                <a:pathLst>
                  <a:path w="0" h="37">
                    <a:moveTo>
                      <a:pt x="0" y="0"/>
                    </a:moveTo>
                    <a:lnTo>
                      <a:pt x="0" y="37"/>
                    </a:lnTo>
                    <a:lnTo>
                      <a:pt x="0" y="3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206880" y="4630680"/>
                <a:ext cx="1440" cy="58680"/>
              </a:xfrm>
              <a:custGeom>
                <a:avLst/>
                <a:gdLst/>
                <a:ahLst/>
                <a:rect l="l" t="t" r="r" b="b"/>
                <a:pathLst>
                  <a:path w="0" h="37">
                    <a:moveTo>
                      <a:pt x="0" y="0"/>
                    </a:moveTo>
                    <a:lnTo>
                      <a:pt x="0" y="37"/>
                    </a:lnTo>
                    <a:lnTo>
                      <a:pt x="0" y="3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78080" y="4630680"/>
                <a:ext cx="1800" cy="58680"/>
              </a:xfrm>
              <a:custGeom>
                <a:avLst/>
                <a:gdLst/>
                <a:ahLst/>
                <a:rect l="l" t="t" r="r" b="b"/>
                <a:pathLst>
                  <a:path w="0" h="37">
                    <a:moveTo>
                      <a:pt x="0" y="0"/>
                    </a:moveTo>
                    <a:lnTo>
                      <a:pt x="0" y="37"/>
                    </a:lnTo>
                    <a:lnTo>
                      <a:pt x="0" y="3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159000" y="4630680"/>
                <a:ext cx="1800" cy="58680"/>
              </a:xfrm>
              <a:custGeom>
                <a:avLst/>
                <a:gdLst/>
                <a:ahLst/>
                <a:rect l="l" t="t" r="r" b="b"/>
                <a:pathLst>
                  <a:path w="0" h="37">
                    <a:moveTo>
                      <a:pt x="0" y="0"/>
                    </a:moveTo>
                    <a:lnTo>
                      <a:pt x="0" y="37"/>
                    </a:lnTo>
                    <a:lnTo>
                      <a:pt x="0" y="3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139920" y="4640400"/>
                <a:ext cx="1800" cy="48960"/>
              </a:xfrm>
              <a:custGeom>
                <a:avLst/>
                <a:gdLst/>
                <a:ahLst/>
                <a:rect l="l" t="t" r="r" b="b"/>
                <a:pathLst>
                  <a:path w="0" h="31">
                    <a:moveTo>
                      <a:pt x="0" y="0"/>
                    </a:move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21200" y="4640400"/>
                <a:ext cx="1440" cy="48960"/>
              </a:xfrm>
              <a:custGeom>
                <a:avLst/>
                <a:gdLst/>
                <a:ahLst/>
                <a:rect l="l" t="t" r="r" b="b"/>
                <a:pathLst>
                  <a:path w="0" h="31">
                    <a:moveTo>
                      <a:pt x="0" y="0"/>
                    </a:move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92400" y="4640400"/>
                <a:ext cx="1800" cy="58680"/>
              </a:xfrm>
              <a:custGeom>
                <a:avLst/>
                <a:gdLst/>
                <a:ahLst/>
                <a:rect l="l" t="t" r="r" b="b"/>
                <a:pathLst>
                  <a:path w="0" h="37">
                    <a:moveTo>
                      <a:pt x="0" y="0"/>
                    </a:moveTo>
                    <a:lnTo>
                      <a:pt x="0" y="37"/>
                    </a:lnTo>
                    <a:lnTo>
                      <a:pt x="0" y="3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73320" y="4649760"/>
                <a:ext cx="1800" cy="49320"/>
              </a:xfrm>
              <a:custGeom>
                <a:avLst/>
                <a:gdLst/>
                <a:ahLst/>
                <a:rect l="l" t="t" r="r" b="b"/>
                <a:pathLst>
                  <a:path w="0" h="31">
                    <a:moveTo>
                      <a:pt x="0" y="0"/>
                    </a:move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54240" y="4649760"/>
                <a:ext cx="1800" cy="49320"/>
              </a:xfrm>
              <a:custGeom>
                <a:avLst/>
                <a:gdLst/>
                <a:ahLst/>
                <a:rect l="l" t="t" r="r" b="b"/>
                <a:pathLst>
                  <a:path w="0" h="31">
                    <a:moveTo>
                      <a:pt x="0" y="0"/>
                    </a:move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025800" y="4649760"/>
                <a:ext cx="1440" cy="49320"/>
              </a:xfrm>
              <a:custGeom>
                <a:avLst/>
                <a:gdLst/>
                <a:ahLst/>
                <a:rect l="l" t="t" r="r" b="b"/>
                <a:pathLst>
                  <a:path w="0" h="31">
                    <a:moveTo>
                      <a:pt x="0" y="0"/>
                    </a:move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006720" y="4649760"/>
                <a:ext cx="1440" cy="49320"/>
              </a:xfrm>
              <a:custGeom>
                <a:avLst/>
                <a:gdLst/>
                <a:ahLst/>
                <a:rect l="l" t="t" r="r" b="b"/>
                <a:pathLst>
                  <a:path w="0" h="31">
                    <a:moveTo>
                      <a:pt x="0" y="0"/>
                    </a:move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987640" y="4659480"/>
                <a:ext cx="1800" cy="48960"/>
              </a:xfrm>
              <a:custGeom>
                <a:avLst/>
                <a:gdLst/>
                <a:ahLst/>
                <a:rect l="l" t="t" r="r" b="b"/>
                <a:pathLst>
                  <a:path w="0" h="31">
                    <a:moveTo>
                      <a:pt x="0" y="0"/>
                    </a:move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968560" y="4659480"/>
                <a:ext cx="1800" cy="48960"/>
              </a:xfrm>
              <a:custGeom>
                <a:avLst/>
                <a:gdLst/>
                <a:ahLst/>
                <a:rect l="l" t="t" r="r" b="b"/>
                <a:pathLst>
                  <a:path w="0" h="31">
                    <a:moveTo>
                      <a:pt x="0" y="0"/>
                    </a:move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938320" y="4659480"/>
                <a:ext cx="1800" cy="48960"/>
              </a:xfrm>
              <a:custGeom>
                <a:avLst/>
                <a:gdLst/>
                <a:ahLst/>
                <a:rect l="l" t="t" r="r" b="b"/>
                <a:pathLst>
                  <a:path w="0" h="31">
                    <a:moveTo>
                      <a:pt x="0" y="0"/>
                    </a:move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919240" y="46702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900520" y="46702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881440" y="46702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852640" y="4670280"/>
                <a:ext cx="1800" cy="47880"/>
              </a:xfrm>
              <a:custGeom>
                <a:avLst/>
                <a:gdLst/>
                <a:ahLst/>
                <a:rect l="l" t="t" r="r" b="b"/>
                <a:pathLst>
                  <a:path w="0" h="30">
                    <a:moveTo>
                      <a:pt x="0" y="0"/>
                    </a:move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833560" y="4670280"/>
                <a:ext cx="1800" cy="47880"/>
              </a:xfrm>
              <a:custGeom>
                <a:avLst/>
                <a:gdLst/>
                <a:ahLst/>
                <a:rect l="l" t="t" r="r" b="b"/>
                <a:pathLst>
                  <a:path w="0" h="30">
                    <a:moveTo>
                      <a:pt x="0" y="0"/>
                    </a:move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814480" y="468000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795760" y="468000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766960" y="468000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747880" y="468000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28800" y="4689360"/>
                <a:ext cx="1800" cy="2880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709720" y="468936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681280" y="468936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660760" y="468936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641680" y="468936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622600" y="469908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593800" y="4699080"/>
                <a:ext cx="1800" cy="2844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575080" y="469908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556000" y="469908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527200" y="46990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508120" y="46990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489040" y="4708440"/>
                <a:ext cx="1800" cy="2880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470320" y="4708440"/>
                <a:ext cx="1440" cy="2880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441520" y="4708440"/>
                <a:ext cx="1800" cy="2880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422440" y="4708440"/>
                <a:ext cx="1800" cy="2880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403360" y="4708440"/>
                <a:ext cx="1800" cy="2880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382840" y="4708440"/>
                <a:ext cx="1440" cy="2880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354400" y="4708440"/>
                <a:ext cx="1440" cy="2880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335320" y="471816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316240" y="471816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297160" y="471816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268360" y="4718160"/>
                <a:ext cx="1800" cy="2844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249640" y="471816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230560" y="471816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211480" y="471816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182680" y="472752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163600" y="472752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144880" y="472752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125800" y="472752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095560" y="472752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076480" y="472752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057400" y="472752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038320" y="472752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009880" y="4727520"/>
                <a:ext cx="1440" cy="2880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990800" y="473724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971720" y="473724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943280" y="473724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924200" y="473724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905120" y="473724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886040" y="473724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857240" y="473724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38160" y="473724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17640" y="473724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798560" y="473724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798560" y="2519280"/>
                <a:ext cx="4330800" cy="2265480"/>
              </a:xfrm>
              <a:custGeom>
                <a:avLst/>
                <a:gdLst/>
                <a:ahLst/>
                <a:rect l="l" t="t" r="r" b="b"/>
                <a:pathLst>
                  <a:path w="2728" h="1427">
                    <a:moveTo>
                      <a:pt x="2728" y="1427"/>
                    </a:moveTo>
                    <a:lnTo>
                      <a:pt x="2710" y="1421"/>
                    </a:lnTo>
                    <a:lnTo>
                      <a:pt x="2698" y="1415"/>
                    </a:lnTo>
                    <a:lnTo>
                      <a:pt x="2686" y="1397"/>
                    </a:lnTo>
                    <a:lnTo>
                      <a:pt x="2673" y="1367"/>
                    </a:lnTo>
                    <a:lnTo>
                      <a:pt x="2655" y="1318"/>
                    </a:lnTo>
                    <a:lnTo>
                      <a:pt x="2643" y="1251"/>
                    </a:lnTo>
                    <a:lnTo>
                      <a:pt x="2631" y="1178"/>
                    </a:lnTo>
                    <a:lnTo>
                      <a:pt x="2619" y="1093"/>
                    </a:lnTo>
                    <a:lnTo>
                      <a:pt x="2601" y="1002"/>
                    </a:lnTo>
                    <a:lnTo>
                      <a:pt x="2589" y="905"/>
                    </a:lnTo>
                    <a:lnTo>
                      <a:pt x="2577" y="802"/>
                    </a:lnTo>
                    <a:lnTo>
                      <a:pt x="2565" y="704"/>
                    </a:lnTo>
                    <a:lnTo>
                      <a:pt x="2547" y="613"/>
                    </a:lnTo>
                    <a:lnTo>
                      <a:pt x="2535" y="522"/>
                    </a:lnTo>
                    <a:lnTo>
                      <a:pt x="2523" y="437"/>
                    </a:lnTo>
                    <a:lnTo>
                      <a:pt x="2505" y="358"/>
                    </a:lnTo>
                    <a:lnTo>
                      <a:pt x="2492" y="285"/>
                    </a:lnTo>
                    <a:lnTo>
                      <a:pt x="2480" y="224"/>
                    </a:lnTo>
                    <a:lnTo>
                      <a:pt x="2468" y="170"/>
                    </a:lnTo>
                    <a:lnTo>
                      <a:pt x="2450" y="127"/>
                    </a:lnTo>
                    <a:lnTo>
                      <a:pt x="2438" y="85"/>
                    </a:lnTo>
                    <a:lnTo>
                      <a:pt x="2426" y="54"/>
                    </a:lnTo>
                    <a:lnTo>
                      <a:pt x="2414" y="30"/>
                    </a:lnTo>
                    <a:lnTo>
                      <a:pt x="2396" y="18"/>
                    </a:lnTo>
                    <a:lnTo>
                      <a:pt x="2384" y="6"/>
                    </a:lnTo>
                    <a:lnTo>
                      <a:pt x="2372" y="0"/>
                    </a:lnTo>
                    <a:lnTo>
                      <a:pt x="2360" y="6"/>
                    </a:lnTo>
                    <a:lnTo>
                      <a:pt x="2342" y="12"/>
                    </a:lnTo>
                    <a:lnTo>
                      <a:pt x="2330" y="18"/>
                    </a:lnTo>
                    <a:lnTo>
                      <a:pt x="2317" y="36"/>
                    </a:lnTo>
                    <a:lnTo>
                      <a:pt x="2305" y="54"/>
                    </a:lnTo>
                    <a:lnTo>
                      <a:pt x="2287" y="73"/>
                    </a:lnTo>
                    <a:lnTo>
                      <a:pt x="2275" y="97"/>
                    </a:lnTo>
                    <a:lnTo>
                      <a:pt x="2263" y="121"/>
                    </a:lnTo>
                    <a:lnTo>
                      <a:pt x="2251" y="145"/>
                    </a:lnTo>
                    <a:lnTo>
                      <a:pt x="2233" y="176"/>
                    </a:lnTo>
                    <a:lnTo>
                      <a:pt x="2221" y="206"/>
                    </a:lnTo>
                    <a:lnTo>
                      <a:pt x="2209" y="237"/>
                    </a:lnTo>
                    <a:lnTo>
                      <a:pt x="2197" y="261"/>
                    </a:lnTo>
                    <a:lnTo>
                      <a:pt x="2179" y="297"/>
                    </a:lnTo>
                    <a:lnTo>
                      <a:pt x="2167" y="328"/>
                    </a:lnTo>
                    <a:lnTo>
                      <a:pt x="2155" y="358"/>
                    </a:lnTo>
                    <a:lnTo>
                      <a:pt x="2136" y="388"/>
                    </a:lnTo>
                    <a:lnTo>
                      <a:pt x="2124" y="419"/>
                    </a:lnTo>
                    <a:lnTo>
                      <a:pt x="2112" y="449"/>
                    </a:lnTo>
                    <a:lnTo>
                      <a:pt x="2100" y="480"/>
                    </a:lnTo>
                    <a:lnTo>
                      <a:pt x="2082" y="510"/>
                    </a:lnTo>
                    <a:lnTo>
                      <a:pt x="2070" y="540"/>
                    </a:lnTo>
                    <a:lnTo>
                      <a:pt x="2058" y="565"/>
                    </a:lnTo>
                    <a:lnTo>
                      <a:pt x="2046" y="595"/>
                    </a:lnTo>
                    <a:lnTo>
                      <a:pt x="2028" y="619"/>
                    </a:lnTo>
                    <a:lnTo>
                      <a:pt x="2016" y="650"/>
                    </a:lnTo>
                    <a:lnTo>
                      <a:pt x="2004" y="674"/>
                    </a:lnTo>
                    <a:lnTo>
                      <a:pt x="1992" y="698"/>
                    </a:lnTo>
                    <a:lnTo>
                      <a:pt x="1974" y="723"/>
                    </a:lnTo>
                    <a:lnTo>
                      <a:pt x="1961" y="747"/>
                    </a:lnTo>
                    <a:lnTo>
                      <a:pt x="1949" y="765"/>
                    </a:lnTo>
                    <a:lnTo>
                      <a:pt x="1937" y="789"/>
                    </a:lnTo>
                    <a:lnTo>
                      <a:pt x="1919" y="814"/>
                    </a:lnTo>
                    <a:lnTo>
                      <a:pt x="1907" y="832"/>
                    </a:lnTo>
                    <a:lnTo>
                      <a:pt x="1895" y="850"/>
                    </a:lnTo>
                    <a:lnTo>
                      <a:pt x="1883" y="868"/>
                    </a:lnTo>
                    <a:lnTo>
                      <a:pt x="1865" y="887"/>
                    </a:lnTo>
                    <a:lnTo>
                      <a:pt x="1853" y="905"/>
                    </a:lnTo>
                    <a:lnTo>
                      <a:pt x="1841" y="923"/>
                    </a:lnTo>
                    <a:lnTo>
                      <a:pt x="1823" y="941"/>
                    </a:lnTo>
                    <a:lnTo>
                      <a:pt x="1811" y="954"/>
                    </a:lnTo>
                    <a:lnTo>
                      <a:pt x="1799" y="972"/>
                    </a:lnTo>
                    <a:lnTo>
                      <a:pt x="1786" y="984"/>
                    </a:lnTo>
                    <a:lnTo>
                      <a:pt x="1768" y="996"/>
                    </a:lnTo>
                    <a:lnTo>
                      <a:pt x="1756" y="1014"/>
                    </a:lnTo>
                    <a:lnTo>
                      <a:pt x="1744" y="1026"/>
                    </a:lnTo>
                    <a:lnTo>
                      <a:pt x="1732" y="1039"/>
                    </a:lnTo>
                    <a:lnTo>
                      <a:pt x="1714" y="1051"/>
                    </a:lnTo>
                    <a:lnTo>
                      <a:pt x="1702" y="1063"/>
                    </a:lnTo>
                    <a:lnTo>
                      <a:pt x="1690" y="1075"/>
                    </a:lnTo>
                    <a:lnTo>
                      <a:pt x="1678" y="1081"/>
                    </a:lnTo>
                    <a:lnTo>
                      <a:pt x="1660" y="1093"/>
                    </a:lnTo>
                    <a:lnTo>
                      <a:pt x="1648" y="1105"/>
                    </a:lnTo>
                    <a:lnTo>
                      <a:pt x="1636" y="1112"/>
                    </a:lnTo>
                    <a:lnTo>
                      <a:pt x="1624" y="1124"/>
                    </a:lnTo>
                    <a:lnTo>
                      <a:pt x="1605" y="1130"/>
                    </a:lnTo>
                    <a:lnTo>
                      <a:pt x="1593" y="1142"/>
                    </a:lnTo>
                    <a:lnTo>
                      <a:pt x="1581" y="1148"/>
                    </a:lnTo>
                    <a:lnTo>
                      <a:pt x="1569" y="1154"/>
                    </a:lnTo>
                    <a:lnTo>
                      <a:pt x="1551" y="1166"/>
                    </a:lnTo>
                    <a:lnTo>
                      <a:pt x="1539" y="1172"/>
                    </a:lnTo>
                    <a:lnTo>
                      <a:pt x="1527" y="1178"/>
                    </a:lnTo>
                    <a:lnTo>
                      <a:pt x="1515" y="1184"/>
                    </a:lnTo>
                    <a:lnTo>
                      <a:pt x="1497" y="1190"/>
                    </a:lnTo>
                    <a:lnTo>
                      <a:pt x="1485" y="1197"/>
                    </a:lnTo>
                    <a:lnTo>
                      <a:pt x="1473" y="1203"/>
                    </a:lnTo>
                    <a:lnTo>
                      <a:pt x="1455" y="1209"/>
                    </a:lnTo>
                    <a:lnTo>
                      <a:pt x="1443" y="1215"/>
                    </a:lnTo>
                    <a:lnTo>
                      <a:pt x="1430" y="1221"/>
                    </a:lnTo>
                    <a:lnTo>
                      <a:pt x="1418" y="1227"/>
                    </a:lnTo>
                    <a:lnTo>
                      <a:pt x="1400" y="1233"/>
                    </a:lnTo>
                    <a:lnTo>
                      <a:pt x="1388" y="1239"/>
                    </a:lnTo>
                    <a:lnTo>
                      <a:pt x="1376" y="1239"/>
                    </a:lnTo>
                    <a:lnTo>
                      <a:pt x="1364" y="1245"/>
                    </a:lnTo>
                    <a:lnTo>
                      <a:pt x="1346" y="1251"/>
                    </a:lnTo>
                    <a:lnTo>
                      <a:pt x="1334" y="1257"/>
                    </a:lnTo>
                    <a:lnTo>
                      <a:pt x="1322" y="1257"/>
                    </a:lnTo>
                    <a:lnTo>
                      <a:pt x="1310" y="1263"/>
                    </a:lnTo>
                    <a:lnTo>
                      <a:pt x="1292" y="1269"/>
                    </a:lnTo>
                    <a:lnTo>
                      <a:pt x="1280" y="1269"/>
                    </a:lnTo>
                    <a:lnTo>
                      <a:pt x="1268" y="1276"/>
                    </a:lnTo>
                    <a:lnTo>
                      <a:pt x="1255" y="1282"/>
                    </a:lnTo>
                    <a:lnTo>
                      <a:pt x="1237" y="1282"/>
                    </a:lnTo>
                    <a:lnTo>
                      <a:pt x="1225" y="1288"/>
                    </a:lnTo>
                    <a:lnTo>
                      <a:pt x="1213" y="1288"/>
                    </a:lnTo>
                    <a:lnTo>
                      <a:pt x="1201" y="1294"/>
                    </a:lnTo>
                    <a:lnTo>
                      <a:pt x="1183" y="1294"/>
                    </a:lnTo>
                    <a:lnTo>
                      <a:pt x="1171" y="1300"/>
                    </a:lnTo>
                    <a:lnTo>
                      <a:pt x="1159" y="1300"/>
                    </a:lnTo>
                    <a:lnTo>
                      <a:pt x="1141" y="1306"/>
                    </a:lnTo>
                    <a:lnTo>
                      <a:pt x="1129" y="1306"/>
                    </a:lnTo>
                    <a:lnTo>
                      <a:pt x="1117" y="1312"/>
                    </a:lnTo>
                    <a:lnTo>
                      <a:pt x="1105" y="1312"/>
                    </a:lnTo>
                    <a:lnTo>
                      <a:pt x="1087" y="1318"/>
                    </a:lnTo>
                    <a:lnTo>
                      <a:pt x="1074" y="1318"/>
                    </a:lnTo>
                    <a:lnTo>
                      <a:pt x="1062" y="1318"/>
                    </a:lnTo>
                    <a:lnTo>
                      <a:pt x="1050" y="1324"/>
                    </a:lnTo>
                    <a:lnTo>
                      <a:pt x="1032" y="1324"/>
                    </a:lnTo>
                    <a:lnTo>
                      <a:pt x="1020" y="1324"/>
                    </a:lnTo>
                    <a:lnTo>
                      <a:pt x="1008" y="1330"/>
                    </a:lnTo>
                    <a:lnTo>
                      <a:pt x="996" y="1330"/>
                    </a:lnTo>
                    <a:lnTo>
                      <a:pt x="978" y="1336"/>
                    </a:lnTo>
                    <a:lnTo>
                      <a:pt x="966" y="1336"/>
                    </a:lnTo>
                    <a:lnTo>
                      <a:pt x="954" y="1336"/>
                    </a:lnTo>
                    <a:lnTo>
                      <a:pt x="942" y="1336"/>
                    </a:lnTo>
                    <a:lnTo>
                      <a:pt x="924" y="1342"/>
                    </a:lnTo>
                    <a:lnTo>
                      <a:pt x="912" y="1342"/>
                    </a:lnTo>
                    <a:lnTo>
                      <a:pt x="899" y="1342"/>
                    </a:lnTo>
                    <a:lnTo>
                      <a:pt x="887" y="1348"/>
                    </a:lnTo>
                    <a:lnTo>
                      <a:pt x="869" y="1348"/>
                    </a:lnTo>
                    <a:lnTo>
                      <a:pt x="857" y="1348"/>
                    </a:lnTo>
                    <a:lnTo>
                      <a:pt x="845" y="1348"/>
                    </a:lnTo>
                    <a:lnTo>
                      <a:pt x="833" y="1355"/>
                    </a:lnTo>
                    <a:lnTo>
                      <a:pt x="815" y="1355"/>
                    </a:lnTo>
                    <a:lnTo>
                      <a:pt x="803" y="1355"/>
                    </a:lnTo>
                    <a:lnTo>
                      <a:pt x="791" y="1355"/>
                    </a:lnTo>
                    <a:lnTo>
                      <a:pt x="773" y="1361"/>
                    </a:lnTo>
                    <a:lnTo>
                      <a:pt x="761" y="1361"/>
                    </a:lnTo>
                    <a:lnTo>
                      <a:pt x="749" y="1361"/>
                    </a:lnTo>
                    <a:lnTo>
                      <a:pt x="737" y="1361"/>
                    </a:lnTo>
                    <a:lnTo>
                      <a:pt x="718" y="1367"/>
                    </a:lnTo>
                    <a:lnTo>
                      <a:pt x="706" y="1367"/>
                    </a:lnTo>
                    <a:lnTo>
                      <a:pt x="694" y="1367"/>
                    </a:lnTo>
                    <a:lnTo>
                      <a:pt x="682" y="1367"/>
                    </a:lnTo>
                    <a:lnTo>
                      <a:pt x="664" y="1367"/>
                    </a:lnTo>
                    <a:lnTo>
                      <a:pt x="652" y="1373"/>
                    </a:lnTo>
                    <a:lnTo>
                      <a:pt x="640" y="1373"/>
                    </a:lnTo>
                    <a:lnTo>
                      <a:pt x="628" y="1373"/>
                    </a:lnTo>
                    <a:lnTo>
                      <a:pt x="610" y="1373"/>
                    </a:lnTo>
                    <a:lnTo>
                      <a:pt x="598" y="1373"/>
                    </a:lnTo>
                    <a:lnTo>
                      <a:pt x="586" y="1379"/>
                    </a:lnTo>
                    <a:lnTo>
                      <a:pt x="574" y="1379"/>
                    </a:lnTo>
                    <a:lnTo>
                      <a:pt x="556" y="1379"/>
                    </a:lnTo>
                    <a:lnTo>
                      <a:pt x="543" y="1379"/>
                    </a:lnTo>
                    <a:lnTo>
                      <a:pt x="531" y="1379"/>
                    </a:lnTo>
                    <a:lnTo>
                      <a:pt x="519" y="1379"/>
                    </a:lnTo>
                    <a:lnTo>
                      <a:pt x="501" y="1379"/>
                    </a:lnTo>
                    <a:lnTo>
                      <a:pt x="489" y="1385"/>
                    </a:lnTo>
                    <a:lnTo>
                      <a:pt x="477" y="1385"/>
                    </a:lnTo>
                    <a:lnTo>
                      <a:pt x="459" y="1385"/>
                    </a:lnTo>
                    <a:lnTo>
                      <a:pt x="447" y="1385"/>
                    </a:lnTo>
                    <a:lnTo>
                      <a:pt x="435" y="1385"/>
                    </a:lnTo>
                    <a:lnTo>
                      <a:pt x="423" y="1385"/>
                    </a:lnTo>
                    <a:lnTo>
                      <a:pt x="405" y="1385"/>
                    </a:lnTo>
                    <a:lnTo>
                      <a:pt x="393" y="1391"/>
                    </a:lnTo>
                    <a:lnTo>
                      <a:pt x="381" y="1391"/>
                    </a:lnTo>
                    <a:lnTo>
                      <a:pt x="368" y="1391"/>
                    </a:lnTo>
                    <a:lnTo>
                      <a:pt x="350" y="1391"/>
                    </a:lnTo>
                    <a:lnTo>
                      <a:pt x="338" y="1391"/>
                    </a:lnTo>
                    <a:lnTo>
                      <a:pt x="326" y="1391"/>
                    </a:lnTo>
                    <a:lnTo>
                      <a:pt x="314" y="1391"/>
                    </a:lnTo>
                    <a:lnTo>
                      <a:pt x="296" y="1391"/>
                    </a:lnTo>
                    <a:lnTo>
                      <a:pt x="284" y="1391"/>
                    </a:lnTo>
                    <a:lnTo>
                      <a:pt x="272" y="1397"/>
                    </a:lnTo>
                    <a:lnTo>
                      <a:pt x="260" y="1397"/>
                    </a:lnTo>
                    <a:lnTo>
                      <a:pt x="242" y="1397"/>
                    </a:lnTo>
                    <a:lnTo>
                      <a:pt x="230" y="1397"/>
                    </a:lnTo>
                    <a:lnTo>
                      <a:pt x="218" y="1397"/>
                    </a:lnTo>
                    <a:lnTo>
                      <a:pt x="206" y="1397"/>
                    </a:lnTo>
                    <a:lnTo>
                      <a:pt x="187" y="1397"/>
                    </a:lnTo>
                    <a:lnTo>
                      <a:pt x="175" y="1397"/>
                    </a:lnTo>
                    <a:lnTo>
                      <a:pt x="163" y="1397"/>
                    </a:lnTo>
                    <a:lnTo>
                      <a:pt x="151" y="1397"/>
                    </a:lnTo>
                    <a:lnTo>
                      <a:pt x="133" y="1397"/>
                    </a:lnTo>
                    <a:lnTo>
                      <a:pt x="121" y="1403"/>
                    </a:lnTo>
                    <a:lnTo>
                      <a:pt x="109" y="1403"/>
                    </a:lnTo>
                    <a:lnTo>
                      <a:pt x="91" y="1403"/>
                    </a:lnTo>
                    <a:lnTo>
                      <a:pt x="79" y="1403"/>
                    </a:lnTo>
                    <a:lnTo>
                      <a:pt x="67" y="1403"/>
                    </a:lnTo>
                    <a:lnTo>
                      <a:pt x="55" y="1403"/>
                    </a:lnTo>
                    <a:lnTo>
                      <a:pt x="37" y="1403"/>
                    </a:lnTo>
                    <a:lnTo>
                      <a:pt x="25" y="1403"/>
                    </a:lnTo>
                    <a:lnTo>
                      <a:pt x="12" y="1403"/>
                    </a:lnTo>
                    <a:lnTo>
                      <a:pt x="0" y="1403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798560" y="2701800"/>
                <a:ext cx="4330800" cy="2082960"/>
              </a:xfrm>
              <a:custGeom>
                <a:avLst/>
                <a:gdLst/>
                <a:ahLst/>
                <a:rect l="l" t="t" r="r" b="b"/>
                <a:pathLst>
                  <a:path w="2728" h="1312">
                    <a:moveTo>
                      <a:pt x="2728" y="1312"/>
                    </a:moveTo>
                    <a:lnTo>
                      <a:pt x="2710" y="1312"/>
                    </a:lnTo>
                    <a:lnTo>
                      <a:pt x="2698" y="1306"/>
                    </a:lnTo>
                    <a:lnTo>
                      <a:pt x="2686" y="1288"/>
                    </a:lnTo>
                    <a:lnTo>
                      <a:pt x="2673" y="1264"/>
                    </a:lnTo>
                    <a:lnTo>
                      <a:pt x="2655" y="1227"/>
                    </a:lnTo>
                    <a:lnTo>
                      <a:pt x="2643" y="1179"/>
                    </a:lnTo>
                    <a:lnTo>
                      <a:pt x="2631" y="1118"/>
                    </a:lnTo>
                    <a:lnTo>
                      <a:pt x="2619" y="1039"/>
                    </a:lnTo>
                    <a:lnTo>
                      <a:pt x="2601" y="960"/>
                    </a:lnTo>
                    <a:lnTo>
                      <a:pt x="2589" y="875"/>
                    </a:lnTo>
                    <a:lnTo>
                      <a:pt x="2577" y="784"/>
                    </a:lnTo>
                    <a:lnTo>
                      <a:pt x="2565" y="693"/>
                    </a:lnTo>
                    <a:lnTo>
                      <a:pt x="2547" y="602"/>
                    </a:lnTo>
                    <a:lnTo>
                      <a:pt x="2535" y="510"/>
                    </a:lnTo>
                    <a:lnTo>
                      <a:pt x="2523" y="425"/>
                    </a:lnTo>
                    <a:lnTo>
                      <a:pt x="2505" y="352"/>
                    </a:lnTo>
                    <a:lnTo>
                      <a:pt x="2492" y="280"/>
                    </a:lnTo>
                    <a:lnTo>
                      <a:pt x="2480" y="219"/>
                    </a:lnTo>
                    <a:lnTo>
                      <a:pt x="2468" y="164"/>
                    </a:lnTo>
                    <a:lnTo>
                      <a:pt x="2450" y="115"/>
                    </a:lnTo>
                    <a:lnTo>
                      <a:pt x="2438" y="79"/>
                    </a:lnTo>
                    <a:lnTo>
                      <a:pt x="2426" y="49"/>
                    </a:lnTo>
                    <a:lnTo>
                      <a:pt x="2414" y="24"/>
                    </a:lnTo>
                    <a:lnTo>
                      <a:pt x="2396" y="12"/>
                    </a:lnTo>
                    <a:lnTo>
                      <a:pt x="2384" y="6"/>
                    </a:lnTo>
                    <a:lnTo>
                      <a:pt x="2372" y="0"/>
                    </a:lnTo>
                    <a:lnTo>
                      <a:pt x="2360" y="6"/>
                    </a:lnTo>
                    <a:lnTo>
                      <a:pt x="2342" y="12"/>
                    </a:lnTo>
                    <a:lnTo>
                      <a:pt x="2330" y="24"/>
                    </a:lnTo>
                    <a:lnTo>
                      <a:pt x="2317" y="37"/>
                    </a:lnTo>
                    <a:lnTo>
                      <a:pt x="2305" y="55"/>
                    </a:lnTo>
                    <a:lnTo>
                      <a:pt x="2287" y="73"/>
                    </a:lnTo>
                    <a:lnTo>
                      <a:pt x="2275" y="97"/>
                    </a:lnTo>
                    <a:lnTo>
                      <a:pt x="2263" y="122"/>
                    </a:lnTo>
                    <a:lnTo>
                      <a:pt x="2251" y="146"/>
                    </a:lnTo>
                    <a:lnTo>
                      <a:pt x="2233" y="170"/>
                    </a:lnTo>
                    <a:lnTo>
                      <a:pt x="2221" y="194"/>
                    </a:lnTo>
                    <a:lnTo>
                      <a:pt x="2209" y="219"/>
                    </a:lnTo>
                    <a:lnTo>
                      <a:pt x="2197" y="249"/>
                    </a:lnTo>
                    <a:lnTo>
                      <a:pt x="2179" y="273"/>
                    </a:lnTo>
                    <a:lnTo>
                      <a:pt x="2167" y="304"/>
                    </a:lnTo>
                    <a:lnTo>
                      <a:pt x="2155" y="328"/>
                    </a:lnTo>
                    <a:lnTo>
                      <a:pt x="2136" y="352"/>
                    </a:lnTo>
                    <a:lnTo>
                      <a:pt x="2124" y="383"/>
                    </a:lnTo>
                    <a:lnTo>
                      <a:pt x="2112" y="407"/>
                    </a:lnTo>
                    <a:lnTo>
                      <a:pt x="2100" y="431"/>
                    </a:lnTo>
                    <a:lnTo>
                      <a:pt x="2082" y="462"/>
                    </a:lnTo>
                    <a:lnTo>
                      <a:pt x="2070" y="486"/>
                    </a:lnTo>
                    <a:lnTo>
                      <a:pt x="2058" y="510"/>
                    </a:lnTo>
                    <a:lnTo>
                      <a:pt x="2046" y="535"/>
                    </a:lnTo>
                    <a:lnTo>
                      <a:pt x="2028" y="559"/>
                    </a:lnTo>
                    <a:lnTo>
                      <a:pt x="2016" y="577"/>
                    </a:lnTo>
                    <a:lnTo>
                      <a:pt x="2004" y="602"/>
                    </a:lnTo>
                    <a:lnTo>
                      <a:pt x="1992" y="626"/>
                    </a:lnTo>
                    <a:lnTo>
                      <a:pt x="1974" y="650"/>
                    </a:lnTo>
                    <a:lnTo>
                      <a:pt x="1961" y="668"/>
                    </a:lnTo>
                    <a:lnTo>
                      <a:pt x="1949" y="687"/>
                    </a:lnTo>
                    <a:lnTo>
                      <a:pt x="1937" y="711"/>
                    </a:lnTo>
                    <a:lnTo>
                      <a:pt x="1919" y="729"/>
                    </a:lnTo>
                    <a:lnTo>
                      <a:pt x="1907" y="747"/>
                    </a:lnTo>
                    <a:lnTo>
                      <a:pt x="1895" y="772"/>
                    </a:lnTo>
                    <a:lnTo>
                      <a:pt x="1883" y="784"/>
                    </a:lnTo>
                    <a:lnTo>
                      <a:pt x="1865" y="802"/>
                    </a:lnTo>
                    <a:lnTo>
                      <a:pt x="1853" y="820"/>
                    </a:lnTo>
                    <a:lnTo>
                      <a:pt x="1841" y="839"/>
                    </a:lnTo>
                    <a:lnTo>
                      <a:pt x="1823" y="857"/>
                    </a:lnTo>
                    <a:lnTo>
                      <a:pt x="1811" y="869"/>
                    </a:lnTo>
                    <a:lnTo>
                      <a:pt x="1799" y="887"/>
                    </a:lnTo>
                    <a:lnTo>
                      <a:pt x="1786" y="899"/>
                    </a:lnTo>
                    <a:lnTo>
                      <a:pt x="1768" y="918"/>
                    </a:lnTo>
                    <a:lnTo>
                      <a:pt x="1756" y="930"/>
                    </a:lnTo>
                    <a:lnTo>
                      <a:pt x="1744" y="942"/>
                    </a:lnTo>
                    <a:lnTo>
                      <a:pt x="1732" y="954"/>
                    </a:lnTo>
                    <a:lnTo>
                      <a:pt x="1714" y="966"/>
                    </a:lnTo>
                    <a:lnTo>
                      <a:pt x="1702" y="978"/>
                    </a:lnTo>
                    <a:lnTo>
                      <a:pt x="1690" y="990"/>
                    </a:lnTo>
                    <a:lnTo>
                      <a:pt x="1678" y="1003"/>
                    </a:lnTo>
                    <a:lnTo>
                      <a:pt x="1660" y="1015"/>
                    </a:lnTo>
                    <a:lnTo>
                      <a:pt x="1648" y="1021"/>
                    </a:lnTo>
                    <a:lnTo>
                      <a:pt x="1636" y="1033"/>
                    </a:lnTo>
                    <a:lnTo>
                      <a:pt x="1624" y="1039"/>
                    </a:lnTo>
                    <a:lnTo>
                      <a:pt x="1605" y="1051"/>
                    </a:lnTo>
                    <a:lnTo>
                      <a:pt x="1593" y="1057"/>
                    </a:lnTo>
                    <a:lnTo>
                      <a:pt x="1581" y="1069"/>
                    </a:lnTo>
                    <a:lnTo>
                      <a:pt x="1569" y="1075"/>
                    </a:lnTo>
                    <a:lnTo>
                      <a:pt x="1551" y="1082"/>
                    </a:lnTo>
                    <a:lnTo>
                      <a:pt x="1539" y="1088"/>
                    </a:lnTo>
                    <a:lnTo>
                      <a:pt x="1527" y="1094"/>
                    </a:lnTo>
                    <a:lnTo>
                      <a:pt x="1515" y="1106"/>
                    </a:lnTo>
                    <a:lnTo>
                      <a:pt x="1497" y="1112"/>
                    </a:lnTo>
                    <a:lnTo>
                      <a:pt x="1485" y="1118"/>
                    </a:lnTo>
                    <a:lnTo>
                      <a:pt x="1473" y="1124"/>
                    </a:lnTo>
                    <a:lnTo>
                      <a:pt x="1455" y="1130"/>
                    </a:lnTo>
                    <a:lnTo>
                      <a:pt x="1443" y="1130"/>
                    </a:lnTo>
                    <a:lnTo>
                      <a:pt x="1430" y="1136"/>
                    </a:lnTo>
                    <a:lnTo>
                      <a:pt x="1418" y="1142"/>
                    </a:lnTo>
                    <a:lnTo>
                      <a:pt x="1400" y="1148"/>
                    </a:lnTo>
                    <a:lnTo>
                      <a:pt x="1388" y="1154"/>
                    </a:lnTo>
                    <a:lnTo>
                      <a:pt x="1376" y="1154"/>
                    </a:lnTo>
                    <a:lnTo>
                      <a:pt x="1364" y="1161"/>
                    </a:lnTo>
                    <a:lnTo>
                      <a:pt x="1346" y="1167"/>
                    </a:lnTo>
                    <a:lnTo>
                      <a:pt x="1334" y="1173"/>
                    </a:lnTo>
                    <a:lnTo>
                      <a:pt x="1322" y="1173"/>
                    </a:lnTo>
                    <a:lnTo>
                      <a:pt x="1310" y="1179"/>
                    </a:lnTo>
                    <a:lnTo>
                      <a:pt x="1292" y="1179"/>
                    </a:lnTo>
                    <a:lnTo>
                      <a:pt x="1280" y="1185"/>
                    </a:lnTo>
                    <a:lnTo>
                      <a:pt x="1268" y="1191"/>
                    </a:lnTo>
                    <a:lnTo>
                      <a:pt x="1255" y="1191"/>
                    </a:lnTo>
                    <a:lnTo>
                      <a:pt x="1237" y="1197"/>
                    </a:lnTo>
                    <a:lnTo>
                      <a:pt x="1225" y="1197"/>
                    </a:lnTo>
                    <a:lnTo>
                      <a:pt x="1213" y="1203"/>
                    </a:lnTo>
                    <a:lnTo>
                      <a:pt x="1201" y="1203"/>
                    </a:lnTo>
                    <a:lnTo>
                      <a:pt x="1183" y="1203"/>
                    </a:lnTo>
                    <a:lnTo>
                      <a:pt x="1171" y="1209"/>
                    </a:lnTo>
                    <a:lnTo>
                      <a:pt x="1159" y="1209"/>
                    </a:lnTo>
                    <a:lnTo>
                      <a:pt x="1141" y="1215"/>
                    </a:lnTo>
                    <a:lnTo>
                      <a:pt x="1129" y="1215"/>
                    </a:lnTo>
                    <a:lnTo>
                      <a:pt x="1117" y="1221"/>
                    </a:lnTo>
                    <a:lnTo>
                      <a:pt x="1105" y="1221"/>
                    </a:lnTo>
                    <a:lnTo>
                      <a:pt x="1087" y="1221"/>
                    </a:lnTo>
                    <a:lnTo>
                      <a:pt x="1074" y="1227"/>
                    </a:lnTo>
                    <a:lnTo>
                      <a:pt x="1062" y="1227"/>
                    </a:lnTo>
                    <a:lnTo>
                      <a:pt x="1050" y="1227"/>
                    </a:lnTo>
                    <a:lnTo>
                      <a:pt x="1032" y="1233"/>
                    </a:lnTo>
                    <a:lnTo>
                      <a:pt x="1020" y="1233"/>
                    </a:lnTo>
                    <a:lnTo>
                      <a:pt x="1008" y="1233"/>
                    </a:lnTo>
                    <a:lnTo>
                      <a:pt x="996" y="1240"/>
                    </a:lnTo>
                    <a:lnTo>
                      <a:pt x="978" y="1240"/>
                    </a:lnTo>
                    <a:lnTo>
                      <a:pt x="966" y="1240"/>
                    </a:lnTo>
                    <a:lnTo>
                      <a:pt x="954" y="1240"/>
                    </a:lnTo>
                    <a:lnTo>
                      <a:pt x="942" y="1246"/>
                    </a:lnTo>
                    <a:lnTo>
                      <a:pt x="924" y="1246"/>
                    </a:lnTo>
                    <a:lnTo>
                      <a:pt x="912" y="1246"/>
                    </a:lnTo>
                    <a:lnTo>
                      <a:pt x="899" y="1246"/>
                    </a:lnTo>
                    <a:lnTo>
                      <a:pt x="887" y="1252"/>
                    </a:lnTo>
                    <a:lnTo>
                      <a:pt x="869" y="1252"/>
                    </a:lnTo>
                    <a:lnTo>
                      <a:pt x="857" y="1252"/>
                    </a:lnTo>
                    <a:lnTo>
                      <a:pt x="845" y="1252"/>
                    </a:lnTo>
                    <a:lnTo>
                      <a:pt x="833" y="1252"/>
                    </a:lnTo>
                    <a:lnTo>
                      <a:pt x="815" y="1258"/>
                    </a:lnTo>
                    <a:lnTo>
                      <a:pt x="803" y="1258"/>
                    </a:lnTo>
                    <a:lnTo>
                      <a:pt x="791" y="1258"/>
                    </a:lnTo>
                    <a:lnTo>
                      <a:pt x="773" y="1258"/>
                    </a:lnTo>
                    <a:lnTo>
                      <a:pt x="761" y="1258"/>
                    </a:lnTo>
                    <a:lnTo>
                      <a:pt x="749" y="1264"/>
                    </a:lnTo>
                    <a:lnTo>
                      <a:pt x="737" y="1264"/>
                    </a:lnTo>
                    <a:lnTo>
                      <a:pt x="718" y="1264"/>
                    </a:lnTo>
                    <a:lnTo>
                      <a:pt x="706" y="1264"/>
                    </a:lnTo>
                    <a:lnTo>
                      <a:pt x="694" y="1264"/>
                    </a:lnTo>
                    <a:lnTo>
                      <a:pt x="682" y="1264"/>
                    </a:lnTo>
                    <a:lnTo>
                      <a:pt x="664" y="1270"/>
                    </a:lnTo>
                    <a:lnTo>
                      <a:pt x="652" y="1270"/>
                    </a:lnTo>
                    <a:lnTo>
                      <a:pt x="640" y="1270"/>
                    </a:lnTo>
                    <a:lnTo>
                      <a:pt x="628" y="1270"/>
                    </a:lnTo>
                    <a:lnTo>
                      <a:pt x="610" y="1270"/>
                    </a:lnTo>
                    <a:lnTo>
                      <a:pt x="598" y="1270"/>
                    </a:lnTo>
                    <a:lnTo>
                      <a:pt x="586" y="1270"/>
                    </a:lnTo>
                    <a:lnTo>
                      <a:pt x="574" y="1276"/>
                    </a:lnTo>
                    <a:lnTo>
                      <a:pt x="556" y="1276"/>
                    </a:lnTo>
                    <a:lnTo>
                      <a:pt x="543" y="1276"/>
                    </a:lnTo>
                    <a:lnTo>
                      <a:pt x="531" y="1276"/>
                    </a:lnTo>
                    <a:lnTo>
                      <a:pt x="519" y="1276"/>
                    </a:lnTo>
                    <a:lnTo>
                      <a:pt x="501" y="1276"/>
                    </a:lnTo>
                    <a:lnTo>
                      <a:pt x="489" y="1276"/>
                    </a:lnTo>
                    <a:lnTo>
                      <a:pt x="477" y="1276"/>
                    </a:lnTo>
                    <a:lnTo>
                      <a:pt x="459" y="1282"/>
                    </a:lnTo>
                    <a:lnTo>
                      <a:pt x="447" y="1282"/>
                    </a:lnTo>
                    <a:lnTo>
                      <a:pt x="435" y="1282"/>
                    </a:lnTo>
                    <a:lnTo>
                      <a:pt x="423" y="1282"/>
                    </a:lnTo>
                    <a:lnTo>
                      <a:pt x="405" y="1282"/>
                    </a:lnTo>
                    <a:lnTo>
                      <a:pt x="393" y="1282"/>
                    </a:lnTo>
                    <a:lnTo>
                      <a:pt x="381" y="1282"/>
                    </a:lnTo>
                    <a:lnTo>
                      <a:pt x="368" y="1282"/>
                    </a:lnTo>
                    <a:lnTo>
                      <a:pt x="350" y="1282"/>
                    </a:lnTo>
                    <a:lnTo>
                      <a:pt x="338" y="1282"/>
                    </a:lnTo>
                    <a:lnTo>
                      <a:pt x="326" y="1282"/>
                    </a:lnTo>
                    <a:lnTo>
                      <a:pt x="314" y="1288"/>
                    </a:lnTo>
                    <a:lnTo>
                      <a:pt x="296" y="1288"/>
                    </a:lnTo>
                    <a:lnTo>
                      <a:pt x="284" y="1288"/>
                    </a:lnTo>
                    <a:lnTo>
                      <a:pt x="272" y="1288"/>
                    </a:lnTo>
                    <a:lnTo>
                      <a:pt x="260" y="1288"/>
                    </a:lnTo>
                    <a:lnTo>
                      <a:pt x="242" y="1288"/>
                    </a:lnTo>
                    <a:lnTo>
                      <a:pt x="230" y="1288"/>
                    </a:lnTo>
                    <a:lnTo>
                      <a:pt x="218" y="1288"/>
                    </a:lnTo>
                    <a:lnTo>
                      <a:pt x="206" y="1288"/>
                    </a:lnTo>
                    <a:lnTo>
                      <a:pt x="187" y="1288"/>
                    </a:lnTo>
                    <a:lnTo>
                      <a:pt x="175" y="1288"/>
                    </a:lnTo>
                    <a:lnTo>
                      <a:pt x="163" y="1288"/>
                    </a:lnTo>
                    <a:lnTo>
                      <a:pt x="151" y="1288"/>
                    </a:lnTo>
                    <a:lnTo>
                      <a:pt x="133" y="1294"/>
                    </a:lnTo>
                    <a:lnTo>
                      <a:pt x="121" y="1294"/>
                    </a:lnTo>
                    <a:lnTo>
                      <a:pt x="109" y="1294"/>
                    </a:lnTo>
                    <a:lnTo>
                      <a:pt x="91" y="1294"/>
                    </a:lnTo>
                    <a:lnTo>
                      <a:pt x="79" y="1294"/>
                    </a:lnTo>
                    <a:lnTo>
                      <a:pt x="67" y="1294"/>
                    </a:lnTo>
                    <a:lnTo>
                      <a:pt x="55" y="1294"/>
                    </a:lnTo>
                    <a:lnTo>
                      <a:pt x="37" y="1294"/>
                    </a:lnTo>
                    <a:lnTo>
                      <a:pt x="25" y="1294"/>
                    </a:lnTo>
                    <a:lnTo>
                      <a:pt x="12" y="1294"/>
                    </a:lnTo>
                    <a:lnTo>
                      <a:pt x="0" y="1294"/>
                    </a:lnTo>
                  </a:path>
                </a:pathLst>
              </a:custGeom>
              <a:noFill/>
              <a:ln w="936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798560" y="2335320"/>
                <a:ext cx="4330800" cy="2449440"/>
              </a:xfrm>
              <a:custGeom>
                <a:avLst/>
                <a:gdLst/>
                <a:ahLst/>
                <a:rect l="l" t="t" r="r" b="b"/>
                <a:pathLst>
                  <a:path w="2728" h="1543">
                    <a:moveTo>
                      <a:pt x="2728" y="1543"/>
                    </a:moveTo>
                    <a:lnTo>
                      <a:pt x="2710" y="1537"/>
                    </a:lnTo>
                    <a:lnTo>
                      <a:pt x="2698" y="1531"/>
                    </a:lnTo>
                    <a:lnTo>
                      <a:pt x="2686" y="1507"/>
                    </a:lnTo>
                    <a:lnTo>
                      <a:pt x="2673" y="1464"/>
                    </a:lnTo>
                    <a:lnTo>
                      <a:pt x="2655" y="1404"/>
                    </a:lnTo>
                    <a:lnTo>
                      <a:pt x="2643" y="1331"/>
                    </a:lnTo>
                    <a:lnTo>
                      <a:pt x="2631" y="1240"/>
                    </a:lnTo>
                    <a:lnTo>
                      <a:pt x="2619" y="1142"/>
                    </a:lnTo>
                    <a:lnTo>
                      <a:pt x="2601" y="1039"/>
                    </a:lnTo>
                    <a:lnTo>
                      <a:pt x="2589" y="930"/>
                    </a:lnTo>
                    <a:lnTo>
                      <a:pt x="2577" y="826"/>
                    </a:lnTo>
                    <a:lnTo>
                      <a:pt x="2565" y="723"/>
                    </a:lnTo>
                    <a:lnTo>
                      <a:pt x="2547" y="626"/>
                    </a:lnTo>
                    <a:lnTo>
                      <a:pt x="2535" y="529"/>
                    </a:lnTo>
                    <a:lnTo>
                      <a:pt x="2523" y="444"/>
                    </a:lnTo>
                    <a:lnTo>
                      <a:pt x="2505" y="371"/>
                    </a:lnTo>
                    <a:lnTo>
                      <a:pt x="2492" y="298"/>
                    </a:lnTo>
                    <a:lnTo>
                      <a:pt x="2480" y="237"/>
                    </a:lnTo>
                    <a:lnTo>
                      <a:pt x="2468" y="182"/>
                    </a:lnTo>
                    <a:lnTo>
                      <a:pt x="2450" y="134"/>
                    </a:lnTo>
                    <a:lnTo>
                      <a:pt x="2438" y="97"/>
                    </a:lnTo>
                    <a:lnTo>
                      <a:pt x="2426" y="67"/>
                    </a:lnTo>
                    <a:lnTo>
                      <a:pt x="2414" y="37"/>
                    </a:lnTo>
                    <a:lnTo>
                      <a:pt x="2396" y="18"/>
                    </a:lnTo>
                    <a:lnTo>
                      <a:pt x="2384" y="6"/>
                    </a:lnTo>
                    <a:lnTo>
                      <a:pt x="2372" y="0"/>
                    </a:lnTo>
                    <a:lnTo>
                      <a:pt x="2360" y="0"/>
                    </a:lnTo>
                    <a:lnTo>
                      <a:pt x="2342" y="6"/>
                    </a:lnTo>
                    <a:lnTo>
                      <a:pt x="2330" y="18"/>
                    </a:lnTo>
                    <a:lnTo>
                      <a:pt x="2317" y="31"/>
                    </a:lnTo>
                    <a:lnTo>
                      <a:pt x="2305" y="49"/>
                    </a:lnTo>
                    <a:lnTo>
                      <a:pt x="2287" y="67"/>
                    </a:lnTo>
                    <a:lnTo>
                      <a:pt x="2275" y="91"/>
                    </a:lnTo>
                    <a:lnTo>
                      <a:pt x="2263" y="122"/>
                    </a:lnTo>
                    <a:lnTo>
                      <a:pt x="2251" y="152"/>
                    </a:lnTo>
                    <a:lnTo>
                      <a:pt x="2233" y="182"/>
                    </a:lnTo>
                    <a:lnTo>
                      <a:pt x="2221" y="213"/>
                    </a:lnTo>
                    <a:lnTo>
                      <a:pt x="2209" y="249"/>
                    </a:lnTo>
                    <a:lnTo>
                      <a:pt x="2197" y="280"/>
                    </a:lnTo>
                    <a:lnTo>
                      <a:pt x="2179" y="316"/>
                    </a:lnTo>
                    <a:lnTo>
                      <a:pt x="2167" y="353"/>
                    </a:lnTo>
                    <a:lnTo>
                      <a:pt x="2155" y="389"/>
                    </a:lnTo>
                    <a:lnTo>
                      <a:pt x="2136" y="419"/>
                    </a:lnTo>
                    <a:lnTo>
                      <a:pt x="2124" y="456"/>
                    </a:lnTo>
                    <a:lnTo>
                      <a:pt x="2112" y="492"/>
                    </a:lnTo>
                    <a:lnTo>
                      <a:pt x="2100" y="529"/>
                    </a:lnTo>
                    <a:lnTo>
                      <a:pt x="2082" y="559"/>
                    </a:lnTo>
                    <a:lnTo>
                      <a:pt x="2070" y="596"/>
                    </a:lnTo>
                    <a:lnTo>
                      <a:pt x="2058" y="626"/>
                    </a:lnTo>
                    <a:lnTo>
                      <a:pt x="2046" y="656"/>
                    </a:lnTo>
                    <a:lnTo>
                      <a:pt x="2028" y="687"/>
                    </a:lnTo>
                    <a:lnTo>
                      <a:pt x="2016" y="717"/>
                    </a:lnTo>
                    <a:lnTo>
                      <a:pt x="2004" y="748"/>
                    </a:lnTo>
                    <a:lnTo>
                      <a:pt x="1992" y="772"/>
                    </a:lnTo>
                    <a:lnTo>
                      <a:pt x="1974" y="802"/>
                    </a:lnTo>
                    <a:lnTo>
                      <a:pt x="1961" y="826"/>
                    </a:lnTo>
                    <a:lnTo>
                      <a:pt x="1949" y="851"/>
                    </a:lnTo>
                    <a:lnTo>
                      <a:pt x="1937" y="869"/>
                    </a:lnTo>
                    <a:lnTo>
                      <a:pt x="1919" y="893"/>
                    </a:lnTo>
                    <a:lnTo>
                      <a:pt x="1907" y="918"/>
                    </a:lnTo>
                    <a:lnTo>
                      <a:pt x="1895" y="936"/>
                    </a:lnTo>
                    <a:lnTo>
                      <a:pt x="1883" y="954"/>
                    </a:lnTo>
                    <a:lnTo>
                      <a:pt x="1865" y="972"/>
                    </a:lnTo>
                    <a:lnTo>
                      <a:pt x="1853" y="991"/>
                    </a:lnTo>
                    <a:lnTo>
                      <a:pt x="1841" y="1009"/>
                    </a:lnTo>
                    <a:lnTo>
                      <a:pt x="1823" y="1027"/>
                    </a:lnTo>
                    <a:lnTo>
                      <a:pt x="1811" y="1039"/>
                    </a:lnTo>
                    <a:lnTo>
                      <a:pt x="1799" y="1057"/>
                    </a:lnTo>
                    <a:lnTo>
                      <a:pt x="1786" y="1070"/>
                    </a:lnTo>
                    <a:lnTo>
                      <a:pt x="1768" y="1082"/>
                    </a:lnTo>
                    <a:lnTo>
                      <a:pt x="1756" y="1094"/>
                    </a:lnTo>
                    <a:lnTo>
                      <a:pt x="1744" y="1106"/>
                    </a:lnTo>
                    <a:lnTo>
                      <a:pt x="1732" y="1118"/>
                    </a:lnTo>
                    <a:lnTo>
                      <a:pt x="1714" y="1130"/>
                    </a:lnTo>
                    <a:lnTo>
                      <a:pt x="1702" y="1142"/>
                    </a:lnTo>
                    <a:lnTo>
                      <a:pt x="1690" y="1155"/>
                    </a:lnTo>
                    <a:lnTo>
                      <a:pt x="1678" y="1167"/>
                    </a:lnTo>
                    <a:lnTo>
                      <a:pt x="1660" y="1179"/>
                    </a:lnTo>
                    <a:lnTo>
                      <a:pt x="1648" y="1185"/>
                    </a:lnTo>
                    <a:lnTo>
                      <a:pt x="1636" y="1197"/>
                    </a:lnTo>
                    <a:lnTo>
                      <a:pt x="1624" y="1203"/>
                    </a:lnTo>
                    <a:lnTo>
                      <a:pt x="1605" y="1215"/>
                    </a:lnTo>
                    <a:lnTo>
                      <a:pt x="1593" y="1221"/>
                    </a:lnTo>
                    <a:lnTo>
                      <a:pt x="1581" y="1234"/>
                    </a:lnTo>
                    <a:lnTo>
                      <a:pt x="1569" y="1240"/>
                    </a:lnTo>
                    <a:lnTo>
                      <a:pt x="1551" y="1246"/>
                    </a:lnTo>
                    <a:lnTo>
                      <a:pt x="1539" y="1252"/>
                    </a:lnTo>
                    <a:lnTo>
                      <a:pt x="1527" y="1264"/>
                    </a:lnTo>
                    <a:lnTo>
                      <a:pt x="1515" y="1270"/>
                    </a:lnTo>
                    <a:lnTo>
                      <a:pt x="1497" y="1276"/>
                    </a:lnTo>
                    <a:lnTo>
                      <a:pt x="1485" y="1282"/>
                    </a:lnTo>
                    <a:lnTo>
                      <a:pt x="1473" y="1288"/>
                    </a:lnTo>
                    <a:lnTo>
                      <a:pt x="1455" y="1294"/>
                    </a:lnTo>
                    <a:lnTo>
                      <a:pt x="1443" y="1300"/>
                    </a:lnTo>
                    <a:lnTo>
                      <a:pt x="1430" y="1306"/>
                    </a:lnTo>
                    <a:lnTo>
                      <a:pt x="1418" y="1313"/>
                    </a:lnTo>
                    <a:lnTo>
                      <a:pt x="1400" y="1319"/>
                    </a:lnTo>
                    <a:lnTo>
                      <a:pt x="1388" y="1325"/>
                    </a:lnTo>
                    <a:lnTo>
                      <a:pt x="1376" y="1325"/>
                    </a:lnTo>
                    <a:lnTo>
                      <a:pt x="1364" y="1331"/>
                    </a:lnTo>
                    <a:lnTo>
                      <a:pt x="1346" y="1337"/>
                    </a:lnTo>
                    <a:lnTo>
                      <a:pt x="1334" y="1343"/>
                    </a:lnTo>
                    <a:lnTo>
                      <a:pt x="1322" y="1349"/>
                    </a:lnTo>
                    <a:lnTo>
                      <a:pt x="1310" y="1349"/>
                    </a:lnTo>
                    <a:lnTo>
                      <a:pt x="1292" y="1355"/>
                    </a:lnTo>
                    <a:lnTo>
                      <a:pt x="1280" y="1361"/>
                    </a:lnTo>
                    <a:lnTo>
                      <a:pt x="1268" y="1361"/>
                    </a:lnTo>
                    <a:lnTo>
                      <a:pt x="1255" y="1367"/>
                    </a:lnTo>
                    <a:lnTo>
                      <a:pt x="1237" y="1373"/>
                    </a:lnTo>
                    <a:lnTo>
                      <a:pt x="1225" y="1373"/>
                    </a:lnTo>
                    <a:lnTo>
                      <a:pt x="1213" y="1379"/>
                    </a:lnTo>
                    <a:lnTo>
                      <a:pt x="1201" y="1385"/>
                    </a:lnTo>
                    <a:lnTo>
                      <a:pt x="1183" y="1385"/>
                    </a:lnTo>
                    <a:lnTo>
                      <a:pt x="1171" y="1392"/>
                    </a:lnTo>
                    <a:lnTo>
                      <a:pt x="1159" y="1392"/>
                    </a:lnTo>
                    <a:lnTo>
                      <a:pt x="1141" y="1398"/>
                    </a:lnTo>
                    <a:lnTo>
                      <a:pt x="1129" y="1398"/>
                    </a:lnTo>
                    <a:lnTo>
                      <a:pt x="1117" y="1404"/>
                    </a:lnTo>
                    <a:lnTo>
                      <a:pt x="1105" y="1404"/>
                    </a:lnTo>
                    <a:lnTo>
                      <a:pt x="1087" y="1410"/>
                    </a:lnTo>
                    <a:lnTo>
                      <a:pt x="1074" y="1410"/>
                    </a:lnTo>
                    <a:lnTo>
                      <a:pt x="1062" y="1416"/>
                    </a:lnTo>
                    <a:lnTo>
                      <a:pt x="1050" y="1416"/>
                    </a:lnTo>
                    <a:lnTo>
                      <a:pt x="1032" y="1422"/>
                    </a:lnTo>
                    <a:lnTo>
                      <a:pt x="1020" y="1422"/>
                    </a:lnTo>
                    <a:lnTo>
                      <a:pt x="1008" y="1422"/>
                    </a:lnTo>
                    <a:lnTo>
                      <a:pt x="996" y="1428"/>
                    </a:lnTo>
                    <a:lnTo>
                      <a:pt x="978" y="1428"/>
                    </a:lnTo>
                    <a:lnTo>
                      <a:pt x="966" y="1434"/>
                    </a:lnTo>
                    <a:lnTo>
                      <a:pt x="954" y="1434"/>
                    </a:lnTo>
                    <a:lnTo>
                      <a:pt x="942" y="1434"/>
                    </a:lnTo>
                    <a:lnTo>
                      <a:pt x="924" y="1440"/>
                    </a:lnTo>
                    <a:lnTo>
                      <a:pt x="912" y="1440"/>
                    </a:lnTo>
                    <a:lnTo>
                      <a:pt x="899" y="1440"/>
                    </a:lnTo>
                    <a:lnTo>
                      <a:pt x="887" y="1446"/>
                    </a:lnTo>
                    <a:lnTo>
                      <a:pt x="869" y="1446"/>
                    </a:lnTo>
                    <a:lnTo>
                      <a:pt x="857" y="1446"/>
                    </a:lnTo>
                    <a:lnTo>
                      <a:pt x="845" y="1452"/>
                    </a:lnTo>
                    <a:lnTo>
                      <a:pt x="833" y="1452"/>
                    </a:lnTo>
                    <a:lnTo>
                      <a:pt x="815" y="1452"/>
                    </a:lnTo>
                    <a:lnTo>
                      <a:pt x="803" y="1458"/>
                    </a:lnTo>
                    <a:lnTo>
                      <a:pt x="791" y="1458"/>
                    </a:lnTo>
                    <a:lnTo>
                      <a:pt x="773" y="1458"/>
                    </a:lnTo>
                    <a:lnTo>
                      <a:pt x="761" y="1458"/>
                    </a:lnTo>
                    <a:lnTo>
                      <a:pt x="749" y="1464"/>
                    </a:lnTo>
                    <a:lnTo>
                      <a:pt x="737" y="1464"/>
                    </a:lnTo>
                    <a:lnTo>
                      <a:pt x="718" y="1464"/>
                    </a:lnTo>
                    <a:lnTo>
                      <a:pt x="706" y="1471"/>
                    </a:lnTo>
                    <a:lnTo>
                      <a:pt x="694" y="1471"/>
                    </a:lnTo>
                    <a:lnTo>
                      <a:pt x="682" y="1471"/>
                    </a:lnTo>
                    <a:lnTo>
                      <a:pt x="664" y="1471"/>
                    </a:lnTo>
                    <a:lnTo>
                      <a:pt x="652" y="1471"/>
                    </a:lnTo>
                    <a:lnTo>
                      <a:pt x="640" y="1477"/>
                    </a:lnTo>
                    <a:lnTo>
                      <a:pt x="628" y="1477"/>
                    </a:lnTo>
                    <a:lnTo>
                      <a:pt x="610" y="1477"/>
                    </a:lnTo>
                    <a:lnTo>
                      <a:pt x="598" y="1477"/>
                    </a:lnTo>
                    <a:lnTo>
                      <a:pt x="586" y="1483"/>
                    </a:lnTo>
                    <a:lnTo>
                      <a:pt x="574" y="1483"/>
                    </a:lnTo>
                    <a:lnTo>
                      <a:pt x="556" y="1483"/>
                    </a:lnTo>
                    <a:lnTo>
                      <a:pt x="543" y="1483"/>
                    </a:lnTo>
                    <a:lnTo>
                      <a:pt x="531" y="1483"/>
                    </a:lnTo>
                    <a:lnTo>
                      <a:pt x="519" y="1489"/>
                    </a:lnTo>
                    <a:lnTo>
                      <a:pt x="501" y="1489"/>
                    </a:lnTo>
                    <a:lnTo>
                      <a:pt x="489" y="1489"/>
                    </a:lnTo>
                    <a:lnTo>
                      <a:pt x="477" y="1489"/>
                    </a:lnTo>
                    <a:lnTo>
                      <a:pt x="459" y="1489"/>
                    </a:lnTo>
                    <a:lnTo>
                      <a:pt x="447" y="1489"/>
                    </a:lnTo>
                    <a:lnTo>
                      <a:pt x="435" y="1495"/>
                    </a:lnTo>
                    <a:lnTo>
                      <a:pt x="423" y="1495"/>
                    </a:lnTo>
                    <a:lnTo>
                      <a:pt x="405" y="1495"/>
                    </a:lnTo>
                    <a:lnTo>
                      <a:pt x="393" y="1495"/>
                    </a:lnTo>
                    <a:lnTo>
                      <a:pt x="381" y="1495"/>
                    </a:lnTo>
                    <a:lnTo>
                      <a:pt x="368" y="1495"/>
                    </a:lnTo>
                    <a:lnTo>
                      <a:pt x="350" y="1495"/>
                    </a:lnTo>
                    <a:lnTo>
                      <a:pt x="338" y="1501"/>
                    </a:lnTo>
                    <a:lnTo>
                      <a:pt x="326" y="1501"/>
                    </a:lnTo>
                    <a:lnTo>
                      <a:pt x="314" y="1501"/>
                    </a:lnTo>
                    <a:lnTo>
                      <a:pt x="296" y="1501"/>
                    </a:lnTo>
                    <a:lnTo>
                      <a:pt x="284" y="1501"/>
                    </a:lnTo>
                    <a:lnTo>
                      <a:pt x="272" y="1501"/>
                    </a:lnTo>
                    <a:lnTo>
                      <a:pt x="260" y="1501"/>
                    </a:lnTo>
                    <a:lnTo>
                      <a:pt x="242" y="1507"/>
                    </a:lnTo>
                    <a:lnTo>
                      <a:pt x="230" y="1507"/>
                    </a:lnTo>
                    <a:lnTo>
                      <a:pt x="218" y="1507"/>
                    </a:lnTo>
                    <a:lnTo>
                      <a:pt x="206" y="1507"/>
                    </a:lnTo>
                    <a:lnTo>
                      <a:pt x="187" y="1507"/>
                    </a:lnTo>
                    <a:lnTo>
                      <a:pt x="175" y="1507"/>
                    </a:lnTo>
                    <a:lnTo>
                      <a:pt x="163" y="1507"/>
                    </a:lnTo>
                    <a:lnTo>
                      <a:pt x="151" y="1507"/>
                    </a:lnTo>
                    <a:lnTo>
                      <a:pt x="133" y="1507"/>
                    </a:lnTo>
                    <a:lnTo>
                      <a:pt x="121" y="1513"/>
                    </a:lnTo>
                    <a:lnTo>
                      <a:pt x="109" y="1513"/>
                    </a:lnTo>
                    <a:lnTo>
                      <a:pt x="91" y="1513"/>
                    </a:lnTo>
                    <a:lnTo>
                      <a:pt x="79" y="1513"/>
                    </a:lnTo>
                    <a:lnTo>
                      <a:pt x="67" y="1513"/>
                    </a:lnTo>
                    <a:lnTo>
                      <a:pt x="55" y="1513"/>
                    </a:lnTo>
                    <a:lnTo>
                      <a:pt x="37" y="1513"/>
                    </a:lnTo>
                    <a:lnTo>
                      <a:pt x="25" y="1513"/>
                    </a:lnTo>
                    <a:lnTo>
                      <a:pt x="12" y="1513"/>
                    </a:lnTo>
                    <a:lnTo>
                      <a:pt x="0" y="1513"/>
                    </a:lnTo>
                  </a:path>
                </a:pathLst>
              </a:custGeom>
              <a:noFill/>
              <a:ln w="936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639080" y="471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505520" y="4105440"/>
                <a:ext cx="22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505520" y="3506760"/>
                <a:ext cx="22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505520" y="2898720"/>
                <a:ext cx="22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505520" y="2300400"/>
                <a:ext cx="22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505520" y="1703520"/>
                <a:ext cx="22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560960" y="4886280"/>
                <a:ext cx="49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00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682360" y="4886280"/>
                <a:ext cx="40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0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813120" y="4886280"/>
                <a:ext cx="31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934520" y="4886280"/>
                <a:ext cx="22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084000" y="48862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776400" y="513720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798560" y="5740560"/>
                <a:ext cx="4340160" cy="2990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798560" y="8731080"/>
                <a:ext cx="4340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798560" y="5740560"/>
                <a:ext cx="4340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1798560" y="5740200"/>
                <a:ext cx="1800" cy="299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6138720" y="5740200"/>
                <a:ext cx="1800" cy="299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770120" y="873108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770120" y="860580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770120" y="848988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770120" y="836460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770120" y="824868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770120" y="813276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770120" y="800748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770120" y="789156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770120" y="776592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770120" y="765000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770120" y="753444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770120" y="740880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770120" y="729288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770120" y="716760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770120" y="705168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770120" y="693576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770120" y="681048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770120" y="669600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770120" y="657072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770120" y="645480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770120" y="633888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770120" y="621360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770120" y="609768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770120" y="597204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770120" y="585612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770120" y="574056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741320" y="8731080"/>
                <a:ext cx="57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741320" y="8132760"/>
                <a:ext cx="57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741320" y="7534440"/>
                <a:ext cx="57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741320" y="6935760"/>
                <a:ext cx="57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741320" y="6338880"/>
                <a:ext cx="57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741320" y="5740560"/>
                <a:ext cx="57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1798560" y="873108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212580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231624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245124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>
                <a:off x="255600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264168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2709720" y="873108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V="1">
                <a:off x="277668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2833560" y="873108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288144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320688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3398760" y="873108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353376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363852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3724200" y="873108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3801960" y="873108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385920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391644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396396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428940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448164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461484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472140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480708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4883040" y="873108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4941720" y="873108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4998960" y="873108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504684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537228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556416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570708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5813280" y="873108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589932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596592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603252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608184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6138720" y="873108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1798560" y="8730720"/>
                <a:ext cx="180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2881440" y="8730720"/>
                <a:ext cx="144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3963960" y="8730720"/>
                <a:ext cx="144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5046840" y="8730720"/>
                <a:ext cx="144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6138720" y="8730720"/>
                <a:ext cx="180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1798560" y="5740200"/>
                <a:ext cx="1800" cy="299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798560" y="8731080"/>
                <a:ext cx="4340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798560" y="6935760"/>
                <a:ext cx="4340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072120" y="692640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1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053040" y="6907320"/>
                <a:ext cx="1800" cy="68040"/>
              </a:xfrm>
              <a:custGeom>
                <a:avLst/>
                <a:gdLst/>
                <a:ahLst/>
                <a:rect l="l" t="t" r="r" b="b"/>
                <a:pathLst>
                  <a:path w="0" h="43">
                    <a:moveTo>
                      <a:pt x="0" y="4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022800" y="6888240"/>
                <a:ext cx="1800" cy="125280"/>
              </a:xfrm>
              <a:custGeom>
                <a:avLst/>
                <a:gdLst/>
                <a:ahLst/>
                <a:rect l="l" t="t" r="r" b="b"/>
                <a:pathLst>
                  <a:path w="0" h="79">
                    <a:moveTo>
                      <a:pt x="0" y="7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004080" y="6869160"/>
                <a:ext cx="1440" cy="191880"/>
              </a:xfrm>
              <a:custGeom>
                <a:avLst/>
                <a:gdLst/>
                <a:ahLst/>
                <a:rect l="l" t="t" r="r" b="b"/>
                <a:pathLst>
                  <a:path w="0" h="121">
                    <a:moveTo>
                      <a:pt x="0" y="12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985000" y="6850080"/>
                <a:ext cx="1440" cy="279360"/>
              </a:xfrm>
              <a:custGeom>
                <a:avLst/>
                <a:gdLst/>
                <a:ahLst/>
                <a:rect l="l" t="t" r="r" b="b"/>
                <a:pathLst>
                  <a:path w="0" h="176">
                    <a:moveTo>
                      <a:pt x="0" y="17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965920" y="6840360"/>
                <a:ext cx="1440" cy="346320"/>
              </a:xfrm>
              <a:custGeom>
                <a:avLst/>
                <a:gdLst/>
                <a:ahLst/>
                <a:rect l="l" t="t" r="r" b="b"/>
                <a:pathLst>
                  <a:path w="0" h="218">
                    <a:moveTo>
                      <a:pt x="0" y="21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937120" y="6840360"/>
                <a:ext cx="1800" cy="414360"/>
              </a:xfrm>
              <a:custGeom>
                <a:avLst/>
                <a:gdLst/>
                <a:ahLst/>
                <a:rect l="l" t="t" r="r" b="b"/>
                <a:pathLst>
                  <a:path w="0" h="261">
                    <a:moveTo>
                      <a:pt x="0" y="26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918040" y="6859440"/>
                <a:ext cx="1800" cy="462240"/>
              </a:xfrm>
              <a:custGeom>
                <a:avLst/>
                <a:gdLst/>
                <a:ahLst/>
                <a:rect l="l" t="t" r="r" b="b"/>
                <a:pathLst>
                  <a:path w="0" h="291">
                    <a:moveTo>
                      <a:pt x="0" y="29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899320" y="6878520"/>
                <a:ext cx="1440" cy="501840"/>
              </a:xfrm>
              <a:custGeom>
                <a:avLst/>
                <a:gdLst/>
                <a:ahLst/>
                <a:rect l="l" t="t" r="r" b="b"/>
                <a:pathLst>
                  <a:path w="0" h="316">
                    <a:moveTo>
                      <a:pt x="0" y="31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870520" y="6907320"/>
                <a:ext cx="1800" cy="520560"/>
              </a:xfrm>
              <a:custGeom>
                <a:avLst/>
                <a:gdLst/>
                <a:ahLst/>
                <a:rect l="l" t="t" r="r" b="b"/>
                <a:pathLst>
                  <a:path w="0" h="328">
                    <a:moveTo>
                      <a:pt x="0" y="32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851440" y="6945480"/>
                <a:ext cx="1800" cy="541080"/>
              </a:xfrm>
              <a:custGeom>
                <a:avLst/>
                <a:gdLst/>
                <a:ahLst/>
                <a:rect l="l" t="t" r="r" b="b"/>
                <a:pathLst>
                  <a:path w="0" h="341">
                    <a:moveTo>
                      <a:pt x="0" y="34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832360" y="6994440"/>
                <a:ext cx="1800" cy="530280"/>
              </a:xfrm>
              <a:custGeom>
                <a:avLst/>
                <a:gdLst/>
                <a:ahLst/>
                <a:rect l="l" t="t" r="r" b="b"/>
                <a:pathLst>
                  <a:path w="0" h="334">
                    <a:moveTo>
                      <a:pt x="0" y="33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813280" y="7042320"/>
                <a:ext cx="1800" cy="529920"/>
              </a:xfrm>
              <a:custGeom>
                <a:avLst/>
                <a:gdLst/>
                <a:ahLst/>
                <a:rect l="l" t="t" r="r" b="b"/>
                <a:pathLst>
                  <a:path w="0" h="334">
                    <a:moveTo>
                      <a:pt x="0" y="33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784840" y="7101000"/>
                <a:ext cx="1440" cy="511200"/>
              </a:xfrm>
              <a:custGeom>
                <a:avLst/>
                <a:gdLst/>
                <a:ahLst/>
                <a:rect l="l" t="t" r="r" b="b"/>
                <a:pathLst>
                  <a:path w="0" h="322">
                    <a:moveTo>
                      <a:pt x="0" y="32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765760" y="7148520"/>
                <a:ext cx="1800" cy="501480"/>
              </a:xfrm>
              <a:custGeom>
                <a:avLst/>
                <a:gdLst/>
                <a:ahLst/>
                <a:rect l="l" t="t" r="r" b="b"/>
                <a:pathLst>
                  <a:path w="0" h="316">
                    <a:moveTo>
                      <a:pt x="0" y="31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745240" y="7196040"/>
                <a:ext cx="1440" cy="492120"/>
              </a:xfrm>
              <a:custGeom>
                <a:avLst/>
                <a:gdLst/>
                <a:ahLst/>
                <a:rect l="l" t="t" r="r" b="b"/>
                <a:pathLst>
                  <a:path w="0" h="310">
                    <a:moveTo>
                      <a:pt x="0" y="31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726160" y="7245360"/>
                <a:ext cx="1440" cy="482760"/>
              </a:xfrm>
              <a:custGeom>
                <a:avLst/>
                <a:gdLst/>
                <a:ahLst/>
                <a:rect l="l" t="t" r="r" b="b"/>
                <a:pathLst>
                  <a:path w="0" h="304">
                    <a:moveTo>
                      <a:pt x="0" y="30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697360" y="7283520"/>
                <a:ext cx="1800" cy="473040"/>
              </a:xfrm>
              <a:custGeom>
                <a:avLst/>
                <a:gdLst/>
                <a:ahLst/>
                <a:rect l="l" t="t" r="r" b="b"/>
                <a:pathLst>
                  <a:path w="0" h="298">
                    <a:moveTo>
                      <a:pt x="0" y="29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78640" y="7321680"/>
                <a:ext cx="1440" cy="473040"/>
              </a:xfrm>
              <a:custGeom>
                <a:avLst/>
                <a:gdLst/>
                <a:ahLst/>
                <a:rect l="l" t="t" r="r" b="b"/>
                <a:pathLst>
                  <a:path w="0" h="298">
                    <a:moveTo>
                      <a:pt x="0" y="29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59560" y="7361280"/>
                <a:ext cx="1440" cy="452520"/>
              </a:xfrm>
              <a:custGeom>
                <a:avLst/>
                <a:gdLst/>
                <a:ahLst/>
                <a:rect l="l" t="t" r="r" b="b"/>
                <a:pathLst>
                  <a:path w="0" h="285">
                    <a:moveTo>
                      <a:pt x="0" y="28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640480" y="7389720"/>
                <a:ext cx="1440" cy="453960"/>
              </a:xfrm>
              <a:custGeom>
                <a:avLst/>
                <a:gdLst/>
                <a:ahLst/>
                <a:rect l="l" t="t" r="r" b="b"/>
                <a:pathLst>
                  <a:path w="0" h="286">
                    <a:moveTo>
                      <a:pt x="0" y="28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611680" y="7427880"/>
                <a:ext cx="1800" cy="434880"/>
              </a:xfrm>
              <a:custGeom>
                <a:avLst/>
                <a:gdLst/>
                <a:ahLst/>
                <a:rect l="l" t="t" r="r" b="b"/>
                <a:pathLst>
                  <a:path w="0" h="274">
                    <a:moveTo>
                      <a:pt x="0" y="27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92600" y="7458120"/>
                <a:ext cx="1800" cy="423720"/>
              </a:xfrm>
              <a:custGeom>
                <a:avLst/>
                <a:gdLst/>
                <a:ahLst/>
                <a:rect l="l" t="t" r="r" b="b"/>
                <a:pathLst>
                  <a:path w="0" h="267">
                    <a:moveTo>
                      <a:pt x="0" y="26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5573880" y="7477200"/>
              <a:ext cx="1440" cy="414360"/>
            </a:xfrm>
            <a:custGeom>
              <a:avLst/>
              <a:gdLst/>
              <a:ahLst/>
              <a:rect l="l" t="t" r="r" b="b"/>
              <a:pathLst>
                <a:path w="0" h="261">
                  <a:moveTo>
                    <a:pt x="0" y="26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545080" y="7505640"/>
              <a:ext cx="1800" cy="385920"/>
            </a:xfrm>
            <a:custGeom>
              <a:avLst/>
              <a:gdLst/>
              <a:ahLst/>
              <a:rect l="l" t="t" r="r" b="b"/>
              <a:pathLst>
                <a:path w="0" h="243">
                  <a:moveTo>
                    <a:pt x="0" y="243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526000" y="7524720"/>
              <a:ext cx="1800" cy="366840"/>
            </a:xfrm>
            <a:custGeom>
              <a:avLst/>
              <a:gdLst/>
              <a:ahLst/>
              <a:rect l="l" t="t" r="r" b="b"/>
              <a:pathLst>
                <a:path w="0" h="231">
                  <a:moveTo>
                    <a:pt x="0" y="23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506920" y="7543800"/>
              <a:ext cx="1800" cy="347760"/>
            </a:xfrm>
            <a:custGeom>
              <a:avLst/>
              <a:gdLst/>
              <a:ahLst/>
              <a:rect l="l" t="t" r="r" b="b"/>
              <a:pathLst>
                <a:path w="0" h="219">
                  <a:moveTo>
                    <a:pt x="0" y="219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487840" y="7562880"/>
              <a:ext cx="1800" cy="328680"/>
            </a:xfrm>
            <a:custGeom>
              <a:avLst/>
              <a:gdLst/>
              <a:ahLst/>
              <a:rect l="l" t="t" r="r" b="b"/>
              <a:pathLst>
                <a:path w="0" h="207">
                  <a:moveTo>
                    <a:pt x="0" y="20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457960" y="7581960"/>
              <a:ext cx="1440" cy="299880"/>
            </a:xfrm>
            <a:custGeom>
              <a:avLst/>
              <a:gdLst/>
              <a:ahLst/>
              <a:rect l="l" t="t" r="r" b="b"/>
              <a:pathLst>
                <a:path w="0" h="189">
                  <a:moveTo>
                    <a:pt x="0" y="189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438880" y="7593120"/>
              <a:ext cx="1440" cy="279360"/>
            </a:xfrm>
            <a:custGeom>
              <a:avLst/>
              <a:gdLst/>
              <a:ahLst/>
              <a:rect l="l" t="t" r="r" b="b"/>
              <a:pathLst>
                <a:path w="0" h="176">
                  <a:moveTo>
                    <a:pt x="0" y="17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419800" y="7602480"/>
              <a:ext cx="1440" cy="260280"/>
            </a:xfrm>
            <a:custGeom>
              <a:avLst/>
              <a:gdLst/>
              <a:ahLst/>
              <a:rect l="l" t="t" r="r" b="b"/>
              <a:pathLst>
                <a:path w="0" h="164">
                  <a:moveTo>
                    <a:pt x="0" y="16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00720" y="7612200"/>
              <a:ext cx="1440" cy="231480"/>
            </a:xfrm>
            <a:custGeom>
              <a:avLst/>
              <a:gdLst/>
              <a:ahLst/>
              <a:rect l="l" t="t" r="r" b="b"/>
              <a:pathLst>
                <a:path w="0" h="146">
                  <a:moveTo>
                    <a:pt x="0" y="14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372280" y="7612200"/>
              <a:ext cx="1440" cy="220680"/>
            </a:xfrm>
            <a:custGeom>
              <a:avLst/>
              <a:gdLst/>
              <a:ahLst/>
              <a:rect l="l" t="t" r="r" b="b"/>
              <a:pathLst>
                <a:path w="0" h="139">
                  <a:moveTo>
                    <a:pt x="0" y="139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53200" y="7612200"/>
              <a:ext cx="1440" cy="201600"/>
            </a:xfrm>
            <a:custGeom>
              <a:avLst/>
              <a:gdLst/>
              <a:ahLst/>
              <a:rect l="l" t="t" r="r" b="b"/>
              <a:pathLst>
                <a:path w="0" h="127">
                  <a:moveTo>
                    <a:pt x="0" y="12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34120" y="7612200"/>
              <a:ext cx="1440" cy="191880"/>
            </a:xfrm>
            <a:custGeom>
              <a:avLst/>
              <a:gdLst/>
              <a:ahLst/>
              <a:rect l="l" t="t" r="r" b="b"/>
              <a:pathLst>
                <a:path w="0" h="121">
                  <a:moveTo>
                    <a:pt x="0" y="12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15040" y="7602480"/>
              <a:ext cx="1440" cy="182520"/>
            </a:xfrm>
            <a:custGeom>
              <a:avLst/>
              <a:gdLst/>
              <a:ahLst/>
              <a:rect l="l" t="t" r="r" b="b"/>
              <a:pathLst>
                <a:path w="0" h="115">
                  <a:moveTo>
                    <a:pt x="0" y="115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286240" y="7602480"/>
              <a:ext cx="1800" cy="173160"/>
            </a:xfrm>
            <a:custGeom>
              <a:avLst/>
              <a:gdLst/>
              <a:ahLst/>
              <a:rect l="l" t="t" r="r" b="b"/>
              <a:pathLst>
                <a:path w="0" h="109">
                  <a:moveTo>
                    <a:pt x="0" y="109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267160" y="7593120"/>
              <a:ext cx="1800" cy="163440"/>
            </a:xfrm>
            <a:custGeom>
              <a:avLst/>
              <a:gdLst/>
              <a:ahLst/>
              <a:rect l="l" t="t" r="r" b="b"/>
              <a:pathLst>
                <a:path w="0" h="103">
                  <a:moveTo>
                    <a:pt x="0" y="103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248440" y="7572240"/>
              <a:ext cx="1440" cy="174600"/>
            </a:xfrm>
            <a:custGeom>
              <a:avLst/>
              <a:gdLst/>
              <a:ahLst/>
              <a:rect l="l" t="t" r="r" b="b"/>
              <a:pathLst>
                <a:path w="0" h="110">
                  <a:moveTo>
                    <a:pt x="0" y="11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219640" y="7562880"/>
              <a:ext cx="1800" cy="165240"/>
            </a:xfrm>
            <a:custGeom>
              <a:avLst/>
              <a:gdLst/>
              <a:ahLst/>
              <a:rect l="l" t="t" r="r" b="b"/>
              <a:pathLst>
                <a:path w="0" h="104">
                  <a:moveTo>
                    <a:pt x="0" y="10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199120" y="7543800"/>
              <a:ext cx="1440" cy="174600"/>
            </a:xfrm>
            <a:custGeom>
              <a:avLst/>
              <a:gdLst/>
              <a:ahLst/>
              <a:rect l="l" t="t" r="r" b="b"/>
              <a:pathLst>
                <a:path w="0" h="110">
                  <a:moveTo>
                    <a:pt x="0" y="11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80040" y="7534440"/>
              <a:ext cx="1440" cy="163440"/>
            </a:xfrm>
            <a:custGeom>
              <a:avLst/>
              <a:gdLst/>
              <a:ahLst/>
              <a:rect l="l" t="t" r="r" b="b"/>
              <a:pathLst>
                <a:path w="0" h="103">
                  <a:moveTo>
                    <a:pt x="0" y="103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160960" y="7515360"/>
              <a:ext cx="1440" cy="163440"/>
            </a:xfrm>
            <a:custGeom>
              <a:avLst/>
              <a:gdLst/>
              <a:ahLst/>
              <a:rect l="l" t="t" r="r" b="b"/>
              <a:pathLst>
                <a:path w="0" h="103">
                  <a:moveTo>
                    <a:pt x="0" y="103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32520" y="7496280"/>
              <a:ext cx="1440" cy="172800"/>
            </a:xfrm>
            <a:custGeom>
              <a:avLst/>
              <a:gdLst/>
              <a:ahLst/>
              <a:rect l="l" t="t" r="r" b="b"/>
              <a:pathLst>
                <a:path w="0" h="109">
                  <a:moveTo>
                    <a:pt x="0" y="109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113440" y="7486560"/>
              <a:ext cx="1440" cy="163440"/>
            </a:xfrm>
            <a:custGeom>
              <a:avLst/>
              <a:gdLst/>
              <a:ahLst/>
              <a:rect l="l" t="t" r="r" b="b"/>
              <a:pathLst>
                <a:path w="0" h="103">
                  <a:moveTo>
                    <a:pt x="0" y="103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94360" y="7467480"/>
              <a:ext cx="1440" cy="163800"/>
            </a:xfrm>
            <a:custGeom>
              <a:avLst/>
              <a:gdLst/>
              <a:ahLst/>
              <a:rect l="l" t="t" r="r" b="b"/>
              <a:pathLst>
                <a:path w="0" h="103">
                  <a:moveTo>
                    <a:pt x="0" y="103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75280" y="7446960"/>
              <a:ext cx="1440" cy="174600"/>
            </a:xfrm>
            <a:custGeom>
              <a:avLst/>
              <a:gdLst/>
              <a:ahLst/>
              <a:rect l="l" t="t" r="r" b="b"/>
              <a:pathLst>
                <a:path w="0" h="110">
                  <a:moveTo>
                    <a:pt x="0" y="11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46840" y="7427880"/>
              <a:ext cx="1440" cy="174600"/>
            </a:xfrm>
            <a:custGeom>
              <a:avLst/>
              <a:gdLst/>
              <a:ahLst/>
              <a:rect l="l" t="t" r="r" b="b"/>
              <a:pathLst>
                <a:path w="0" h="110">
                  <a:moveTo>
                    <a:pt x="0" y="11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27760" y="7418520"/>
              <a:ext cx="1440" cy="163440"/>
            </a:xfrm>
            <a:custGeom>
              <a:avLst/>
              <a:gdLst/>
              <a:ahLst/>
              <a:rect l="l" t="t" r="r" b="b"/>
              <a:pathLst>
                <a:path w="0" h="103">
                  <a:moveTo>
                    <a:pt x="0" y="103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08680" y="7399440"/>
              <a:ext cx="1440" cy="163440"/>
            </a:xfrm>
            <a:custGeom>
              <a:avLst/>
              <a:gdLst/>
              <a:ahLst/>
              <a:rect l="l" t="t" r="r" b="b"/>
              <a:pathLst>
                <a:path w="0" h="103">
                  <a:moveTo>
                    <a:pt x="0" y="103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989600" y="7389720"/>
              <a:ext cx="1440" cy="163440"/>
            </a:xfrm>
            <a:custGeom>
              <a:avLst/>
              <a:gdLst/>
              <a:ahLst/>
              <a:rect l="l" t="t" r="r" b="b"/>
              <a:pathLst>
                <a:path w="0" h="103">
                  <a:moveTo>
                    <a:pt x="0" y="103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960800" y="7370640"/>
              <a:ext cx="1800" cy="163800"/>
            </a:xfrm>
            <a:custGeom>
              <a:avLst/>
              <a:gdLst/>
              <a:ahLst/>
              <a:rect l="l" t="t" r="r" b="b"/>
              <a:pathLst>
                <a:path w="0" h="103">
                  <a:moveTo>
                    <a:pt x="0" y="103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941720" y="7351560"/>
              <a:ext cx="1800" cy="163800"/>
            </a:xfrm>
            <a:custGeom>
              <a:avLst/>
              <a:gdLst/>
              <a:ahLst/>
              <a:rect l="l" t="t" r="r" b="b"/>
              <a:pathLst>
                <a:path w="0" h="103">
                  <a:moveTo>
                    <a:pt x="0" y="103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23000" y="7342200"/>
              <a:ext cx="1440" cy="154080"/>
            </a:xfrm>
            <a:custGeom>
              <a:avLst/>
              <a:gdLst/>
              <a:ahLst/>
              <a:rect l="l" t="t" r="r" b="b"/>
              <a:pathLst>
                <a:path w="0" h="97">
                  <a:moveTo>
                    <a:pt x="0" y="9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902120" y="7332840"/>
              <a:ext cx="1800" cy="153720"/>
            </a:xfrm>
            <a:custGeom>
              <a:avLst/>
              <a:gdLst/>
              <a:ahLst/>
              <a:rect l="l" t="t" r="r" b="b"/>
              <a:pathLst>
                <a:path w="0" h="97">
                  <a:moveTo>
                    <a:pt x="0" y="9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873680" y="7311960"/>
              <a:ext cx="1440" cy="155520"/>
            </a:xfrm>
            <a:custGeom>
              <a:avLst/>
              <a:gdLst/>
              <a:ahLst/>
              <a:rect l="l" t="t" r="r" b="b"/>
              <a:pathLst>
                <a:path w="0" h="98">
                  <a:moveTo>
                    <a:pt x="0" y="9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54600" y="7302600"/>
              <a:ext cx="1440" cy="144360"/>
            </a:xfrm>
            <a:custGeom>
              <a:avLst/>
              <a:gdLst/>
              <a:ahLst/>
              <a:rect l="l" t="t" r="r" b="b"/>
              <a:pathLst>
                <a:path w="0" h="91">
                  <a:moveTo>
                    <a:pt x="0" y="9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835520" y="7283520"/>
              <a:ext cx="1440" cy="154080"/>
            </a:xfrm>
            <a:custGeom>
              <a:avLst/>
              <a:gdLst/>
              <a:ahLst/>
              <a:rect l="l" t="t" r="r" b="b"/>
              <a:pathLst>
                <a:path w="0" h="97">
                  <a:moveTo>
                    <a:pt x="0" y="9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807080" y="7273800"/>
              <a:ext cx="1440" cy="144720"/>
            </a:xfrm>
            <a:custGeom>
              <a:avLst/>
              <a:gdLst/>
              <a:ahLst/>
              <a:rect l="l" t="t" r="r" b="b"/>
              <a:pathLst>
                <a:path w="0" h="91">
                  <a:moveTo>
                    <a:pt x="0" y="9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788000" y="7264440"/>
              <a:ext cx="1440" cy="135000"/>
            </a:xfrm>
            <a:custGeom>
              <a:avLst/>
              <a:gdLst/>
              <a:ahLst/>
              <a:rect l="l" t="t" r="r" b="b"/>
              <a:pathLst>
                <a:path w="0" h="85">
                  <a:moveTo>
                    <a:pt x="0" y="85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768920" y="7254720"/>
              <a:ext cx="1440" cy="135000"/>
            </a:xfrm>
            <a:custGeom>
              <a:avLst/>
              <a:gdLst/>
              <a:ahLst/>
              <a:rect l="l" t="t" r="r" b="b"/>
              <a:pathLst>
                <a:path w="0" h="85">
                  <a:moveTo>
                    <a:pt x="0" y="85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749840" y="7245360"/>
              <a:ext cx="1440" cy="135000"/>
            </a:xfrm>
            <a:custGeom>
              <a:avLst/>
              <a:gdLst/>
              <a:ahLst/>
              <a:rect l="l" t="t" r="r" b="b"/>
              <a:pathLst>
                <a:path w="0" h="85">
                  <a:moveTo>
                    <a:pt x="0" y="85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721400" y="7226280"/>
              <a:ext cx="1440" cy="135000"/>
            </a:xfrm>
            <a:custGeom>
              <a:avLst/>
              <a:gdLst/>
              <a:ahLst/>
              <a:rect l="l" t="t" r="r" b="b"/>
              <a:pathLst>
                <a:path w="0" h="85">
                  <a:moveTo>
                    <a:pt x="0" y="85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02320" y="7216920"/>
              <a:ext cx="1440" cy="134640"/>
            </a:xfrm>
            <a:custGeom>
              <a:avLst/>
              <a:gdLst/>
              <a:ahLst/>
              <a:rect l="l" t="t" r="r" b="b"/>
              <a:pathLst>
                <a:path w="0" h="85">
                  <a:moveTo>
                    <a:pt x="0" y="85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683240" y="7207200"/>
              <a:ext cx="1440" cy="125640"/>
            </a:xfrm>
            <a:custGeom>
              <a:avLst/>
              <a:gdLst/>
              <a:ahLst/>
              <a:rect l="l" t="t" r="r" b="b"/>
              <a:pathLst>
                <a:path w="0" h="79">
                  <a:moveTo>
                    <a:pt x="0" y="79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664160" y="7196040"/>
              <a:ext cx="1440" cy="125640"/>
            </a:xfrm>
            <a:custGeom>
              <a:avLst/>
              <a:gdLst/>
              <a:ahLst/>
              <a:rect l="l" t="t" r="r" b="b"/>
              <a:pathLst>
                <a:path w="0" h="79">
                  <a:moveTo>
                    <a:pt x="0" y="79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33920" y="7186680"/>
              <a:ext cx="1440" cy="125280"/>
            </a:xfrm>
            <a:custGeom>
              <a:avLst/>
              <a:gdLst/>
              <a:ahLst/>
              <a:rect l="l" t="t" r="r" b="b"/>
              <a:pathLst>
                <a:path w="0" h="79">
                  <a:moveTo>
                    <a:pt x="0" y="79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614840" y="7186680"/>
              <a:ext cx="1440" cy="106200"/>
            </a:xfrm>
            <a:custGeom>
              <a:avLst/>
              <a:gdLst/>
              <a:ahLst/>
              <a:rect l="l" t="t" r="r" b="b"/>
              <a:pathLst>
                <a:path w="0" h="67">
                  <a:moveTo>
                    <a:pt x="0" y="6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595760" y="7176960"/>
              <a:ext cx="1800" cy="106560"/>
            </a:xfrm>
            <a:custGeom>
              <a:avLst/>
              <a:gdLst/>
              <a:ahLst/>
              <a:rect l="l" t="t" r="r" b="b"/>
              <a:pathLst>
                <a:path w="0" h="67">
                  <a:moveTo>
                    <a:pt x="0" y="6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576680" y="7167600"/>
              <a:ext cx="1800" cy="106200"/>
            </a:xfrm>
            <a:custGeom>
              <a:avLst/>
              <a:gdLst/>
              <a:ahLst/>
              <a:rect l="l" t="t" r="r" b="b"/>
              <a:pathLst>
                <a:path w="0" h="67">
                  <a:moveTo>
                    <a:pt x="0" y="6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548240" y="7157880"/>
              <a:ext cx="1440" cy="106560"/>
            </a:xfrm>
            <a:custGeom>
              <a:avLst/>
              <a:gdLst/>
              <a:ahLst/>
              <a:rect l="l" t="t" r="r" b="b"/>
              <a:pathLst>
                <a:path w="0" h="67">
                  <a:moveTo>
                    <a:pt x="0" y="6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529160" y="7148520"/>
              <a:ext cx="1440" cy="106200"/>
            </a:xfrm>
            <a:custGeom>
              <a:avLst/>
              <a:gdLst/>
              <a:ahLst/>
              <a:rect l="l" t="t" r="r" b="b"/>
              <a:pathLst>
                <a:path w="0" h="67">
                  <a:moveTo>
                    <a:pt x="0" y="6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10080" y="7139160"/>
              <a:ext cx="1440" cy="106200"/>
            </a:xfrm>
            <a:custGeom>
              <a:avLst/>
              <a:gdLst/>
              <a:ahLst/>
              <a:rect l="l" t="t" r="r" b="b"/>
              <a:pathLst>
                <a:path w="0" h="67">
                  <a:moveTo>
                    <a:pt x="0" y="6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81640" y="7139160"/>
              <a:ext cx="1440" cy="8712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55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62560" y="7129440"/>
              <a:ext cx="144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55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43480" y="7120080"/>
              <a:ext cx="1440" cy="8712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55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24400" y="7120080"/>
              <a:ext cx="1440" cy="8712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55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395960" y="7110360"/>
              <a:ext cx="1440" cy="85680"/>
            </a:xfrm>
            <a:custGeom>
              <a:avLst/>
              <a:gdLst/>
              <a:ahLst/>
              <a:rect l="l" t="t" r="r" b="b"/>
              <a:pathLst>
                <a:path w="0" h="54">
                  <a:moveTo>
                    <a:pt x="0" y="5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76880" y="7101000"/>
              <a:ext cx="1440" cy="85680"/>
            </a:xfrm>
            <a:custGeom>
              <a:avLst/>
              <a:gdLst/>
              <a:ahLst/>
              <a:rect l="l" t="t" r="r" b="b"/>
              <a:pathLst>
                <a:path w="0" h="54">
                  <a:moveTo>
                    <a:pt x="0" y="5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356000" y="7101000"/>
              <a:ext cx="1800" cy="75960"/>
            </a:xfrm>
            <a:custGeom>
              <a:avLst/>
              <a:gdLst/>
              <a:ahLst/>
              <a:rect l="l" t="t" r="r" b="b"/>
              <a:pathLst>
                <a:path w="0" h="48">
                  <a:moveTo>
                    <a:pt x="0" y="4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36920" y="7091280"/>
              <a:ext cx="1800" cy="76320"/>
            </a:xfrm>
            <a:custGeom>
              <a:avLst/>
              <a:gdLst/>
              <a:ahLst/>
              <a:rect l="l" t="t" r="r" b="b"/>
              <a:pathLst>
                <a:path w="0" h="48">
                  <a:moveTo>
                    <a:pt x="0" y="4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08480" y="7091280"/>
              <a:ext cx="1440" cy="66600"/>
            </a:xfrm>
            <a:custGeom>
              <a:avLst/>
              <a:gdLst/>
              <a:ahLst/>
              <a:rect l="l" t="t" r="r" b="b"/>
              <a:pathLst>
                <a:path w="0" h="42">
                  <a:moveTo>
                    <a:pt x="0" y="4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289400" y="7081920"/>
              <a:ext cx="1440" cy="66600"/>
            </a:xfrm>
            <a:custGeom>
              <a:avLst/>
              <a:gdLst/>
              <a:ahLst/>
              <a:rect l="l" t="t" r="r" b="b"/>
              <a:pathLst>
                <a:path w="0" h="42">
                  <a:moveTo>
                    <a:pt x="0" y="4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270320" y="7081920"/>
              <a:ext cx="1800" cy="66600"/>
            </a:xfrm>
            <a:custGeom>
              <a:avLst/>
              <a:gdLst/>
              <a:ahLst/>
              <a:rect l="l" t="t" r="r" b="b"/>
              <a:pathLst>
                <a:path w="0" h="42">
                  <a:moveTo>
                    <a:pt x="0" y="4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251240" y="7070760"/>
              <a:ext cx="1800" cy="68400"/>
            </a:xfrm>
            <a:custGeom>
              <a:avLst/>
              <a:gdLst/>
              <a:ahLst/>
              <a:rect l="l" t="t" r="r" b="b"/>
              <a:pathLst>
                <a:path w="0" h="43">
                  <a:moveTo>
                    <a:pt x="0" y="43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222800" y="7070760"/>
              <a:ext cx="1440" cy="58680"/>
            </a:xfrm>
            <a:custGeom>
              <a:avLst/>
              <a:gdLst/>
              <a:ahLst/>
              <a:rect l="l" t="t" r="r" b="b"/>
              <a:pathLst>
                <a:path w="0" h="37">
                  <a:moveTo>
                    <a:pt x="0" y="3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203720" y="7061040"/>
              <a:ext cx="1440" cy="68400"/>
            </a:xfrm>
            <a:custGeom>
              <a:avLst/>
              <a:gdLst/>
              <a:ahLst/>
              <a:rect l="l" t="t" r="r" b="b"/>
              <a:pathLst>
                <a:path w="0" h="43">
                  <a:moveTo>
                    <a:pt x="0" y="43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184640" y="7061040"/>
              <a:ext cx="1440" cy="59040"/>
            </a:xfrm>
            <a:custGeom>
              <a:avLst/>
              <a:gdLst/>
              <a:ahLst/>
              <a:rect l="l" t="t" r="r" b="b"/>
              <a:pathLst>
                <a:path w="0" h="37">
                  <a:moveTo>
                    <a:pt x="0" y="3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165560" y="7051680"/>
              <a:ext cx="1800" cy="58680"/>
            </a:xfrm>
            <a:custGeom>
              <a:avLst/>
              <a:gdLst/>
              <a:ahLst/>
              <a:rect l="l" t="t" r="r" b="b"/>
              <a:pathLst>
                <a:path w="0" h="37">
                  <a:moveTo>
                    <a:pt x="0" y="3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137120" y="7051680"/>
              <a:ext cx="1440" cy="58680"/>
            </a:xfrm>
            <a:custGeom>
              <a:avLst/>
              <a:gdLst/>
              <a:ahLst/>
              <a:rect l="l" t="t" r="r" b="b"/>
              <a:pathLst>
                <a:path w="0" h="37">
                  <a:moveTo>
                    <a:pt x="0" y="3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118040" y="7051680"/>
              <a:ext cx="1440" cy="49320"/>
            </a:xfrm>
            <a:custGeom>
              <a:avLst/>
              <a:gdLst/>
              <a:ahLst/>
              <a:rect l="l" t="t" r="r" b="b"/>
              <a:pathLst>
                <a:path w="0" h="31">
                  <a:moveTo>
                    <a:pt x="0" y="3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098960" y="7042320"/>
              <a:ext cx="1440" cy="58680"/>
            </a:xfrm>
            <a:custGeom>
              <a:avLst/>
              <a:gdLst/>
              <a:ahLst/>
              <a:rect l="l" t="t" r="r" b="b"/>
              <a:pathLst>
                <a:path w="0" h="37">
                  <a:moveTo>
                    <a:pt x="0" y="3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068720" y="7042320"/>
              <a:ext cx="1800" cy="48960"/>
            </a:xfrm>
            <a:custGeom>
              <a:avLst/>
              <a:gdLst/>
              <a:ahLst/>
              <a:rect l="l" t="t" r="r" b="b"/>
              <a:pathLst>
                <a:path w="0" h="31">
                  <a:moveTo>
                    <a:pt x="0" y="3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049640" y="7032600"/>
              <a:ext cx="1800" cy="58680"/>
            </a:xfrm>
            <a:custGeom>
              <a:avLst/>
              <a:gdLst/>
              <a:ahLst/>
              <a:rect l="l" t="t" r="r" b="b"/>
              <a:pathLst>
                <a:path w="0" h="37">
                  <a:moveTo>
                    <a:pt x="0" y="3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030560" y="7032600"/>
              <a:ext cx="1800" cy="49320"/>
            </a:xfrm>
            <a:custGeom>
              <a:avLst/>
              <a:gdLst/>
              <a:ahLst/>
              <a:rect l="l" t="t" r="r" b="b"/>
              <a:pathLst>
                <a:path w="0" h="31">
                  <a:moveTo>
                    <a:pt x="0" y="3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011480" y="7032600"/>
              <a:ext cx="1800" cy="49320"/>
            </a:xfrm>
            <a:custGeom>
              <a:avLst/>
              <a:gdLst/>
              <a:ahLst/>
              <a:rect l="l" t="t" r="r" b="b"/>
              <a:pathLst>
                <a:path w="0" h="31">
                  <a:moveTo>
                    <a:pt x="0" y="3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983040" y="7032600"/>
              <a:ext cx="1440" cy="38160"/>
            </a:xfrm>
            <a:custGeom>
              <a:avLst/>
              <a:gdLst/>
              <a:ahLst/>
              <a:rect l="l" t="t" r="r" b="b"/>
              <a:pathLst>
                <a:path w="0" h="24">
                  <a:moveTo>
                    <a:pt x="0" y="2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963960" y="7023240"/>
              <a:ext cx="1440" cy="47520"/>
            </a:xfrm>
            <a:custGeom>
              <a:avLst/>
              <a:gdLst/>
              <a:ahLst/>
              <a:rect l="l" t="t" r="r" b="b"/>
              <a:pathLst>
                <a:path w="0" h="30">
                  <a:moveTo>
                    <a:pt x="0" y="3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944880" y="7023240"/>
              <a:ext cx="1800" cy="37800"/>
            </a:xfrm>
            <a:custGeom>
              <a:avLst/>
              <a:gdLst/>
              <a:ahLst/>
              <a:rect l="l" t="t" r="r" b="b"/>
              <a:pathLst>
                <a:path w="0" h="24">
                  <a:moveTo>
                    <a:pt x="0" y="2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925800" y="7023240"/>
              <a:ext cx="1800" cy="37800"/>
            </a:xfrm>
            <a:custGeom>
              <a:avLst/>
              <a:gdLst/>
              <a:ahLst/>
              <a:rect l="l" t="t" r="r" b="b"/>
              <a:pathLst>
                <a:path w="0" h="24">
                  <a:moveTo>
                    <a:pt x="0" y="2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897360" y="7013520"/>
              <a:ext cx="1440" cy="47520"/>
            </a:xfrm>
            <a:custGeom>
              <a:avLst/>
              <a:gdLst/>
              <a:ahLst/>
              <a:rect l="l" t="t" r="r" b="b"/>
              <a:pathLst>
                <a:path w="0" h="30">
                  <a:moveTo>
                    <a:pt x="0" y="3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878280" y="7013520"/>
              <a:ext cx="1440" cy="38160"/>
            </a:xfrm>
            <a:custGeom>
              <a:avLst/>
              <a:gdLst/>
              <a:ahLst/>
              <a:rect l="l" t="t" r="r" b="b"/>
              <a:pathLst>
                <a:path w="0" h="24">
                  <a:moveTo>
                    <a:pt x="0" y="2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59200" y="7013520"/>
              <a:ext cx="1440" cy="38160"/>
            </a:xfrm>
            <a:custGeom>
              <a:avLst/>
              <a:gdLst/>
              <a:ahLst/>
              <a:rect l="l" t="t" r="r" b="b"/>
              <a:pathLst>
                <a:path w="0" h="24">
                  <a:moveTo>
                    <a:pt x="0" y="2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840120" y="7013520"/>
              <a:ext cx="1800" cy="28800"/>
            </a:xfrm>
            <a:custGeom>
              <a:avLst/>
              <a:gdLst/>
              <a:ahLst/>
              <a:rect l="l" t="t" r="r" b="b"/>
              <a:pathLst>
                <a:path w="0" h="18">
                  <a:moveTo>
                    <a:pt x="0" y="1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11680" y="7004160"/>
              <a:ext cx="1440" cy="38160"/>
            </a:xfrm>
            <a:custGeom>
              <a:avLst/>
              <a:gdLst/>
              <a:ahLst/>
              <a:rect l="l" t="t" r="r" b="b"/>
              <a:pathLst>
                <a:path w="0" h="24">
                  <a:moveTo>
                    <a:pt x="0" y="2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790800" y="7004160"/>
              <a:ext cx="1800" cy="38160"/>
            </a:xfrm>
            <a:custGeom>
              <a:avLst/>
              <a:gdLst/>
              <a:ahLst/>
              <a:rect l="l" t="t" r="r" b="b"/>
              <a:pathLst>
                <a:path w="0" h="24">
                  <a:moveTo>
                    <a:pt x="0" y="2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772080" y="7004160"/>
              <a:ext cx="1440" cy="28440"/>
            </a:xfrm>
            <a:custGeom>
              <a:avLst/>
              <a:gdLst/>
              <a:ahLst/>
              <a:rect l="l" t="t" r="r" b="b"/>
              <a:pathLst>
                <a:path w="0" h="18">
                  <a:moveTo>
                    <a:pt x="0" y="1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743280" y="7004160"/>
              <a:ext cx="1800" cy="28440"/>
            </a:xfrm>
            <a:custGeom>
              <a:avLst/>
              <a:gdLst/>
              <a:ahLst/>
              <a:rect l="l" t="t" r="r" b="b"/>
              <a:pathLst>
                <a:path w="0" h="18">
                  <a:moveTo>
                    <a:pt x="0" y="1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724200" y="6994440"/>
              <a:ext cx="1800" cy="38160"/>
            </a:xfrm>
            <a:custGeom>
              <a:avLst/>
              <a:gdLst/>
              <a:ahLst/>
              <a:rect l="l" t="t" r="r" b="b"/>
              <a:pathLst>
                <a:path w="0" h="24">
                  <a:moveTo>
                    <a:pt x="0" y="2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705120" y="6994440"/>
              <a:ext cx="1800" cy="28800"/>
            </a:xfrm>
            <a:custGeom>
              <a:avLst/>
              <a:gdLst/>
              <a:ahLst/>
              <a:rect l="l" t="t" r="r" b="b"/>
              <a:pathLst>
                <a:path w="0" h="18">
                  <a:moveTo>
                    <a:pt x="0" y="1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86040" y="6994440"/>
              <a:ext cx="1800" cy="28800"/>
            </a:xfrm>
            <a:custGeom>
              <a:avLst/>
              <a:gdLst/>
              <a:ahLst/>
              <a:rect l="l" t="t" r="r" b="b"/>
              <a:pathLst>
                <a:path w="0" h="18">
                  <a:moveTo>
                    <a:pt x="0" y="1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657600" y="6994440"/>
              <a:ext cx="1440" cy="28800"/>
            </a:xfrm>
            <a:custGeom>
              <a:avLst/>
              <a:gdLst/>
              <a:ahLst/>
              <a:rect l="l" t="t" r="r" b="b"/>
              <a:pathLst>
                <a:path w="0" h="18">
                  <a:moveTo>
                    <a:pt x="0" y="1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638520" y="6994440"/>
              <a:ext cx="1440" cy="28800"/>
            </a:xfrm>
            <a:custGeom>
              <a:avLst/>
              <a:gdLst/>
              <a:ahLst/>
              <a:rect l="l" t="t" r="r" b="b"/>
              <a:pathLst>
                <a:path w="0" h="18">
                  <a:moveTo>
                    <a:pt x="0" y="1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619440" y="6994440"/>
              <a:ext cx="180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600360" y="6985080"/>
              <a:ext cx="1800" cy="28440"/>
            </a:xfrm>
            <a:custGeom>
              <a:avLst/>
              <a:gdLst/>
              <a:ahLst/>
              <a:rect l="l" t="t" r="r" b="b"/>
              <a:pathLst>
                <a:path w="0" h="18">
                  <a:moveTo>
                    <a:pt x="0" y="1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571920" y="6985080"/>
              <a:ext cx="1440" cy="28440"/>
            </a:xfrm>
            <a:custGeom>
              <a:avLst/>
              <a:gdLst/>
              <a:ahLst/>
              <a:rect l="l" t="t" r="r" b="b"/>
              <a:pathLst>
                <a:path w="0" h="18">
                  <a:moveTo>
                    <a:pt x="0" y="1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552840" y="6985080"/>
              <a:ext cx="1440" cy="28440"/>
            </a:xfrm>
            <a:custGeom>
              <a:avLst/>
              <a:gdLst/>
              <a:ahLst/>
              <a:rect l="l" t="t" r="r" b="b"/>
              <a:pathLst>
                <a:path w="0" h="18">
                  <a:moveTo>
                    <a:pt x="0" y="1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533760" y="6985080"/>
              <a:ext cx="144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514680" y="6985080"/>
              <a:ext cx="180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84440" y="6985080"/>
              <a:ext cx="180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465360" y="6975360"/>
              <a:ext cx="1800" cy="28800"/>
            </a:xfrm>
            <a:custGeom>
              <a:avLst/>
              <a:gdLst/>
              <a:ahLst/>
              <a:rect l="l" t="t" r="r" b="b"/>
              <a:pathLst>
                <a:path w="0" h="18">
                  <a:moveTo>
                    <a:pt x="0" y="1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446640" y="6975360"/>
              <a:ext cx="1440" cy="28800"/>
            </a:xfrm>
            <a:custGeom>
              <a:avLst/>
              <a:gdLst/>
              <a:ahLst/>
              <a:rect l="l" t="t" r="r" b="b"/>
              <a:pathLst>
                <a:path w="0" h="18">
                  <a:moveTo>
                    <a:pt x="0" y="1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427560" y="6975360"/>
              <a:ext cx="144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398760" y="6975360"/>
              <a:ext cx="180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379680" y="6975360"/>
              <a:ext cx="180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360600" y="6975360"/>
              <a:ext cx="180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332160" y="6975360"/>
              <a:ext cx="144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313080" y="6975360"/>
              <a:ext cx="1800" cy="97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294000" y="6966000"/>
              <a:ext cx="180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274920" y="6966000"/>
              <a:ext cx="180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246480" y="6966000"/>
              <a:ext cx="144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225960" y="6966000"/>
              <a:ext cx="144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206880" y="6966000"/>
              <a:ext cx="144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187800" y="6966000"/>
              <a:ext cx="144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159000" y="6966000"/>
              <a:ext cx="1800" cy="936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139920" y="6966000"/>
              <a:ext cx="1800" cy="936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121200" y="6966000"/>
              <a:ext cx="1440" cy="936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102120" y="6966000"/>
              <a:ext cx="1440" cy="936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073320" y="6966000"/>
              <a:ext cx="1800" cy="936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54240" y="6956280"/>
              <a:ext cx="180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035160" y="6956280"/>
              <a:ext cx="180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006720" y="6956280"/>
              <a:ext cx="144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987640" y="6956280"/>
              <a:ext cx="1800" cy="97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968560" y="6956280"/>
              <a:ext cx="1800" cy="97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948040" y="6956280"/>
              <a:ext cx="1440" cy="97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919240" y="6956280"/>
              <a:ext cx="1800" cy="97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900520" y="6956280"/>
              <a:ext cx="1440" cy="97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881440" y="6956280"/>
              <a:ext cx="1440" cy="97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62360" y="6956280"/>
              <a:ext cx="1440" cy="97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33560" y="6956280"/>
              <a:ext cx="1800" cy="97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814480" y="6956280"/>
              <a:ext cx="1800" cy="97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798560" y="6935760"/>
              <a:ext cx="4340160" cy="801720"/>
            </a:xfrm>
            <a:custGeom>
              <a:avLst/>
              <a:gdLst/>
              <a:ahLst/>
              <a:rect l="l" t="t" r="r" b="b"/>
              <a:pathLst>
                <a:path w="2734" h="505">
                  <a:moveTo>
                    <a:pt x="2734" y="0"/>
                  </a:moveTo>
                  <a:lnTo>
                    <a:pt x="2716" y="0"/>
                  </a:lnTo>
                  <a:lnTo>
                    <a:pt x="2704" y="0"/>
                  </a:lnTo>
                  <a:lnTo>
                    <a:pt x="2692" y="0"/>
                  </a:lnTo>
                  <a:lnTo>
                    <a:pt x="2680" y="6"/>
                  </a:lnTo>
                  <a:lnTo>
                    <a:pt x="2661" y="13"/>
                  </a:lnTo>
                  <a:lnTo>
                    <a:pt x="2649" y="19"/>
                  </a:lnTo>
                  <a:lnTo>
                    <a:pt x="2637" y="37"/>
                  </a:lnTo>
                  <a:lnTo>
                    <a:pt x="2625" y="49"/>
                  </a:lnTo>
                  <a:lnTo>
                    <a:pt x="2607" y="73"/>
                  </a:lnTo>
                  <a:lnTo>
                    <a:pt x="2595" y="98"/>
                  </a:lnTo>
                  <a:lnTo>
                    <a:pt x="2583" y="122"/>
                  </a:lnTo>
                  <a:lnTo>
                    <a:pt x="2565" y="146"/>
                  </a:lnTo>
                  <a:lnTo>
                    <a:pt x="2553" y="177"/>
                  </a:lnTo>
                  <a:lnTo>
                    <a:pt x="2541" y="207"/>
                  </a:lnTo>
                  <a:lnTo>
                    <a:pt x="2529" y="237"/>
                  </a:lnTo>
                  <a:lnTo>
                    <a:pt x="2511" y="262"/>
                  </a:lnTo>
                  <a:lnTo>
                    <a:pt x="2499" y="292"/>
                  </a:lnTo>
                  <a:lnTo>
                    <a:pt x="2486" y="316"/>
                  </a:lnTo>
                  <a:lnTo>
                    <a:pt x="2474" y="347"/>
                  </a:lnTo>
                  <a:lnTo>
                    <a:pt x="2456" y="371"/>
                  </a:lnTo>
                  <a:lnTo>
                    <a:pt x="2444" y="389"/>
                  </a:lnTo>
                  <a:lnTo>
                    <a:pt x="2432" y="414"/>
                  </a:lnTo>
                  <a:lnTo>
                    <a:pt x="2420" y="432"/>
                  </a:lnTo>
                  <a:lnTo>
                    <a:pt x="2402" y="444"/>
                  </a:lnTo>
                  <a:lnTo>
                    <a:pt x="2390" y="462"/>
                  </a:lnTo>
                  <a:lnTo>
                    <a:pt x="2378" y="468"/>
                  </a:lnTo>
                  <a:lnTo>
                    <a:pt x="2360" y="480"/>
                  </a:lnTo>
                  <a:lnTo>
                    <a:pt x="2348" y="486"/>
                  </a:lnTo>
                  <a:lnTo>
                    <a:pt x="2336" y="493"/>
                  </a:lnTo>
                  <a:lnTo>
                    <a:pt x="2324" y="499"/>
                  </a:lnTo>
                  <a:lnTo>
                    <a:pt x="2305" y="499"/>
                  </a:lnTo>
                  <a:lnTo>
                    <a:pt x="2293" y="505"/>
                  </a:lnTo>
                  <a:lnTo>
                    <a:pt x="2281" y="499"/>
                  </a:lnTo>
                  <a:lnTo>
                    <a:pt x="2269" y="499"/>
                  </a:lnTo>
                  <a:lnTo>
                    <a:pt x="2251" y="499"/>
                  </a:lnTo>
                  <a:lnTo>
                    <a:pt x="2239" y="493"/>
                  </a:lnTo>
                  <a:lnTo>
                    <a:pt x="2227" y="486"/>
                  </a:lnTo>
                  <a:lnTo>
                    <a:pt x="2215" y="480"/>
                  </a:lnTo>
                  <a:lnTo>
                    <a:pt x="2197" y="474"/>
                  </a:lnTo>
                  <a:lnTo>
                    <a:pt x="2185" y="462"/>
                  </a:lnTo>
                  <a:lnTo>
                    <a:pt x="2173" y="456"/>
                  </a:lnTo>
                  <a:lnTo>
                    <a:pt x="2155" y="450"/>
                  </a:lnTo>
                  <a:lnTo>
                    <a:pt x="2142" y="438"/>
                  </a:lnTo>
                  <a:lnTo>
                    <a:pt x="2130" y="426"/>
                  </a:lnTo>
                  <a:lnTo>
                    <a:pt x="2118" y="420"/>
                  </a:lnTo>
                  <a:lnTo>
                    <a:pt x="2100" y="407"/>
                  </a:lnTo>
                  <a:lnTo>
                    <a:pt x="2088" y="395"/>
                  </a:lnTo>
                  <a:lnTo>
                    <a:pt x="2076" y="389"/>
                  </a:lnTo>
                  <a:lnTo>
                    <a:pt x="2064" y="377"/>
                  </a:lnTo>
                  <a:lnTo>
                    <a:pt x="2046" y="365"/>
                  </a:lnTo>
                  <a:lnTo>
                    <a:pt x="2034" y="353"/>
                  </a:lnTo>
                  <a:lnTo>
                    <a:pt x="2022" y="347"/>
                  </a:lnTo>
                  <a:lnTo>
                    <a:pt x="2010" y="335"/>
                  </a:lnTo>
                  <a:lnTo>
                    <a:pt x="1992" y="322"/>
                  </a:lnTo>
                  <a:lnTo>
                    <a:pt x="1980" y="316"/>
                  </a:lnTo>
                  <a:lnTo>
                    <a:pt x="1968" y="304"/>
                  </a:lnTo>
                  <a:lnTo>
                    <a:pt x="1955" y="298"/>
                  </a:lnTo>
                  <a:lnTo>
                    <a:pt x="1937" y="286"/>
                  </a:lnTo>
                  <a:lnTo>
                    <a:pt x="1925" y="280"/>
                  </a:lnTo>
                  <a:lnTo>
                    <a:pt x="1913" y="268"/>
                  </a:lnTo>
                  <a:lnTo>
                    <a:pt x="1895" y="262"/>
                  </a:lnTo>
                  <a:lnTo>
                    <a:pt x="1883" y="250"/>
                  </a:lnTo>
                  <a:lnTo>
                    <a:pt x="1871" y="243"/>
                  </a:lnTo>
                  <a:lnTo>
                    <a:pt x="1859" y="237"/>
                  </a:lnTo>
                  <a:lnTo>
                    <a:pt x="1841" y="225"/>
                  </a:lnTo>
                  <a:lnTo>
                    <a:pt x="1829" y="219"/>
                  </a:lnTo>
                  <a:lnTo>
                    <a:pt x="1817" y="213"/>
                  </a:lnTo>
                  <a:lnTo>
                    <a:pt x="1805" y="207"/>
                  </a:lnTo>
                  <a:lnTo>
                    <a:pt x="1786" y="195"/>
                  </a:lnTo>
                  <a:lnTo>
                    <a:pt x="1774" y="189"/>
                  </a:lnTo>
                  <a:lnTo>
                    <a:pt x="1762" y="183"/>
                  </a:lnTo>
                  <a:lnTo>
                    <a:pt x="1750" y="177"/>
                  </a:lnTo>
                  <a:lnTo>
                    <a:pt x="1732" y="171"/>
                  </a:lnTo>
                  <a:lnTo>
                    <a:pt x="1720" y="164"/>
                  </a:lnTo>
                  <a:lnTo>
                    <a:pt x="1708" y="158"/>
                  </a:lnTo>
                  <a:lnTo>
                    <a:pt x="1690" y="152"/>
                  </a:lnTo>
                  <a:lnTo>
                    <a:pt x="1678" y="152"/>
                  </a:lnTo>
                  <a:lnTo>
                    <a:pt x="1666" y="146"/>
                  </a:lnTo>
                  <a:lnTo>
                    <a:pt x="1654" y="140"/>
                  </a:lnTo>
                  <a:lnTo>
                    <a:pt x="1636" y="134"/>
                  </a:lnTo>
                  <a:lnTo>
                    <a:pt x="1624" y="134"/>
                  </a:lnTo>
                  <a:lnTo>
                    <a:pt x="1611" y="128"/>
                  </a:lnTo>
                  <a:lnTo>
                    <a:pt x="1599" y="122"/>
                  </a:lnTo>
                  <a:lnTo>
                    <a:pt x="1581" y="116"/>
                  </a:lnTo>
                  <a:lnTo>
                    <a:pt x="1569" y="116"/>
                  </a:lnTo>
                  <a:lnTo>
                    <a:pt x="1557" y="110"/>
                  </a:lnTo>
                  <a:lnTo>
                    <a:pt x="1545" y="110"/>
                  </a:lnTo>
                  <a:lnTo>
                    <a:pt x="1527" y="104"/>
                  </a:lnTo>
                  <a:lnTo>
                    <a:pt x="1515" y="98"/>
                  </a:lnTo>
                  <a:lnTo>
                    <a:pt x="1503" y="98"/>
                  </a:lnTo>
                  <a:lnTo>
                    <a:pt x="1491" y="92"/>
                  </a:lnTo>
                  <a:lnTo>
                    <a:pt x="1473" y="92"/>
                  </a:lnTo>
                  <a:lnTo>
                    <a:pt x="1461" y="85"/>
                  </a:lnTo>
                  <a:lnTo>
                    <a:pt x="1449" y="85"/>
                  </a:lnTo>
                  <a:lnTo>
                    <a:pt x="1430" y="85"/>
                  </a:lnTo>
                  <a:lnTo>
                    <a:pt x="1418" y="79"/>
                  </a:lnTo>
                  <a:lnTo>
                    <a:pt x="1406" y="79"/>
                  </a:lnTo>
                  <a:lnTo>
                    <a:pt x="1394" y="73"/>
                  </a:lnTo>
                  <a:lnTo>
                    <a:pt x="1376" y="73"/>
                  </a:lnTo>
                  <a:lnTo>
                    <a:pt x="1364" y="73"/>
                  </a:lnTo>
                  <a:lnTo>
                    <a:pt x="1352" y="67"/>
                  </a:lnTo>
                  <a:lnTo>
                    <a:pt x="1340" y="67"/>
                  </a:lnTo>
                  <a:lnTo>
                    <a:pt x="1322" y="61"/>
                  </a:lnTo>
                  <a:lnTo>
                    <a:pt x="1310" y="61"/>
                  </a:lnTo>
                  <a:lnTo>
                    <a:pt x="1298" y="61"/>
                  </a:lnTo>
                  <a:lnTo>
                    <a:pt x="1286" y="61"/>
                  </a:lnTo>
                  <a:lnTo>
                    <a:pt x="1268" y="55"/>
                  </a:lnTo>
                  <a:lnTo>
                    <a:pt x="1255" y="55"/>
                  </a:lnTo>
                  <a:lnTo>
                    <a:pt x="1243" y="55"/>
                  </a:lnTo>
                  <a:lnTo>
                    <a:pt x="1225" y="49"/>
                  </a:lnTo>
                  <a:lnTo>
                    <a:pt x="1213" y="49"/>
                  </a:lnTo>
                  <a:lnTo>
                    <a:pt x="1201" y="49"/>
                  </a:lnTo>
                  <a:lnTo>
                    <a:pt x="1189" y="49"/>
                  </a:lnTo>
                  <a:lnTo>
                    <a:pt x="1171" y="43"/>
                  </a:lnTo>
                  <a:lnTo>
                    <a:pt x="1159" y="43"/>
                  </a:lnTo>
                  <a:lnTo>
                    <a:pt x="1147" y="43"/>
                  </a:lnTo>
                  <a:lnTo>
                    <a:pt x="1135" y="43"/>
                  </a:lnTo>
                  <a:lnTo>
                    <a:pt x="1117" y="43"/>
                  </a:lnTo>
                  <a:lnTo>
                    <a:pt x="1105" y="37"/>
                  </a:lnTo>
                  <a:lnTo>
                    <a:pt x="1093" y="37"/>
                  </a:lnTo>
                  <a:lnTo>
                    <a:pt x="1081" y="37"/>
                  </a:lnTo>
                  <a:lnTo>
                    <a:pt x="1062" y="37"/>
                  </a:lnTo>
                  <a:lnTo>
                    <a:pt x="1050" y="37"/>
                  </a:lnTo>
                  <a:lnTo>
                    <a:pt x="1038" y="31"/>
                  </a:lnTo>
                  <a:lnTo>
                    <a:pt x="1026" y="31"/>
                  </a:lnTo>
                  <a:lnTo>
                    <a:pt x="1008" y="31"/>
                  </a:lnTo>
                  <a:lnTo>
                    <a:pt x="996" y="31"/>
                  </a:lnTo>
                  <a:lnTo>
                    <a:pt x="984" y="31"/>
                  </a:lnTo>
                  <a:lnTo>
                    <a:pt x="966" y="31"/>
                  </a:lnTo>
                  <a:lnTo>
                    <a:pt x="954" y="31"/>
                  </a:lnTo>
                  <a:lnTo>
                    <a:pt x="942" y="25"/>
                  </a:lnTo>
                  <a:lnTo>
                    <a:pt x="930" y="25"/>
                  </a:lnTo>
                  <a:lnTo>
                    <a:pt x="912" y="25"/>
                  </a:lnTo>
                  <a:lnTo>
                    <a:pt x="899" y="25"/>
                  </a:lnTo>
                  <a:lnTo>
                    <a:pt x="887" y="25"/>
                  </a:lnTo>
                  <a:lnTo>
                    <a:pt x="875" y="25"/>
                  </a:lnTo>
                  <a:lnTo>
                    <a:pt x="857" y="25"/>
                  </a:lnTo>
                  <a:lnTo>
                    <a:pt x="845" y="25"/>
                  </a:lnTo>
                  <a:lnTo>
                    <a:pt x="833" y="19"/>
                  </a:lnTo>
                  <a:lnTo>
                    <a:pt x="821" y="19"/>
                  </a:lnTo>
                  <a:lnTo>
                    <a:pt x="803" y="19"/>
                  </a:lnTo>
                  <a:lnTo>
                    <a:pt x="791" y="19"/>
                  </a:lnTo>
                  <a:lnTo>
                    <a:pt x="779" y="19"/>
                  </a:lnTo>
                  <a:lnTo>
                    <a:pt x="761" y="19"/>
                  </a:lnTo>
                  <a:lnTo>
                    <a:pt x="749" y="19"/>
                  </a:lnTo>
                  <a:lnTo>
                    <a:pt x="737" y="19"/>
                  </a:lnTo>
                  <a:lnTo>
                    <a:pt x="724" y="19"/>
                  </a:lnTo>
                  <a:lnTo>
                    <a:pt x="706" y="19"/>
                  </a:lnTo>
                  <a:lnTo>
                    <a:pt x="694" y="19"/>
                  </a:lnTo>
                  <a:lnTo>
                    <a:pt x="682" y="13"/>
                  </a:lnTo>
                  <a:lnTo>
                    <a:pt x="670" y="13"/>
                  </a:lnTo>
                  <a:lnTo>
                    <a:pt x="652" y="13"/>
                  </a:lnTo>
                  <a:lnTo>
                    <a:pt x="640" y="13"/>
                  </a:lnTo>
                  <a:lnTo>
                    <a:pt x="628" y="13"/>
                  </a:lnTo>
                  <a:lnTo>
                    <a:pt x="616" y="13"/>
                  </a:lnTo>
                  <a:lnTo>
                    <a:pt x="598" y="13"/>
                  </a:lnTo>
                  <a:lnTo>
                    <a:pt x="586" y="13"/>
                  </a:lnTo>
                  <a:lnTo>
                    <a:pt x="574" y="13"/>
                  </a:lnTo>
                  <a:lnTo>
                    <a:pt x="556" y="13"/>
                  </a:lnTo>
                  <a:lnTo>
                    <a:pt x="543" y="13"/>
                  </a:lnTo>
                  <a:lnTo>
                    <a:pt x="531" y="13"/>
                  </a:lnTo>
                  <a:lnTo>
                    <a:pt x="519" y="13"/>
                  </a:lnTo>
                  <a:lnTo>
                    <a:pt x="501" y="13"/>
                  </a:lnTo>
                  <a:lnTo>
                    <a:pt x="489" y="13"/>
                  </a:lnTo>
                  <a:lnTo>
                    <a:pt x="477" y="6"/>
                  </a:lnTo>
                  <a:lnTo>
                    <a:pt x="465" y="6"/>
                  </a:lnTo>
                  <a:lnTo>
                    <a:pt x="447" y="6"/>
                  </a:lnTo>
                  <a:lnTo>
                    <a:pt x="435" y="6"/>
                  </a:lnTo>
                  <a:lnTo>
                    <a:pt x="423" y="6"/>
                  </a:lnTo>
                  <a:lnTo>
                    <a:pt x="411" y="6"/>
                  </a:lnTo>
                  <a:lnTo>
                    <a:pt x="393" y="6"/>
                  </a:lnTo>
                  <a:lnTo>
                    <a:pt x="381" y="6"/>
                  </a:lnTo>
                  <a:lnTo>
                    <a:pt x="368" y="6"/>
                  </a:lnTo>
                  <a:lnTo>
                    <a:pt x="356" y="6"/>
                  </a:lnTo>
                  <a:lnTo>
                    <a:pt x="338" y="6"/>
                  </a:lnTo>
                  <a:lnTo>
                    <a:pt x="326" y="6"/>
                  </a:lnTo>
                  <a:lnTo>
                    <a:pt x="314" y="6"/>
                  </a:lnTo>
                  <a:lnTo>
                    <a:pt x="296" y="6"/>
                  </a:lnTo>
                  <a:lnTo>
                    <a:pt x="284" y="6"/>
                  </a:lnTo>
                  <a:lnTo>
                    <a:pt x="272" y="6"/>
                  </a:lnTo>
                  <a:lnTo>
                    <a:pt x="260" y="6"/>
                  </a:lnTo>
                  <a:lnTo>
                    <a:pt x="242" y="6"/>
                  </a:lnTo>
                  <a:lnTo>
                    <a:pt x="230" y="6"/>
                  </a:lnTo>
                  <a:lnTo>
                    <a:pt x="218" y="6"/>
                  </a:lnTo>
                  <a:lnTo>
                    <a:pt x="206" y="6"/>
                  </a:lnTo>
                  <a:lnTo>
                    <a:pt x="187" y="6"/>
                  </a:lnTo>
                  <a:lnTo>
                    <a:pt x="175" y="6"/>
                  </a:lnTo>
                  <a:lnTo>
                    <a:pt x="163" y="6"/>
                  </a:lnTo>
                  <a:lnTo>
                    <a:pt x="151" y="6"/>
                  </a:lnTo>
                  <a:lnTo>
                    <a:pt x="133" y="6"/>
                  </a:lnTo>
                  <a:lnTo>
                    <a:pt x="121" y="6"/>
                  </a:lnTo>
                  <a:lnTo>
                    <a:pt x="109" y="6"/>
                  </a:lnTo>
                  <a:lnTo>
                    <a:pt x="91" y="0"/>
                  </a:lnTo>
                  <a:lnTo>
                    <a:pt x="79" y="0"/>
                  </a:lnTo>
                  <a:lnTo>
                    <a:pt x="67" y="0"/>
                  </a:lnTo>
                  <a:lnTo>
                    <a:pt x="55" y="0"/>
                  </a:lnTo>
                  <a:lnTo>
                    <a:pt x="37" y="0"/>
                  </a:lnTo>
                  <a:lnTo>
                    <a:pt x="25" y="0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798560" y="6935760"/>
              <a:ext cx="4340160" cy="955800"/>
            </a:xfrm>
            <a:custGeom>
              <a:avLst/>
              <a:gdLst/>
              <a:ahLst/>
              <a:rect l="l" t="t" r="r" b="b"/>
              <a:pathLst>
                <a:path w="2734" h="602">
                  <a:moveTo>
                    <a:pt x="2734" y="0"/>
                  </a:moveTo>
                  <a:lnTo>
                    <a:pt x="2716" y="0"/>
                  </a:lnTo>
                  <a:lnTo>
                    <a:pt x="2704" y="0"/>
                  </a:lnTo>
                  <a:lnTo>
                    <a:pt x="2692" y="6"/>
                  </a:lnTo>
                  <a:lnTo>
                    <a:pt x="2680" y="25"/>
                  </a:lnTo>
                  <a:lnTo>
                    <a:pt x="2661" y="49"/>
                  </a:lnTo>
                  <a:lnTo>
                    <a:pt x="2649" y="79"/>
                  </a:lnTo>
                  <a:lnTo>
                    <a:pt x="2637" y="122"/>
                  </a:lnTo>
                  <a:lnTo>
                    <a:pt x="2625" y="158"/>
                  </a:lnTo>
                  <a:lnTo>
                    <a:pt x="2607" y="201"/>
                  </a:lnTo>
                  <a:lnTo>
                    <a:pt x="2595" y="243"/>
                  </a:lnTo>
                  <a:lnTo>
                    <a:pt x="2583" y="280"/>
                  </a:lnTo>
                  <a:lnTo>
                    <a:pt x="2565" y="310"/>
                  </a:lnTo>
                  <a:lnTo>
                    <a:pt x="2553" y="347"/>
                  </a:lnTo>
                  <a:lnTo>
                    <a:pt x="2541" y="371"/>
                  </a:lnTo>
                  <a:lnTo>
                    <a:pt x="2529" y="401"/>
                  </a:lnTo>
                  <a:lnTo>
                    <a:pt x="2511" y="426"/>
                  </a:lnTo>
                  <a:lnTo>
                    <a:pt x="2499" y="450"/>
                  </a:lnTo>
                  <a:lnTo>
                    <a:pt x="2486" y="474"/>
                  </a:lnTo>
                  <a:lnTo>
                    <a:pt x="2474" y="499"/>
                  </a:lnTo>
                  <a:lnTo>
                    <a:pt x="2456" y="517"/>
                  </a:lnTo>
                  <a:lnTo>
                    <a:pt x="2444" y="541"/>
                  </a:lnTo>
                  <a:lnTo>
                    <a:pt x="2432" y="553"/>
                  </a:lnTo>
                  <a:lnTo>
                    <a:pt x="2420" y="572"/>
                  </a:lnTo>
                  <a:lnTo>
                    <a:pt x="2402" y="584"/>
                  </a:lnTo>
                  <a:lnTo>
                    <a:pt x="2390" y="596"/>
                  </a:lnTo>
                  <a:lnTo>
                    <a:pt x="2378" y="602"/>
                  </a:lnTo>
                  <a:lnTo>
                    <a:pt x="2360" y="602"/>
                  </a:lnTo>
                  <a:lnTo>
                    <a:pt x="2348" y="602"/>
                  </a:lnTo>
                  <a:lnTo>
                    <a:pt x="2336" y="602"/>
                  </a:lnTo>
                  <a:lnTo>
                    <a:pt x="2324" y="602"/>
                  </a:lnTo>
                  <a:lnTo>
                    <a:pt x="2305" y="596"/>
                  </a:lnTo>
                  <a:lnTo>
                    <a:pt x="2293" y="590"/>
                  </a:lnTo>
                  <a:lnTo>
                    <a:pt x="2281" y="584"/>
                  </a:lnTo>
                  <a:lnTo>
                    <a:pt x="2269" y="572"/>
                  </a:lnTo>
                  <a:lnTo>
                    <a:pt x="2251" y="565"/>
                  </a:lnTo>
                  <a:lnTo>
                    <a:pt x="2239" y="553"/>
                  </a:lnTo>
                  <a:lnTo>
                    <a:pt x="2227" y="547"/>
                  </a:lnTo>
                  <a:lnTo>
                    <a:pt x="2215" y="535"/>
                  </a:lnTo>
                  <a:lnTo>
                    <a:pt x="2197" y="529"/>
                  </a:lnTo>
                  <a:lnTo>
                    <a:pt x="2185" y="517"/>
                  </a:lnTo>
                  <a:lnTo>
                    <a:pt x="2173" y="511"/>
                  </a:lnTo>
                  <a:lnTo>
                    <a:pt x="2155" y="499"/>
                  </a:lnTo>
                  <a:lnTo>
                    <a:pt x="2142" y="493"/>
                  </a:lnTo>
                  <a:lnTo>
                    <a:pt x="2130" y="480"/>
                  </a:lnTo>
                  <a:lnTo>
                    <a:pt x="2118" y="468"/>
                  </a:lnTo>
                  <a:lnTo>
                    <a:pt x="2100" y="462"/>
                  </a:lnTo>
                  <a:lnTo>
                    <a:pt x="2088" y="450"/>
                  </a:lnTo>
                  <a:lnTo>
                    <a:pt x="2076" y="438"/>
                  </a:lnTo>
                  <a:lnTo>
                    <a:pt x="2064" y="432"/>
                  </a:lnTo>
                  <a:lnTo>
                    <a:pt x="2046" y="420"/>
                  </a:lnTo>
                  <a:lnTo>
                    <a:pt x="2034" y="407"/>
                  </a:lnTo>
                  <a:lnTo>
                    <a:pt x="2022" y="395"/>
                  </a:lnTo>
                  <a:lnTo>
                    <a:pt x="2010" y="389"/>
                  </a:lnTo>
                  <a:lnTo>
                    <a:pt x="1992" y="377"/>
                  </a:lnTo>
                  <a:lnTo>
                    <a:pt x="1980" y="365"/>
                  </a:lnTo>
                  <a:lnTo>
                    <a:pt x="1968" y="353"/>
                  </a:lnTo>
                  <a:lnTo>
                    <a:pt x="1955" y="347"/>
                  </a:lnTo>
                  <a:lnTo>
                    <a:pt x="1937" y="335"/>
                  </a:lnTo>
                  <a:lnTo>
                    <a:pt x="1925" y="322"/>
                  </a:lnTo>
                  <a:lnTo>
                    <a:pt x="1913" y="316"/>
                  </a:lnTo>
                  <a:lnTo>
                    <a:pt x="1895" y="304"/>
                  </a:lnTo>
                  <a:lnTo>
                    <a:pt x="1883" y="292"/>
                  </a:lnTo>
                  <a:lnTo>
                    <a:pt x="1871" y="286"/>
                  </a:lnTo>
                  <a:lnTo>
                    <a:pt x="1859" y="280"/>
                  </a:lnTo>
                  <a:lnTo>
                    <a:pt x="1841" y="268"/>
                  </a:lnTo>
                  <a:lnTo>
                    <a:pt x="1829" y="262"/>
                  </a:lnTo>
                  <a:lnTo>
                    <a:pt x="1817" y="250"/>
                  </a:lnTo>
                  <a:lnTo>
                    <a:pt x="1805" y="243"/>
                  </a:lnTo>
                  <a:lnTo>
                    <a:pt x="1786" y="237"/>
                  </a:lnTo>
                  <a:lnTo>
                    <a:pt x="1774" y="225"/>
                  </a:lnTo>
                  <a:lnTo>
                    <a:pt x="1762" y="219"/>
                  </a:lnTo>
                  <a:lnTo>
                    <a:pt x="1750" y="213"/>
                  </a:lnTo>
                  <a:lnTo>
                    <a:pt x="1732" y="207"/>
                  </a:lnTo>
                  <a:lnTo>
                    <a:pt x="1720" y="201"/>
                  </a:lnTo>
                  <a:lnTo>
                    <a:pt x="1708" y="195"/>
                  </a:lnTo>
                  <a:lnTo>
                    <a:pt x="1690" y="183"/>
                  </a:lnTo>
                  <a:lnTo>
                    <a:pt x="1678" y="177"/>
                  </a:lnTo>
                  <a:lnTo>
                    <a:pt x="1666" y="171"/>
                  </a:lnTo>
                  <a:lnTo>
                    <a:pt x="1654" y="171"/>
                  </a:lnTo>
                  <a:lnTo>
                    <a:pt x="1636" y="164"/>
                  </a:lnTo>
                  <a:lnTo>
                    <a:pt x="1624" y="158"/>
                  </a:lnTo>
                  <a:lnTo>
                    <a:pt x="1611" y="152"/>
                  </a:lnTo>
                  <a:lnTo>
                    <a:pt x="1599" y="146"/>
                  </a:lnTo>
                  <a:lnTo>
                    <a:pt x="1581" y="140"/>
                  </a:lnTo>
                  <a:lnTo>
                    <a:pt x="1569" y="134"/>
                  </a:lnTo>
                  <a:lnTo>
                    <a:pt x="1557" y="134"/>
                  </a:lnTo>
                  <a:lnTo>
                    <a:pt x="1545" y="128"/>
                  </a:lnTo>
                  <a:lnTo>
                    <a:pt x="1527" y="122"/>
                  </a:lnTo>
                  <a:lnTo>
                    <a:pt x="1515" y="122"/>
                  </a:lnTo>
                  <a:lnTo>
                    <a:pt x="1503" y="116"/>
                  </a:lnTo>
                  <a:lnTo>
                    <a:pt x="1491" y="110"/>
                  </a:lnTo>
                  <a:lnTo>
                    <a:pt x="1473" y="110"/>
                  </a:lnTo>
                  <a:lnTo>
                    <a:pt x="1461" y="104"/>
                  </a:lnTo>
                  <a:lnTo>
                    <a:pt x="1449" y="104"/>
                  </a:lnTo>
                  <a:lnTo>
                    <a:pt x="1430" y="98"/>
                  </a:lnTo>
                  <a:lnTo>
                    <a:pt x="1418" y="98"/>
                  </a:lnTo>
                  <a:lnTo>
                    <a:pt x="1406" y="92"/>
                  </a:lnTo>
                  <a:lnTo>
                    <a:pt x="1394" y="92"/>
                  </a:lnTo>
                  <a:lnTo>
                    <a:pt x="1376" y="85"/>
                  </a:lnTo>
                  <a:lnTo>
                    <a:pt x="1364" y="85"/>
                  </a:lnTo>
                  <a:lnTo>
                    <a:pt x="1352" y="79"/>
                  </a:lnTo>
                  <a:lnTo>
                    <a:pt x="1340" y="79"/>
                  </a:lnTo>
                  <a:lnTo>
                    <a:pt x="1322" y="79"/>
                  </a:lnTo>
                  <a:lnTo>
                    <a:pt x="1310" y="73"/>
                  </a:lnTo>
                  <a:lnTo>
                    <a:pt x="1298" y="73"/>
                  </a:lnTo>
                  <a:lnTo>
                    <a:pt x="1286" y="67"/>
                  </a:lnTo>
                  <a:lnTo>
                    <a:pt x="1268" y="67"/>
                  </a:lnTo>
                  <a:lnTo>
                    <a:pt x="1255" y="67"/>
                  </a:lnTo>
                  <a:lnTo>
                    <a:pt x="1243" y="61"/>
                  </a:lnTo>
                  <a:lnTo>
                    <a:pt x="1225" y="61"/>
                  </a:lnTo>
                  <a:lnTo>
                    <a:pt x="1213" y="61"/>
                  </a:lnTo>
                  <a:lnTo>
                    <a:pt x="1201" y="55"/>
                  </a:lnTo>
                  <a:lnTo>
                    <a:pt x="1189" y="55"/>
                  </a:lnTo>
                  <a:lnTo>
                    <a:pt x="1171" y="55"/>
                  </a:lnTo>
                  <a:lnTo>
                    <a:pt x="1159" y="55"/>
                  </a:lnTo>
                  <a:lnTo>
                    <a:pt x="1147" y="49"/>
                  </a:lnTo>
                  <a:lnTo>
                    <a:pt x="1135" y="49"/>
                  </a:lnTo>
                  <a:lnTo>
                    <a:pt x="1117" y="49"/>
                  </a:lnTo>
                  <a:lnTo>
                    <a:pt x="1105" y="49"/>
                  </a:lnTo>
                  <a:lnTo>
                    <a:pt x="1093" y="43"/>
                  </a:lnTo>
                  <a:lnTo>
                    <a:pt x="1081" y="43"/>
                  </a:lnTo>
                  <a:lnTo>
                    <a:pt x="1062" y="43"/>
                  </a:lnTo>
                  <a:lnTo>
                    <a:pt x="1050" y="43"/>
                  </a:lnTo>
                  <a:lnTo>
                    <a:pt x="1038" y="43"/>
                  </a:lnTo>
                  <a:lnTo>
                    <a:pt x="1026" y="37"/>
                  </a:lnTo>
                  <a:lnTo>
                    <a:pt x="1008" y="37"/>
                  </a:lnTo>
                  <a:lnTo>
                    <a:pt x="996" y="37"/>
                  </a:lnTo>
                  <a:lnTo>
                    <a:pt x="984" y="37"/>
                  </a:lnTo>
                  <a:lnTo>
                    <a:pt x="966" y="37"/>
                  </a:lnTo>
                  <a:lnTo>
                    <a:pt x="954" y="31"/>
                  </a:lnTo>
                  <a:lnTo>
                    <a:pt x="942" y="31"/>
                  </a:lnTo>
                  <a:lnTo>
                    <a:pt x="930" y="31"/>
                  </a:lnTo>
                  <a:lnTo>
                    <a:pt x="912" y="31"/>
                  </a:lnTo>
                  <a:lnTo>
                    <a:pt x="899" y="31"/>
                  </a:lnTo>
                  <a:lnTo>
                    <a:pt x="887" y="31"/>
                  </a:lnTo>
                  <a:lnTo>
                    <a:pt x="875" y="31"/>
                  </a:lnTo>
                  <a:lnTo>
                    <a:pt x="857" y="25"/>
                  </a:lnTo>
                  <a:lnTo>
                    <a:pt x="845" y="25"/>
                  </a:lnTo>
                  <a:lnTo>
                    <a:pt x="833" y="25"/>
                  </a:lnTo>
                  <a:lnTo>
                    <a:pt x="821" y="25"/>
                  </a:lnTo>
                  <a:lnTo>
                    <a:pt x="803" y="25"/>
                  </a:lnTo>
                  <a:lnTo>
                    <a:pt x="791" y="25"/>
                  </a:lnTo>
                  <a:lnTo>
                    <a:pt x="779" y="25"/>
                  </a:lnTo>
                  <a:lnTo>
                    <a:pt x="761" y="25"/>
                  </a:lnTo>
                  <a:lnTo>
                    <a:pt x="749" y="19"/>
                  </a:lnTo>
                  <a:lnTo>
                    <a:pt x="737" y="19"/>
                  </a:lnTo>
                  <a:lnTo>
                    <a:pt x="724" y="19"/>
                  </a:lnTo>
                  <a:lnTo>
                    <a:pt x="706" y="19"/>
                  </a:lnTo>
                  <a:lnTo>
                    <a:pt x="694" y="19"/>
                  </a:lnTo>
                  <a:lnTo>
                    <a:pt x="682" y="19"/>
                  </a:lnTo>
                  <a:lnTo>
                    <a:pt x="670" y="19"/>
                  </a:lnTo>
                  <a:lnTo>
                    <a:pt x="652" y="19"/>
                  </a:lnTo>
                  <a:lnTo>
                    <a:pt x="640" y="19"/>
                  </a:lnTo>
                  <a:lnTo>
                    <a:pt x="628" y="19"/>
                  </a:lnTo>
                  <a:lnTo>
                    <a:pt x="616" y="19"/>
                  </a:lnTo>
                  <a:lnTo>
                    <a:pt x="598" y="13"/>
                  </a:lnTo>
                  <a:lnTo>
                    <a:pt x="586" y="13"/>
                  </a:lnTo>
                  <a:lnTo>
                    <a:pt x="574" y="13"/>
                  </a:lnTo>
                  <a:lnTo>
                    <a:pt x="556" y="13"/>
                  </a:lnTo>
                  <a:lnTo>
                    <a:pt x="543" y="13"/>
                  </a:lnTo>
                  <a:lnTo>
                    <a:pt x="531" y="13"/>
                  </a:lnTo>
                  <a:lnTo>
                    <a:pt x="519" y="13"/>
                  </a:lnTo>
                  <a:lnTo>
                    <a:pt x="501" y="13"/>
                  </a:lnTo>
                  <a:lnTo>
                    <a:pt x="489" y="13"/>
                  </a:lnTo>
                  <a:lnTo>
                    <a:pt x="477" y="13"/>
                  </a:lnTo>
                  <a:lnTo>
                    <a:pt x="465" y="13"/>
                  </a:lnTo>
                  <a:lnTo>
                    <a:pt x="447" y="13"/>
                  </a:lnTo>
                  <a:lnTo>
                    <a:pt x="435" y="13"/>
                  </a:lnTo>
                  <a:lnTo>
                    <a:pt x="423" y="13"/>
                  </a:lnTo>
                  <a:lnTo>
                    <a:pt x="411" y="13"/>
                  </a:lnTo>
                  <a:lnTo>
                    <a:pt x="393" y="13"/>
                  </a:lnTo>
                  <a:lnTo>
                    <a:pt x="381" y="6"/>
                  </a:lnTo>
                  <a:lnTo>
                    <a:pt x="368" y="6"/>
                  </a:lnTo>
                  <a:lnTo>
                    <a:pt x="356" y="6"/>
                  </a:lnTo>
                  <a:lnTo>
                    <a:pt x="338" y="6"/>
                  </a:lnTo>
                  <a:lnTo>
                    <a:pt x="326" y="6"/>
                  </a:lnTo>
                  <a:lnTo>
                    <a:pt x="314" y="6"/>
                  </a:lnTo>
                  <a:lnTo>
                    <a:pt x="296" y="6"/>
                  </a:lnTo>
                  <a:lnTo>
                    <a:pt x="284" y="6"/>
                  </a:lnTo>
                  <a:lnTo>
                    <a:pt x="272" y="6"/>
                  </a:lnTo>
                  <a:lnTo>
                    <a:pt x="260" y="6"/>
                  </a:lnTo>
                  <a:lnTo>
                    <a:pt x="242" y="6"/>
                  </a:lnTo>
                  <a:lnTo>
                    <a:pt x="230" y="6"/>
                  </a:lnTo>
                  <a:lnTo>
                    <a:pt x="218" y="6"/>
                  </a:lnTo>
                  <a:lnTo>
                    <a:pt x="206" y="6"/>
                  </a:lnTo>
                  <a:lnTo>
                    <a:pt x="187" y="6"/>
                  </a:lnTo>
                  <a:lnTo>
                    <a:pt x="175" y="6"/>
                  </a:lnTo>
                  <a:lnTo>
                    <a:pt x="163" y="6"/>
                  </a:lnTo>
                  <a:lnTo>
                    <a:pt x="151" y="6"/>
                  </a:lnTo>
                  <a:lnTo>
                    <a:pt x="133" y="6"/>
                  </a:lnTo>
                  <a:lnTo>
                    <a:pt x="121" y="6"/>
                  </a:lnTo>
                  <a:lnTo>
                    <a:pt x="109" y="6"/>
                  </a:lnTo>
                  <a:lnTo>
                    <a:pt x="91" y="6"/>
                  </a:lnTo>
                  <a:lnTo>
                    <a:pt x="79" y="6"/>
                  </a:lnTo>
                  <a:lnTo>
                    <a:pt x="67" y="6"/>
                  </a:lnTo>
                  <a:lnTo>
                    <a:pt x="55" y="6"/>
                  </a:lnTo>
                  <a:lnTo>
                    <a:pt x="37" y="6"/>
                  </a:lnTo>
                  <a:lnTo>
                    <a:pt x="25" y="6"/>
                  </a:lnTo>
                  <a:lnTo>
                    <a:pt x="12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409e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798560" y="6840360"/>
              <a:ext cx="4340160" cy="771840"/>
            </a:xfrm>
            <a:custGeom>
              <a:avLst/>
              <a:gdLst/>
              <a:ahLst/>
              <a:rect l="l" t="t" r="r" b="b"/>
              <a:pathLst>
                <a:path w="2734" h="486">
                  <a:moveTo>
                    <a:pt x="2734" y="60"/>
                  </a:moveTo>
                  <a:lnTo>
                    <a:pt x="2716" y="60"/>
                  </a:lnTo>
                  <a:lnTo>
                    <a:pt x="2704" y="54"/>
                  </a:lnTo>
                  <a:lnTo>
                    <a:pt x="2692" y="54"/>
                  </a:lnTo>
                  <a:lnTo>
                    <a:pt x="2680" y="42"/>
                  </a:lnTo>
                  <a:lnTo>
                    <a:pt x="2661" y="30"/>
                  </a:lnTo>
                  <a:lnTo>
                    <a:pt x="2649" y="18"/>
                  </a:lnTo>
                  <a:lnTo>
                    <a:pt x="2637" y="6"/>
                  </a:lnTo>
                  <a:lnTo>
                    <a:pt x="2625" y="0"/>
                  </a:lnTo>
                  <a:lnTo>
                    <a:pt x="2607" y="0"/>
                  </a:lnTo>
                  <a:lnTo>
                    <a:pt x="2595" y="12"/>
                  </a:lnTo>
                  <a:lnTo>
                    <a:pt x="2583" y="24"/>
                  </a:lnTo>
                  <a:lnTo>
                    <a:pt x="2565" y="42"/>
                  </a:lnTo>
                  <a:lnTo>
                    <a:pt x="2553" y="66"/>
                  </a:lnTo>
                  <a:lnTo>
                    <a:pt x="2541" y="97"/>
                  </a:lnTo>
                  <a:lnTo>
                    <a:pt x="2529" y="127"/>
                  </a:lnTo>
                  <a:lnTo>
                    <a:pt x="2511" y="164"/>
                  </a:lnTo>
                  <a:lnTo>
                    <a:pt x="2499" y="194"/>
                  </a:lnTo>
                  <a:lnTo>
                    <a:pt x="2486" y="224"/>
                  </a:lnTo>
                  <a:lnTo>
                    <a:pt x="2474" y="255"/>
                  </a:lnTo>
                  <a:lnTo>
                    <a:pt x="2456" y="279"/>
                  </a:lnTo>
                  <a:lnTo>
                    <a:pt x="2444" y="303"/>
                  </a:lnTo>
                  <a:lnTo>
                    <a:pt x="2432" y="328"/>
                  </a:lnTo>
                  <a:lnTo>
                    <a:pt x="2420" y="346"/>
                  </a:lnTo>
                  <a:lnTo>
                    <a:pt x="2402" y="370"/>
                  </a:lnTo>
                  <a:lnTo>
                    <a:pt x="2390" y="389"/>
                  </a:lnTo>
                  <a:lnTo>
                    <a:pt x="2378" y="401"/>
                  </a:lnTo>
                  <a:lnTo>
                    <a:pt x="2360" y="419"/>
                  </a:lnTo>
                  <a:lnTo>
                    <a:pt x="2348" y="431"/>
                  </a:lnTo>
                  <a:lnTo>
                    <a:pt x="2336" y="443"/>
                  </a:lnTo>
                  <a:lnTo>
                    <a:pt x="2324" y="455"/>
                  </a:lnTo>
                  <a:lnTo>
                    <a:pt x="2305" y="467"/>
                  </a:lnTo>
                  <a:lnTo>
                    <a:pt x="2293" y="474"/>
                  </a:lnTo>
                  <a:lnTo>
                    <a:pt x="2281" y="480"/>
                  </a:lnTo>
                  <a:lnTo>
                    <a:pt x="2269" y="486"/>
                  </a:lnTo>
                  <a:lnTo>
                    <a:pt x="2251" y="486"/>
                  </a:lnTo>
                  <a:lnTo>
                    <a:pt x="2239" y="486"/>
                  </a:lnTo>
                  <a:lnTo>
                    <a:pt x="2227" y="486"/>
                  </a:lnTo>
                  <a:lnTo>
                    <a:pt x="2215" y="480"/>
                  </a:lnTo>
                  <a:lnTo>
                    <a:pt x="2197" y="480"/>
                  </a:lnTo>
                  <a:lnTo>
                    <a:pt x="2185" y="474"/>
                  </a:lnTo>
                  <a:lnTo>
                    <a:pt x="2173" y="461"/>
                  </a:lnTo>
                  <a:lnTo>
                    <a:pt x="2155" y="455"/>
                  </a:lnTo>
                  <a:lnTo>
                    <a:pt x="2142" y="443"/>
                  </a:lnTo>
                  <a:lnTo>
                    <a:pt x="2130" y="437"/>
                  </a:lnTo>
                  <a:lnTo>
                    <a:pt x="2118" y="425"/>
                  </a:lnTo>
                  <a:lnTo>
                    <a:pt x="2100" y="413"/>
                  </a:lnTo>
                  <a:lnTo>
                    <a:pt x="2088" y="407"/>
                  </a:lnTo>
                  <a:lnTo>
                    <a:pt x="2076" y="395"/>
                  </a:lnTo>
                  <a:lnTo>
                    <a:pt x="2064" y="382"/>
                  </a:lnTo>
                  <a:lnTo>
                    <a:pt x="2046" y="370"/>
                  </a:lnTo>
                  <a:lnTo>
                    <a:pt x="2034" y="364"/>
                  </a:lnTo>
                  <a:lnTo>
                    <a:pt x="2022" y="352"/>
                  </a:lnTo>
                  <a:lnTo>
                    <a:pt x="2010" y="346"/>
                  </a:lnTo>
                  <a:lnTo>
                    <a:pt x="1992" y="334"/>
                  </a:lnTo>
                  <a:lnTo>
                    <a:pt x="1980" y="322"/>
                  </a:lnTo>
                  <a:lnTo>
                    <a:pt x="1968" y="316"/>
                  </a:lnTo>
                  <a:lnTo>
                    <a:pt x="1955" y="310"/>
                  </a:lnTo>
                  <a:lnTo>
                    <a:pt x="1937" y="297"/>
                  </a:lnTo>
                  <a:lnTo>
                    <a:pt x="1925" y="291"/>
                  </a:lnTo>
                  <a:lnTo>
                    <a:pt x="1913" y="279"/>
                  </a:lnTo>
                  <a:lnTo>
                    <a:pt x="1895" y="273"/>
                  </a:lnTo>
                  <a:lnTo>
                    <a:pt x="1883" y="267"/>
                  </a:lnTo>
                  <a:lnTo>
                    <a:pt x="1871" y="261"/>
                  </a:lnTo>
                  <a:lnTo>
                    <a:pt x="1859" y="255"/>
                  </a:lnTo>
                  <a:lnTo>
                    <a:pt x="1841" y="243"/>
                  </a:lnTo>
                  <a:lnTo>
                    <a:pt x="1829" y="237"/>
                  </a:lnTo>
                  <a:lnTo>
                    <a:pt x="1817" y="231"/>
                  </a:lnTo>
                  <a:lnTo>
                    <a:pt x="1805" y="224"/>
                  </a:lnTo>
                  <a:lnTo>
                    <a:pt x="1786" y="218"/>
                  </a:lnTo>
                  <a:lnTo>
                    <a:pt x="1774" y="218"/>
                  </a:lnTo>
                  <a:lnTo>
                    <a:pt x="1762" y="212"/>
                  </a:lnTo>
                  <a:lnTo>
                    <a:pt x="1750" y="206"/>
                  </a:lnTo>
                  <a:lnTo>
                    <a:pt x="1732" y="200"/>
                  </a:lnTo>
                  <a:lnTo>
                    <a:pt x="1720" y="194"/>
                  </a:lnTo>
                  <a:lnTo>
                    <a:pt x="1708" y="188"/>
                  </a:lnTo>
                  <a:lnTo>
                    <a:pt x="1690" y="188"/>
                  </a:lnTo>
                  <a:lnTo>
                    <a:pt x="1678" y="182"/>
                  </a:lnTo>
                  <a:lnTo>
                    <a:pt x="1666" y="176"/>
                  </a:lnTo>
                  <a:lnTo>
                    <a:pt x="1654" y="176"/>
                  </a:lnTo>
                  <a:lnTo>
                    <a:pt x="1636" y="170"/>
                  </a:lnTo>
                  <a:lnTo>
                    <a:pt x="1624" y="164"/>
                  </a:lnTo>
                  <a:lnTo>
                    <a:pt x="1611" y="164"/>
                  </a:lnTo>
                  <a:lnTo>
                    <a:pt x="1599" y="158"/>
                  </a:lnTo>
                  <a:lnTo>
                    <a:pt x="1581" y="158"/>
                  </a:lnTo>
                  <a:lnTo>
                    <a:pt x="1569" y="152"/>
                  </a:lnTo>
                  <a:lnTo>
                    <a:pt x="1557" y="152"/>
                  </a:lnTo>
                  <a:lnTo>
                    <a:pt x="1545" y="145"/>
                  </a:lnTo>
                  <a:lnTo>
                    <a:pt x="1527" y="145"/>
                  </a:lnTo>
                  <a:lnTo>
                    <a:pt x="1515" y="139"/>
                  </a:lnTo>
                  <a:lnTo>
                    <a:pt x="1503" y="139"/>
                  </a:lnTo>
                  <a:lnTo>
                    <a:pt x="1491" y="133"/>
                  </a:lnTo>
                  <a:lnTo>
                    <a:pt x="1473" y="133"/>
                  </a:lnTo>
                  <a:lnTo>
                    <a:pt x="1461" y="133"/>
                  </a:lnTo>
                  <a:lnTo>
                    <a:pt x="1449" y="127"/>
                  </a:lnTo>
                  <a:lnTo>
                    <a:pt x="1430" y="127"/>
                  </a:lnTo>
                  <a:lnTo>
                    <a:pt x="1418" y="121"/>
                  </a:lnTo>
                  <a:lnTo>
                    <a:pt x="1406" y="121"/>
                  </a:lnTo>
                  <a:lnTo>
                    <a:pt x="1394" y="121"/>
                  </a:lnTo>
                  <a:lnTo>
                    <a:pt x="1376" y="121"/>
                  </a:lnTo>
                  <a:lnTo>
                    <a:pt x="1364" y="115"/>
                  </a:lnTo>
                  <a:lnTo>
                    <a:pt x="1352" y="115"/>
                  </a:lnTo>
                  <a:lnTo>
                    <a:pt x="1340" y="115"/>
                  </a:lnTo>
                  <a:lnTo>
                    <a:pt x="1322" y="109"/>
                  </a:lnTo>
                  <a:lnTo>
                    <a:pt x="1310" y="109"/>
                  </a:lnTo>
                  <a:lnTo>
                    <a:pt x="1298" y="109"/>
                  </a:lnTo>
                  <a:lnTo>
                    <a:pt x="1286" y="109"/>
                  </a:lnTo>
                  <a:lnTo>
                    <a:pt x="1268" y="103"/>
                  </a:lnTo>
                  <a:lnTo>
                    <a:pt x="1255" y="103"/>
                  </a:lnTo>
                  <a:lnTo>
                    <a:pt x="1243" y="103"/>
                  </a:lnTo>
                  <a:lnTo>
                    <a:pt x="1225" y="103"/>
                  </a:lnTo>
                  <a:lnTo>
                    <a:pt x="1213" y="97"/>
                  </a:lnTo>
                  <a:lnTo>
                    <a:pt x="1201" y="97"/>
                  </a:lnTo>
                  <a:lnTo>
                    <a:pt x="1189" y="97"/>
                  </a:lnTo>
                  <a:lnTo>
                    <a:pt x="1171" y="97"/>
                  </a:lnTo>
                  <a:lnTo>
                    <a:pt x="1159" y="97"/>
                  </a:lnTo>
                  <a:lnTo>
                    <a:pt x="1147" y="97"/>
                  </a:lnTo>
                  <a:lnTo>
                    <a:pt x="1135" y="91"/>
                  </a:lnTo>
                  <a:lnTo>
                    <a:pt x="1117" y="91"/>
                  </a:lnTo>
                  <a:lnTo>
                    <a:pt x="1105" y="91"/>
                  </a:lnTo>
                  <a:lnTo>
                    <a:pt x="1093" y="91"/>
                  </a:lnTo>
                  <a:lnTo>
                    <a:pt x="1081" y="91"/>
                  </a:lnTo>
                  <a:lnTo>
                    <a:pt x="1062" y="91"/>
                  </a:lnTo>
                  <a:lnTo>
                    <a:pt x="1050" y="85"/>
                  </a:lnTo>
                  <a:lnTo>
                    <a:pt x="1038" y="85"/>
                  </a:lnTo>
                  <a:lnTo>
                    <a:pt x="1026" y="85"/>
                  </a:lnTo>
                  <a:lnTo>
                    <a:pt x="1008" y="85"/>
                  </a:lnTo>
                  <a:lnTo>
                    <a:pt x="996" y="85"/>
                  </a:lnTo>
                  <a:lnTo>
                    <a:pt x="984" y="85"/>
                  </a:lnTo>
                  <a:lnTo>
                    <a:pt x="966" y="85"/>
                  </a:lnTo>
                  <a:lnTo>
                    <a:pt x="954" y="85"/>
                  </a:lnTo>
                  <a:lnTo>
                    <a:pt x="942" y="79"/>
                  </a:lnTo>
                  <a:lnTo>
                    <a:pt x="930" y="79"/>
                  </a:lnTo>
                  <a:lnTo>
                    <a:pt x="912" y="79"/>
                  </a:lnTo>
                  <a:lnTo>
                    <a:pt x="899" y="79"/>
                  </a:lnTo>
                  <a:lnTo>
                    <a:pt x="887" y="79"/>
                  </a:lnTo>
                  <a:lnTo>
                    <a:pt x="875" y="79"/>
                  </a:lnTo>
                  <a:lnTo>
                    <a:pt x="857" y="79"/>
                  </a:lnTo>
                  <a:lnTo>
                    <a:pt x="845" y="79"/>
                  </a:lnTo>
                  <a:lnTo>
                    <a:pt x="833" y="79"/>
                  </a:lnTo>
                  <a:lnTo>
                    <a:pt x="821" y="79"/>
                  </a:lnTo>
                  <a:lnTo>
                    <a:pt x="803" y="79"/>
                  </a:lnTo>
                  <a:lnTo>
                    <a:pt x="791" y="73"/>
                  </a:lnTo>
                  <a:lnTo>
                    <a:pt x="779" y="73"/>
                  </a:lnTo>
                  <a:lnTo>
                    <a:pt x="761" y="73"/>
                  </a:lnTo>
                  <a:lnTo>
                    <a:pt x="749" y="73"/>
                  </a:lnTo>
                  <a:lnTo>
                    <a:pt x="737" y="73"/>
                  </a:lnTo>
                  <a:lnTo>
                    <a:pt x="724" y="73"/>
                  </a:lnTo>
                  <a:lnTo>
                    <a:pt x="706" y="73"/>
                  </a:lnTo>
                  <a:lnTo>
                    <a:pt x="694" y="73"/>
                  </a:lnTo>
                  <a:lnTo>
                    <a:pt x="682" y="73"/>
                  </a:lnTo>
                  <a:lnTo>
                    <a:pt x="670" y="73"/>
                  </a:lnTo>
                  <a:lnTo>
                    <a:pt x="652" y="73"/>
                  </a:lnTo>
                  <a:lnTo>
                    <a:pt x="640" y="73"/>
                  </a:lnTo>
                  <a:lnTo>
                    <a:pt x="628" y="73"/>
                  </a:lnTo>
                  <a:lnTo>
                    <a:pt x="616" y="73"/>
                  </a:lnTo>
                  <a:lnTo>
                    <a:pt x="598" y="73"/>
                  </a:lnTo>
                  <a:lnTo>
                    <a:pt x="586" y="66"/>
                  </a:lnTo>
                  <a:lnTo>
                    <a:pt x="574" y="66"/>
                  </a:lnTo>
                  <a:lnTo>
                    <a:pt x="556" y="66"/>
                  </a:lnTo>
                  <a:lnTo>
                    <a:pt x="543" y="66"/>
                  </a:lnTo>
                  <a:lnTo>
                    <a:pt x="531" y="66"/>
                  </a:lnTo>
                  <a:lnTo>
                    <a:pt x="519" y="66"/>
                  </a:lnTo>
                  <a:lnTo>
                    <a:pt x="501" y="66"/>
                  </a:lnTo>
                  <a:lnTo>
                    <a:pt x="489" y="66"/>
                  </a:lnTo>
                  <a:lnTo>
                    <a:pt x="477" y="66"/>
                  </a:lnTo>
                  <a:lnTo>
                    <a:pt x="465" y="66"/>
                  </a:lnTo>
                  <a:lnTo>
                    <a:pt x="447" y="66"/>
                  </a:lnTo>
                  <a:lnTo>
                    <a:pt x="435" y="66"/>
                  </a:lnTo>
                  <a:lnTo>
                    <a:pt x="423" y="66"/>
                  </a:lnTo>
                  <a:lnTo>
                    <a:pt x="411" y="66"/>
                  </a:lnTo>
                  <a:lnTo>
                    <a:pt x="393" y="66"/>
                  </a:lnTo>
                  <a:lnTo>
                    <a:pt x="381" y="66"/>
                  </a:lnTo>
                  <a:lnTo>
                    <a:pt x="368" y="66"/>
                  </a:lnTo>
                  <a:lnTo>
                    <a:pt x="356" y="66"/>
                  </a:lnTo>
                  <a:lnTo>
                    <a:pt x="338" y="66"/>
                  </a:lnTo>
                  <a:lnTo>
                    <a:pt x="326" y="66"/>
                  </a:lnTo>
                  <a:lnTo>
                    <a:pt x="314" y="66"/>
                  </a:lnTo>
                  <a:lnTo>
                    <a:pt x="296" y="66"/>
                  </a:lnTo>
                  <a:lnTo>
                    <a:pt x="284" y="66"/>
                  </a:lnTo>
                  <a:lnTo>
                    <a:pt x="272" y="66"/>
                  </a:lnTo>
                  <a:lnTo>
                    <a:pt x="260" y="66"/>
                  </a:lnTo>
                  <a:lnTo>
                    <a:pt x="242" y="66"/>
                  </a:lnTo>
                  <a:lnTo>
                    <a:pt x="230" y="66"/>
                  </a:lnTo>
                  <a:lnTo>
                    <a:pt x="218" y="66"/>
                  </a:lnTo>
                  <a:lnTo>
                    <a:pt x="206" y="60"/>
                  </a:lnTo>
                  <a:lnTo>
                    <a:pt x="187" y="60"/>
                  </a:lnTo>
                  <a:lnTo>
                    <a:pt x="175" y="60"/>
                  </a:lnTo>
                  <a:lnTo>
                    <a:pt x="163" y="60"/>
                  </a:lnTo>
                  <a:lnTo>
                    <a:pt x="151" y="60"/>
                  </a:lnTo>
                  <a:lnTo>
                    <a:pt x="133" y="60"/>
                  </a:lnTo>
                  <a:lnTo>
                    <a:pt x="121" y="60"/>
                  </a:lnTo>
                  <a:lnTo>
                    <a:pt x="109" y="60"/>
                  </a:lnTo>
                  <a:lnTo>
                    <a:pt x="91" y="60"/>
                  </a:lnTo>
                  <a:lnTo>
                    <a:pt x="79" y="60"/>
                  </a:lnTo>
                  <a:lnTo>
                    <a:pt x="67" y="60"/>
                  </a:lnTo>
                  <a:lnTo>
                    <a:pt x="55" y="60"/>
                  </a:lnTo>
                  <a:lnTo>
                    <a:pt x="37" y="60"/>
                  </a:lnTo>
                  <a:lnTo>
                    <a:pt x="25" y="60"/>
                  </a:lnTo>
                  <a:lnTo>
                    <a:pt x="12" y="60"/>
                  </a:lnTo>
                  <a:lnTo>
                    <a:pt x="0" y="60"/>
                  </a:lnTo>
                </a:path>
              </a:pathLst>
            </a:custGeom>
            <a:noFill/>
            <a:ln w="9360">
              <a:solidFill>
                <a:srgbClr val="409e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447920" y="8658360"/>
              <a:ext cx="28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-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447920" y="8059680"/>
              <a:ext cx="28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-0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447920" y="7461360"/>
              <a:ext cx="28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-0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639080" y="6862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505520" y="626580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505520" y="566748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560960" y="8831160"/>
              <a:ext cx="49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691720" y="883116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13120" y="883116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943880" y="883116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3720" y="88311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785760" y="908208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1" name="" descr=""/>
            <p:cNvPicPr/>
            <p:nvPr/>
          </p:nvPicPr>
          <p:blipFill>
            <a:blip r:embed="rId2"/>
            <a:stretch/>
          </p:blipFill>
          <p:spPr>
            <a:xfrm>
              <a:off x="841320" y="7032600"/>
              <a:ext cx="49860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" name="" descr=""/>
            <p:cNvPicPr/>
            <p:nvPr/>
          </p:nvPicPr>
          <p:blipFill>
            <a:blip r:embed="rId3"/>
            <a:stretch/>
          </p:blipFill>
          <p:spPr>
            <a:xfrm>
              <a:off x="898560" y="2760840"/>
              <a:ext cx="431640" cy="79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841320" y="1379520"/>
            <a:ext cx="3816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841320" y="1379520"/>
            <a:ext cx="38160" cy="3816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846000" y="136512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846000" y="136512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840600" y="1365120"/>
            <a:ext cx="20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40600" y="1365120"/>
            <a:ext cx="20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46000" y="136512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841320" y="1388880"/>
            <a:ext cx="5303520" cy="7728120"/>
            <a:chOff x="841320" y="1388880"/>
            <a:chExt cx="5303520" cy="7728120"/>
          </a:xfrm>
        </p:grpSpPr>
        <p:grpSp>
          <p:nvGrpSpPr>
            <p:cNvPr id="781" name=""/>
            <p:cNvGrpSpPr/>
            <p:nvPr/>
          </p:nvGrpSpPr>
          <p:grpSpPr>
            <a:xfrm>
              <a:off x="1687680" y="1388880"/>
              <a:ext cx="4413240" cy="3047760"/>
              <a:chOff x="1687680" y="1388880"/>
              <a:chExt cx="4413240" cy="3047760"/>
            </a:xfrm>
          </p:grpSpPr>
          <p:sp>
            <p:nvSpPr>
              <p:cNvPr id="782" name=""/>
              <p:cNvSpPr/>
              <p:nvPr/>
            </p:nvSpPr>
            <p:spPr>
              <a:xfrm>
                <a:off x="1744560" y="1389240"/>
                <a:ext cx="4354560" cy="2990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744560" y="4379760"/>
                <a:ext cx="4354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744560" y="1389240"/>
                <a:ext cx="4354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1744560" y="1388880"/>
                <a:ext cx="1800" cy="299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V="1">
                <a:off x="6099120" y="1388880"/>
                <a:ext cx="1800" cy="299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716120" y="437976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716120" y="423540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716120" y="409104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716120" y="394668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716120" y="380196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716120" y="366696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716120" y="352440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716120" y="337968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716120" y="323532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716120" y="309096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716120" y="295596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716120" y="281160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716120" y="266868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716120" y="252396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716120" y="237960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716120" y="223524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716120" y="210024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716120" y="195588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716120" y="181296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716120" y="166860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716120" y="152388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716120" y="138924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687680" y="4379760"/>
                <a:ext cx="56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687680" y="3666960"/>
                <a:ext cx="56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687680" y="2955960"/>
                <a:ext cx="56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687680" y="2235240"/>
                <a:ext cx="56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687680" y="1523880"/>
                <a:ext cx="56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1744560" y="437976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V="1">
                <a:off x="207180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2263680" y="437976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V="1">
                <a:off x="2398680" y="437976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2503440" y="437976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259092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V="1">
                <a:off x="265752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2725560" y="437976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V="1">
                <a:off x="2782800" y="437976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283068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V="1">
                <a:off x="315756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V="1">
                <a:off x="334980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3484440" y="437976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V="1">
                <a:off x="359100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367668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375300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V="1">
                <a:off x="381168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3868560" y="437976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391644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4243320" y="437976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V="1">
                <a:off x="443556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V="1">
                <a:off x="457056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467676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4762440" y="437976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4840200" y="437976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V="1">
                <a:off x="489744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V="1">
                <a:off x="495468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5003640" y="437976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5329080" y="437976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552132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>
                <a:off x="5665680" y="437976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V="1">
                <a:off x="577224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585792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V="1">
                <a:off x="5925960" y="437976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599292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V="1">
                <a:off x="604044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V="1">
                <a:off x="6099120" y="437976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1744560" y="4379400"/>
                <a:ext cx="180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V="1">
                <a:off x="2830680" y="4379400"/>
                <a:ext cx="144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3916440" y="4379400"/>
                <a:ext cx="144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V="1">
                <a:off x="5003640" y="4379400"/>
                <a:ext cx="180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6099120" y="4379400"/>
                <a:ext cx="180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V="1">
                <a:off x="1744560" y="1388880"/>
                <a:ext cx="1800" cy="299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744560" y="4379760"/>
                <a:ext cx="4354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744560" y="2668680"/>
                <a:ext cx="4354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857920" y="265896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1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829480" y="2647800"/>
                <a:ext cx="1440" cy="39960"/>
              </a:xfrm>
              <a:custGeom>
                <a:avLst/>
                <a:gdLst/>
                <a:ahLst/>
                <a:rect l="l" t="t" r="r" b="b"/>
                <a:pathLst>
                  <a:path w="0" h="25">
                    <a:moveTo>
                      <a:pt x="0" y="2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810400" y="2638440"/>
                <a:ext cx="1440" cy="58680"/>
              </a:xfrm>
              <a:custGeom>
                <a:avLst/>
                <a:gdLst/>
                <a:ahLst/>
                <a:rect l="l" t="t" r="r" b="b"/>
                <a:pathLst>
                  <a:path w="0" h="37">
                    <a:moveTo>
                      <a:pt x="0" y="3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791320" y="2629080"/>
                <a:ext cx="1440" cy="87120"/>
              </a:xfrm>
              <a:custGeom>
                <a:avLst/>
                <a:gdLst/>
                <a:ahLst/>
                <a:rect l="l" t="t" r="r" b="b"/>
                <a:pathLst>
                  <a:path w="0" h="55">
                    <a:moveTo>
                      <a:pt x="0" y="5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772240" y="2619360"/>
                <a:ext cx="1440" cy="115920"/>
              </a:xfrm>
              <a:custGeom>
                <a:avLst/>
                <a:gdLst/>
                <a:ahLst/>
                <a:rect l="l" t="t" r="r" b="b"/>
                <a:pathLst>
                  <a:path w="0" h="73">
                    <a:moveTo>
                      <a:pt x="0" y="7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743440" y="2600280"/>
                <a:ext cx="1800" cy="154080"/>
              </a:xfrm>
              <a:custGeom>
                <a:avLst/>
                <a:gdLst/>
                <a:ahLst/>
                <a:rect l="l" t="t" r="r" b="b"/>
                <a:pathLst>
                  <a:path w="0" h="97">
                    <a:moveTo>
                      <a:pt x="0" y="9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724360" y="2590920"/>
                <a:ext cx="1800" cy="182520"/>
              </a:xfrm>
              <a:custGeom>
                <a:avLst/>
                <a:gdLst/>
                <a:ahLst/>
                <a:rect l="l" t="t" r="r" b="b"/>
                <a:pathLst>
                  <a:path w="0" h="115">
                    <a:moveTo>
                      <a:pt x="0" y="11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705640" y="2581200"/>
                <a:ext cx="1440" cy="220680"/>
              </a:xfrm>
              <a:custGeom>
                <a:avLst/>
                <a:gdLst/>
                <a:ahLst/>
                <a:rect l="l" t="t" r="r" b="b"/>
                <a:pathLst>
                  <a:path w="0" h="139">
                    <a:moveTo>
                      <a:pt x="0" y="13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84760" y="2571840"/>
                <a:ext cx="1800" cy="260280"/>
              </a:xfrm>
              <a:custGeom>
                <a:avLst/>
                <a:gdLst/>
                <a:ahLst/>
                <a:rect l="l" t="t" r="r" b="b"/>
                <a:pathLst>
                  <a:path w="0" h="164">
                    <a:moveTo>
                      <a:pt x="0" y="16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656320" y="2562120"/>
                <a:ext cx="1440" cy="298440"/>
              </a:xfrm>
              <a:custGeom>
                <a:avLst/>
                <a:gdLst/>
                <a:ahLst/>
                <a:rect l="l" t="t" r="r" b="b"/>
                <a:pathLst>
                  <a:path w="0" h="188">
                    <a:moveTo>
                      <a:pt x="0" y="18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637240" y="2552760"/>
                <a:ext cx="1440" cy="345960"/>
              </a:xfrm>
              <a:custGeom>
                <a:avLst/>
                <a:gdLst/>
                <a:ahLst/>
                <a:rect l="l" t="t" r="r" b="b"/>
                <a:pathLst>
                  <a:path w="0" h="218">
                    <a:moveTo>
                      <a:pt x="0" y="21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618160" y="2552760"/>
                <a:ext cx="1440" cy="374760"/>
              </a:xfrm>
              <a:custGeom>
                <a:avLst/>
                <a:gdLst/>
                <a:ahLst/>
                <a:rect l="l" t="t" r="r" b="b"/>
                <a:pathLst>
                  <a:path w="0" h="236">
                    <a:moveTo>
                      <a:pt x="0" y="2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599080" y="2552760"/>
                <a:ext cx="1800" cy="403200"/>
              </a:xfrm>
              <a:custGeom>
                <a:avLst/>
                <a:gdLst/>
                <a:ahLst/>
                <a:rect l="l" t="t" r="r" b="b"/>
                <a:pathLst>
                  <a:path w="0" h="254">
                    <a:moveTo>
                      <a:pt x="0" y="25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570640" y="2552760"/>
                <a:ext cx="1440" cy="441360"/>
              </a:xfrm>
              <a:custGeom>
                <a:avLst/>
                <a:gdLst/>
                <a:ahLst/>
                <a:rect l="l" t="t" r="r" b="b"/>
                <a:pathLst>
                  <a:path w="0" h="278">
                    <a:moveTo>
                      <a:pt x="0" y="27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551560" y="2552760"/>
                <a:ext cx="1440" cy="471600"/>
              </a:xfrm>
              <a:custGeom>
                <a:avLst/>
                <a:gdLst/>
                <a:ahLst/>
                <a:rect l="l" t="t" r="r" b="b"/>
                <a:pathLst>
                  <a:path w="0" h="297">
                    <a:moveTo>
                      <a:pt x="0" y="29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532480" y="2562120"/>
                <a:ext cx="1440" cy="490680"/>
              </a:xfrm>
              <a:custGeom>
                <a:avLst/>
                <a:gdLst/>
                <a:ahLst/>
                <a:rect l="l" t="t" r="r" b="b"/>
                <a:pathLst>
                  <a:path w="0" h="309">
                    <a:moveTo>
                      <a:pt x="0" y="30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502240" y="2571840"/>
                <a:ext cx="1800" cy="519120"/>
              </a:xfrm>
              <a:custGeom>
                <a:avLst/>
                <a:gdLst/>
                <a:ahLst/>
                <a:rect l="l" t="t" r="r" b="b"/>
                <a:pathLst>
                  <a:path w="0" h="327">
                    <a:moveTo>
                      <a:pt x="0" y="32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483160" y="2581200"/>
                <a:ext cx="1800" cy="538200"/>
              </a:xfrm>
              <a:custGeom>
                <a:avLst/>
                <a:gdLst/>
                <a:ahLst/>
                <a:rect l="l" t="t" r="r" b="b"/>
                <a:pathLst>
                  <a:path w="0" h="339">
                    <a:moveTo>
                      <a:pt x="0" y="33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464080" y="2590920"/>
                <a:ext cx="1800" cy="556920"/>
              </a:xfrm>
              <a:custGeom>
                <a:avLst/>
                <a:gdLst/>
                <a:ahLst/>
                <a:rect l="l" t="t" r="r" b="b"/>
                <a:pathLst>
                  <a:path w="0" h="351">
                    <a:moveTo>
                      <a:pt x="0" y="35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445000" y="2610000"/>
                <a:ext cx="1800" cy="568080"/>
              </a:xfrm>
              <a:custGeom>
                <a:avLst/>
                <a:gdLst/>
                <a:ahLst/>
                <a:rect l="l" t="t" r="r" b="b"/>
                <a:pathLst>
                  <a:path w="0" h="358">
                    <a:moveTo>
                      <a:pt x="0" y="35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416560" y="2619360"/>
                <a:ext cx="1440" cy="587520"/>
              </a:xfrm>
              <a:custGeom>
                <a:avLst/>
                <a:gdLst/>
                <a:ahLst/>
                <a:rect l="l" t="t" r="r" b="b"/>
                <a:pathLst>
                  <a:path w="0" h="370">
                    <a:moveTo>
                      <a:pt x="0" y="37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397480" y="2629080"/>
                <a:ext cx="1440" cy="606240"/>
              </a:xfrm>
              <a:custGeom>
                <a:avLst/>
                <a:gdLst/>
                <a:ahLst/>
                <a:rect l="l" t="t" r="r" b="b"/>
                <a:pathLst>
                  <a:path w="0" h="382">
                    <a:moveTo>
                      <a:pt x="0" y="38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378400" y="2647800"/>
                <a:ext cx="1800" cy="615960"/>
              </a:xfrm>
              <a:custGeom>
                <a:avLst/>
                <a:gdLst/>
                <a:ahLst/>
                <a:rect l="l" t="t" r="r" b="b"/>
                <a:pathLst>
                  <a:path w="0" h="388">
                    <a:moveTo>
                      <a:pt x="0" y="38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359320" y="2668680"/>
                <a:ext cx="1800" cy="614160"/>
              </a:xfrm>
              <a:custGeom>
                <a:avLst/>
                <a:gdLst/>
                <a:ahLst/>
                <a:rect l="l" t="t" r="r" b="b"/>
                <a:pathLst>
                  <a:path w="0" h="387">
                    <a:moveTo>
                      <a:pt x="0" y="38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329080" y="2678040"/>
                <a:ext cx="1800" cy="633600"/>
              </a:xfrm>
              <a:custGeom>
                <a:avLst/>
                <a:gdLst/>
                <a:ahLst/>
                <a:rect l="l" t="t" r="r" b="b"/>
                <a:pathLst>
                  <a:path w="0" h="399">
                    <a:moveTo>
                      <a:pt x="0" y="39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310360" y="2697120"/>
                <a:ext cx="1440" cy="633600"/>
              </a:xfrm>
              <a:custGeom>
                <a:avLst/>
                <a:gdLst/>
                <a:ahLst/>
                <a:rect l="l" t="t" r="r" b="b"/>
                <a:pathLst>
                  <a:path w="0" h="399">
                    <a:moveTo>
                      <a:pt x="0" y="39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291280" y="2706840"/>
                <a:ext cx="1440" cy="653760"/>
              </a:xfrm>
              <a:custGeom>
                <a:avLst/>
                <a:gdLst/>
                <a:ahLst/>
                <a:rect l="l" t="t" r="r" b="b"/>
                <a:pathLst>
                  <a:path w="0" h="412">
                    <a:moveTo>
                      <a:pt x="0" y="41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272200" y="2725560"/>
                <a:ext cx="1440" cy="654120"/>
              </a:xfrm>
              <a:custGeom>
                <a:avLst/>
                <a:gdLst/>
                <a:ahLst/>
                <a:rect l="l" t="t" r="r" b="b"/>
                <a:pathLst>
                  <a:path w="0" h="412">
                    <a:moveTo>
                      <a:pt x="0" y="41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243400" y="2735280"/>
                <a:ext cx="1800" cy="663480"/>
              </a:xfrm>
              <a:custGeom>
                <a:avLst/>
                <a:gdLst/>
                <a:ahLst/>
                <a:rect l="l" t="t" r="r" b="b"/>
                <a:pathLst>
                  <a:path w="0" h="418">
                    <a:moveTo>
                      <a:pt x="0" y="41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224320" y="2744640"/>
                <a:ext cx="1800" cy="67320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205240" y="2763720"/>
                <a:ext cx="1800" cy="67320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176800" y="2773440"/>
                <a:ext cx="1800" cy="67320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156280" y="2792520"/>
                <a:ext cx="1440" cy="67284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137200" y="2801880"/>
                <a:ext cx="1440" cy="67320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118120" y="2811600"/>
                <a:ext cx="1440" cy="67284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089680" y="2820960"/>
                <a:ext cx="1440" cy="67320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070600" y="2841480"/>
                <a:ext cx="1440" cy="662040"/>
              </a:xfrm>
              <a:custGeom>
                <a:avLst/>
                <a:gdLst/>
                <a:ahLst/>
                <a:rect l="l" t="t" r="r" b="b"/>
                <a:pathLst>
                  <a:path w="0" h="417">
                    <a:moveTo>
                      <a:pt x="0" y="41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051520" y="2851200"/>
                <a:ext cx="1440" cy="663480"/>
              </a:xfrm>
              <a:custGeom>
                <a:avLst/>
                <a:gdLst/>
                <a:ahLst/>
                <a:rect l="l" t="t" r="r" b="b"/>
                <a:pathLst>
                  <a:path w="0" h="418">
                    <a:moveTo>
                      <a:pt x="0" y="41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032440" y="2860560"/>
                <a:ext cx="1440" cy="663840"/>
              </a:xfrm>
              <a:custGeom>
                <a:avLst/>
                <a:gdLst/>
                <a:ahLst/>
                <a:rect l="l" t="t" r="r" b="b"/>
                <a:pathLst>
                  <a:path w="0" h="418">
                    <a:moveTo>
                      <a:pt x="0" y="41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003640" y="2870280"/>
                <a:ext cx="1800" cy="654120"/>
              </a:xfrm>
              <a:custGeom>
                <a:avLst/>
                <a:gdLst/>
                <a:ahLst/>
                <a:rect l="l" t="t" r="r" b="b"/>
                <a:pathLst>
                  <a:path w="0" h="412">
                    <a:moveTo>
                      <a:pt x="0" y="41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983120" y="2879640"/>
                <a:ext cx="1800" cy="654120"/>
              </a:xfrm>
              <a:custGeom>
                <a:avLst/>
                <a:gdLst/>
                <a:ahLst/>
                <a:rect l="l" t="t" r="r" b="b"/>
                <a:pathLst>
                  <a:path w="0" h="412">
                    <a:moveTo>
                      <a:pt x="0" y="41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964040" y="2889360"/>
                <a:ext cx="1800" cy="644400"/>
              </a:xfrm>
              <a:custGeom>
                <a:avLst/>
                <a:gdLst/>
                <a:ahLst/>
                <a:rect l="l" t="t" r="r" b="b"/>
                <a:pathLst>
                  <a:path w="0" h="406">
                    <a:moveTo>
                      <a:pt x="0" y="40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944960" y="2898720"/>
                <a:ext cx="1800" cy="635040"/>
              </a:xfrm>
              <a:custGeom>
                <a:avLst/>
                <a:gdLst/>
                <a:ahLst/>
                <a:rect l="l" t="t" r="r" b="b"/>
                <a:pathLst>
                  <a:path w="0" h="400">
                    <a:moveTo>
                      <a:pt x="0" y="40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16520" y="2908440"/>
                <a:ext cx="1440" cy="625320"/>
              </a:xfrm>
              <a:custGeom>
                <a:avLst/>
                <a:gdLst/>
                <a:ahLst/>
                <a:rect l="l" t="t" r="r" b="b"/>
                <a:pathLst>
                  <a:path w="0" h="394">
                    <a:moveTo>
                      <a:pt x="0" y="39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897440" y="2917800"/>
                <a:ext cx="1440" cy="615960"/>
              </a:xfrm>
              <a:custGeom>
                <a:avLst/>
                <a:gdLst/>
                <a:ahLst/>
                <a:rect l="l" t="t" r="r" b="b"/>
                <a:pathLst>
                  <a:path w="0" h="388">
                    <a:moveTo>
                      <a:pt x="0" y="38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878360" y="2927520"/>
                <a:ext cx="1440" cy="606240"/>
              </a:xfrm>
              <a:custGeom>
                <a:avLst/>
                <a:gdLst/>
                <a:ahLst/>
                <a:rect l="l" t="t" r="r" b="b"/>
                <a:pathLst>
                  <a:path w="0" h="382">
                    <a:moveTo>
                      <a:pt x="0" y="38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859280" y="2936880"/>
                <a:ext cx="1800" cy="596880"/>
              </a:xfrm>
              <a:custGeom>
                <a:avLst/>
                <a:gdLst/>
                <a:ahLst/>
                <a:rect l="l" t="t" r="r" b="b"/>
                <a:pathLst>
                  <a:path w="0" h="376">
                    <a:moveTo>
                      <a:pt x="0" y="37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830840" y="2946240"/>
                <a:ext cx="1440" cy="587520"/>
              </a:xfrm>
              <a:custGeom>
                <a:avLst/>
                <a:gdLst/>
                <a:ahLst/>
                <a:rect l="l" t="t" r="r" b="b"/>
                <a:pathLst>
                  <a:path w="0" h="370">
                    <a:moveTo>
                      <a:pt x="0" y="37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809960" y="2955960"/>
                <a:ext cx="1800" cy="568440"/>
              </a:xfrm>
              <a:custGeom>
                <a:avLst/>
                <a:gdLst/>
                <a:ahLst/>
                <a:rect l="l" t="t" r="r" b="b"/>
                <a:pathLst>
                  <a:path w="0" h="358">
                    <a:moveTo>
                      <a:pt x="0" y="35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791240" y="2965320"/>
                <a:ext cx="1440" cy="559080"/>
              </a:xfrm>
              <a:custGeom>
                <a:avLst/>
                <a:gdLst/>
                <a:ahLst/>
                <a:rect l="l" t="t" r="r" b="b"/>
                <a:pathLst>
                  <a:path w="0" h="352">
                    <a:moveTo>
                      <a:pt x="0" y="35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762440" y="2975040"/>
                <a:ext cx="1800" cy="539640"/>
              </a:xfrm>
              <a:custGeom>
                <a:avLst/>
                <a:gdLst/>
                <a:ahLst/>
                <a:rect l="l" t="t" r="r" b="b"/>
                <a:pathLst>
                  <a:path w="0" h="340">
                    <a:moveTo>
                      <a:pt x="0" y="34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743360" y="2984400"/>
                <a:ext cx="1800" cy="530280"/>
              </a:xfrm>
              <a:custGeom>
                <a:avLst/>
                <a:gdLst/>
                <a:ahLst/>
                <a:rect l="l" t="t" r="r" b="b"/>
                <a:pathLst>
                  <a:path w="0" h="334">
                    <a:moveTo>
                      <a:pt x="0" y="33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724280" y="2984400"/>
                <a:ext cx="1800" cy="530280"/>
              </a:xfrm>
              <a:custGeom>
                <a:avLst/>
                <a:gdLst/>
                <a:ahLst/>
                <a:rect l="l" t="t" r="r" b="b"/>
                <a:pathLst>
                  <a:path w="0" h="334">
                    <a:moveTo>
                      <a:pt x="0" y="33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705200" y="2994120"/>
                <a:ext cx="1800" cy="509400"/>
              </a:xfrm>
              <a:custGeom>
                <a:avLst/>
                <a:gdLst/>
                <a:ahLst/>
                <a:rect l="l" t="t" r="r" b="b"/>
                <a:pathLst>
                  <a:path w="0" h="321">
                    <a:moveTo>
                      <a:pt x="0" y="32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76760" y="3005280"/>
                <a:ext cx="1440" cy="488880"/>
              </a:xfrm>
              <a:custGeom>
                <a:avLst/>
                <a:gdLst/>
                <a:ahLst/>
                <a:rect l="l" t="t" r="r" b="b"/>
                <a:pathLst>
                  <a:path w="0" h="308">
                    <a:moveTo>
                      <a:pt x="0" y="30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57680" y="3005280"/>
                <a:ext cx="1800" cy="488880"/>
              </a:xfrm>
              <a:custGeom>
                <a:avLst/>
                <a:gdLst/>
                <a:ahLst/>
                <a:rect l="l" t="t" r="r" b="b"/>
                <a:pathLst>
                  <a:path w="0" h="308">
                    <a:moveTo>
                      <a:pt x="0" y="30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637160" y="3014640"/>
                <a:ext cx="1440" cy="469800"/>
              </a:xfrm>
              <a:custGeom>
                <a:avLst/>
                <a:gdLst/>
                <a:ahLst/>
                <a:rect l="l" t="t" r="r" b="b"/>
                <a:pathLst>
                  <a:path w="0" h="296">
                    <a:moveTo>
                      <a:pt x="0" y="29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618080" y="3014640"/>
                <a:ext cx="1440" cy="469800"/>
              </a:xfrm>
              <a:custGeom>
                <a:avLst/>
                <a:gdLst/>
                <a:ahLst/>
                <a:rect l="l" t="t" r="r" b="b"/>
                <a:pathLst>
                  <a:path w="0" h="296">
                    <a:moveTo>
                      <a:pt x="0" y="29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589640" y="3024360"/>
                <a:ext cx="1440" cy="450720"/>
              </a:xfrm>
              <a:custGeom>
                <a:avLst/>
                <a:gdLst/>
                <a:ahLst/>
                <a:rect l="l" t="t" r="r" b="b"/>
                <a:pathLst>
                  <a:path w="0" h="284">
                    <a:moveTo>
                      <a:pt x="0" y="28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570560" y="3024360"/>
                <a:ext cx="1440" cy="441000"/>
              </a:xfrm>
              <a:custGeom>
                <a:avLst/>
                <a:gdLst/>
                <a:ahLst/>
                <a:rect l="l" t="t" r="r" b="b"/>
                <a:pathLst>
                  <a:path w="0" h="278">
                    <a:moveTo>
                      <a:pt x="0" y="27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551480" y="3033720"/>
                <a:ext cx="1440" cy="431640"/>
              </a:xfrm>
              <a:custGeom>
                <a:avLst/>
                <a:gdLst/>
                <a:ahLst/>
                <a:rect l="l" t="t" r="r" b="b"/>
                <a:pathLst>
                  <a:path w="0" h="272">
                    <a:moveTo>
                      <a:pt x="0" y="27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532400" y="3033720"/>
                <a:ext cx="1440" cy="422280"/>
              </a:xfrm>
              <a:custGeom>
                <a:avLst/>
                <a:gdLst/>
                <a:ahLst/>
                <a:rect l="l" t="t" r="r" b="b"/>
                <a:pathLst>
                  <a:path w="0" h="266">
                    <a:moveTo>
                      <a:pt x="0" y="26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503600" y="3033720"/>
                <a:ext cx="1800" cy="422280"/>
              </a:xfrm>
              <a:custGeom>
                <a:avLst/>
                <a:gdLst/>
                <a:ahLst/>
                <a:rect l="l" t="t" r="r" b="b"/>
                <a:pathLst>
                  <a:path w="0" h="266">
                    <a:moveTo>
                      <a:pt x="0" y="26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484520" y="3033720"/>
                <a:ext cx="1800" cy="412920"/>
              </a:xfrm>
              <a:custGeom>
                <a:avLst/>
                <a:gdLst/>
                <a:ahLst/>
                <a:rect l="l" t="t" r="r" b="b"/>
                <a:pathLst>
                  <a:path w="0" h="260">
                    <a:moveTo>
                      <a:pt x="0" y="26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464000" y="3043080"/>
                <a:ext cx="1800" cy="393840"/>
              </a:xfrm>
              <a:custGeom>
                <a:avLst/>
                <a:gdLst/>
                <a:ahLst/>
                <a:rect l="l" t="t" r="r" b="b"/>
                <a:pathLst>
                  <a:path w="0" h="248">
                    <a:moveTo>
                      <a:pt x="0" y="24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435560" y="3043080"/>
                <a:ext cx="1440" cy="393840"/>
              </a:xfrm>
              <a:custGeom>
                <a:avLst/>
                <a:gdLst/>
                <a:ahLst/>
                <a:rect l="l" t="t" r="r" b="b"/>
                <a:pathLst>
                  <a:path w="0" h="248">
                    <a:moveTo>
                      <a:pt x="0" y="24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416480" y="3043080"/>
                <a:ext cx="1440" cy="384480"/>
              </a:xfrm>
              <a:custGeom>
                <a:avLst/>
                <a:gdLst/>
                <a:ahLst/>
                <a:rect l="l" t="t" r="r" b="b"/>
                <a:pathLst>
                  <a:path w="0" h="242">
                    <a:moveTo>
                      <a:pt x="0" y="24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397400" y="3043080"/>
                <a:ext cx="1440" cy="384480"/>
              </a:xfrm>
              <a:custGeom>
                <a:avLst/>
                <a:gdLst/>
                <a:ahLst/>
                <a:rect l="l" t="t" r="r" b="b"/>
                <a:pathLst>
                  <a:path w="0" h="242">
                    <a:moveTo>
                      <a:pt x="0" y="24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378320" y="3043080"/>
                <a:ext cx="1440" cy="374760"/>
              </a:xfrm>
              <a:custGeom>
                <a:avLst/>
                <a:gdLst/>
                <a:ahLst/>
                <a:rect l="l" t="t" r="r" b="b"/>
                <a:pathLst>
                  <a:path w="0" h="236">
                    <a:moveTo>
                      <a:pt x="0" y="2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349880" y="3033720"/>
                <a:ext cx="1440" cy="384120"/>
              </a:xfrm>
              <a:custGeom>
                <a:avLst/>
                <a:gdLst/>
                <a:ahLst/>
                <a:rect l="l" t="t" r="r" b="b"/>
                <a:pathLst>
                  <a:path w="0" h="242">
                    <a:moveTo>
                      <a:pt x="0" y="24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330800" y="3033720"/>
                <a:ext cx="1440" cy="374760"/>
              </a:xfrm>
              <a:custGeom>
                <a:avLst/>
                <a:gdLst/>
                <a:ahLst/>
                <a:rect l="l" t="t" r="r" b="b"/>
                <a:pathLst>
                  <a:path w="0" h="236">
                    <a:moveTo>
                      <a:pt x="0" y="2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311720" y="3033720"/>
                <a:ext cx="1440" cy="374760"/>
              </a:xfrm>
              <a:custGeom>
                <a:avLst/>
                <a:gdLst/>
                <a:ahLst/>
                <a:rect l="l" t="t" r="r" b="b"/>
                <a:pathLst>
                  <a:path w="0" h="236">
                    <a:moveTo>
                      <a:pt x="0" y="2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292640" y="3033720"/>
                <a:ext cx="1440" cy="374760"/>
              </a:xfrm>
              <a:custGeom>
                <a:avLst/>
                <a:gdLst/>
                <a:ahLst/>
                <a:rect l="l" t="t" r="r" b="b"/>
                <a:pathLst>
                  <a:path w="0" h="236">
                    <a:moveTo>
                      <a:pt x="0" y="2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262400" y="3024360"/>
                <a:ext cx="1800" cy="374400"/>
              </a:xfrm>
              <a:custGeom>
                <a:avLst/>
                <a:gdLst/>
                <a:ahLst/>
                <a:rect l="l" t="t" r="r" b="b"/>
                <a:pathLst>
                  <a:path w="0" h="236">
                    <a:moveTo>
                      <a:pt x="0" y="2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243320" y="3024360"/>
                <a:ext cx="1800" cy="374400"/>
              </a:xfrm>
              <a:custGeom>
                <a:avLst/>
                <a:gdLst/>
                <a:ahLst/>
                <a:rect l="l" t="t" r="r" b="b"/>
                <a:pathLst>
                  <a:path w="0" h="236">
                    <a:moveTo>
                      <a:pt x="0" y="2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224240" y="3014640"/>
                <a:ext cx="1800" cy="384120"/>
              </a:xfrm>
              <a:custGeom>
                <a:avLst/>
                <a:gdLst/>
                <a:ahLst/>
                <a:rect l="l" t="t" r="r" b="b"/>
                <a:pathLst>
                  <a:path w="0" h="242">
                    <a:moveTo>
                      <a:pt x="0" y="24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205160" y="3014640"/>
                <a:ext cx="1800" cy="374760"/>
              </a:xfrm>
              <a:custGeom>
                <a:avLst/>
                <a:gdLst/>
                <a:ahLst/>
                <a:rect l="l" t="t" r="r" b="b"/>
                <a:pathLst>
                  <a:path w="0" h="236">
                    <a:moveTo>
                      <a:pt x="0" y="2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176720" y="3005280"/>
                <a:ext cx="1440" cy="384120"/>
              </a:xfrm>
              <a:custGeom>
                <a:avLst/>
                <a:gdLst/>
                <a:ahLst/>
                <a:rect l="l" t="t" r="r" b="b"/>
                <a:pathLst>
                  <a:path w="0" h="242">
                    <a:moveTo>
                      <a:pt x="0" y="24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157640" y="3005280"/>
                <a:ext cx="1440" cy="384120"/>
              </a:xfrm>
              <a:custGeom>
                <a:avLst/>
                <a:gdLst/>
                <a:ahLst/>
                <a:rect l="l" t="t" r="r" b="b"/>
                <a:pathLst>
                  <a:path w="0" h="242">
                    <a:moveTo>
                      <a:pt x="0" y="24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4138560" y="2994120"/>
                <a:ext cx="1800" cy="395280"/>
              </a:xfrm>
              <a:custGeom>
                <a:avLst/>
                <a:gdLst/>
                <a:ahLst/>
                <a:rect l="l" t="t" r="r" b="b"/>
                <a:pathLst>
                  <a:path w="0" h="249">
                    <a:moveTo>
                      <a:pt x="0" y="24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119480" y="2984400"/>
                <a:ext cx="1800" cy="405000"/>
              </a:xfrm>
              <a:custGeom>
                <a:avLst/>
                <a:gdLst/>
                <a:ahLst/>
                <a:rect l="l" t="t" r="r" b="b"/>
                <a:pathLst>
                  <a:path w="0" h="255">
                    <a:moveTo>
                      <a:pt x="0" y="25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089240" y="2984400"/>
                <a:ext cx="1800" cy="395280"/>
              </a:xfrm>
              <a:custGeom>
                <a:avLst/>
                <a:gdLst/>
                <a:ahLst/>
                <a:rect l="l" t="t" r="r" b="b"/>
                <a:pathLst>
                  <a:path w="0" h="249">
                    <a:moveTo>
                      <a:pt x="0" y="24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070520" y="2975040"/>
                <a:ext cx="1440" cy="404640"/>
              </a:xfrm>
              <a:custGeom>
                <a:avLst/>
                <a:gdLst/>
                <a:ahLst/>
                <a:rect l="l" t="t" r="r" b="b"/>
                <a:pathLst>
                  <a:path w="0" h="255">
                    <a:moveTo>
                      <a:pt x="0" y="25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4051440" y="2965320"/>
                <a:ext cx="1440" cy="414360"/>
              </a:xfrm>
              <a:custGeom>
                <a:avLst/>
                <a:gdLst/>
                <a:ahLst/>
                <a:rect l="l" t="t" r="r" b="b"/>
                <a:pathLst>
                  <a:path w="0" h="261">
                    <a:moveTo>
                      <a:pt x="0" y="26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022640" y="2955960"/>
                <a:ext cx="1800" cy="423720"/>
              </a:xfrm>
              <a:custGeom>
                <a:avLst/>
                <a:gdLst/>
                <a:ahLst/>
                <a:rect l="l" t="t" r="r" b="b"/>
                <a:pathLst>
                  <a:path w="0" h="267">
                    <a:moveTo>
                      <a:pt x="0" y="26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003560" y="2955960"/>
                <a:ext cx="1800" cy="423720"/>
              </a:xfrm>
              <a:custGeom>
                <a:avLst/>
                <a:gdLst/>
                <a:ahLst/>
                <a:rect l="l" t="t" r="r" b="b"/>
                <a:pathLst>
                  <a:path w="0" h="267">
                    <a:moveTo>
                      <a:pt x="0" y="26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984480" y="2946240"/>
                <a:ext cx="1800" cy="433440"/>
              </a:xfrm>
              <a:custGeom>
                <a:avLst/>
                <a:gdLst/>
                <a:ahLst/>
                <a:rect l="l" t="t" r="r" b="b"/>
                <a:pathLst>
                  <a:path w="0" h="273">
                    <a:moveTo>
                      <a:pt x="0" y="27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965400" y="2936880"/>
                <a:ext cx="1800" cy="442800"/>
              </a:xfrm>
              <a:custGeom>
                <a:avLst/>
                <a:gdLst/>
                <a:ahLst/>
                <a:rect l="l" t="t" r="r" b="b"/>
                <a:pathLst>
                  <a:path w="0" h="279">
                    <a:moveTo>
                      <a:pt x="0" y="27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936960" y="2927520"/>
                <a:ext cx="1800" cy="452160"/>
              </a:xfrm>
              <a:custGeom>
                <a:avLst/>
                <a:gdLst/>
                <a:ahLst/>
                <a:rect l="l" t="t" r="r" b="b"/>
                <a:pathLst>
                  <a:path w="0" h="285">
                    <a:moveTo>
                      <a:pt x="0" y="28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916440" y="2917800"/>
                <a:ext cx="1440" cy="452520"/>
              </a:xfrm>
              <a:custGeom>
                <a:avLst/>
                <a:gdLst/>
                <a:ahLst/>
                <a:rect l="l" t="t" r="r" b="b"/>
                <a:pathLst>
                  <a:path w="0" h="285">
                    <a:moveTo>
                      <a:pt x="0" y="28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897360" y="2908440"/>
                <a:ext cx="1440" cy="461880"/>
              </a:xfrm>
              <a:custGeom>
                <a:avLst/>
                <a:gdLst/>
                <a:ahLst/>
                <a:rect l="l" t="t" r="r" b="b"/>
                <a:pathLst>
                  <a:path w="0" h="291">
                    <a:moveTo>
                      <a:pt x="0" y="29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878280" y="2908440"/>
                <a:ext cx="1440" cy="461880"/>
              </a:xfrm>
              <a:custGeom>
                <a:avLst/>
                <a:gdLst/>
                <a:ahLst/>
                <a:rect l="l" t="t" r="r" b="b"/>
                <a:pathLst>
                  <a:path w="0" h="291">
                    <a:moveTo>
                      <a:pt x="0" y="29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849840" y="2898720"/>
                <a:ext cx="1440" cy="471600"/>
              </a:xfrm>
              <a:custGeom>
                <a:avLst/>
                <a:gdLst/>
                <a:ahLst/>
                <a:rect l="l" t="t" r="r" b="b"/>
                <a:pathLst>
                  <a:path w="0" h="297">
                    <a:moveTo>
                      <a:pt x="0" y="29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830760" y="2889360"/>
                <a:ext cx="1440" cy="480960"/>
              </a:xfrm>
              <a:custGeom>
                <a:avLst/>
                <a:gdLst/>
                <a:ahLst/>
                <a:rect l="l" t="t" r="r" b="b"/>
                <a:pathLst>
                  <a:path w="0" h="303">
                    <a:moveTo>
                      <a:pt x="0" y="30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811680" y="2879640"/>
                <a:ext cx="1440" cy="490680"/>
              </a:xfrm>
              <a:custGeom>
                <a:avLst/>
                <a:gdLst/>
                <a:ahLst/>
                <a:rect l="l" t="t" r="r" b="b"/>
                <a:pathLst>
                  <a:path w="0" h="309">
                    <a:moveTo>
                      <a:pt x="0" y="30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792600" y="2870280"/>
                <a:ext cx="1440" cy="500040"/>
              </a:xfrm>
              <a:custGeom>
                <a:avLst/>
                <a:gdLst/>
                <a:ahLst/>
                <a:rect l="l" t="t" r="r" b="b"/>
                <a:pathLst>
                  <a:path w="0" h="315">
                    <a:moveTo>
                      <a:pt x="0" y="31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763800" y="2860560"/>
                <a:ext cx="1800" cy="509760"/>
              </a:xfrm>
              <a:custGeom>
                <a:avLst/>
                <a:gdLst/>
                <a:ahLst/>
                <a:rect l="l" t="t" r="r" b="b"/>
                <a:pathLst>
                  <a:path w="0" h="321">
                    <a:moveTo>
                      <a:pt x="0" y="32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743280" y="2860560"/>
                <a:ext cx="1800" cy="509760"/>
              </a:xfrm>
              <a:custGeom>
                <a:avLst/>
                <a:gdLst/>
                <a:ahLst/>
                <a:rect l="l" t="t" r="r" b="b"/>
                <a:pathLst>
                  <a:path w="0" h="321">
                    <a:moveTo>
                      <a:pt x="0" y="32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724200" y="2851200"/>
                <a:ext cx="1800" cy="509400"/>
              </a:xfrm>
              <a:custGeom>
                <a:avLst/>
                <a:gdLst/>
                <a:ahLst/>
                <a:rect l="l" t="t" r="r" b="b"/>
                <a:pathLst>
                  <a:path w="0" h="321">
                    <a:moveTo>
                      <a:pt x="0" y="32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695760" y="2841480"/>
                <a:ext cx="1440" cy="519120"/>
              </a:xfrm>
              <a:custGeom>
                <a:avLst/>
                <a:gdLst/>
                <a:ahLst/>
                <a:rect l="l" t="t" r="r" b="b"/>
                <a:pathLst>
                  <a:path w="0" h="327">
                    <a:moveTo>
                      <a:pt x="0" y="32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676680" y="2832120"/>
                <a:ext cx="1440" cy="528480"/>
              </a:xfrm>
              <a:custGeom>
                <a:avLst/>
                <a:gdLst/>
                <a:ahLst/>
                <a:rect l="l" t="t" r="r" b="b"/>
                <a:pathLst>
                  <a:path w="0" h="333">
                    <a:moveTo>
                      <a:pt x="0" y="33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657600" y="2820960"/>
                <a:ext cx="1440" cy="539640"/>
              </a:xfrm>
              <a:custGeom>
                <a:avLst/>
                <a:gdLst/>
                <a:ahLst/>
                <a:rect l="l" t="t" r="r" b="b"/>
                <a:pathLst>
                  <a:path w="0" h="340">
                    <a:moveTo>
                      <a:pt x="0" y="34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638520" y="2820960"/>
                <a:ext cx="1440" cy="539640"/>
              </a:xfrm>
              <a:custGeom>
                <a:avLst/>
                <a:gdLst/>
                <a:ahLst/>
                <a:rect l="l" t="t" r="r" b="b"/>
                <a:pathLst>
                  <a:path w="0" h="340">
                    <a:moveTo>
                      <a:pt x="0" y="34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610080" y="2811600"/>
                <a:ext cx="1440" cy="549000"/>
              </a:xfrm>
              <a:custGeom>
                <a:avLst/>
                <a:gdLst/>
                <a:ahLst/>
                <a:rect l="l" t="t" r="r" b="b"/>
                <a:pathLst>
                  <a:path w="0" h="346">
                    <a:moveTo>
                      <a:pt x="0" y="34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591000" y="2801880"/>
                <a:ext cx="1440" cy="558720"/>
              </a:xfrm>
              <a:custGeom>
                <a:avLst/>
                <a:gdLst/>
                <a:ahLst/>
                <a:rect l="l" t="t" r="r" b="b"/>
                <a:pathLst>
                  <a:path w="0" h="352">
                    <a:moveTo>
                      <a:pt x="0" y="35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570120" y="2792520"/>
                <a:ext cx="1800" cy="568080"/>
              </a:xfrm>
              <a:custGeom>
                <a:avLst/>
                <a:gdLst/>
                <a:ahLst/>
                <a:rect l="l" t="t" r="r" b="b"/>
                <a:pathLst>
                  <a:path w="0" h="358">
                    <a:moveTo>
                      <a:pt x="0" y="35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551400" y="2792520"/>
                <a:ext cx="1440" cy="558720"/>
              </a:xfrm>
              <a:custGeom>
                <a:avLst/>
                <a:gdLst/>
                <a:ahLst/>
                <a:rect l="l" t="t" r="r" b="b"/>
                <a:pathLst>
                  <a:path w="0" h="352">
                    <a:moveTo>
                      <a:pt x="0" y="35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522600" y="2782800"/>
                <a:ext cx="1800" cy="568440"/>
              </a:xfrm>
              <a:custGeom>
                <a:avLst/>
                <a:gdLst/>
                <a:ahLst/>
                <a:rect l="l" t="t" r="r" b="b"/>
                <a:pathLst>
                  <a:path w="0" h="358">
                    <a:moveTo>
                      <a:pt x="0" y="35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503520" y="2773440"/>
                <a:ext cx="1800" cy="577800"/>
              </a:xfrm>
              <a:custGeom>
                <a:avLst/>
                <a:gdLst/>
                <a:ahLst/>
                <a:rect l="l" t="t" r="r" b="b"/>
                <a:pathLst>
                  <a:path w="0" h="364">
                    <a:moveTo>
                      <a:pt x="0" y="36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484440" y="2763720"/>
                <a:ext cx="1800" cy="587520"/>
              </a:xfrm>
              <a:custGeom>
                <a:avLst/>
                <a:gdLst/>
                <a:ahLst/>
                <a:rect l="l" t="t" r="r" b="b"/>
                <a:pathLst>
                  <a:path w="0" h="370">
                    <a:moveTo>
                      <a:pt x="0" y="37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465360" y="2763720"/>
                <a:ext cx="1800" cy="587520"/>
              </a:xfrm>
              <a:custGeom>
                <a:avLst/>
                <a:gdLst/>
                <a:ahLst/>
                <a:rect l="l" t="t" r="r" b="b"/>
                <a:pathLst>
                  <a:path w="0" h="370">
                    <a:moveTo>
                      <a:pt x="0" y="37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436920" y="2754360"/>
                <a:ext cx="1440" cy="596880"/>
              </a:xfrm>
              <a:custGeom>
                <a:avLst/>
                <a:gdLst/>
                <a:ahLst/>
                <a:rect l="l" t="t" r="r" b="b"/>
                <a:pathLst>
                  <a:path w="0" h="376">
                    <a:moveTo>
                      <a:pt x="0" y="37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417840" y="2744640"/>
                <a:ext cx="1800" cy="596880"/>
              </a:xfrm>
              <a:custGeom>
                <a:avLst/>
                <a:gdLst/>
                <a:ahLst/>
                <a:rect l="l" t="t" r="r" b="b"/>
                <a:pathLst>
                  <a:path w="0" h="376">
                    <a:moveTo>
                      <a:pt x="0" y="37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397320" y="2744640"/>
                <a:ext cx="1440" cy="596880"/>
              </a:xfrm>
              <a:custGeom>
                <a:avLst/>
                <a:gdLst/>
                <a:ahLst/>
                <a:rect l="l" t="t" r="r" b="b"/>
                <a:pathLst>
                  <a:path w="0" h="376">
                    <a:moveTo>
                      <a:pt x="0" y="37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378240" y="2735280"/>
                <a:ext cx="1440" cy="606240"/>
              </a:xfrm>
              <a:custGeom>
                <a:avLst/>
                <a:gdLst/>
                <a:ahLst/>
                <a:rect l="l" t="t" r="r" b="b"/>
                <a:pathLst>
                  <a:path w="0" h="382">
                    <a:moveTo>
                      <a:pt x="0" y="38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349800" y="2725560"/>
                <a:ext cx="1440" cy="615960"/>
              </a:xfrm>
              <a:custGeom>
                <a:avLst/>
                <a:gdLst/>
                <a:ahLst/>
                <a:rect l="l" t="t" r="r" b="b"/>
                <a:pathLst>
                  <a:path w="0" h="388">
                    <a:moveTo>
                      <a:pt x="0" y="38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330720" y="2725560"/>
                <a:ext cx="1440" cy="615960"/>
              </a:xfrm>
              <a:custGeom>
                <a:avLst/>
                <a:gdLst/>
                <a:ahLst/>
                <a:rect l="l" t="t" r="r" b="b"/>
                <a:pathLst>
                  <a:path w="0" h="388">
                    <a:moveTo>
                      <a:pt x="0" y="38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311640" y="2716200"/>
                <a:ext cx="1440" cy="614520"/>
              </a:xfrm>
              <a:custGeom>
                <a:avLst/>
                <a:gdLst/>
                <a:ahLst/>
                <a:rect l="l" t="t" r="r" b="b"/>
                <a:pathLst>
                  <a:path w="0" h="387">
                    <a:moveTo>
                      <a:pt x="0" y="38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282840" y="2706840"/>
                <a:ext cx="1800" cy="623880"/>
              </a:xfrm>
              <a:custGeom>
                <a:avLst/>
                <a:gdLst/>
                <a:ahLst/>
                <a:rect l="l" t="t" r="r" b="b"/>
                <a:pathLst>
                  <a:path w="0" h="393">
                    <a:moveTo>
                      <a:pt x="0" y="39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263760" y="2706840"/>
                <a:ext cx="1800" cy="623880"/>
              </a:xfrm>
              <a:custGeom>
                <a:avLst/>
                <a:gdLst/>
                <a:ahLst/>
                <a:rect l="l" t="t" r="r" b="b"/>
                <a:pathLst>
                  <a:path w="0" h="393">
                    <a:moveTo>
                      <a:pt x="0" y="39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244680" y="2697120"/>
                <a:ext cx="1800" cy="633600"/>
              </a:xfrm>
              <a:custGeom>
                <a:avLst/>
                <a:gdLst/>
                <a:ahLst/>
                <a:rect l="l" t="t" r="r" b="b"/>
                <a:pathLst>
                  <a:path w="0" h="399">
                    <a:moveTo>
                      <a:pt x="0" y="39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224160" y="2697120"/>
                <a:ext cx="1800" cy="633600"/>
              </a:xfrm>
              <a:custGeom>
                <a:avLst/>
                <a:gdLst/>
                <a:ahLst/>
                <a:rect l="l" t="t" r="r" b="b"/>
                <a:pathLst>
                  <a:path w="0" h="399">
                    <a:moveTo>
                      <a:pt x="0" y="39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195720" y="2687760"/>
                <a:ext cx="1440" cy="633240"/>
              </a:xfrm>
              <a:custGeom>
                <a:avLst/>
                <a:gdLst/>
                <a:ahLst/>
                <a:rect l="l" t="t" r="r" b="b"/>
                <a:pathLst>
                  <a:path w="0" h="399">
                    <a:moveTo>
                      <a:pt x="0" y="39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1304640" y="1450800"/>
              <a:ext cx="4840200" cy="6946920"/>
              <a:chOff x="1304640" y="1450800"/>
              <a:chExt cx="4840200" cy="6946920"/>
            </a:xfrm>
          </p:grpSpPr>
          <p:sp>
            <p:nvSpPr>
              <p:cNvPr id="983" name=""/>
              <p:cNvSpPr/>
              <p:nvPr/>
            </p:nvSpPr>
            <p:spPr>
              <a:xfrm>
                <a:off x="3176640" y="2678040"/>
                <a:ext cx="1440" cy="642960"/>
              </a:xfrm>
              <a:custGeom>
                <a:avLst/>
                <a:gdLst/>
                <a:ahLst/>
                <a:rect l="l" t="t" r="r" b="b"/>
                <a:pathLst>
                  <a:path w="0" h="405">
                    <a:moveTo>
                      <a:pt x="0" y="40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157560" y="2678040"/>
                <a:ext cx="1440" cy="642960"/>
              </a:xfrm>
              <a:custGeom>
                <a:avLst/>
                <a:gdLst/>
                <a:ahLst/>
                <a:rect l="l" t="t" r="r" b="b"/>
                <a:pathLst>
                  <a:path w="0" h="405">
                    <a:moveTo>
                      <a:pt x="0" y="40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138480" y="2668680"/>
                <a:ext cx="1440" cy="652320"/>
              </a:xfrm>
              <a:custGeom>
                <a:avLst/>
                <a:gdLst/>
                <a:ahLst/>
                <a:rect l="l" t="t" r="r" b="b"/>
                <a:pathLst>
                  <a:path w="0" h="411">
                    <a:moveTo>
                      <a:pt x="0" y="4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110040" y="2668680"/>
                <a:ext cx="1440" cy="642960"/>
              </a:xfrm>
              <a:custGeom>
                <a:avLst/>
                <a:gdLst/>
                <a:ahLst/>
                <a:rect l="l" t="t" r="r" b="b"/>
                <a:pathLst>
                  <a:path w="0" h="405">
                    <a:moveTo>
                      <a:pt x="0" y="40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090960" y="2658960"/>
                <a:ext cx="1440" cy="652680"/>
              </a:xfrm>
              <a:custGeom>
                <a:avLst/>
                <a:gdLst/>
                <a:ahLst/>
                <a:rect l="l" t="t" r="r" b="b"/>
                <a:pathLst>
                  <a:path w="0" h="411">
                    <a:moveTo>
                      <a:pt x="0" y="4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071880" y="2658960"/>
                <a:ext cx="1440" cy="652680"/>
              </a:xfrm>
              <a:custGeom>
                <a:avLst/>
                <a:gdLst/>
                <a:ahLst/>
                <a:rect l="l" t="t" r="r" b="b"/>
                <a:pathLst>
                  <a:path w="0" h="411">
                    <a:moveTo>
                      <a:pt x="0" y="4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052800" y="2647800"/>
                <a:ext cx="1440" cy="663840"/>
              </a:xfrm>
              <a:custGeom>
                <a:avLst/>
                <a:gdLst/>
                <a:ahLst/>
                <a:rect l="l" t="t" r="r" b="b"/>
                <a:pathLst>
                  <a:path w="0" h="418">
                    <a:moveTo>
                      <a:pt x="0" y="41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022560" y="2647800"/>
                <a:ext cx="1800" cy="654120"/>
              </a:xfrm>
              <a:custGeom>
                <a:avLst/>
                <a:gdLst/>
                <a:ahLst/>
                <a:rect l="l" t="t" r="r" b="b"/>
                <a:pathLst>
                  <a:path w="0" h="412">
                    <a:moveTo>
                      <a:pt x="0" y="41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003480" y="2638440"/>
                <a:ext cx="1800" cy="663480"/>
              </a:xfrm>
              <a:custGeom>
                <a:avLst/>
                <a:gdLst/>
                <a:ahLst/>
                <a:rect l="l" t="t" r="r" b="b"/>
                <a:pathLst>
                  <a:path w="0" h="418">
                    <a:moveTo>
                      <a:pt x="0" y="41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984400" y="2638440"/>
                <a:ext cx="1800" cy="663480"/>
              </a:xfrm>
              <a:custGeom>
                <a:avLst/>
                <a:gdLst/>
                <a:ahLst/>
                <a:rect l="l" t="t" r="r" b="b"/>
                <a:pathLst>
                  <a:path w="0" h="418">
                    <a:moveTo>
                      <a:pt x="0" y="41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955960" y="2629080"/>
                <a:ext cx="1440" cy="67284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936880" y="2629080"/>
                <a:ext cx="1440" cy="67284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2917800" y="2619360"/>
                <a:ext cx="1440" cy="67320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898720" y="2619360"/>
                <a:ext cx="1800" cy="67320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2868480" y="2619360"/>
                <a:ext cx="1800" cy="67320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849400" y="2610000"/>
                <a:ext cx="1800" cy="67284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830680" y="2610000"/>
                <a:ext cx="1440" cy="67284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811600" y="2600280"/>
                <a:ext cx="144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2782800" y="2600280"/>
                <a:ext cx="180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763720" y="2600280"/>
                <a:ext cx="1800" cy="67320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2744640" y="2590920"/>
                <a:ext cx="180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725560" y="2590920"/>
                <a:ext cx="180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695680" y="2590920"/>
                <a:ext cx="144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676600" y="2581200"/>
                <a:ext cx="144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657520" y="2581200"/>
                <a:ext cx="144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629080" y="2581200"/>
                <a:ext cx="144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610000" y="2571840"/>
                <a:ext cx="1440" cy="691920"/>
              </a:xfrm>
              <a:custGeom>
                <a:avLst/>
                <a:gdLst/>
                <a:ahLst/>
                <a:rect l="l" t="t" r="r" b="b"/>
                <a:pathLst>
                  <a:path w="0" h="436">
                    <a:moveTo>
                      <a:pt x="0" y="4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590920" y="2571840"/>
                <a:ext cx="144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571840" y="2571840"/>
                <a:ext cx="144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543040" y="2562120"/>
                <a:ext cx="1800" cy="692280"/>
              </a:xfrm>
              <a:custGeom>
                <a:avLst/>
                <a:gdLst/>
                <a:ahLst/>
                <a:rect l="l" t="t" r="r" b="b"/>
                <a:pathLst>
                  <a:path w="0" h="436">
                    <a:moveTo>
                      <a:pt x="0" y="4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523960" y="2562120"/>
                <a:ext cx="1800" cy="692280"/>
              </a:xfrm>
              <a:custGeom>
                <a:avLst/>
                <a:gdLst/>
                <a:ahLst/>
                <a:rect l="l" t="t" r="r" b="b"/>
                <a:pathLst>
                  <a:path w="0" h="436">
                    <a:moveTo>
                      <a:pt x="0" y="4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503440" y="2562120"/>
                <a:ext cx="180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484360" y="2552760"/>
                <a:ext cx="1800" cy="691920"/>
              </a:xfrm>
              <a:custGeom>
                <a:avLst/>
                <a:gdLst/>
                <a:ahLst/>
                <a:rect l="l" t="t" r="r" b="b"/>
                <a:pathLst>
                  <a:path w="0" h="436">
                    <a:moveTo>
                      <a:pt x="0" y="4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455920" y="2552760"/>
                <a:ext cx="1440" cy="691920"/>
              </a:xfrm>
              <a:custGeom>
                <a:avLst/>
                <a:gdLst/>
                <a:ahLst/>
                <a:rect l="l" t="t" r="r" b="b"/>
                <a:pathLst>
                  <a:path w="0" h="436">
                    <a:moveTo>
                      <a:pt x="0" y="4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436840" y="2552760"/>
                <a:ext cx="1440" cy="691920"/>
              </a:xfrm>
              <a:custGeom>
                <a:avLst/>
                <a:gdLst/>
                <a:ahLst/>
                <a:rect l="l" t="t" r="r" b="b"/>
                <a:pathLst>
                  <a:path w="0" h="436">
                    <a:moveTo>
                      <a:pt x="0" y="4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417760" y="2552760"/>
                <a:ext cx="144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398680" y="2543040"/>
                <a:ext cx="1800" cy="692280"/>
              </a:xfrm>
              <a:custGeom>
                <a:avLst/>
                <a:gdLst/>
                <a:ahLst/>
                <a:rect l="l" t="t" r="r" b="b"/>
                <a:pathLst>
                  <a:path w="0" h="436">
                    <a:moveTo>
                      <a:pt x="0" y="4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370240" y="2543040"/>
                <a:ext cx="1440" cy="692280"/>
              </a:xfrm>
              <a:custGeom>
                <a:avLst/>
                <a:gdLst/>
                <a:ahLst/>
                <a:rect l="l" t="t" r="r" b="b"/>
                <a:pathLst>
                  <a:path w="0" h="436">
                    <a:moveTo>
                      <a:pt x="0" y="4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351160" y="2543040"/>
                <a:ext cx="1440" cy="692280"/>
              </a:xfrm>
              <a:custGeom>
                <a:avLst/>
                <a:gdLst/>
                <a:ahLst/>
                <a:rect l="l" t="t" r="r" b="b"/>
                <a:pathLst>
                  <a:path w="0" h="436">
                    <a:moveTo>
                      <a:pt x="0" y="4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330280" y="2543040"/>
                <a:ext cx="1800" cy="68292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311560" y="2533680"/>
                <a:ext cx="1440" cy="692280"/>
              </a:xfrm>
              <a:custGeom>
                <a:avLst/>
                <a:gdLst/>
                <a:ahLst/>
                <a:rect l="l" t="t" r="r" b="b"/>
                <a:pathLst>
                  <a:path w="0" h="436">
                    <a:moveTo>
                      <a:pt x="0" y="4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282760" y="2533680"/>
                <a:ext cx="1800" cy="692280"/>
              </a:xfrm>
              <a:custGeom>
                <a:avLst/>
                <a:gdLst/>
                <a:ahLst/>
                <a:rect l="l" t="t" r="r" b="b"/>
                <a:pathLst>
                  <a:path w="0" h="436">
                    <a:moveTo>
                      <a:pt x="0" y="4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263680" y="2533680"/>
                <a:ext cx="180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244600" y="2533680"/>
                <a:ext cx="180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216160" y="2533680"/>
                <a:ext cx="144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197080" y="2523960"/>
                <a:ext cx="1440" cy="692280"/>
              </a:xfrm>
              <a:custGeom>
                <a:avLst/>
                <a:gdLst/>
                <a:ahLst/>
                <a:rect l="l" t="t" r="r" b="b"/>
                <a:pathLst>
                  <a:path w="0" h="436">
                    <a:moveTo>
                      <a:pt x="0" y="4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178000" y="2523960"/>
                <a:ext cx="1800" cy="68292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157480" y="2523960"/>
                <a:ext cx="1440" cy="68292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128680" y="2523960"/>
                <a:ext cx="1800" cy="68292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109960" y="2523960"/>
                <a:ext cx="1440" cy="68292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090880" y="2523960"/>
                <a:ext cx="1440" cy="67320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2071800" y="2514600"/>
                <a:ext cx="144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2043000" y="2514600"/>
                <a:ext cx="180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023920" y="2514600"/>
                <a:ext cx="180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004840" y="2514600"/>
                <a:ext cx="1800" cy="67320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984320" y="2514600"/>
                <a:ext cx="1800" cy="67320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955880" y="2514600"/>
                <a:ext cx="1440" cy="67320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936800" y="2505240"/>
                <a:ext cx="144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917720" y="2505240"/>
                <a:ext cx="1440" cy="67284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889280" y="2505240"/>
                <a:ext cx="1440" cy="67284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870200" y="2505240"/>
                <a:ext cx="1440" cy="67284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851120" y="2505240"/>
                <a:ext cx="1440" cy="67284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832040" y="2505240"/>
                <a:ext cx="1440" cy="67284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801800" y="2505240"/>
                <a:ext cx="1440" cy="663480"/>
              </a:xfrm>
              <a:custGeom>
                <a:avLst/>
                <a:gdLst/>
                <a:ahLst/>
                <a:rect l="l" t="t" r="r" b="b"/>
                <a:pathLst>
                  <a:path w="0" h="418">
                    <a:moveTo>
                      <a:pt x="0" y="41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782720" y="2505240"/>
                <a:ext cx="1800" cy="663480"/>
              </a:xfrm>
              <a:custGeom>
                <a:avLst/>
                <a:gdLst/>
                <a:ahLst/>
                <a:rect l="l" t="t" r="r" b="b"/>
                <a:pathLst>
                  <a:path w="0" h="418">
                    <a:moveTo>
                      <a:pt x="0" y="41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763640" y="2495520"/>
                <a:ext cx="1800" cy="67320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744560" y="2495520"/>
                <a:ext cx="1800" cy="67320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744560" y="2668680"/>
                <a:ext cx="4354560" cy="585720"/>
              </a:xfrm>
              <a:custGeom>
                <a:avLst/>
                <a:gdLst/>
                <a:ahLst/>
                <a:rect l="l" t="t" r="r" b="b"/>
                <a:pathLst>
                  <a:path w="2743" h="369">
                    <a:moveTo>
                      <a:pt x="2743" y="0"/>
                    </a:moveTo>
                    <a:lnTo>
                      <a:pt x="2725" y="0"/>
                    </a:lnTo>
                    <a:lnTo>
                      <a:pt x="2712" y="0"/>
                    </a:lnTo>
                    <a:lnTo>
                      <a:pt x="2700" y="0"/>
                    </a:lnTo>
                    <a:lnTo>
                      <a:pt x="2688" y="0"/>
                    </a:lnTo>
                    <a:lnTo>
                      <a:pt x="2670" y="0"/>
                    </a:lnTo>
                    <a:lnTo>
                      <a:pt x="2658" y="0"/>
                    </a:lnTo>
                    <a:lnTo>
                      <a:pt x="2646" y="0"/>
                    </a:lnTo>
                    <a:lnTo>
                      <a:pt x="2634" y="0"/>
                    </a:lnTo>
                    <a:lnTo>
                      <a:pt x="2616" y="0"/>
                    </a:lnTo>
                    <a:lnTo>
                      <a:pt x="2603" y="0"/>
                    </a:lnTo>
                    <a:lnTo>
                      <a:pt x="2591" y="0"/>
                    </a:lnTo>
                    <a:lnTo>
                      <a:pt x="2573" y="0"/>
                    </a:lnTo>
                    <a:lnTo>
                      <a:pt x="2561" y="0"/>
                    </a:lnTo>
                    <a:lnTo>
                      <a:pt x="2549" y="0"/>
                    </a:lnTo>
                    <a:lnTo>
                      <a:pt x="2537" y="6"/>
                    </a:lnTo>
                    <a:lnTo>
                      <a:pt x="2519" y="6"/>
                    </a:lnTo>
                    <a:lnTo>
                      <a:pt x="2507" y="12"/>
                    </a:lnTo>
                    <a:lnTo>
                      <a:pt x="2495" y="18"/>
                    </a:lnTo>
                    <a:lnTo>
                      <a:pt x="2482" y="24"/>
                    </a:lnTo>
                    <a:lnTo>
                      <a:pt x="2464" y="30"/>
                    </a:lnTo>
                    <a:lnTo>
                      <a:pt x="2452" y="36"/>
                    </a:lnTo>
                    <a:lnTo>
                      <a:pt x="2440" y="42"/>
                    </a:lnTo>
                    <a:lnTo>
                      <a:pt x="2428" y="54"/>
                    </a:lnTo>
                    <a:lnTo>
                      <a:pt x="2410" y="66"/>
                    </a:lnTo>
                    <a:lnTo>
                      <a:pt x="2398" y="78"/>
                    </a:lnTo>
                    <a:lnTo>
                      <a:pt x="2386" y="90"/>
                    </a:lnTo>
                    <a:lnTo>
                      <a:pt x="2367" y="103"/>
                    </a:lnTo>
                    <a:lnTo>
                      <a:pt x="2355" y="115"/>
                    </a:lnTo>
                    <a:lnTo>
                      <a:pt x="2343" y="127"/>
                    </a:lnTo>
                    <a:lnTo>
                      <a:pt x="2331" y="139"/>
                    </a:lnTo>
                    <a:lnTo>
                      <a:pt x="2313" y="151"/>
                    </a:lnTo>
                    <a:lnTo>
                      <a:pt x="2301" y="169"/>
                    </a:lnTo>
                    <a:lnTo>
                      <a:pt x="2289" y="181"/>
                    </a:lnTo>
                    <a:lnTo>
                      <a:pt x="2277" y="193"/>
                    </a:lnTo>
                    <a:lnTo>
                      <a:pt x="2258" y="205"/>
                    </a:lnTo>
                    <a:lnTo>
                      <a:pt x="2246" y="218"/>
                    </a:lnTo>
                    <a:lnTo>
                      <a:pt x="2234" y="230"/>
                    </a:lnTo>
                    <a:lnTo>
                      <a:pt x="2222" y="242"/>
                    </a:lnTo>
                    <a:lnTo>
                      <a:pt x="2204" y="248"/>
                    </a:lnTo>
                    <a:lnTo>
                      <a:pt x="2192" y="260"/>
                    </a:lnTo>
                    <a:lnTo>
                      <a:pt x="2180" y="272"/>
                    </a:lnTo>
                    <a:lnTo>
                      <a:pt x="2162" y="278"/>
                    </a:lnTo>
                    <a:lnTo>
                      <a:pt x="2149" y="290"/>
                    </a:lnTo>
                    <a:lnTo>
                      <a:pt x="2137" y="296"/>
                    </a:lnTo>
                    <a:lnTo>
                      <a:pt x="2125" y="302"/>
                    </a:lnTo>
                    <a:lnTo>
                      <a:pt x="2107" y="308"/>
                    </a:lnTo>
                    <a:lnTo>
                      <a:pt x="2095" y="315"/>
                    </a:lnTo>
                    <a:lnTo>
                      <a:pt x="2083" y="321"/>
                    </a:lnTo>
                    <a:lnTo>
                      <a:pt x="2071" y="327"/>
                    </a:lnTo>
                    <a:lnTo>
                      <a:pt x="2053" y="333"/>
                    </a:lnTo>
                    <a:lnTo>
                      <a:pt x="2040" y="339"/>
                    </a:lnTo>
                    <a:lnTo>
                      <a:pt x="2028" y="345"/>
                    </a:lnTo>
                    <a:lnTo>
                      <a:pt x="2016" y="345"/>
                    </a:lnTo>
                    <a:lnTo>
                      <a:pt x="1998" y="351"/>
                    </a:lnTo>
                    <a:lnTo>
                      <a:pt x="1986" y="351"/>
                    </a:lnTo>
                    <a:lnTo>
                      <a:pt x="1974" y="357"/>
                    </a:lnTo>
                    <a:lnTo>
                      <a:pt x="1962" y="357"/>
                    </a:lnTo>
                    <a:lnTo>
                      <a:pt x="1944" y="363"/>
                    </a:lnTo>
                    <a:lnTo>
                      <a:pt x="1931" y="363"/>
                    </a:lnTo>
                    <a:lnTo>
                      <a:pt x="1919" y="363"/>
                    </a:lnTo>
                    <a:lnTo>
                      <a:pt x="1901" y="363"/>
                    </a:lnTo>
                    <a:lnTo>
                      <a:pt x="1889" y="363"/>
                    </a:lnTo>
                    <a:lnTo>
                      <a:pt x="1877" y="363"/>
                    </a:lnTo>
                    <a:lnTo>
                      <a:pt x="1865" y="369"/>
                    </a:lnTo>
                    <a:lnTo>
                      <a:pt x="1847" y="369"/>
                    </a:lnTo>
                    <a:lnTo>
                      <a:pt x="1835" y="369"/>
                    </a:lnTo>
                    <a:lnTo>
                      <a:pt x="1822" y="369"/>
                    </a:lnTo>
                    <a:lnTo>
                      <a:pt x="1810" y="363"/>
                    </a:lnTo>
                    <a:lnTo>
                      <a:pt x="1792" y="363"/>
                    </a:lnTo>
                    <a:lnTo>
                      <a:pt x="1780" y="363"/>
                    </a:lnTo>
                    <a:lnTo>
                      <a:pt x="1768" y="363"/>
                    </a:lnTo>
                    <a:lnTo>
                      <a:pt x="1756" y="363"/>
                    </a:lnTo>
                    <a:lnTo>
                      <a:pt x="1738" y="363"/>
                    </a:lnTo>
                    <a:lnTo>
                      <a:pt x="1726" y="363"/>
                    </a:lnTo>
                    <a:lnTo>
                      <a:pt x="1713" y="357"/>
                    </a:lnTo>
                    <a:lnTo>
                      <a:pt x="1695" y="357"/>
                    </a:lnTo>
                    <a:lnTo>
                      <a:pt x="1683" y="357"/>
                    </a:lnTo>
                    <a:lnTo>
                      <a:pt x="1671" y="357"/>
                    </a:lnTo>
                    <a:lnTo>
                      <a:pt x="1659" y="351"/>
                    </a:lnTo>
                    <a:lnTo>
                      <a:pt x="1641" y="351"/>
                    </a:lnTo>
                    <a:lnTo>
                      <a:pt x="1629" y="351"/>
                    </a:lnTo>
                    <a:lnTo>
                      <a:pt x="1617" y="345"/>
                    </a:lnTo>
                    <a:lnTo>
                      <a:pt x="1605" y="345"/>
                    </a:lnTo>
                    <a:lnTo>
                      <a:pt x="1586" y="345"/>
                    </a:lnTo>
                    <a:lnTo>
                      <a:pt x="1574" y="339"/>
                    </a:lnTo>
                    <a:lnTo>
                      <a:pt x="1562" y="339"/>
                    </a:lnTo>
                    <a:lnTo>
                      <a:pt x="1550" y="339"/>
                    </a:lnTo>
                    <a:lnTo>
                      <a:pt x="1532" y="333"/>
                    </a:lnTo>
                    <a:lnTo>
                      <a:pt x="1520" y="333"/>
                    </a:lnTo>
                    <a:lnTo>
                      <a:pt x="1508" y="327"/>
                    </a:lnTo>
                    <a:lnTo>
                      <a:pt x="1496" y="327"/>
                    </a:lnTo>
                    <a:lnTo>
                      <a:pt x="1477" y="321"/>
                    </a:lnTo>
                    <a:lnTo>
                      <a:pt x="1465" y="321"/>
                    </a:lnTo>
                    <a:lnTo>
                      <a:pt x="1453" y="321"/>
                    </a:lnTo>
                    <a:lnTo>
                      <a:pt x="1435" y="315"/>
                    </a:lnTo>
                    <a:lnTo>
                      <a:pt x="1423" y="315"/>
                    </a:lnTo>
                    <a:lnTo>
                      <a:pt x="1411" y="308"/>
                    </a:lnTo>
                    <a:lnTo>
                      <a:pt x="1399" y="308"/>
                    </a:lnTo>
                    <a:lnTo>
                      <a:pt x="1381" y="302"/>
                    </a:lnTo>
                    <a:lnTo>
                      <a:pt x="1368" y="302"/>
                    </a:lnTo>
                    <a:lnTo>
                      <a:pt x="1356" y="296"/>
                    </a:lnTo>
                    <a:lnTo>
                      <a:pt x="1344" y="296"/>
                    </a:lnTo>
                    <a:lnTo>
                      <a:pt x="1326" y="290"/>
                    </a:lnTo>
                    <a:lnTo>
                      <a:pt x="1314" y="290"/>
                    </a:lnTo>
                    <a:lnTo>
                      <a:pt x="1302" y="290"/>
                    </a:lnTo>
                    <a:lnTo>
                      <a:pt x="1290" y="284"/>
                    </a:lnTo>
                    <a:lnTo>
                      <a:pt x="1272" y="284"/>
                    </a:lnTo>
                    <a:lnTo>
                      <a:pt x="1259" y="278"/>
                    </a:lnTo>
                    <a:lnTo>
                      <a:pt x="1247" y="278"/>
                    </a:lnTo>
                    <a:lnTo>
                      <a:pt x="1229" y="272"/>
                    </a:lnTo>
                    <a:lnTo>
                      <a:pt x="1217" y="272"/>
                    </a:lnTo>
                    <a:lnTo>
                      <a:pt x="1205" y="266"/>
                    </a:lnTo>
                    <a:lnTo>
                      <a:pt x="1193" y="266"/>
                    </a:lnTo>
                    <a:lnTo>
                      <a:pt x="1175" y="260"/>
                    </a:lnTo>
                    <a:lnTo>
                      <a:pt x="1163" y="260"/>
                    </a:lnTo>
                    <a:lnTo>
                      <a:pt x="1150" y="254"/>
                    </a:lnTo>
                    <a:lnTo>
                      <a:pt x="1138" y="254"/>
                    </a:lnTo>
                    <a:lnTo>
                      <a:pt x="1120" y="254"/>
                    </a:lnTo>
                    <a:lnTo>
                      <a:pt x="1108" y="248"/>
                    </a:lnTo>
                    <a:lnTo>
                      <a:pt x="1096" y="248"/>
                    </a:lnTo>
                    <a:lnTo>
                      <a:pt x="1084" y="242"/>
                    </a:lnTo>
                    <a:lnTo>
                      <a:pt x="1066" y="242"/>
                    </a:lnTo>
                    <a:lnTo>
                      <a:pt x="1054" y="236"/>
                    </a:lnTo>
                    <a:lnTo>
                      <a:pt x="1041" y="236"/>
                    </a:lnTo>
                    <a:lnTo>
                      <a:pt x="1029" y="230"/>
                    </a:lnTo>
                    <a:lnTo>
                      <a:pt x="1011" y="230"/>
                    </a:lnTo>
                    <a:lnTo>
                      <a:pt x="999" y="230"/>
                    </a:lnTo>
                    <a:lnTo>
                      <a:pt x="987" y="224"/>
                    </a:lnTo>
                    <a:lnTo>
                      <a:pt x="969" y="224"/>
                    </a:lnTo>
                    <a:lnTo>
                      <a:pt x="957" y="218"/>
                    </a:lnTo>
                    <a:lnTo>
                      <a:pt x="945" y="218"/>
                    </a:lnTo>
                    <a:lnTo>
                      <a:pt x="932" y="218"/>
                    </a:lnTo>
                    <a:lnTo>
                      <a:pt x="914" y="212"/>
                    </a:lnTo>
                    <a:lnTo>
                      <a:pt x="902" y="212"/>
                    </a:lnTo>
                    <a:lnTo>
                      <a:pt x="890" y="205"/>
                    </a:lnTo>
                    <a:lnTo>
                      <a:pt x="878" y="205"/>
                    </a:lnTo>
                    <a:lnTo>
                      <a:pt x="860" y="205"/>
                    </a:lnTo>
                    <a:lnTo>
                      <a:pt x="848" y="199"/>
                    </a:lnTo>
                    <a:lnTo>
                      <a:pt x="836" y="199"/>
                    </a:lnTo>
                    <a:lnTo>
                      <a:pt x="824" y="193"/>
                    </a:lnTo>
                    <a:lnTo>
                      <a:pt x="805" y="193"/>
                    </a:lnTo>
                    <a:lnTo>
                      <a:pt x="793" y="193"/>
                    </a:lnTo>
                    <a:lnTo>
                      <a:pt x="781" y="187"/>
                    </a:lnTo>
                    <a:lnTo>
                      <a:pt x="763" y="187"/>
                    </a:lnTo>
                    <a:lnTo>
                      <a:pt x="751" y="187"/>
                    </a:lnTo>
                    <a:lnTo>
                      <a:pt x="739" y="181"/>
                    </a:lnTo>
                    <a:lnTo>
                      <a:pt x="727" y="181"/>
                    </a:lnTo>
                    <a:lnTo>
                      <a:pt x="708" y="181"/>
                    </a:lnTo>
                    <a:lnTo>
                      <a:pt x="696" y="175"/>
                    </a:lnTo>
                    <a:lnTo>
                      <a:pt x="684" y="175"/>
                    </a:lnTo>
                    <a:lnTo>
                      <a:pt x="672" y="175"/>
                    </a:lnTo>
                    <a:lnTo>
                      <a:pt x="654" y="169"/>
                    </a:lnTo>
                    <a:lnTo>
                      <a:pt x="642" y="169"/>
                    </a:lnTo>
                    <a:lnTo>
                      <a:pt x="630" y="169"/>
                    </a:lnTo>
                    <a:lnTo>
                      <a:pt x="618" y="163"/>
                    </a:lnTo>
                    <a:lnTo>
                      <a:pt x="599" y="163"/>
                    </a:lnTo>
                    <a:lnTo>
                      <a:pt x="587" y="163"/>
                    </a:lnTo>
                    <a:lnTo>
                      <a:pt x="575" y="163"/>
                    </a:lnTo>
                    <a:lnTo>
                      <a:pt x="557" y="157"/>
                    </a:lnTo>
                    <a:lnTo>
                      <a:pt x="545" y="157"/>
                    </a:lnTo>
                    <a:lnTo>
                      <a:pt x="533" y="157"/>
                    </a:lnTo>
                    <a:lnTo>
                      <a:pt x="521" y="151"/>
                    </a:lnTo>
                    <a:lnTo>
                      <a:pt x="503" y="151"/>
                    </a:lnTo>
                    <a:lnTo>
                      <a:pt x="491" y="151"/>
                    </a:lnTo>
                    <a:lnTo>
                      <a:pt x="478" y="151"/>
                    </a:lnTo>
                    <a:lnTo>
                      <a:pt x="466" y="145"/>
                    </a:lnTo>
                    <a:lnTo>
                      <a:pt x="448" y="145"/>
                    </a:lnTo>
                    <a:lnTo>
                      <a:pt x="436" y="145"/>
                    </a:lnTo>
                    <a:lnTo>
                      <a:pt x="424" y="139"/>
                    </a:lnTo>
                    <a:lnTo>
                      <a:pt x="412" y="139"/>
                    </a:lnTo>
                    <a:lnTo>
                      <a:pt x="394" y="139"/>
                    </a:lnTo>
                    <a:lnTo>
                      <a:pt x="382" y="139"/>
                    </a:lnTo>
                    <a:lnTo>
                      <a:pt x="369" y="133"/>
                    </a:lnTo>
                    <a:lnTo>
                      <a:pt x="357" y="133"/>
                    </a:lnTo>
                    <a:lnTo>
                      <a:pt x="339" y="133"/>
                    </a:lnTo>
                    <a:lnTo>
                      <a:pt x="327" y="133"/>
                    </a:lnTo>
                    <a:lnTo>
                      <a:pt x="315" y="133"/>
                    </a:lnTo>
                    <a:lnTo>
                      <a:pt x="297" y="127"/>
                    </a:lnTo>
                    <a:lnTo>
                      <a:pt x="285" y="127"/>
                    </a:lnTo>
                    <a:lnTo>
                      <a:pt x="273" y="127"/>
                    </a:lnTo>
                    <a:lnTo>
                      <a:pt x="260" y="127"/>
                    </a:lnTo>
                    <a:lnTo>
                      <a:pt x="242" y="121"/>
                    </a:lnTo>
                    <a:lnTo>
                      <a:pt x="230" y="121"/>
                    </a:lnTo>
                    <a:lnTo>
                      <a:pt x="218" y="121"/>
                    </a:lnTo>
                    <a:lnTo>
                      <a:pt x="206" y="121"/>
                    </a:lnTo>
                    <a:lnTo>
                      <a:pt x="188" y="121"/>
                    </a:lnTo>
                    <a:lnTo>
                      <a:pt x="176" y="115"/>
                    </a:lnTo>
                    <a:lnTo>
                      <a:pt x="164" y="115"/>
                    </a:lnTo>
                    <a:lnTo>
                      <a:pt x="151" y="115"/>
                    </a:lnTo>
                    <a:lnTo>
                      <a:pt x="133" y="115"/>
                    </a:lnTo>
                    <a:lnTo>
                      <a:pt x="121" y="115"/>
                    </a:lnTo>
                    <a:lnTo>
                      <a:pt x="109" y="109"/>
                    </a:lnTo>
                    <a:lnTo>
                      <a:pt x="91" y="109"/>
                    </a:lnTo>
                    <a:lnTo>
                      <a:pt x="79" y="109"/>
                    </a:lnTo>
                    <a:lnTo>
                      <a:pt x="67" y="109"/>
                    </a:lnTo>
                    <a:lnTo>
                      <a:pt x="55" y="109"/>
                    </a:lnTo>
                    <a:lnTo>
                      <a:pt x="36" y="103"/>
                    </a:lnTo>
                    <a:lnTo>
                      <a:pt x="24" y="103"/>
                    </a:lnTo>
                    <a:lnTo>
                      <a:pt x="12" y="103"/>
                    </a:lnTo>
                    <a:lnTo>
                      <a:pt x="0" y="103"/>
                    </a:lnTo>
                  </a:path>
                </a:pathLst>
              </a:custGeom>
              <a:noFill/>
              <a:ln w="9360">
                <a:solidFill>
                  <a:srgbClr val="00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744560" y="2668680"/>
                <a:ext cx="4354560" cy="865080"/>
              </a:xfrm>
              <a:custGeom>
                <a:avLst/>
                <a:gdLst/>
                <a:ahLst/>
                <a:rect l="l" t="t" r="r" b="b"/>
                <a:pathLst>
                  <a:path w="2743" h="545">
                    <a:moveTo>
                      <a:pt x="2743" y="0"/>
                    </a:moveTo>
                    <a:lnTo>
                      <a:pt x="2725" y="0"/>
                    </a:lnTo>
                    <a:lnTo>
                      <a:pt x="2712" y="0"/>
                    </a:lnTo>
                    <a:lnTo>
                      <a:pt x="2700" y="0"/>
                    </a:lnTo>
                    <a:lnTo>
                      <a:pt x="2688" y="0"/>
                    </a:lnTo>
                    <a:lnTo>
                      <a:pt x="2670" y="0"/>
                    </a:lnTo>
                    <a:lnTo>
                      <a:pt x="2658" y="0"/>
                    </a:lnTo>
                    <a:lnTo>
                      <a:pt x="2646" y="0"/>
                    </a:lnTo>
                    <a:lnTo>
                      <a:pt x="2634" y="0"/>
                    </a:lnTo>
                    <a:lnTo>
                      <a:pt x="2616" y="0"/>
                    </a:lnTo>
                    <a:lnTo>
                      <a:pt x="2603" y="0"/>
                    </a:lnTo>
                    <a:lnTo>
                      <a:pt x="2591" y="6"/>
                    </a:lnTo>
                    <a:lnTo>
                      <a:pt x="2573" y="12"/>
                    </a:lnTo>
                    <a:lnTo>
                      <a:pt x="2561" y="18"/>
                    </a:lnTo>
                    <a:lnTo>
                      <a:pt x="2549" y="30"/>
                    </a:lnTo>
                    <a:lnTo>
                      <a:pt x="2537" y="42"/>
                    </a:lnTo>
                    <a:lnTo>
                      <a:pt x="2519" y="54"/>
                    </a:lnTo>
                    <a:lnTo>
                      <a:pt x="2507" y="66"/>
                    </a:lnTo>
                    <a:lnTo>
                      <a:pt x="2495" y="84"/>
                    </a:lnTo>
                    <a:lnTo>
                      <a:pt x="2482" y="103"/>
                    </a:lnTo>
                    <a:lnTo>
                      <a:pt x="2464" y="121"/>
                    </a:lnTo>
                    <a:lnTo>
                      <a:pt x="2452" y="145"/>
                    </a:lnTo>
                    <a:lnTo>
                      <a:pt x="2440" y="163"/>
                    </a:lnTo>
                    <a:lnTo>
                      <a:pt x="2428" y="181"/>
                    </a:lnTo>
                    <a:lnTo>
                      <a:pt x="2410" y="205"/>
                    </a:lnTo>
                    <a:lnTo>
                      <a:pt x="2398" y="224"/>
                    </a:lnTo>
                    <a:lnTo>
                      <a:pt x="2386" y="242"/>
                    </a:lnTo>
                    <a:lnTo>
                      <a:pt x="2367" y="266"/>
                    </a:lnTo>
                    <a:lnTo>
                      <a:pt x="2355" y="284"/>
                    </a:lnTo>
                    <a:lnTo>
                      <a:pt x="2343" y="302"/>
                    </a:lnTo>
                    <a:lnTo>
                      <a:pt x="2331" y="321"/>
                    </a:lnTo>
                    <a:lnTo>
                      <a:pt x="2313" y="339"/>
                    </a:lnTo>
                    <a:lnTo>
                      <a:pt x="2301" y="357"/>
                    </a:lnTo>
                    <a:lnTo>
                      <a:pt x="2289" y="375"/>
                    </a:lnTo>
                    <a:lnTo>
                      <a:pt x="2277" y="387"/>
                    </a:lnTo>
                    <a:lnTo>
                      <a:pt x="2258" y="405"/>
                    </a:lnTo>
                    <a:lnTo>
                      <a:pt x="2246" y="417"/>
                    </a:lnTo>
                    <a:lnTo>
                      <a:pt x="2234" y="436"/>
                    </a:lnTo>
                    <a:lnTo>
                      <a:pt x="2222" y="448"/>
                    </a:lnTo>
                    <a:lnTo>
                      <a:pt x="2204" y="460"/>
                    </a:lnTo>
                    <a:lnTo>
                      <a:pt x="2192" y="472"/>
                    </a:lnTo>
                    <a:lnTo>
                      <a:pt x="2180" y="484"/>
                    </a:lnTo>
                    <a:lnTo>
                      <a:pt x="2162" y="490"/>
                    </a:lnTo>
                    <a:lnTo>
                      <a:pt x="2149" y="502"/>
                    </a:lnTo>
                    <a:lnTo>
                      <a:pt x="2137" y="508"/>
                    </a:lnTo>
                    <a:lnTo>
                      <a:pt x="2125" y="514"/>
                    </a:lnTo>
                    <a:lnTo>
                      <a:pt x="2107" y="520"/>
                    </a:lnTo>
                    <a:lnTo>
                      <a:pt x="2095" y="526"/>
                    </a:lnTo>
                    <a:lnTo>
                      <a:pt x="2083" y="533"/>
                    </a:lnTo>
                    <a:lnTo>
                      <a:pt x="2071" y="539"/>
                    </a:lnTo>
                    <a:lnTo>
                      <a:pt x="2053" y="539"/>
                    </a:lnTo>
                    <a:lnTo>
                      <a:pt x="2040" y="545"/>
                    </a:lnTo>
                    <a:lnTo>
                      <a:pt x="2028" y="545"/>
                    </a:lnTo>
                    <a:lnTo>
                      <a:pt x="2016" y="545"/>
                    </a:lnTo>
                    <a:lnTo>
                      <a:pt x="1998" y="545"/>
                    </a:lnTo>
                    <a:lnTo>
                      <a:pt x="1986" y="545"/>
                    </a:lnTo>
                    <a:lnTo>
                      <a:pt x="1974" y="545"/>
                    </a:lnTo>
                    <a:lnTo>
                      <a:pt x="1962" y="545"/>
                    </a:lnTo>
                    <a:lnTo>
                      <a:pt x="1944" y="545"/>
                    </a:lnTo>
                    <a:lnTo>
                      <a:pt x="1931" y="539"/>
                    </a:lnTo>
                    <a:lnTo>
                      <a:pt x="1919" y="539"/>
                    </a:lnTo>
                    <a:lnTo>
                      <a:pt x="1901" y="533"/>
                    </a:lnTo>
                    <a:lnTo>
                      <a:pt x="1889" y="533"/>
                    </a:lnTo>
                    <a:lnTo>
                      <a:pt x="1877" y="533"/>
                    </a:lnTo>
                    <a:lnTo>
                      <a:pt x="1865" y="526"/>
                    </a:lnTo>
                    <a:lnTo>
                      <a:pt x="1847" y="520"/>
                    </a:lnTo>
                    <a:lnTo>
                      <a:pt x="1835" y="520"/>
                    </a:lnTo>
                    <a:lnTo>
                      <a:pt x="1822" y="514"/>
                    </a:lnTo>
                    <a:lnTo>
                      <a:pt x="1810" y="514"/>
                    </a:lnTo>
                    <a:lnTo>
                      <a:pt x="1792" y="508"/>
                    </a:lnTo>
                    <a:lnTo>
                      <a:pt x="1780" y="502"/>
                    </a:lnTo>
                    <a:lnTo>
                      <a:pt x="1768" y="502"/>
                    </a:lnTo>
                    <a:lnTo>
                      <a:pt x="1756" y="496"/>
                    </a:lnTo>
                    <a:lnTo>
                      <a:pt x="1738" y="496"/>
                    </a:lnTo>
                    <a:lnTo>
                      <a:pt x="1726" y="490"/>
                    </a:lnTo>
                    <a:lnTo>
                      <a:pt x="1713" y="484"/>
                    </a:lnTo>
                    <a:lnTo>
                      <a:pt x="1695" y="484"/>
                    </a:lnTo>
                    <a:lnTo>
                      <a:pt x="1683" y="478"/>
                    </a:lnTo>
                    <a:lnTo>
                      <a:pt x="1671" y="478"/>
                    </a:lnTo>
                    <a:lnTo>
                      <a:pt x="1659" y="472"/>
                    </a:lnTo>
                    <a:lnTo>
                      <a:pt x="1641" y="472"/>
                    </a:lnTo>
                    <a:lnTo>
                      <a:pt x="1629" y="466"/>
                    </a:lnTo>
                    <a:lnTo>
                      <a:pt x="1617" y="466"/>
                    </a:lnTo>
                    <a:lnTo>
                      <a:pt x="1605" y="466"/>
                    </a:lnTo>
                    <a:lnTo>
                      <a:pt x="1586" y="460"/>
                    </a:lnTo>
                    <a:lnTo>
                      <a:pt x="1574" y="460"/>
                    </a:lnTo>
                    <a:lnTo>
                      <a:pt x="1562" y="460"/>
                    </a:lnTo>
                    <a:lnTo>
                      <a:pt x="1550" y="454"/>
                    </a:lnTo>
                    <a:lnTo>
                      <a:pt x="1532" y="454"/>
                    </a:lnTo>
                    <a:lnTo>
                      <a:pt x="1520" y="454"/>
                    </a:lnTo>
                    <a:lnTo>
                      <a:pt x="1508" y="454"/>
                    </a:lnTo>
                    <a:lnTo>
                      <a:pt x="1496" y="454"/>
                    </a:lnTo>
                    <a:lnTo>
                      <a:pt x="1477" y="448"/>
                    </a:lnTo>
                    <a:lnTo>
                      <a:pt x="1465" y="448"/>
                    </a:lnTo>
                    <a:lnTo>
                      <a:pt x="1453" y="448"/>
                    </a:lnTo>
                    <a:lnTo>
                      <a:pt x="1435" y="448"/>
                    </a:lnTo>
                    <a:lnTo>
                      <a:pt x="1423" y="448"/>
                    </a:lnTo>
                    <a:lnTo>
                      <a:pt x="1411" y="448"/>
                    </a:lnTo>
                    <a:lnTo>
                      <a:pt x="1399" y="448"/>
                    </a:lnTo>
                    <a:lnTo>
                      <a:pt x="1381" y="448"/>
                    </a:lnTo>
                    <a:lnTo>
                      <a:pt x="1368" y="442"/>
                    </a:lnTo>
                    <a:lnTo>
                      <a:pt x="1356" y="442"/>
                    </a:lnTo>
                    <a:lnTo>
                      <a:pt x="1344" y="442"/>
                    </a:lnTo>
                    <a:lnTo>
                      <a:pt x="1326" y="442"/>
                    </a:lnTo>
                    <a:lnTo>
                      <a:pt x="1314" y="442"/>
                    </a:lnTo>
                    <a:lnTo>
                      <a:pt x="1302" y="442"/>
                    </a:lnTo>
                    <a:lnTo>
                      <a:pt x="1290" y="442"/>
                    </a:lnTo>
                    <a:lnTo>
                      <a:pt x="1272" y="442"/>
                    </a:lnTo>
                    <a:lnTo>
                      <a:pt x="1259" y="442"/>
                    </a:lnTo>
                    <a:lnTo>
                      <a:pt x="1247" y="436"/>
                    </a:lnTo>
                    <a:lnTo>
                      <a:pt x="1229" y="436"/>
                    </a:lnTo>
                    <a:lnTo>
                      <a:pt x="1217" y="436"/>
                    </a:lnTo>
                    <a:lnTo>
                      <a:pt x="1205" y="436"/>
                    </a:lnTo>
                    <a:lnTo>
                      <a:pt x="1193" y="436"/>
                    </a:lnTo>
                    <a:lnTo>
                      <a:pt x="1175" y="436"/>
                    </a:lnTo>
                    <a:lnTo>
                      <a:pt x="1163" y="436"/>
                    </a:lnTo>
                    <a:lnTo>
                      <a:pt x="1150" y="436"/>
                    </a:lnTo>
                    <a:lnTo>
                      <a:pt x="1138" y="430"/>
                    </a:lnTo>
                    <a:lnTo>
                      <a:pt x="1120" y="430"/>
                    </a:lnTo>
                    <a:lnTo>
                      <a:pt x="1108" y="430"/>
                    </a:lnTo>
                    <a:lnTo>
                      <a:pt x="1096" y="430"/>
                    </a:lnTo>
                    <a:lnTo>
                      <a:pt x="1084" y="430"/>
                    </a:lnTo>
                    <a:lnTo>
                      <a:pt x="1066" y="430"/>
                    </a:lnTo>
                    <a:lnTo>
                      <a:pt x="1054" y="424"/>
                    </a:lnTo>
                    <a:lnTo>
                      <a:pt x="1041" y="424"/>
                    </a:lnTo>
                    <a:lnTo>
                      <a:pt x="1029" y="424"/>
                    </a:lnTo>
                    <a:lnTo>
                      <a:pt x="1011" y="424"/>
                    </a:lnTo>
                    <a:lnTo>
                      <a:pt x="999" y="424"/>
                    </a:lnTo>
                    <a:lnTo>
                      <a:pt x="987" y="417"/>
                    </a:lnTo>
                    <a:lnTo>
                      <a:pt x="969" y="417"/>
                    </a:lnTo>
                    <a:lnTo>
                      <a:pt x="957" y="417"/>
                    </a:lnTo>
                    <a:lnTo>
                      <a:pt x="945" y="417"/>
                    </a:lnTo>
                    <a:lnTo>
                      <a:pt x="932" y="417"/>
                    </a:lnTo>
                    <a:lnTo>
                      <a:pt x="914" y="411"/>
                    </a:lnTo>
                    <a:lnTo>
                      <a:pt x="902" y="411"/>
                    </a:lnTo>
                    <a:lnTo>
                      <a:pt x="890" y="411"/>
                    </a:lnTo>
                    <a:lnTo>
                      <a:pt x="878" y="411"/>
                    </a:lnTo>
                    <a:lnTo>
                      <a:pt x="860" y="405"/>
                    </a:lnTo>
                    <a:lnTo>
                      <a:pt x="848" y="405"/>
                    </a:lnTo>
                    <a:lnTo>
                      <a:pt x="836" y="405"/>
                    </a:lnTo>
                    <a:lnTo>
                      <a:pt x="824" y="405"/>
                    </a:lnTo>
                    <a:lnTo>
                      <a:pt x="805" y="399"/>
                    </a:lnTo>
                    <a:lnTo>
                      <a:pt x="793" y="399"/>
                    </a:lnTo>
                    <a:lnTo>
                      <a:pt x="781" y="399"/>
                    </a:lnTo>
                    <a:lnTo>
                      <a:pt x="763" y="399"/>
                    </a:lnTo>
                    <a:lnTo>
                      <a:pt x="751" y="399"/>
                    </a:lnTo>
                    <a:lnTo>
                      <a:pt x="739" y="393"/>
                    </a:lnTo>
                    <a:lnTo>
                      <a:pt x="727" y="393"/>
                    </a:lnTo>
                    <a:lnTo>
                      <a:pt x="708" y="393"/>
                    </a:lnTo>
                    <a:lnTo>
                      <a:pt x="696" y="387"/>
                    </a:lnTo>
                    <a:lnTo>
                      <a:pt x="684" y="387"/>
                    </a:lnTo>
                    <a:lnTo>
                      <a:pt x="672" y="387"/>
                    </a:lnTo>
                    <a:lnTo>
                      <a:pt x="654" y="387"/>
                    </a:lnTo>
                    <a:lnTo>
                      <a:pt x="642" y="381"/>
                    </a:lnTo>
                    <a:lnTo>
                      <a:pt x="630" y="381"/>
                    </a:lnTo>
                    <a:lnTo>
                      <a:pt x="618" y="381"/>
                    </a:lnTo>
                    <a:lnTo>
                      <a:pt x="599" y="381"/>
                    </a:lnTo>
                    <a:lnTo>
                      <a:pt x="587" y="375"/>
                    </a:lnTo>
                    <a:lnTo>
                      <a:pt x="575" y="375"/>
                    </a:lnTo>
                    <a:lnTo>
                      <a:pt x="557" y="375"/>
                    </a:lnTo>
                    <a:lnTo>
                      <a:pt x="545" y="375"/>
                    </a:lnTo>
                    <a:lnTo>
                      <a:pt x="533" y="369"/>
                    </a:lnTo>
                    <a:lnTo>
                      <a:pt x="521" y="369"/>
                    </a:lnTo>
                    <a:lnTo>
                      <a:pt x="503" y="369"/>
                    </a:lnTo>
                    <a:lnTo>
                      <a:pt x="491" y="369"/>
                    </a:lnTo>
                    <a:lnTo>
                      <a:pt x="478" y="363"/>
                    </a:lnTo>
                    <a:lnTo>
                      <a:pt x="466" y="363"/>
                    </a:lnTo>
                    <a:lnTo>
                      <a:pt x="448" y="363"/>
                    </a:lnTo>
                    <a:lnTo>
                      <a:pt x="436" y="363"/>
                    </a:lnTo>
                    <a:lnTo>
                      <a:pt x="424" y="357"/>
                    </a:lnTo>
                    <a:lnTo>
                      <a:pt x="412" y="357"/>
                    </a:lnTo>
                    <a:lnTo>
                      <a:pt x="394" y="357"/>
                    </a:lnTo>
                    <a:lnTo>
                      <a:pt x="382" y="357"/>
                    </a:lnTo>
                    <a:lnTo>
                      <a:pt x="369" y="351"/>
                    </a:lnTo>
                    <a:lnTo>
                      <a:pt x="357" y="351"/>
                    </a:lnTo>
                    <a:lnTo>
                      <a:pt x="339" y="351"/>
                    </a:lnTo>
                    <a:lnTo>
                      <a:pt x="327" y="345"/>
                    </a:lnTo>
                    <a:lnTo>
                      <a:pt x="315" y="345"/>
                    </a:lnTo>
                    <a:lnTo>
                      <a:pt x="297" y="345"/>
                    </a:lnTo>
                    <a:lnTo>
                      <a:pt x="285" y="345"/>
                    </a:lnTo>
                    <a:lnTo>
                      <a:pt x="273" y="339"/>
                    </a:lnTo>
                    <a:lnTo>
                      <a:pt x="260" y="339"/>
                    </a:lnTo>
                    <a:lnTo>
                      <a:pt x="242" y="339"/>
                    </a:lnTo>
                    <a:lnTo>
                      <a:pt x="230" y="339"/>
                    </a:lnTo>
                    <a:lnTo>
                      <a:pt x="218" y="333"/>
                    </a:lnTo>
                    <a:lnTo>
                      <a:pt x="206" y="333"/>
                    </a:lnTo>
                    <a:lnTo>
                      <a:pt x="188" y="333"/>
                    </a:lnTo>
                    <a:lnTo>
                      <a:pt x="176" y="333"/>
                    </a:lnTo>
                    <a:lnTo>
                      <a:pt x="164" y="327"/>
                    </a:lnTo>
                    <a:lnTo>
                      <a:pt x="151" y="327"/>
                    </a:lnTo>
                    <a:lnTo>
                      <a:pt x="133" y="327"/>
                    </a:lnTo>
                    <a:lnTo>
                      <a:pt x="121" y="327"/>
                    </a:lnTo>
                    <a:lnTo>
                      <a:pt x="109" y="321"/>
                    </a:lnTo>
                    <a:lnTo>
                      <a:pt x="91" y="321"/>
                    </a:lnTo>
                    <a:lnTo>
                      <a:pt x="79" y="321"/>
                    </a:lnTo>
                    <a:lnTo>
                      <a:pt x="67" y="321"/>
                    </a:lnTo>
                    <a:lnTo>
                      <a:pt x="55" y="321"/>
                    </a:lnTo>
                    <a:lnTo>
                      <a:pt x="36" y="315"/>
                    </a:lnTo>
                    <a:lnTo>
                      <a:pt x="24" y="315"/>
                    </a:lnTo>
                    <a:lnTo>
                      <a:pt x="12" y="315"/>
                    </a:lnTo>
                    <a:lnTo>
                      <a:pt x="0" y="315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744560" y="2495520"/>
                <a:ext cx="4354560" cy="547560"/>
              </a:xfrm>
              <a:custGeom>
                <a:avLst/>
                <a:gdLst/>
                <a:ahLst/>
                <a:rect l="l" t="t" r="r" b="b"/>
                <a:pathLst>
                  <a:path w="2743" h="345">
                    <a:moveTo>
                      <a:pt x="2743" y="109"/>
                    </a:moveTo>
                    <a:lnTo>
                      <a:pt x="2725" y="109"/>
                    </a:lnTo>
                    <a:lnTo>
                      <a:pt x="2712" y="109"/>
                    </a:lnTo>
                    <a:lnTo>
                      <a:pt x="2700" y="109"/>
                    </a:lnTo>
                    <a:lnTo>
                      <a:pt x="2688" y="109"/>
                    </a:lnTo>
                    <a:lnTo>
                      <a:pt x="2670" y="109"/>
                    </a:lnTo>
                    <a:lnTo>
                      <a:pt x="2658" y="109"/>
                    </a:lnTo>
                    <a:lnTo>
                      <a:pt x="2646" y="109"/>
                    </a:lnTo>
                    <a:lnTo>
                      <a:pt x="2634" y="109"/>
                    </a:lnTo>
                    <a:lnTo>
                      <a:pt x="2616" y="109"/>
                    </a:lnTo>
                    <a:lnTo>
                      <a:pt x="2603" y="103"/>
                    </a:lnTo>
                    <a:lnTo>
                      <a:pt x="2591" y="103"/>
                    </a:lnTo>
                    <a:lnTo>
                      <a:pt x="2573" y="96"/>
                    </a:lnTo>
                    <a:lnTo>
                      <a:pt x="2561" y="90"/>
                    </a:lnTo>
                    <a:lnTo>
                      <a:pt x="2549" y="84"/>
                    </a:lnTo>
                    <a:lnTo>
                      <a:pt x="2537" y="78"/>
                    </a:lnTo>
                    <a:lnTo>
                      <a:pt x="2519" y="66"/>
                    </a:lnTo>
                    <a:lnTo>
                      <a:pt x="2507" y="60"/>
                    </a:lnTo>
                    <a:lnTo>
                      <a:pt x="2495" y="54"/>
                    </a:lnTo>
                    <a:lnTo>
                      <a:pt x="2482" y="48"/>
                    </a:lnTo>
                    <a:lnTo>
                      <a:pt x="2464" y="42"/>
                    </a:lnTo>
                    <a:lnTo>
                      <a:pt x="2452" y="36"/>
                    </a:lnTo>
                    <a:lnTo>
                      <a:pt x="2440" y="36"/>
                    </a:lnTo>
                    <a:lnTo>
                      <a:pt x="2428" y="36"/>
                    </a:lnTo>
                    <a:lnTo>
                      <a:pt x="2410" y="36"/>
                    </a:lnTo>
                    <a:lnTo>
                      <a:pt x="2398" y="36"/>
                    </a:lnTo>
                    <a:lnTo>
                      <a:pt x="2386" y="42"/>
                    </a:lnTo>
                    <a:lnTo>
                      <a:pt x="2367" y="48"/>
                    </a:lnTo>
                    <a:lnTo>
                      <a:pt x="2355" y="54"/>
                    </a:lnTo>
                    <a:lnTo>
                      <a:pt x="2343" y="60"/>
                    </a:lnTo>
                    <a:lnTo>
                      <a:pt x="2331" y="72"/>
                    </a:lnTo>
                    <a:lnTo>
                      <a:pt x="2313" y="78"/>
                    </a:lnTo>
                    <a:lnTo>
                      <a:pt x="2301" y="84"/>
                    </a:lnTo>
                    <a:lnTo>
                      <a:pt x="2289" y="96"/>
                    </a:lnTo>
                    <a:lnTo>
                      <a:pt x="2277" y="109"/>
                    </a:lnTo>
                    <a:lnTo>
                      <a:pt x="2258" y="115"/>
                    </a:lnTo>
                    <a:lnTo>
                      <a:pt x="2246" y="127"/>
                    </a:lnTo>
                    <a:lnTo>
                      <a:pt x="2234" y="133"/>
                    </a:lnTo>
                    <a:lnTo>
                      <a:pt x="2222" y="145"/>
                    </a:lnTo>
                    <a:lnTo>
                      <a:pt x="2204" y="151"/>
                    </a:lnTo>
                    <a:lnTo>
                      <a:pt x="2192" y="157"/>
                    </a:lnTo>
                    <a:lnTo>
                      <a:pt x="2180" y="169"/>
                    </a:lnTo>
                    <a:lnTo>
                      <a:pt x="2162" y="175"/>
                    </a:lnTo>
                    <a:lnTo>
                      <a:pt x="2149" y="187"/>
                    </a:lnTo>
                    <a:lnTo>
                      <a:pt x="2137" y="193"/>
                    </a:lnTo>
                    <a:lnTo>
                      <a:pt x="2125" y="199"/>
                    </a:lnTo>
                    <a:lnTo>
                      <a:pt x="2107" y="205"/>
                    </a:lnTo>
                    <a:lnTo>
                      <a:pt x="2095" y="218"/>
                    </a:lnTo>
                    <a:lnTo>
                      <a:pt x="2083" y="224"/>
                    </a:lnTo>
                    <a:lnTo>
                      <a:pt x="2071" y="230"/>
                    </a:lnTo>
                    <a:lnTo>
                      <a:pt x="2053" y="236"/>
                    </a:lnTo>
                    <a:lnTo>
                      <a:pt x="2040" y="242"/>
                    </a:lnTo>
                    <a:lnTo>
                      <a:pt x="2028" y="248"/>
                    </a:lnTo>
                    <a:lnTo>
                      <a:pt x="2016" y="254"/>
                    </a:lnTo>
                    <a:lnTo>
                      <a:pt x="1998" y="260"/>
                    </a:lnTo>
                    <a:lnTo>
                      <a:pt x="1986" y="266"/>
                    </a:lnTo>
                    <a:lnTo>
                      <a:pt x="1974" y="272"/>
                    </a:lnTo>
                    <a:lnTo>
                      <a:pt x="1962" y="278"/>
                    </a:lnTo>
                    <a:lnTo>
                      <a:pt x="1944" y="284"/>
                    </a:lnTo>
                    <a:lnTo>
                      <a:pt x="1931" y="290"/>
                    </a:lnTo>
                    <a:lnTo>
                      <a:pt x="1919" y="296"/>
                    </a:lnTo>
                    <a:lnTo>
                      <a:pt x="1901" y="302"/>
                    </a:lnTo>
                    <a:lnTo>
                      <a:pt x="1889" y="308"/>
                    </a:lnTo>
                    <a:lnTo>
                      <a:pt x="1877" y="308"/>
                    </a:lnTo>
                    <a:lnTo>
                      <a:pt x="1865" y="314"/>
                    </a:lnTo>
                    <a:lnTo>
                      <a:pt x="1847" y="321"/>
                    </a:lnTo>
                    <a:lnTo>
                      <a:pt x="1835" y="321"/>
                    </a:lnTo>
                    <a:lnTo>
                      <a:pt x="1822" y="327"/>
                    </a:lnTo>
                    <a:lnTo>
                      <a:pt x="1810" y="327"/>
                    </a:lnTo>
                    <a:lnTo>
                      <a:pt x="1792" y="333"/>
                    </a:lnTo>
                    <a:lnTo>
                      <a:pt x="1780" y="333"/>
                    </a:lnTo>
                    <a:lnTo>
                      <a:pt x="1768" y="339"/>
                    </a:lnTo>
                    <a:lnTo>
                      <a:pt x="1756" y="339"/>
                    </a:lnTo>
                    <a:lnTo>
                      <a:pt x="1738" y="339"/>
                    </a:lnTo>
                    <a:lnTo>
                      <a:pt x="1726" y="339"/>
                    </a:lnTo>
                    <a:lnTo>
                      <a:pt x="1713" y="345"/>
                    </a:lnTo>
                    <a:lnTo>
                      <a:pt x="1695" y="345"/>
                    </a:lnTo>
                    <a:lnTo>
                      <a:pt x="1683" y="345"/>
                    </a:lnTo>
                    <a:lnTo>
                      <a:pt x="1671" y="345"/>
                    </a:lnTo>
                    <a:lnTo>
                      <a:pt x="1659" y="345"/>
                    </a:lnTo>
                    <a:lnTo>
                      <a:pt x="1641" y="339"/>
                    </a:lnTo>
                    <a:lnTo>
                      <a:pt x="1629" y="339"/>
                    </a:lnTo>
                    <a:lnTo>
                      <a:pt x="1617" y="339"/>
                    </a:lnTo>
                    <a:lnTo>
                      <a:pt x="1605" y="339"/>
                    </a:lnTo>
                    <a:lnTo>
                      <a:pt x="1586" y="333"/>
                    </a:lnTo>
                    <a:lnTo>
                      <a:pt x="1574" y="333"/>
                    </a:lnTo>
                    <a:lnTo>
                      <a:pt x="1562" y="327"/>
                    </a:lnTo>
                    <a:lnTo>
                      <a:pt x="1550" y="327"/>
                    </a:lnTo>
                    <a:lnTo>
                      <a:pt x="1532" y="321"/>
                    </a:lnTo>
                    <a:lnTo>
                      <a:pt x="1520" y="321"/>
                    </a:lnTo>
                    <a:lnTo>
                      <a:pt x="1508" y="314"/>
                    </a:lnTo>
                    <a:lnTo>
                      <a:pt x="1496" y="308"/>
                    </a:lnTo>
                    <a:lnTo>
                      <a:pt x="1477" y="308"/>
                    </a:lnTo>
                    <a:lnTo>
                      <a:pt x="1465" y="302"/>
                    </a:lnTo>
                    <a:lnTo>
                      <a:pt x="1453" y="296"/>
                    </a:lnTo>
                    <a:lnTo>
                      <a:pt x="1435" y="290"/>
                    </a:lnTo>
                    <a:lnTo>
                      <a:pt x="1423" y="290"/>
                    </a:lnTo>
                    <a:lnTo>
                      <a:pt x="1411" y="284"/>
                    </a:lnTo>
                    <a:lnTo>
                      <a:pt x="1399" y="278"/>
                    </a:lnTo>
                    <a:lnTo>
                      <a:pt x="1381" y="272"/>
                    </a:lnTo>
                    <a:lnTo>
                      <a:pt x="1368" y="266"/>
                    </a:lnTo>
                    <a:lnTo>
                      <a:pt x="1356" y="260"/>
                    </a:lnTo>
                    <a:lnTo>
                      <a:pt x="1344" y="260"/>
                    </a:lnTo>
                    <a:lnTo>
                      <a:pt x="1326" y="254"/>
                    </a:lnTo>
                    <a:lnTo>
                      <a:pt x="1314" y="248"/>
                    </a:lnTo>
                    <a:lnTo>
                      <a:pt x="1302" y="242"/>
                    </a:lnTo>
                    <a:lnTo>
                      <a:pt x="1290" y="236"/>
                    </a:lnTo>
                    <a:lnTo>
                      <a:pt x="1272" y="230"/>
                    </a:lnTo>
                    <a:lnTo>
                      <a:pt x="1259" y="230"/>
                    </a:lnTo>
                    <a:lnTo>
                      <a:pt x="1247" y="224"/>
                    </a:lnTo>
                    <a:lnTo>
                      <a:pt x="1229" y="218"/>
                    </a:lnTo>
                    <a:lnTo>
                      <a:pt x="1217" y="212"/>
                    </a:lnTo>
                    <a:lnTo>
                      <a:pt x="1205" y="205"/>
                    </a:lnTo>
                    <a:lnTo>
                      <a:pt x="1193" y="205"/>
                    </a:lnTo>
                    <a:lnTo>
                      <a:pt x="1175" y="199"/>
                    </a:lnTo>
                    <a:lnTo>
                      <a:pt x="1163" y="193"/>
                    </a:lnTo>
                    <a:lnTo>
                      <a:pt x="1150" y="187"/>
                    </a:lnTo>
                    <a:lnTo>
                      <a:pt x="1138" y="187"/>
                    </a:lnTo>
                    <a:lnTo>
                      <a:pt x="1120" y="181"/>
                    </a:lnTo>
                    <a:lnTo>
                      <a:pt x="1108" y="175"/>
                    </a:lnTo>
                    <a:lnTo>
                      <a:pt x="1096" y="169"/>
                    </a:lnTo>
                    <a:lnTo>
                      <a:pt x="1084" y="169"/>
                    </a:lnTo>
                    <a:lnTo>
                      <a:pt x="1066" y="163"/>
                    </a:lnTo>
                    <a:lnTo>
                      <a:pt x="1054" y="157"/>
                    </a:lnTo>
                    <a:lnTo>
                      <a:pt x="1041" y="157"/>
                    </a:lnTo>
                    <a:lnTo>
                      <a:pt x="1029" y="151"/>
                    </a:lnTo>
                    <a:lnTo>
                      <a:pt x="1011" y="145"/>
                    </a:lnTo>
                    <a:lnTo>
                      <a:pt x="999" y="145"/>
                    </a:lnTo>
                    <a:lnTo>
                      <a:pt x="987" y="139"/>
                    </a:lnTo>
                    <a:lnTo>
                      <a:pt x="969" y="133"/>
                    </a:lnTo>
                    <a:lnTo>
                      <a:pt x="957" y="133"/>
                    </a:lnTo>
                    <a:lnTo>
                      <a:pt x="945" y="127"/>
                    </a:lnTo>
                    <a:lnTo>
                      <a:pt x="932" y="127"/>
                    </a:lnTo>
                    <a:lnTo>
                      <a:pt x="914" y="121"/>
                    </a:lnTo>
                    <a:lnTo>
                      <a:pt x="902" y="115"/>
                    </a:lnTo>
                    <a:lnTo>
                      <a:pt x="890" y="115"/>
                    </a:lnTo>
                    <a:lnTo>
                      <a:pt x="878" y="109"/>
                    </a:lnTo>
                    <a:lnTo>
                      <a:pt x="860" y="109"/>
                    </a:lnTo>
                    <a:lnTo>
                      <a:pt x="848" y="103"/>
                    </a:lnTo>
                    <a:lnTo>
                      <a:pt x="836" y="103"/>
                    </a:lnTo>
                    <a:lnTo>
                      <a:pt x="824" y="96"/>
                    </a:lnTo>
                    <a:lnTo>
                      <a:pt x="805" y="96"/>
                    </a:lnTo>
                    <a:lnTo>
                      <a:pt x="793" y="90"/>
                    </a:lnTo>
                    <a:lnTo>
                      <a:pt x="781" y="90"/>
                    </a:lnTo>
                    <a:lnTo>
                      <a:pt x="763" y="84"/>
                    </a:lnTo>
                    <a:lnTo>
                      <a:pt x="751" y="84"/>
                    </a:lnTo>
                    <a:lnTo>
                      <a:pt x="739" y="78"/>
                    </a:lnTo>
                    <a:lnTo>
                      <a:pt x="727" y="78"/>
                    </a:lnTo>
                    <a:lnTo>
                      <a:pt x="708" y="78"/>
                    </a:lnTo>
                    <a:lnTo>
                      <a:pt x="696" y="72"/>
                    </a:lnTo>
                    <a:lnTo>
                      <a:pt x="684" y="72"/>
                    </a:lnTo>
                    <a:lnTo>
                      <a:pt x="672" y="66"/>
                    </a:lnTo>
                    <a:lnTo>
                      <a:pt x="654" y="66"/>
                    </a:lnTo>
                    <a:lnTo>
                      <a:pt x="642" y="66"/>
                    </a:lnTo>
                    <a:lnTo>
                      <a:pt x="630" y="60"/>
                    </a:lnTo>
                    <a:lnTo>
                      <a:pt x="618" y="60"/>
                    </a:lnTo>
                    <a:lnTo>
                      <a:pt x="599" y="60"/>
                    </a:lnTo>
                    <a:lnTo>
                      <a:pt x="587" y="54"/>
                    </a:lnTo>
                    <a:lnTo>
                      <a:pt x="575" y="54"/>
                    </a:lnTo>
                    <a:lnTo>
                      <a:pt x="557" y="54"/>
                    </a:lnTo>
                    <a:lnTo>
                      <a:pt x="545" y="48"/>
                    </a:lnTo>
                    <a:lnTo>
                      <a:pt x="533" y="48"/>
                    </a:lnTo>
                    <a:lnTo>
                      <a:pt x="521" y="48"/>
                    </a:lnTo>
                    <a:lnTo>
                      <a:pt x="503" y="42"/>
                    </a:lnTo>
                    <a:lnTo>
                      <a:pt x="491" y="42"/>
                    </a:lnTo>
                    <a:lnTo>
                      <a:pt x="478" y="42"/>
                    </a:lnTo>
                    <a:lnTo>
                      <a:pt x="466" y="36"/>
                    </a:lnTo>
                    <a:lnTo>
                      <a:pt x="448" y="36"/>
                    </a:lnTo>
                    <a:lnTo>
                      <a:pt x="436" y="36"/>
                    </a:lnTo>
                    <a:lnTo>
                      <a:pt x="424" y="36"/>
                    </a:lnTo>
                    <a:lnTo>
                      <a:pt x="412" y="30"/>
                    </a:lnTo>
                    <a:lnTo>
                      <a:pt x="394" y="30"/>
                    </a:lnTo>
                    <a:lnTo>
                      <a:pt x="382" y="30"/>
                    </a:lnTo>
                    <a:lnTo>
                      <a:pt x="369" y="30"/>
                    </a:lnTo>
                    <a:lnTo>
                      <a:pt x="357" y="24"/>
                    </a:lnTo>
                    <a:lnTo>
                      <a:pt x="339" y="24"/>
                    </a:lnTo>
                    <a:lnTo>
                      <a:pt x="327" y="24"/>
                    </a:lnTo>
                    <a:lnTo>
                      <a:pt x="315" y="24"/>
                    </a:lnTo>
                    <a:lnTo>
                      <a:pt x="297" y="24"/>
                    </a:lnTo>
                    <a:lnTo>
                      <a:pt x="285" y="18"/>
                    </a:lnTo>
                    <a:lnTo>
                      <a:pt x="273" y="18"/>
                    </a:lnTo>
                    <a:lnTo>
                      <a:pt x="260" y="18"/>
                    </a:lnTo>
                    <a:lnTo>
                      <a:pt x="242" y="18"/>
                    </a:lnTo>
                    <a:lnTo>
                      <a:pt x="230" y="18"/>
                    </a:lnTo>
                    <a:lnTo>
                      <a:pt x="218" y="18"/>
                    </a:lnTo>
                    <a:lnTo>
                      <a:pt x="206" y="12"/>
                    </a:lnTo>
                    <a:lnTo>
                      <a:pt x="188" y="12"/>
                    </a:lnTo>
                    <a:lnTo>
                      <a:pt x="176" y="12"/>
                    </a:lnTo>
                    <a:lnTo>
                      <a:pt x="164" y="12"/>
                    </a:lnTo>
                    <a:lnTo>
                      <a:pt x="151" y="12"/>
                    </a:lnTo>
                    <a:lnTo>
                      <a:pt x="133" y="12"/>
                    </a:lnTo>
                    <a:lnTo>
                      <a:pt x="121" y="6"/>
                    </a:lnTo>
                    <a:lnTo>
                      <a:pt x="109" y="6"/>
                    </a:lnTo>
                    <a:lnTo>
                      <a:pt x="91" y="6"/>
                    </a:lnTo>
                    <a:lnTo>
                      <a:pt x="79" y="6"/>
                    </a:lnTo>
                    <a:lnTo>
                      <a:pt x="67" y="6"/>
                    </a:lnTo>
                    <a:lnTo>
                      <a:pt x="55" y="6"/>
                    </a:lnTo>
                    <a:lnTo>
                      <a:pt x="36" y="6"/>
                    </a:lnTo>
                    <a:lnTo>
                      <a:pt x="24" y="6"/>
                    </a:lnTo>
                    <a:lnTo>
                      <a:pt x="1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304640" y="4307040"/>
                <a:ext cx="374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-0.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304640" y="3594240"/>
                <a:ext cx="374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-0.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304640" y="2882880"/>
                <a:ext cx="374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-0.0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361880" y="2162160"/>
                <a:ext cx="31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0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361880" y="1450800"/>
                <a:ext cx="31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505160" y="4479840"/>
                <a:ext cx="49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00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640960" y="4479840"/>
                <a:ext cx="40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0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765600" y="4479840"/>
                <a:ext cx="31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899600" y="4479840"/>
                <a:ext cx="22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054120" y="44798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738240" y="472932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1735200" y="5349960"/>
                <a:ext cx="4363920" cy="299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735200" y="8340840"/>
                <a:ext cx="4363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1735200" y="5349960"/>
                <a:ext cx="4363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V="1">
                <a:off x="1735200" y="5349960"/>
                <a:ext cx="1440" cy="299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V="1">
                <a:off x="6099120" y="5349960"/>
                <a:ext cx="1800" cy="299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1706400" y="834084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706400" y="8215200"/>
                <a:ext cx="28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706400" y="810108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706400" y="7975440"/>
                <a:ext cx="28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706400" y="785988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706400" y="7734240"/>
                <a:ext cx="28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706400" y="762012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706400" y="750420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706400" y="7378560"/>
                <a:ext cx="28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706400" y="726444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706400" y="713916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706400" y="702324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706400" y="6897600"/>
                <a:ext cx="28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706400" y="678348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706400" y="6657840"/>
                <a:ext cx="28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706400" y="6541920"/>
                <a:ext cx="28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706400" y="642780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706400" y="630252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706400" y="618660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706400" y="606276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706400" y="594684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706400" y="5821200"/>
                <a:ext cx="28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706400" y="570564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706400" y="559116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706400" y="546588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706400" y="534996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677960" y="8340840"/>
                <a:ext cx="57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677960" y="7734240"/>
                <a:ext cx="57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677960" y="7139160"/>
                <a:ext cx="57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677960" y="6541920"/>
                <a:ext cx="57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677960" y="5946840"/>
                <a:ext cx="57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677960" y="5349960"/>
                <a:ext cx="57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V="1">
                <a:off x="173520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V="1">
                <a:off x="2062080" y="8340480"/>
                <a:ext cx="18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V="1">
                <a:off x="225432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238932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V="1">
                <a:off x="249408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V="1">
                <a:off x="2581200" y="8340480"/>
                <a:ext cx="18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V="1">
                <a:off x="265752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271620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277344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V="1">
                <a:off x="282096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V="1">
                <a:off x="3147840" y="8340480"/>
                <a:ext cx="18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V="1">
                <a:off x="334008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V="1">
                <a:off x="347508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V="1">
                <a:off x="357984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V="1">
                <a:off x="3666960" y="8340480"/>
                <a:ext cx="18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V="1">
                <a:off x="3743280" y="8340480"/>
                <a:ext cx="18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V="1">
                <a:off x="381168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V="1">
                <a:off x="385920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V="1">
                <a:off x="391644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V="1">
                <a:off x="4243320" y="8340480"/>
                <a:ext cx="18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V="1">
                <a:off x="443556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457056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V="1">
                <a:off x="467676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V="1">
                <a:off x="4762440" y="8340480"/>
                <a:ext cx="18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V="1">
                <a:off x="4840200" y="8340480"/>
                <a:ext cx="18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V="1">
                <a:off x="489744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495468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V="1">
                <a:off x="5003640" y="8340480"/>
                <a:ext cx="18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V="1">
                <a:off x="5329080" y="8340480"/>
                <a:ext cx="18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flipV="1">
                <a:off x="552132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V="1">
                <a:off x="565632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flipV="1">
                <a:off x="5762520" y="8340480"/>
                <a:ext cx="18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V="1">
                <a:off x="5848200" y="8340480"/>
                <a:ext cx="18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V="1">
                <a:off x="5925960" y="8340480"/>
                <a:ext cx="18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V="1">
                <a:off x="599292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V="1">
                <a:off x="604044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V="1">
                <a:off x="6099120" y="8340480"/>
                <a:ext cx="18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V="1">
                <a:off x="1735200" y="8340840"/>
                <a:ext cx="144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V="1">
                <a:off x="2820960" y="8340840"/>
                <a:ext cx="144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V="1">
                <a:off x="3916440" y="8340840"/>
                <a:ext cx="144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V="1">
                <a:off x="5003640" y="8340840"/>
                <a:ext cx="180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6099120" y="8340840"/>
                <a:ext cx="180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V="1">
                <a:off x="1735200" y="5349960"/>
                <a:ext cx="1440" cy="299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735200" y="8340840"/>
                <a:ext cx="4363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1735200" y="7139160"/>
                <a:ext cx="4363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012000" y="712944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983200" y="7120080"/>
                <a:ext cx="1800" cy="3780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964120" y="7091280"/>
                <a:ext cx="1800" cy="85680"/>
              </a:xfrm>
              <a:custGeom>
                <a:avLst/>
                <a:gdLst/>
                <a:ahLst/>
                <a:rect l="l" t="t" r="r" b="b"/>
                <a:pathLst>
                  <a:path w="0" h="54">
                    <a:moveTo>
                      <a:pt x="0" y="0"/>
                    </a:moveTo>
                    <a:lnTo>
                      <a:pt x="0" y="54"/>
                    </a:lnTo>
                    <a:lnTo>
                      <a:pt x="0" y="54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945040" y="7051680"/>
                <a:ext cx="1800" cy="144360"/>
              </a:xfrm>
              <a:custGeom>
                <a:avLst/>
                <a:gdLst/>
                <a:ahLst/>
                <a:rect l="l" t="t" r="r" b="b"/>
                <a:pathLst>
                  <a:path w="0" h="91">
                    <a:moveTo>
                      <a:pt x="0" y="0"/>
                    </a:moveTo>
                    <a:lnTo>
                      <a:pt x="0" y="91"/>
                    </a:lnTo>
                    <a:lnTo>
                      <a:pt x="0" y="91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916600" y="6994440"/>
                <a:ext cx="1440" cy="230400"/>
              </a:xfrm>
              <a:custGeom>
                <a:avLst/>
                <a:gdLst/>
                <a:ahLst/>
                <a:rect l="l" t="t" r="r" b="b"/>
                <a:pathLst>
                  <a:path w="0" h="145">
                    <a:moveTo>
                      <a:pt x="0" y="0"/>
                    </a:moveTo>
                    <a:lnTo>
                      <a:pt x="0" y="145"/>
                    </a:lnTo>
                    <a:lnTo>
                      <a:pt x="0" y="145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897520" y="6918480"/>
                <a:ext cx="1800" cy="345960"/>
              </a:xfrm>
              <a:custGeom>
                <a:avLst/>
                <a:gdLst/>
                <a:ahLst/>
                <a:rect l="l" t="t" r="r" b="b"/>
                <a:pathLst>
                  <a:path w="0" h="218">
                    <a:moveTo>
                      <a:pt x="0" y="0"/>
                    </a:moveTo>
                    <a:lnTo>
                      <a:pt x="0" y="218"/>
                    </a:lnTo>
                    <a:lnTo>
                      <a:pt x="0" y="218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877000" y="6831000"/>
                <a:ext cx="1440" cy="471600"/>
              </a:xfrm>
              <a:custGeom>
                <a:avLst/>
                <a:gdLst/>
                <a:ahLst/>
                <a:rect l="l" t="t" r="r" b="b"/>
                <a:pathLst>
                  <a:path w="0" h="297">
                    <a:moveTo>
                      <a:pt x="0" y="0"/>
                    </a:moveTo>
                    <a:lnTo>
                      <a:pt x="0" y="297"/>
                    </a:lnTo>
                    <a:lnTo>
                      <a:pt x="0" y="297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857920" y="6724800"/>
                <a:ext cx="1440" cy="625320"/>
              </a:xfrm>
              <a:custGeom>
                <a:avLst/>
                <a:gdLst/>
                <a:ahLst/>
                <a:rect l="l" t="t" r="r" b="b"/>
                <a:pathLst>
                  <a:path w="0" h="394">
                    <a:moveTo>
                      <a:pt x="0" y="0"/>
                    </a:moveTo>
                    <a:lnTo>
                      <a:pt x="0" y="394"/>
                    </a:lnTo>
                    <a:lnTo>
                      <a:pt x="0" y="394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829480" y="6610320"/>
                <a:ext cx="1440" cy="787320"/>
              </a:xfrm>
              <a:custGeom>
                <a:avLst/>
                <a:gdLst/>
                <a:ahLst/>
                <a:rect l="l" t="t" r="r" b="b"/>
                <a:pathLst>
                  <a:path w="0" h="496">
                    <a:moveTo>
                      <a:pt x="0" y="0"/>
                    </a:moveTo>
                    <a:lnTo>
                      <a:pt x="0" y="496"/>
                    </a:lnTo>
                    <a:lnTo>
                      <a:pt x="0" y="496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810400" y="6504120"/>
                <a:ext cx="1440" cy="942840"/>
              </a:xfrm>
              <a:custGeom>
                <a:avLst/>
                <a:gdLst/>
                <a:ahLst/>
                <a:rect l="l" t="t" r="r" b="b"/>
                <a:pathLst>
                  <a:path w="0" h="594">
                    <a:moveTo>
                      <a:pt x="0" y="0"/>
                    </a:moveTo>
                    <a:lnTo>
                      <a:pt x="0" y="594"/>
                    </a:lnTo>
                    <a:lnTo>
                      <a:pt x="0" y="594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791320" y="6388200"/>
                <a:ext cx="1440" cy="1096920"/>
              </a:xfrm>
              <a:custGeom>
                <a:avLst/>
                <a:gdLst/>
                <a:ahLst/>
                <a:rect l="l" t="t" r="r" b="b"/>
                <a:pathLst>
                  <a:path w="0" h="691">
                    <a:moveTo>
                      <a:pt x="0" y="0"/>
                    </a:moveTo>
                    <a:lnTo>
                      <a:pt x="0" y="691"/>
                    </a:lnTo>
                    <a:lnTo>
                      <a:pt x="0" y="691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772240" y="6273720"/>
                <a:ext cx="1440" cy="1249560"/>
              </a:xfrm>
              <a:custGeom>
                <a:avLst/>
                <a:gdLst/>
                <a:ahLst/>
                <a:rect l="l" t="t" r="r" b="b"/>
                <a:pathLst>
                  <a:path w="0" h="787">
                    <a:moveTo>
                      <a:pt x="0" y="0"/>
                    </a:moveTo>
                    <a:lnTo>
                      <a:pt x="0" y="787"/>
                    </a:lnTo>
                    <a:lnTo>
                      <a:pt x="0" y="787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743440" y="6167520"/>
                <a:ext cx="1800" cy="1393920"/>
              </a:xfrm>
              <a:custGeom>
                <a:avLst/>
                <a:gdLst/>
                <a:ahLst/>
                <a:rect l="l" t="t" r="r" b="b"/>
                <a:pathLst>
                  <a:path w="0" h="878">
                    <a:moveTo>
                      <a:pt x="0" y="0"/>
                    </a:moveTo>
                    <a:lnTo>
                      <a:pt x="0" y="878"/>
                    </a:lnTo>
                    <a:lnTo>
                      <a:pt x="0" y="878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724360" y="6081840"/>
                <a:ext cx="1800" cy="1498320"/>
              </a:xfrm>
              <a:custGeom>
                <a:avLst/>
                <a:gdLst/>
                <a:ahLst/>
                <a:rect l="l" t="t" r="r" b="b"/>
                <a:pathLst>
                  <a:path w="0" h="944">
                    <a:moveTo>
                      <a:pt x="0" y="0"/>
                    </a:moveTo>
                    <a:lnTo>
                      <a:pt x="0" y="944"/>
                    </a:lnTo>
                    <a:lnTo>
                      <a:pt x="0" y="944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705640" y="5994360"/>
                <a:ext cx="1440" cy="1616040"/>
              </a:xfrm>
              <a:custGeom>
                <a:avLst/>
                <a:gdLst/>
                <a:ahLst/>
                <a:rect l="l" t="t" r="r" b="b"/>
                <a:pathLst>
                  <a:path w="0" h="1018">
                    <a:moveTo>
                      <a:pt x="0" y="0"/>
                    </a:moveTo>
                    <a:lnTo>
                      <a:pt x="0" y="1018"/>
                    </a:lnTo>
                    <a:lnTo>
                      <a:pt x="0" y="1018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675400" y="5927760"/>
                <a:ext cx="1440" cy="1701720"/>
              </a:xfrm>
              <a:custGeom>
                <a:avLst/>
                <a:gdLst/>
                <a:ahLst/>
                <a:rect l="l" t="t" r="r" b="b"/>
                <a:pathLst>
                  <a:path w="0" h="1072">
                    <a:moveTo>
                      <a:pt x="0" y="0"/>
                    </a:moveTo>
                    <a:lnTo>
                      <a:pt x="0" y="1072"/>
                    </a:lnTo>
                    <a:lnTo>
                      <a:pt x="0" y="1072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656320" y="5869080"/>
                <a:ext cx="1440" cy="1760400"/>
              </a:xfrm>
              <a:custGeom>
                <a:avLst/>
                <a:gdLst/>
                <a:ahLst/>
                <a:rect l="l" t="t" r="r" b="b"/>
                <a:pathLst>
                  <a:path w="0" h="1109">
                    <a:moveTo>
                      <a:pt x="0" y="0"/>
                    </a:moveTo>
                    <a:lnTo>
                      <a:pt x="0" y="1109"/>
                    </a:lnTo>
                    <a:lnTo>
                      <a:pt x="0" y="1109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637240" y="5830920"/>
                <a:ext cx="1440" cy="1808280"/>
              </a:xfrm>
              <a:custGeom>
                <a:avLst/>
                <a:gdLst/>
                <a:ahLst/>
                <a:rect l="l" t="t" r="r" b="b"/>
                <a:pathLst>
                  <a:path w="0" h="1139">
                    <a:moveTo>
                      <a:pt x="0" y="0"/>
                    </a:moveTo>
                    <a:lnTo>
                      <a:pt x="0" y="1139"/>
                    </a:lnTo>
                    <a:lnTo>
                      <a:pt x="0" y="1139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618160" y="5802480"/>
                <a:ext cx="1440" cy="1836720"/>
              </a:xfrm>
              <a:custGeom>
                <a:avLst/>
                <a:gdLst/>
                <a:ahLst/>
                <a:rect l="l" t="t" r="r" b="b"/>
                <a:pathLst>
                  <a:path w="0" h="1157">
                    <a:moveTo>
                      <a:pt x="0" y="0"/>
                    </a:moveTo>
                    <a:lnTo>
                      <a:pt x="0" y="1157"/>
                    </a:lnTo>
                    <a:lnTo>
                      <a:pt x="0" y="1157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589720" y="5783400"/>
                <a:ext cx="1440" cy="1855800"/>
              </a:xfrm>
              <a:custGeom>
                <a:avLst/>
                <a:gdLst/>
                <a:ahLst/>
                <a:rect l="l" t="t" r="r" b="b"/>
                <a:pathLst>
                  <a:path w="0" h="1169">
                    <a:moveTo>
                      <a:pt x="0" y="0"/>
                    </a:moveTo>
                    <a:lnTo>
                      <a:pt x="0" y="1169"/>
                    </a:lnTo>
                    <a:lnTo>
                      <a:pt x="0" y="1169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570640" y="5773680"/>
                <a:ext cx="1440" cy="1855800"/>
              </a:xfrm>
              <a:custGeom>
                <a:avLst/>
                <a:gdLst/>
                <a:ahLst/>
                <a:rect l="l" t="t" r="r" b="b"/>
                <a:pathLst>
                  <a:path w="0" h="1169">
                    <a:moveTo>
                      <a:pt x="0" y="0"/>
                    </a:moveTo>
                    <a:lnTo>
                      <a:pt x="0" y="1169"/>
                    </a:lnTo>
                    <a:lnTo>
                      <a:pt x="0" y="1169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551560" y="5773680"/>
                <a:ext cx="1440" cy="1846440"/>
              </a:xfrm>
              <a:custGeom>
                <a:avLst/>
                <a:gdLst/>
                <a:ahLst/>
                <a:rect l="l" t="t" r="r" b="b"/>
                <a:pathLst>
                  <a:path w="0" h="1163">
                    <a:moveTo>
                      <a:pt x="0" y="0"/>
                    </a:moveTo>
                    <a:lnTo>
                      <a:pt x="0" y="1163"/>
                    </a:lnTo>
                    <a:lnTo>
                      <a:pt x="0" y="1163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532480" y="5792760"/>
                <a:ext cx="1440" cy="1817640"/>
              </a:xfrm>
              <a:custGeom>
                <a:avLst/>
                <a:gdLst/>
                <a:ahLst/>
                <a:rect l="l" t="t" r="r" b="b"/>
                <a:pathLst>
                  <a:path w="0" h="1145">
                    <a:moveTo>
                      <a:pt x="0" y="0"/>
                    </a:moveTo>
                    <a:lnTo>
                      <a:pt x="0" y="1145"/>
                    </a:lnTo>
                    <a:lnTo>
                      <a:pt x="0" y="1145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502240" y="5802480"/>
                <a:ext cx="1800" cy="1798560"/>
              </a:xfrm>
              <a:custGeom>
                <a:avLst/>
                <a:gdLst/>
                <a:ahLst/>
                <a:rect l="l" t="t" r="r" b="b"/>
                <a:pathLst>
                  <a:path w="0" h="1133">
                    <a:moveTo>
                      <a:pt x="0" y="0"/>
                    </a:moveTo>
                    <a:lnTo>
                      <a:pt x="0" y="1133"/>
                    </a:lnTo>
                    <a:lnTo>
                      <a:pt x="0" y="1133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483160" y="5830920"/>
                <a:ext cx="1800" cy="1760400"/>
              </a:xfrm>
              <a:custGeom>
                <a:avLst/>
                <a:gdLst/>
                <a:ahLst/>
                <a:rect l="l" t="t" r="r" b="b"/>
                <a:pathLst>
                  <a:path w="0" h="1109">
                    <a:moveTo>
                      <a:pt x="0" y="0"/>
                    </a:moveTo>
                    <a:lnTo>
                      <a:pt x="0" y="1109"/>
                    </a:lnTo>
                    <a:lnTo>
                      <a:pt x="0" y="1109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464080" y="5859360"/>
                <a:ext cx="1800" cy="1720800"/>
              </a:xfrm>
              <a:custGeom>
                <a:avLst/>
                <a:gdLst/>
                <a:ahLst/>
                <a:rect l="l" t="t" r="r" b="b"/>
                <a:pathLst>
                  <a:path w="0" h="1084">
                    <a:moveTo>
                      <a:pt x="0" y="0"/>
                    </a:moveTo>
                    <a:lnTo>
                      <a:pt x="0" y="1084"/>
                    </a:lnTo>
                    <a:lnTo>
                      <a:pt x="0" y="1084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445000" y="5899320"/>
                <a:ext cx="1800" cy="1662120"/>
              </a:xfrm>
              <a:custGeom>
                <a:avLst/>
                <a:gdLst/>
                <a:ahLst/>
                <a:rect l="l" t="t" r="r" b="b"/>
                <a:pathLst>
                  <a:path w="0" h="1047">
                    <a:moveTo>
                      <a:pt x="0" y="0"/>
                    </a:moveTo>
                    <a:lnTo>
                      <a:pt x="0" y="1047"/>
                    </a:lnTo>
                    <a:lnTo>
                      <a:pt x="0" y="1047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416560" y="5937120"/>
                <a:ext cx="1440" cy="1614600"/>
              </a:xfrm>
              <a:custGeom>
                <a:avLst/>
                <a:gdLst/>
                <a:ahLst/>
                <a:rect l="l" t="t" r="r" b="b"/>
                <a:pathLst>
                  <a:path w="0" h="1017">
                    <a:moveTo>
                      <a:pt x="0" y="0"/>
                    </a:moveTo>
                    <a:lnTo>
                      <a:pt x="0" y="1017"/>
                    </a:lnTo>
                    <a:lnTo>
                      <a:pt x="0" y="1017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397480" y="5975280"/>
                <a:ext cx="1440" cy="1567080"/>
              </a:xfrm>
              <a:custGeom>
                <a:avLst/>
                <a:gdLst/>
                <a:ahLst/>
                <a:rect l="l" t="t" r="r" b="b"/>
                <a:pathLst>
                  <a:path w="0" h="987">
                    <a:moveTo>
                      <a:pt x="0" y="0"/>
                    </a:moveTo>
                    <a:lnTo>
                      <a:pt x="0" y="987"/>
                    </a:lnTo>
                    <a:lnTo>
                      <a:pt x="0" y="987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378400" y="6013440"/>
                <a:ext cx="1800" cy="1519200"/>
              </a:xfrm>
              <a:custGeom>
                <a:avLst/>
                <a:gdLst/>
                <a:ahLst/>
                <a:rect l="l" t="t" r="r" b="b"/>
                <a:pathLst>
                  <a:path w="0" h="957">
                    <a:moveTo>
                      <a:pt x="0" y="0"/>
                    </a:moveTo>
                    <a:lnTo>
                      <a:pt x="0" y="957"/>
                    </a:lnTo>
                    <a:lnTo>
                      <a:pt x="0" y="957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348160" y="6062760"/>
                <a:ext cx="1800" cy="1460520"/>
              </a:xfrm>
              <a:custGeom>
                <a:avLst/>
                <a:gdLst/>
                <a:ahLst/>
                <a:rect l="l" t="t" r="r" b="b"/>
                <a:pathLst>
                  <a:path w="0" h="920">
                    <a:moveTo>
                      <a:pt x="0" y="0"/>
                    </a:moveTo>
                    <a:lnTo>
                      <a:pt x="0" y="920"/>
                    </a:lnTo>
                    <a:lnTo>
                      <a:pt x="0" y="920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329080" y="6100920"/>
                <a:ext cx="1800" cy="1403280"/>
              </a:xfrm>
              <a:custGeom>
                <a:avLst/>
                <a:gdLst/>
                <a:ahLst/>
                <a:rect l="l" t="t" r="r" b="b"/>
                <a:pathLst>
                  <a:path w="0" h="884">
                    <a:moveTo>
                      <a:pt x="0" y="0"/>
                    </a:moveTo>
                    <a:lnTo>
                      <a:pt x="0" y="884"/>
                    </a:lnTo>
                    <a:lnTo>
                      <a:pt x="0" y="884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310360" y="6148440"/>
                <a:ext cx="1440" cy="1346040"/>
              </a:xfrm>
              <a:custGeom>
                <a:avLst/>
                <a:gdLst/>
                <a:ahLst/>
                <a:rect l="l" t="t" r="r" b="b"/>
                <a:pathLst>
                  <a:path w="0" h="848">
                    <a:moveTo>
                      <a:pt x="0" y="0"/>
                    </a:moveTo>
                    <a:lnTo>
                      <a:pt x="0" y="848"/>
                    </a:lnTo>
                    <a:lnTo>
                      <a:pt x="0" y="848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291280" y="6186600"/>
                <a:ext cx="1440" cy="1298520"/>
              </a:xfrm>
              <a:custGeom>
                <a:avLst/>
                <a:gdLst/>
                <a:ahLst/>
                <a:rect l="l" t="t" r="r" b="b"/>
                <a:pathLst>
                  <a:path w="0" h="818">
                    <a:moveTo>
                      <a:pt x="0" y="0"/>
                    </a:moveTo>
                    <a:lnTo>
                      <a:pt x="0" y="818"/>
                    </a:lnTo>
                    <a:lnTo>
                      <a:pt x="0" y="818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262480" y="6235560"/>
                <a:ext cx="1800" cy="1239840"/>
              </a:xfrm>
              <a:custGeom>
                <a:avLst/>
                <a:gdLst/>
                <a:ahLst/>
                <a:rect l="l" t="t" r="r" b="b"/>
                <a:pathLst>
                  <a:path w="0" h="781">
                    <a:moveTo>
                      <a:pt x="0" y="0"/>
                    </a:moveTo>
                    <a:lnTo>
                      <a:pt x="0" y="781"/>
                    </a:lnTo>
                    <a:lnTo>
                      <a:pt x="0" y="781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243400" y="6273720"/>
                <a:ext cx="1800" cy="1192320"/>
              </a:xfrm>
              <a:custGeom>
                <a:avLst/>
                <a:gdLst/>
                <a:ahLst/>
                <a:rect l="l" t="t" r="r" b="b"/>
                <a:pathLst>
                  <a:path w="0" h="751">
                    <a:moveTo>
                      <a:pt x="0" y="0"/>
                    </a:moveTo>
                    <a:lnTo>
                      <a:pt x="0" y="751"/>
                    </a:lnTo>
                    <a:lnTo>
                      <a:pt x="0" y="751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224320" y="6311880"/>
                <a:ext cx="1800" cy="1144440"/>
              </a:xfrm>
              <a:custGeom>
                <a:avLst/>
                <a:gdLst/>
                <a:ahLst/>
                <a:rect l="l" t="t" r="r" b="b"/>
                <a:pathLst>
                  <a:path w="0" h="721">
                    <a:moveTo>
                      <a:pt x="0" y="0"/>
                    </a:moveTo>
                    <a:lnTo>
                      <a:pt x="0" y="721"/>
                    </a:lnTo>
                    <a:lnTo>
                      <a:pt x="0" y="721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3" name=""/>
            <p:cNvSpPr/>
            <p:nvPr/>
          </p:nvSpPr>
          <p:spPr>
            <a:xfrm>
              <a:off x="5205240" y="6359400"/>
              <a:ext cx="1800" cy="1087560"/>
            </a:xfrm>
            <a:custGeom>
              <a:avLst/>
              <a:gdLst/>
              <a:ahLst/>
              <a:rect l="l" t="t" r="r" b="b"/>
              <a:pathLst>
                <a:path w="0" h="685">
                  <a:moveTo>
                    <a:pt x="0" y="0"/>
                  </a:moveTo>
                  <a:lnTo>
                    <a:pt x="0" y="685"/>
                  </a:lnTo>
                  <a:lnTo>
                    <a:pt x="0" y="685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176800" y="6399360"/>
              <a:ext cx="1800" cy="1038240"/>
            </a:xfrm>
            <a:custGeom>
              <a:avLst/>
              <a:gdLst/>
              <a:ahLst/>
              <a:rect l="l" t="t" r="r" b="b"/>
              <a:pathLst>
                <a:path w="0" h="654">
                  <a:moveTo>
                    <a:pt x="0" y="0"/>
                  </a:moveTo>
                  <a:lnTo>
                    <a:pt x="0" y="654"/>
                  </a:lnTo>
                  <a:lnTo>
                    <a:pt x="0" y="654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156280" y="6427800"/>
              <a:ext cx="1440" cy="1000080"/>
            </a:xfrm>
            <a:custGeom>
              <a:avLst/>
              <a:gdLst/>
              <a:ahLst/>
              <a:rect l="l" t="t" r="r" b="b"/>
              <a:pathLst>
                <a:path w="0" h="630">
                  <a:moveTo>
                    <a:pt x="0" y="0"/>
                  </a:moveTo>
                  <a:lnTo>
                    <a:pt x="0" y="630"/>
                  </a:lnTo>
                  <a:lnTo>
                    <a:pt x="0" y="630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137200" y="6465960"/>
              <a:ext cx="1440" cy="952560"/>
            </a:xfrm>
            <a:custGeom>
              <a:avLst/>
              <a:gdLst/>
              <a:ahLst/>
              <a:rect l="l" t="t" r="r" b="b"/>
              <a:pathLst>
                <a:path w="0" h="600">
                  <a:moveTo>
                    <a:pt x="0" y="0"/>
                  </a:moveTo>
                  <a:lnTo>
                    <a:pt x="0" y="600"/>
                  </a:lnTo>
                  <a:lnTo>
                    <a:pt x="0" y="600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108400" y="6504120"/>
              <a:ext cx="1800" cy="903240"/>
            </a:xfrm>
            <a:custGeom>
              <a:avLst/>
              <a:gdLst/>
              <a:ahLst/>
              <a:rect l="l" t="t" r="r" b="b"/>
              <a:pathLst>
                <a:path w="0" h="569">
                  <a:moveTo>
                    <a:pt x="0" y="0"/>
                  </a:moveTo>
                  <a:lnTo>
                    <a:pt x="0" y="569"/>
                  </a:lnTo>
                  <a:lnTo>
                    <a:pt x="0" y="569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089680" y="6532560"/>
              <a:ext cx="1440" cy="865080"/>
            </a:xfrm>
            <a:custGeom>
              <a:avLst/>
              <a:gdLst/>
              <a:ahLst/>
              <a:rect l="l" t="t" r="r" b="b"/>
              <a:pathLst>
                <a:path w="0" h="545">
                  <a:moveTo>
                    <a:pt x="0" y="0"/>
                  </a:moveTo>
                  <a:lnTo>
                    <a:pt x="0" y="545"/>
                  </a:lnTo>
                  <a:lnTo>
                    <a:pt x="0" y="545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070600" y="6561000"/>
              <a:ext cx="1440" cy="827280"/>
            </a:xfrm>
            <a:custGeom>
              <a:avLst/>
              <a:gdLst/>
              <a:ahLst/>
              <a:rect l="l" t="t" r="r" b="b"/>
              <a:pathLst>
                <a:path w="0" h="521">
                  <a:moveTo>
                    <a:pt x="0" y="0"/>
                  </a:moveTo>
                  <a:lnTo>
                    <a:pt x="0" y="521"/>
                  </a:lnTo>
                  <a:lnTo>
                    <a:pt x="0" y="521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051520" y="6600960"/>
              <a:ext cx="1440" cy="777600"/>
            </a:xfrm>
            <a:custGeom>
              <a:avLst/>
              <a:gdLst/>
              <a:ahLst/>
              <a:rect l="l" t="t" r="r" b="b"/>
              <a:pathLst>
                <a:path w="0" h="490">
                  <a:moveTo>
                    <a:pt x="0" y="0"/>
                  </a:moveTo>
                  <a:lnTo>
                    <a:pt x="0" y="490"/>
                  </a:lnTo>
                  <a:lnTo>
                    <a:pt x="0" y="490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022720" y="6629400"/>
              <a:ext cx="1800" cy="739800"/>
            </a:xfrm>
            <a:custGeom>
              <a:avLst/>
              <a:gdLst/>
              <a:ahLst/>
              <a:rect l="l" t="t" r="r" b="b"/>
              <a:pathLst>
                <a:path w="0" h="466">
                  <a:moveTo>
                    <a:pt x="0" y="0"/>
                  </a:moveTo>
                  <a:lnTo>
                    <a:pt x="0" y="466"/>
                  </a:lnTo>
                  <a:lnTo>
                    <a:pt x="0" y="466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003640" y="6657840"/>
              <a:ext cx="1800" cy="701640"/>
            </a:xfrm>
            <a:custGeom>
              <a:avLst/>
              <a:gdLst/>
              <a:ahLst/>
              <a:rect l="l" t="t" r="r" b="b"/>
              <a:pathLst>
                <a:path w="0" h="442">
                  <a:moveTo>
                    <a:pt x="0" y="0"/>
                  </a:moveTo>
                  <a:lnTo>
                    <a:pt x="0" y="442"/>
                  </a:lnTo>
                  <a:lnTo>
                    <a:pt x="0" y="44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983120" y="6676920"/>
              <a:ext cx="1800" cy="673200"/>
            </a:xfrm>
            <a:custGeom>
              <a:avLst/>
              <a:gdLst/>
              <a:ahLst/>
              <a:rect l="l" t="t" r="r" b="b"/>
              <a:pathLst>
                <a:path w="0" h="424">
                  <a:moveTo>
                    <a:pt x="0" y="0"/>
                  </a:moveTo>
                  <a:lnTo>
                    <a:pt x="0" y="424"/>
                  </a:lnTo>
                  <a:lnTo>
                    <a:pt x="0" y="424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964040" y="6705720"/>
              <a:ext cx="1800" cy="635040"/>
            </a:xfrm>
            <a:custGeom>
              <a:avLst/>
              <a:gdLst/>
              <a:ahLst/>
              <a:rect l="l" t="t" r="r" b="b"/>
              <a:pathLst>
                <a:path w="0" h="400">
                  <a:moveTo>
                    <a:pt x="0" y="0"/>
                  </a:moveTo>
                  <a:lnTo>
                    <a:pt x="0" y="400"/>
                  </a:lnTo>
                  <a:lnTo>
                    <a:pt x="0" y="400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935600" y="6734160"/>
              <a:ext cx="1440" cy="606600"/>
            </a:xfrm>
            <a:custGeom>
              <a:avLst/>
              <a:gdLst/>
              <a:ahLst/>
              <a:rect l="l" t="t" r="r" b="b"/>
              <a:pathLst>
                <a:path w="0" h="382">
                  <a:moveTo>
                    <a:pt x="0" y="0"/>
                  </a:moveTo>
                  <a:lnTo>
                    <a:pt x="0" y="382"/>
                  </a:lnTo>
                  <a:lnTo>
                    <a:pt x="0" y="38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16520" y="6754680"/>
              <a:ext cx="1440" cy="576360"/>
            </a:xfrm>
            <a:custGeom>
              <a:avLst/>
              <a:gdLst/>
              <a:ahLst/>
              <a:rect l="l" t="t" r="r" b="b"/>
              <a:pathLst>
                <a:path w="0" h="363">
                  <a:moveTo>
                    <a:pt x="0" y="0"/>
                  </a:moveTo>
                  <a:lnTo>
                    <a:pt x="0" y="363"/>
                  </a:lnTo>
                  <a:lnTo>
                    <a:pt x="0" y="363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897440" y="6773760"/>
              <a:ext cx="1440" cy="547920"/>
            </a:xfrm>
            <a:custGeom>
              <a:avLst/>
              <a:gdLst/>
              <a:ahLst/>
              <a:rect l="l" t="t" r="r" b="b"/>
              <a:pathLst>
                <a:path w="0" h="345">
                  <a:moveTo>
                    <a:pt x="0" y="0"/>
                  </a:moveTo>
                  <a:lnTo>
                    <a:pt x="0" y="345"/>
                  </a:lnTo>
                  <a:lnTo>
                    <a:pt x="0" y="345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878360" y="6792840"/>
              <a:ext cx="1440" cy="519120"/>
            </a:xfrm>
            <a:custGeom>
              <a:avLst/>
              <a:gdLst/>
              <a:ahLst/>
              <a:rect l="l" t="t" r="r" b="b"/>
              <a:pathLst>
                <a:path w="0" h="327">
                  <a:moveTo>
                    <a:pt x="0" y="0"/>
                  </a:moveTo>
                  <a:lnTo>
                    <a:pt x="0" y="327"/>
                  </a:lnTo>
                  <a:lnTo>
                    <a:pt x="0" y="327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849920" y="6811920"/>
              <a:ext cx="1440" cy="490680"/>
            </a:xfrm>
            <a:custGeom>
              <a:avLst/>
              <a:gdLst/>
              <a:ahLst/>
              <a:rect l="l" t="t" r="r" b="b"/>
              <a:pathLst>
                <a:path w="0" h="309">
                  <a:moveTo>
                    <a:pt x="0" y="0"/>
                  </a:moveTo>
                  <a:lnTo>
                    <a:pt x="0" y="309"/>
                  </a:lnTo>
                  <a:lnTo>
                    <a:pt x="0" y="309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30840" y="6831000"/>
              <a:ext cx="1440" cy="471600"/>
            </a:xfrm>
            <a:custGeom>
              <a:avLst/>
              <a:gdLst/>
              <a:ahLst/>
              <a:rect l="l" t="t" r="r" b="b"/>
              <a:pathLst>
                <a:path w="0" h="297">
                  <a:moveTo>
                    <a:pt x="0" y="0"/>
                  </a:moveTo>
                  <a:lnTo>
                    <a:pt x="0" y="297"/>
                  </a:lnTo>
                  <a:lnTo>
                    <a:pt x="0" y="297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09960" y="6850080"/>
              <a:ext cx="1800" cy="442800"/>
            </a:xfrm>
            <a:custGeom>
              <a:avLst/>
              <a:gdLst/>
              <a:ahLst/>
              <a:rect l="l" t="t" r="r" b="b"/>
              <a:pathLst>
                <a:path w="0" h="279">
                  <a:moveTo>
                    <a:pt x="0" y="0"/>
                  </a:moveTo>
                  <a:lnTo>
                    <a:pt x="0" y="279"/>
                  </a:lnTo>
                  <a:lnTo>
                    <a:pt x="0" y="279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781520" y="6869160"/>
              <a:ext cx="1440" cy="414360"/>
            </a:xfrm>
            <a:custGeom>
              <a:avLst/>
              <a:gdLst/>
              <a:ahLst/>
              <a:rect l="l" t="t" r="r" b="b"/>
              <a:pathLst>
                <a:path w="0" h="261">
                  <a:moveTo>
                    <a:pt x="0" y="0"/>
                  </a:moveTo>
                  <a:lnTo>
                    <a:pt x="0" y="261"/>
                  </a:lnTo>
                  <a:lnTo>
                    <a:pt x="0" y="261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62440" y="6888240"/>
              <a:ext cx="1800" cy="395280"/>
            </a:xfrm>
            <a:custGeom>
              <a:avLst/>
              <a:gdLst/>
              <a:ahLst/>
              <a:rect l="l" t="t" r="r" b="b"/>
              <a:pathLst>
                <a:path w="0" h="249">
                  <a:moveTo>
                    <a:pt x="0" y="0"/>
                  </a:moveTo>
                  <a:lnTo>
                    <a:pt x="0" y="249"/>
                  </a:lnTo>
                  <a:lnTo>
                    <a:pt x="0" y="249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743360" y="6897600"/>
              <a:ext cx="1800" cy="376200"/>
            </a:xfrm>
            <a:custGeom>
              <a:avLst/>
              <a:gdLst/>
              <a:ahLst/>
              <a:rect l="l" t="t" r="r" b="b"/>
              <a:pathLst>
                <a:path w="0" h="237">
                  <a:moveTo>
                    <a:pt x="0" y="0"/>
                  </a:moveTo>
                  <a:lnTo>
                    <a:pt x="0" y="237"/>
                  </a:lnTo>
                  <a:lnTo>
                    <a:pt x="0" y="237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724280" y="6908760"/>
              <a:ext cx="1800" cy="355680"/>
            </a:xfrm>
            <a:custGeom>
              <a:avLst/>
              <a:gdLst/>
              <a:ahLst/>
              <a:rect l="l" t="t" r="r" b="b"/>
              <a:pathLst>
                <a:path w="0" h="224">
                  <a:moveTo>
                    <a:pt x="0" y="0"/>
                  </a:moveTo>
                  <a:lnTo>
                    <a:pt x="0" y="224"/>
                  </a:lnTo>
                  <a:lnTo>
                    <a:pt x="0" y="224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695840" y="6927840"/>
              <a:ext cx="1440" cy="336600"/>
            </a:xfrm>
            <a:custGeom>
              <a:avLst/>
              <a:gdLst/>
              <a:ahLst/>
              <a:rect l="l" t="t" r="r" b="b"/>
              <a:pathLst>
                <a:path w="0" h="212">
                  <a:moveTo>
                    <a:pt x="0" y="0"/>
                  </a:moveTo>
                  <a:lnTo>
                    <a:pt x="0" y="212"/>
                  </a:lnTo>
                  <a:lnTo>
                    <a:pt x="0" y="21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76760" y="6937200"/>
              <a:ext cx="1440" cy="317520"/>
            </a:xfrm>
            <a:custGeom>
              <a:avLst/>
              <a:gdLst/>
              <a:ahLst/>
              <a:rect l="l" t="t" r="r" b="b"/>
              <a:pathLst>
                <a:path w="0" h="200">
                  <a:moveTo>
                    <a:pt x="0" y="0"/>
                  </a:moveTo>
                  <a:lnTo>
                    <a:pt x="0" y="200"/>
                  </a:lnTo>
                  <a:lnTo>
                    <a:pt x="0" y="200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657680" y="6946920"/>
              <a:ext cx="1800" cy="307800"/>
            </a:xfrm>
            <a:custGeom>
              <a:avLst/>
              <a:gdLst/>
              <a:ahLst/>
              <a:rect l="l" t="t" r="r" b="b"/>
              <a:pathLst>
                <a:path w="0" h="194">
                  <a:moveTo>
                    <a:pt x="0" y="0"/>
                  </a:moveTo>
                  <a:lnTo>
                    <a:pt x="0" y="194"/>
                  </a:lnTo>
                  <a:lnTo>
                    <a:pt x="0" y="194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637160" y="6966000"/>
              <a:ext cx="1440" cy="277920"/>
            </a:xfrm>
            <a:custGeom>
              <a:avLst/>
              <a:gdLst/>
              <a:ahLst/>
              <a:rect l="l" t="t" r="r" b="b"/>
              <a:pathLst>
                <a:path w="0" h="175">
                  <a:moveTo>
                    <a:pt x="0" y="0"/>
                  </a:moveTo>
                  <a:lnTo>
                    <a:pt x="0" y="175"/>
                  </a:lnTo>
                  <a:lnTo>
                    <a:pt x="0" y="175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608360" y="6975360"/>
              <a:ext cx="1800" cy="258840"/>
            </a:xfrm>
            <a:custGeom>
              <a:avLst/>
              <a:gdLst/>
              <a:ahLst/>
              <a:rect l="l" t="t" r="r" b="b"/>
              <a:pathLst>
                <a:path w="0" h="163">
                  <a:moveTo>
                    <a:pt x="0" y="0"/>
                  </a:moveTo>
                  <a:lnTo>
                    <a:pt x="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589640" y="6985080"/>
              <a:ext cx="1440" cy="249120"/>
            </a:xfrm>
            <a:custGeom>
              <a:avLst/>
              <a:gdLst/>
              <a:ahLst/>
              <a:rect l="l" t="t" r="r" b="b"/>
              <a:pathLst>
                <a:path w="0" h="157">
                  <a:moveTo>
                    <a:pt x="0" y="0"/>
                  </a:moveTo>
                  <a:lnTo>
                    <a:pt x="0" y="157"/>
                  </a:lnTo>
                  <a:lnTo>
                    <a:pt x="0" y="157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570560" y="6994440"/>
              <a:ext cx="1440" cy="230400"/>
            </a:xfrm>
            <a:custGeom>
              <a:avLst/>
              <a:gdLst/>
              <a:ahLst/>
              <a:rect l="l" t="t" r="r" b="b"/>
              <a:pathLst>
                <a:path w="0" h="145">
                  <a:moveTo>
                    <a:pt x="0" y="0"/>
                  </a:moveTo>
                  <a:lnTo>
                    <a:pt x="0" y="145"/>
                  </a:lnTo>
                  <a:lnTo>
                    <a:pt x="0" y="145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541760" y="7004160"/>
              <a:ext cx="1800" cy="220680"/>
            </a:xfrm>
            <a:custGeom>
              <a:avLst/>
              <a:gdLst/>
              <a:ahLst/>
              <a:rect l="l" t="t" r="r" b="b"/>
              <a:pathLst>
                <a:path w="0" h="139">
                  <a:moveTo>
                    <a:pt x="0" y="0"/>
                  </a:moveTo>
                  <a:lnTo>
                    <a:pt x="0" y="139"/>
                  </a:lnTo>
                  <a:lnTo>
                    <a:pt x="0" y="139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522680" y="7004160"/>
              <a:ext cx="1800" cy="220680"/>
            </a:xfrm>
            <a:custGeom>
              <a:avLst/>
              <a:gdLst/>
              <a:ahLst/>
              <a:rect l="l" t="t" r="r" b="b"/>
              <a:pathLst>
                <a:path w="0" h="139">
                  <a:moveTo>
                    <a:pt x="0" y="0"/>
                  </a:moveTo>
                  <a:lnTo>
                    <a:pt x="0" y="139"/>
                  </a:lnTo>
                  <a:lnTo>
                    <a:pt x="0" y="139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503600" y="7013520"/>
              <a:ext cx="1800" cy="201600"/>
            </a:xfrm>
            <a:custGeom>
              <a:avLst/>
              <a:gdLst/>
              <a:ahLst/>
              <a:rect l="l" t="t" r="r" b="b"/>
              <a:pathLst>
                <a:path w="0" h="127">
                  <a:moveTo>
                    <a:pt x="0" y="0"/>
                  </a:moveTo>
                  <a:lnTo>
                    <a:pt x="0" y="127"/>
                  </a:lnTo>
                  <a:lnTo>
                    <a:pt x="0" y="127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484520" y="7023240"/>
              <a:ext cx="1800" cy="191880"/>
            </a:xfrm>
            <a:custGeom>
              <a:avLst/>
              <a:gdLst/>
              <a:ahLst/>
              <a:rect l="l" t="t" r="r" b="b"/>
              <a:pathLst>
                <a:path w="0" h="121">
                  <a:moveTo>
                    <a:pt x="0" y="0"/>
                  </a:moveTo>
                  <a:lnTo>
                    <a:pt x="0" y="121"/>
                  </a:lnTo>
                  <a:lnTo>
                    <a:pt x="0" y="121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454640" y="7032600"/>
              <a:ext cx="1440" cy="173160"/>
            </a:xfrm>
            <a:custGeom>
              <a:avLst/>
              <a:gdLst/>
              <a:ahLst/>
              <a:rect l="l" t="t" r="r" b="b"/>
              <a:pathLst>
                <a:path w="0" h="109">
                  <a:moveTo>
                    <a:pt x="0" y="0"/>
                  </a:moveTo>
                  <a:lnTo>
                    <a:pt x="0" y="109"/>
                  </a:lnTo>
                  <a:lnTo>
                    <a:pt x="0" y="109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435560" y="7042320"/>
              <a:ext cx="1440" cy="163440"/>
            </a:xfrm>
            <a:custGeom>
              <a:avLst/>
              <a:gdLst/>
              <a:ahLst/>
              <a:rect l="l" t="t" r="r" b="b"/>
              <a:pathLst>
                <a:path w="0" h="103">
                  <a:moveTo>
                    <a:pt x="0" y="0"/>
                  </a:moveTo>
                  <a:lnTo>
                    <a:pt x="0" y="103"/>
                  </a:lnTo>
                  <a:lnTo>
                    <a:pt x="0" y="103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416480" y="7042320"/>
              <a:ext cx="1440" cy="163440"/>
            </a:xfrm>
            <a:custGeom>
              <a:avLst/>
              <a:gdLst/>
              <a:ahLst/>
              <a:rect l="l" t="t" r="r" b="b"/>
              <a:pathLst>
                <a:path w="0" h="103">
                  <a:moveTo>
                    <a:pt x="0" y="0"/>
                  </a:moveTo>
                  <a:lnTo>
                    <a:pt x="0" y="103"/>
                  </a:lnTo>
                  <a:lnTo>
                    <a:pt x="0" y="103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397400" y="7051680"/>
              <a:ext cx="1440" cy="144360"/>
            </a:xfrm>
            <a:custGeom>
              <a:avLst/>
              <a:gdLst/>
              <a:ahLst/>
              <a:rect l="l" t="t" r="r" b="b"/>
              <a:pathLst>
                <a:path w="0" h="91">
                  <a:moveTo>
                    <a:pt x="0" y="0"/>
                  </a:moveTo>
                  <a:lnTo>
                    <a:pt x="0" y="91"/>
                  </a:lnTo>
                  <a:lnTo>
                    <a:pt x="0" y="91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368960" y="7051680"/>
              <a:ext cx="1440" cy="144360"/>
            </a:xfrm>
            <a:custGeom>
              <a:avLst/>
              <a:gdLst/>
              <a:ahLst/>
              <a:rect l="l" t="t" r="r" b="b"/>
              <a:pathLst>
                <a:path w="0" h="91">
                  <a:moveTo>
                    <a:pt x="0" y="0"/>
                  </a:moveTo>
                  <a:lnTo>
                    <a:pt x="0" y="91"/>
                  </a:lnTo>
                  <a:lnTo>
                    <a:pt x="0" y="91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349880" y="7061040"/>
              <a:ext cx="1440" cy="135000"/>
            </a:xfrm>
            <a:custGeom>
              <a:avLst/>
              <a:gdLst/>
              <a:ahLst/>
              <a:rect l="l" t="t" r="r" b="b"/>
              <a:pathLst>
                <a:path w="0" h="85">
                  <a:moveTo>
                    <a:pt x="0" y="0"/>
                  </a:moveTo>
                  <a:lnTo>
                    <a:pt x="0" y="85"/>
                  </a:lnTo>
                  <a:lnTo>
                    <a:pt x="0" y="85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330800" y="7061040"/>
              <a:ext cx="1440" cy="125640"/>
            </a:xfrm>
            <a:custGeom>
              <a:avLst/>
              <a:gdLst/>
              <a:ahLst/>
              <a:rect l="l" t="t" r="r" b="b"/>
              <a:pathLst>
                <a:path w="0" h="79">
                  <a:moveTo>
                    <a:pt x="0" y="0"/>
                  </a:moveTo>
                  <a:lnTo>
                    <a:pt x="0" y="79"/>
                  </a:lnTo>
                  <a:lnTo>
                    <a:pt x="0" y="79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302000" y="7070760"/>
              <a:ext cx="1800" cy="115920"/>
            </a:xfrm>
            <a:custGeom>
              <a:avLst/>
              <a:gdLst/>
              <a:ahLst/>
              <a:rect l="l" t="t" r="r" b="b"/>
              <a:pathLst>
                <a:path w="0" h="73">
                  <a:moveTo>
                    <a:pt x="0" y="0"/>
                  </a:moveTo>
                  <a:lnTo>
                    <a:pt x="0" y="73"/>
                  </a:lnTo>
                  <a:lnTo>
                    <a:pt x="0" y="73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281480" y="7070760"/>
              <a:ext cx="1440" cy="115920"/>
            </a:xfrm>
            <a:custGeom>
              <a:avLst/>
              <a:gdLst/>
              <a:ahLst/>
              <a:rect l="l" t="t" r="r" b="b"/>
              <a:pathLst>
                <a:path w="0" h="73">
                  <a:moveTo>
                    <a:pt x="0" y="0"/>
                  </a:moveTo>
                  <a:lnTo>
                    <a:pt x="0" y="73"/>
                  </a:lnTo>
                  <a:lnTo>
                    <a:pt x="0" y="73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262400" y="7081920"/>
              <a:ext cx="1800" cy="95040"/>
            </a:xfrm>
            <a:custGeom>
              <a:avLst/>
              <a:gdLst/>
              <a:ahLst/>
              <a:rect l="l" t="t" r="r" b="b"/>
              <a:pathLst>
                <a:path w="0" h="60">
                  <a:moveTo>
                    <a:pt x="0" y="0"/>
                  </a:moveTo>
                  <a:lnTo>
                    <a:pt x="0" y="60"/>
                  </a:lnTo>
                  <a:lnTo>
                    <a:pt x="0" y="60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43320" y="7081920"/>
              <a:ext cx="1800" cy="95040"/>
            </a:xfrm>
            <a:custGeom>
              <a:avLst/>
              <a:gdLst/>
              <a:ahLst/>
              <a:rect l="l" t="t" r="r" b="b"/>
              <a:pathLst>
                <a:path w="0" h="60">
                  <a:moveTo>
                    <a:pt x="0" y="0"/>
                  </a:moveTo>
                  <a:lnTo>
                    <a:pt x="0" y="60"/>
                  </a:lnTo>
                  <a:lnTo>
                    <a:pt x="0" y="60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214880" y="7091280"/>
              <a:ext cx="1440" cy="85680"/>
            </a:xfrm>
            <a:custGeom>
              <a:avLst/>
              <a:gdLst/>
              <a:ahLst/>
              <a:rect l="l" t="t" r="r" b="b"/>
              <a:pathLst>
                <a:path w="0" h="54">
                  <a:moveTo>
                    <a:pt x="0" y="0"/>
                  </a:moveTo>
                  <a:lnTo>
                    <a:pt x="0" y="54"/>
                  </a:lnTo>
                  <a:lnTo>
                    <a:pt x="0" y="54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195800" y="7091280"/>
              <a:ext cx="1440" cy="85680"/>
            </a:xfrm>
            <a:custGeom>
              <a:avLst/>
              <a:gdLst/>
              <a:ahLst/>
              <a:rect l="l" t="t" r="r" b="b"/>
              <a:pathLst>
                <a:path w="0" h="54">
                  <a:moveTo>
                    <a:pt x="0" y="0"/>
                  </a:moveTo>
                  <a:lnTo>
                    <a:pt x="0" y="54"/>
                  </a:lnTo>
                  <a:lnTo>
                    <a:pt x="0" y="54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176720" y="7091280"/>
              <a:ext cx="1440" cy="85680"/>
            </a:xfrm>
            <a:custGeom>
              <a:avLst/>
              <a:gdLst/>
              <a:ahLst/>
              <a:rect l="l" t="t" r="r" b="b"/>
              <a:pathLst>
                <a:path w="0" h="54">
                  <a:moveTo>
                    <a:pt x="0" y="0"/>
                  </a:moveTo>
                  <a:lnTo>
                    <a:pt x="0" y="54"/>
                  </a:lnTo>
                  <a:lnTo>
                    <a:pt x="0" y="54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157640" y="7101000"/>
              <a:ext cx="1440" cy="66600"/>
            </a:xfrm>
            <a:custGeom>
              <a:avLst/>
              <a:gdLst/>
              <a:ahLst/>
              <a:rect l="l" t="t" r="r" b="b"/>
              <a:pathLst>
                <a:path w="0" h="42">
                  <a:moveTo>
                    <a:pt x="0" y="0"/>
                  </a:moveTo>
                  <a:lnTo>
                    <a:pt x="0" y="42"/>
                  </a:lnTo>
                  <a:lnTo>
                    <a:pt x="0" y="4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129200" y="7101000"/>
              <a:ext cx="1440" cy="66600"/>
            </a:xfrm>
            <a:custGeom>
              <a:avLst/>
              <a:gdLst/>
              <a:ahLst/>
              <a:rect l="l" t="t" r="r" b="b"/>
              <a:pathLst>
                <a:path w="0" h="42">
                  <a:moveTo>
                    <a:pt x="0" y="0"/>
                  </a:moveTo>
                  <a:lnTo>
                    <a:pt x="0" y="42"/>
                  </a:lnTo>
                  <a:lnTo>
                    <a:pt x="0" y="4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108320" y="7101000"/>
              <a:ext cx="1800" cy="66600"/>
            </a:xfrm>
            <a:custGeom>
              <a:avLst/>
              <a:gdLst/>
              <a:ahLst/>
              <a:rect l="l" t="t" r="r" b="b"/>
              <a:pathLst>
                <a:path w="0" h="42">
                  <a:moveTo>
                    <a:pt x="0" y="0"/>
                  </a:moveTo>
                  <a:lnTo>
                    <a:pt x="0" y="42"/>
                  </a:lnTo>
                  <a:lnTo>
                    <a:pt x="0" y="4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089240" y="7101000"/>
              <a:ext cx="1800" cy="66600"/>
            </a:xfrm>
            <a:custGeom>
              <a:avLst/>
              <a:gdLst/>
              <a:ahLst/>
              <a:rect l="l" t="t" r="r" b="b"/>
              <a:pathLst>
                <a:path w="0" h="42">
                  <a:moveTo>
                    <a:pt x="0" y="0"/>
                  </a:moveTo>
                  <a:lnTo>
                    <a:pt x="0" y="42"/>
                  </a:lnTo>
                  <a:lnTo>
                    <a:pt x="0" y="4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070520" y="7110360"/>
              <a:ext cx="144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0"/>
                  </a:moveTo>
                  <a:lnTo>
                    <a:pt x="0" y="36"/>
                  </a:lnTo>
                  <a:lnTo>
                    <a:pt x="0" y="36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041720" y="7110360"/>
              <a:ext cx="180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0"/>
                  </a:moveTo>
                  <a:lnTo>
                    <a:pt x="0" y="36"/>
                  </a:lnTo>
                  <a:lnTo>
                    <a:pt x="0" y="36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022640" y="7110360"/>
              <a:ext cx="1800" cy="47520"/>
            </a:xfrm>
            <a:custGeom>
              <a:avLst/>
              <a:gdLst/>
              <a:ahLst/>
              <a:rect l="l" t="t" r="r" b="b"/>
              <a:pathLst>
                <a:path w="0" h="30">
                  <a:moveTo>
                    <a:pt x="0" y="0"/>
                  </a:moveTo>
                  <a:lnTo>
                    <a:pt x="0" y="30"/>
                  </a:lnTo>
                  <a:lnTo>
                    <a:pt x="0" y="30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003560" y="7110360"/>
              <a:ext cx="1800" cy="47520"/>
            </a:xfrm>
            <a:custGeom>
              <a:avLst/>
              <a:gdLst/>
              <a:ahLst/>
              <a:rect l="l" t="t" r="r" b="b"/>
              <a:pathLst>
                <a:path w="0" h="30">
                  <a:moveTo>
                    <a:pt x="0" y="0"/>
                  </a:moveTo>
                  <a:lnTo>
                    <a:pt x="0" y="30"/>
                  </a:lnTo>
                  <a:lnTo>
                    <a:pt x="0" y="30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975120" y="7120080"/>
              <a:ext cx="1440" cy="37800"/>
            </a:xfrm>
            <a:custGeom>
              <a:avLst/>
              <a:gdLst/>
              <a:ahLst/>
              <a:rect l="l" t="t" r="r" b="b"/>
              <a:pathLst>
                <a:path w="0" h="24">
                  <a:moveTo>
                    <a:pt x="0" y="0"/>
                  </a:move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956040" y="7120080"/>
              <a:ext cx="1440" cy="37800"/>
            </a:xfrm>
            <a:custGeom>
              <a:avLst/>
              <a:gdLst/>
              <a:ahLst/>
              <a:rect l="l" t="t" r="r" b="b"/>
              <a:pathLst>
                <a:path w="0" h="24">
                  <a:moveTo>
                    <a:pt x="0" y="0"/>
                  </a:move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936960" y="7120080"/>
              <a:ext cx="1800" cy="37800"/>
            </a:xfrm>
            <a:custGeom>
              <a:avLst/>
              <a:gdLst/>
              <a:ahLst/>
              <a:rect l="l" t="t" r="r" b="b"/>
              <a:pathLst>
                <a:path w="0" h="24">
                  <a:moveTo>
                    <a:pt x="0" y="0"/>
                  </a:move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916440" y="7120080"/>
              <a:ext cx="1440" cy="37800"/>
            </a:xfrm>
            <a:custGeom>
              <a:avLst/>
              <a:gdLst/>
              <a:ahLst/>
              <a:rect l="l" t="t" r="r" b="b"/>
              <a:pathLst>
                <a:path w="0" h="24">
                  <a:moveTo>
                    <a:pt x="0" y="0"/>
                  </a:move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887640" y="7120080"/>
              <a:ext cx="1800" cy="37800"/>
            </a:xfrm>
            <a:custGeom>
              <a:avLst/>
              <a:gdLst/>
              <a:ahLst/>
              <a:rect l="l" t="t" r="r" b="b"/>
              <a:pathLst>
                <a:path w="0" h="24">
                  <a:moveTo>
                    <a:pt x="0" y="0"/>
                  </a:move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868560" y="7120080"/>
              <a:ext cx="1800" cy="37800"/>
            </a:xfrm>
            <a:custGeom>
              <a:avLst/>
              <a:gdLst/>
              <a:ahLst/>
              <a:rect l="l" t="t" r="r" b="b"/>
              <a:pathLst>
                <a:path w="0" h="24">
                  <a:moveTo>
                    <a:pt x="0" y="0"/>
                  </a:move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849840" y="7120080"/>
              <a:ext cx="1440" cy="37800"/>
            </a:xfrm>
            <a:custGeom>
              <a:avLst/>
              <a:gdLst/>
              <a:ahLst/>
              <a:rect l="l" t="t" r="r" b="b"/>
              <a:pathLst>
                <a:path w="0" h="24">
                  <a:moveTo>
                    <a:pt x="0" y="0"/>
                  </a:move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830760" y="7129440"/>
              <a:ext cx="144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0"/>
                  </a:move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801960" y="7129440"/>
              <a:ext cx="180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0"/>
                  </a:move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782880" y="7129440"/>
              <a:ext cx="180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0"/>
                  </a:move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763800" y="7129440"/>
              <a:ext cx="180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0"/>
                  </a:move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733920" y="7129440"/>
              <a:ext cx="144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0"/>
                  </a:move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714840" y="7129440"/>
              <a:ext cx="144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0"/>
                  </a:move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695760" y="7129440"/>
              <a:ext cx="144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0"/>
                  </a:move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676680" y="7129440"/>
              <a:ext cx="144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0"/>
                  </a:move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648240" y="7129440"/>
              <a:ext cx="144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0"/>
                  </a:move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629160" y="7129440"/>
              <a:ext cx="144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0"/>
                  </a:move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610080" y="7129440"/>
              <a:ext cx="144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0"/>
                  </a:move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591000" y="7129440"/>
              <a:ext cx="144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0"/>
                  </a:move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560760" y="7139160"/>
              <a:ext cx="1440" cy="936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541680" y="7139160"/>
              <a:ext cx="1800" cy="936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522600" y="7139160"/>
              <a:ext cx="1800" cy="936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735200" y="6696000"/>
              <a:ext cx="4363920" cy="443160"/>
            </a:xfrm>
            <a:custGeom>
              <a:avLst/>
              <a:gdLst/>
              <a:ahLst/>
              <a:rect l="l" t="t" r="r" b="b"/>
              <a:pathLst>
                <a:path w="2749" h="279">
                  <a:moveTo>
                    <a:pt x="2749" y="279"/>
                  </a:moveTo>
                  <a:lnTo>
                    <a:pt x="2731" y="279"/>
                  </a:lnTo>
                  <a:lnTo>
                    <a:pt x="2718" y="279"/>
                  </a:lnTo>
                  <a:lnTo>
                    <a:pt x="2706" y="279"/>
                  </a:lnTo>
                  <a:lnTo>
                    <a:pt x="2694" y="279"/>
                  </a:lnTo>
                  <a:lnTo>
                    <a:pt x="2676" y="279"/>
                  </a:lnTo>
                  <a:lnTo>
                    <a:pt x="2664" y="273"/>
                  </a:lnTo>
                  <a:lnTo>
                    <a:pt x="2652" y="267"/>
                  </a:lnTo>
                  <a:lnTo>
                    <a:pt x="2634" y="261"/>
                  </a:lnTo>
                  <a:lnTo>
                    <a:pt x="2622" y="249"/>
                  </a:lnTo>
                  <a:lnTo>
                    <a:pt x="2609" y="230"/>
                  </a:lnTo>
                  <a:lnTo>
                    <a:pt x="2597" y="218"/>
                  </a:lnTo>
                  <a:lnTo>
                    <a:pt x="2579" y="194"/>
                  </a:lnTo>
                  <a:lnTo>
                    <a:pt x="2567" y="176"/>
                  </a:lnTo>
                  <a:lnTo>
                    <a:pt x="2555" y="152"/>
                  </a:lnTo>
                  <a:lnTo>
                    <a:pt x="2543" y="127"/>
                  </a:lnTo>
                  <a:lnTo>
                    <a:pt x="2525" y="109"/>
                  </a:lnTo>
                  <a:lnTo>
                    <a:pt x="2513" y="85"/>
                  </a:lnTo>
                  <a:lnTo>
                    <a:pt x="2501" y="67"/>
                  </a:lnTo>
                  <a:lnTo>
                    <a:pt x="2482" y="49"/>
                  </a:lnTo>
                  <a:lnTo>
                    <a:pt x="2470" y="37"/>
                  </a:lnTo>
                  <a:lnTo>
                    <a:pt x="2458" y="24"/>
                  </a:lnTo>
                  <a:lnTo>
                    <a:pt x="2446" y="12"/>
                  </a:lnTo>
                  <a:lnTo>
                    <a:pt x="2428" y="6"/>
                  </a:lnTo>
                  <a:lnTo>
                    <a:pt x="2416" y="6"/>
                  </a:lnTo>
                  <a:lnTo>
                    <a:pt x="2404" y="0"/>
                  </a:lnTo>
                  <a:lnTo>
                    <a:pt x="2392" y="0"/>
                  </a:lnTo>
                  <a:lnTo>
                    <a:pt x="2373" y="6"/>
                  </a:lnTo>
                  <a:lnTo>
                    <a:pt x="2361" y="12"/>
                  </a:lnTo>
                  <a:lnTo>
                    <a:pt x="2349" y="12"/>
                  </a:lnTo>
                  <a:lnTo>
                    <a:pt x="2337" y="24"/>
                  </a:lnTo>
                  <a:lnTo>
                    <a:pt x="2319" y="31"/>
                  </a:lnTo>
                  <a:lnTo>
                    <a:pt x="2307" y="37"/>
                  </a:lnTo>
                  <a:lnTo>
                    <a:pt x="2295" y="49"/>
                  </a:lnTo>
                  <a:lnTo>
                    <a:pt x="2276" y="61"/>
                  </a:lnTo>
                  <a:lnTo>
                    <a:pt x="2264" y="67"/>
                  </a:lnTo>
                  <a:lnTo>
                    <a:pt x="2252" y="79"/>
                  </a:lnTo>
                  <a:lnTo>
                    <a:pt x="2240" y="91"/>
                  </a:lnTo>
                  <a:lnTo>
                    <a:pt x="2222" y="97"/>
                  </a:lnTo>
                  <a:lnTo>
                    <a:pt x="2210" y="109"/>
                  </a:lnTo>
                  <a:lnTo>
                    <a:pt x="2198" y="121"/>
                  </a:lnTo>
                  <a:lnTo>
                    <a:pt x="2186" y="127"/>
                  </a:lnTo>
                  <a:lnTo>
                    <a:pt x="2168" y="140"/>
                  </a:lnTo>
                  <a:lnTo>
                    <a:pt x="2155" y="146"/>
                  </a:lnTo>
                  <a:lnTo>
                    <a:pt x="2143" y="152"/>
                  </a:lnTo>
                  <a:lnTo>
                    <a:pt x="2125" y="164"/>
                  </a:lnTo>
                  <a:lnTo>
                    <a:pt x="2113" y="170"/>
                  </a:lnTo>
                  <a:lnTo>
                    <a:pt x="2101" y="176"/>
                  </a:lnTo>
                  <a:lnTo>
                    <a:pt x="2089" y="182"/>
                  </a:lnTo>
                  <a:lnTo>
                    <a:pt x="2071" y="188"/>
                  </a:lnTo>
                  <a:lnTo>
                    <a:pt x="2059" y="200"/>
                  </a:lnTo>
                  <a:lnTo>
                    <a:pt x="2046" y="200"/>
                  </a:lnTo>
                  <a:lnTo>
                    <a:pt x="2034" y="206"/>
                  </a:lnTo>
                  <a:lnTo>
                    <a:pt x="2016" y="212"/>
                  </a:lnTo>
                  <a:lnTo>
                    <a:pt x="2004" y="218"/>
                  </a:lnTo>
                  <a:lnTo>
                    <a:pt x="1992" y="224"/>
                  </a:lnTo>
                  <a:lnTo>
                    <a:pt x="1980" y="224"/>
                  </a:lnTo>
                  <a:lnTo>
                    <a:pt x="1962" y="230"/>
                  </a:lnTo>
                  <a:lnTo>
                    <a:pt x="1950" y="230"/>
                  </a:lnTo>
                  <a:lnTo>
                    <a:pt x="1937" y="236"/>
                  </a:lnTo>
                  <a:lnTo>
                    <a:pt x="1919" y="243"/>
                  </a:lnTo>
                  <a:lnTo>
                    <a:pt x="1907" y="243"/>
                  </a:lnTo>
                  <a:lnTo>
                    <a:pt x="1895" y="243"/>
                  </a:lnTo>
                  <a:lnTo>
                    <a:pt x="1883" y="249"/>
                  </a:lnTo>
                  <a:lnTo>
                    <a:pt x="1865" y="249"/>
                  </a:lnTo>
                  <a:lnTo>
                    <a:pt x="1853" y="255"/>
                  </a:lnTo>
                  <a:lnTo>
                    <a:pt x="1841" y="255"/>
                  </a:lnTo>
                  <a:lnTo>
                    <a:pt x="1828" y="255"/>
                  </a:lnTo>
                  <a:lnTo>
                    <a:pt x="1810" y="261"/>
                  </a:lnTo>
                  <a:lnTo>
                    <a:pt x="1798" y="261"/>
                  </a:lnTo>
                  <a:lnTo>
                    <a:pt x="1786" y="261"/>
                  </a:lnTo>
                  <a:lnTo>
                    <a:pt x="1768" y="261"/>
                  </a:lnTo>
                  <a:lnTo>
                    <a:pt x="1756" y="267"/>
                  </a:lnTo>
                  <a:lnTo>
                    <a:pt x="1744" y="267"/>
                  </a:lnTo>
                  <a:lnTo>
                    <a:pt x="1732" y="267"/>
                  </a:lnTo>
                  <a:lnTo>
                    <a:pt x="1713" y="267"/>
                  </a:lnTo>
                  <a:lnTo>
                    <a:pt x="1701" y="267"/>
                  </a:lnTo>
                  <a:lnTo>
                    <a:pt x="1689" y="267"/>
                  </a:lnTo>
                  <a:lnTo>
                    <a:pt x="1677" y="273"/>
                  </a:lnTo>
                  <a:lnTo>
                    <a:pt x="1659" y="273"/>
                  </a:lnTo>
                  <a:lnTo>
                    <a:pt x="1647" y="273"/>
                  </a:lnTo>
                  <a:lnTo>
                    <a:pt x="1635" y="273"/>
                  </a:lnTo>
                  <a:lnTo>
                    <a:pt x="1617" y="273"/>
                  </a:lnTo>
                  <a:lnTo>
                    <a:pt x="1604" y="273"/>
                  </a:lnTo>
                  <a:lnTo>
                    <a:pt x="1592" y="273"/>
                  </a:lnTo>
                  <a:lnTo>
                    <a:pt x="1580" y="273"/>
                  </a:lnTo>
                  <a:lnTo>
                    <a:pt x="1562" y="273"/>
                  </a:lnTo>
                  <a:lnTo>
                    <a:pt x="1550" y="273"/>
                  </a:lnTo>
                  <a:lnTo>
                    <a:pt x="1538" y="273"/>
                  </a:lnTo>
                  <a:lnTo>
                    <a:pt x="1526" y="273"/>
                  </a:lnTo>
                  <a:lnTo>
                    <a:pt x="1508" y="279"/>
                  </a:lnTo>
                  <a:lnTo>
                    <a:pt x="1495" y="279"/>
                  </a:lnTo>
                  <a:lnTo>
                    <a:pt x="1483" y="279"/>
                  </a:lnTo>
                  <a:lnTo>
                    <a:pt x="1471" y="279"/>
                  </a:lnTo>
                  <a:lnTo>
                    <a:pt x="1453" y="279"/>
                  </a:lnTo>
                  <a:lnTo>
                    <a:pt x="1441" y="279"/>
                  </a:lnTo>
                  <a:lnTo>
                    <a:pt x="1429" y="279"/>
                  </a:lnTo>
                  <a:lnTo>
                    <a:pt x="1411" y="279"/>
                  </a:lnTo>
                  <a:lnTo>
                    <a:pt x="1399" y="279"/>
                  </a:lnTo>
                  <a:lnTo>
                    <a:pt x="1387" y="279"/>
                  </a:lnTo>
                  <a:lnTo>
                    <a:pt x="1374" y="279"/>
                  </a:lnTo>
                  <a:lnTo>
                    <a:pt x="1356" y="279"/>
                  </a:lnTo>
                  <a:lnTo>
                    <a:pt x="1344" y="279"/>
                  </a:lnTo>
                  <a:lnTo>
                    <a:pt x="1332" y="279"/>
                  </a:lnTo>
                  <a:lnTo>
                    <a:pt x="1320" y="279"/>
                  </a:lnTo>
                  <a:lnTo>
                    <a:pt x="1302" y="279"/>
                  </a:lnTo>
                  <a:lnTo>
                    <a:pt x="1290" y="279"/>
                  </a:lnTo>
                  <a:lnTo>
                    <a:pt x="1278" y="279"/>
                  </a:lnTo>
                  <a:lnTo>
                    <a:pt x="1259" y="279"/>
                  </a:lnTo>
                  <a:lnTo>
                    <a:pt x="1247" y="279"/>
                  </a:lnTo>
                  <a:lnTo>
                    <a:pt x="1235" y="279"/>
                  </a:lnTo>
                  <a:lnTo>
                    <a:pt x="1223" y="279"/>
                  </a:lnTo>
                  <a:lnTo>
                    <a:pt x="1205" y="279"/>
                  </a:lnTo>
                  <a:lnTo>
                    <a:pt x="1193" y="279"/>
                  </a:lnTo>
                  <a:lnTo>
                    <a:pt x="1181" y="279"/>
                  </a:lnTo>
                  <a:lnTo>
                    <a:pt x="1169" y="279"/>
                  </a:lnTo>
                  <a:lnTo>
                    <a:pt x="1150" y="279"/>
                  </a:lnTo>
                  <a:lnTo>
                    <a:pt x="1138" y="279"/>
                  </a:lnTo>
                  <a:lnTo>
                    <a:pt x="1126" y="279"/>
                  </a:lnTo>
                  <a:lnTo>
                    <a:pt x="1108" y="279"/>
                  </a:lnTo>
                  <a:lnTo>
                    <a:pt x="1096" y="279"/>
                  </a:lnTo>
                  <a:lnTo>
                    <a:pt x="1084" y="279"/>
                  </a:lnTo>
                  <a:lnTo>
                    <a:pt x="1072" y="279"/>
                  </a:lnTo>
                  <a:lnTo>
                    <a:pt x="1054" y="279"/>
                  </a:lnTo>
                  <a:lnTo>
                    <a:pt x="1041" y="279"/>
                  </a:lnTo>
                  <a:lnTo>
                    <a:pt x="1029" y="279"/>
                  </a:lnTo>
                  <a:lnTo>
                    <a:pt x="1017" y="279"/>
                  </a:lnTo>
                  <a:lnTo>
                    <a:pt x="999" y="279"/>
                  </a:lnTo>
                  <a:lnTo>
                    <a:pt x="987" y="279"/>
                  </a:lnTo>
                  <a:lnTo>
                    <a:pt x="975" y="279"/>
                  </a:lnTo>
                  <a:lnTo>
                    <a:pt x="963" y="279"/>
                  </a:lnTo>
                  <a:lnTo>
                    <a:pt x="945" y="279"/>
                  </a:lnTo>
                  <a:lnTo>
                    <a:pt x="932" y="279"/>
                  </a:lnTo>
                  <a:lnTo>
                    <a:pt x="920" y="279"/>
                  </a:lnTo>
                  <a:lnTo>
                    <a:pt x="902" y="279"/>
                  </a:lnTo>
                  <a:lnTo>
                    <a:pt x="890" y="279"/>
                  </a:lnTo>
                  <a:lnTo>
                    <a:pt x="878" y="279"/>
                  </a:lnTo>
                  <a:lnTo>
                    <a:pt x="866" y="279"/>
                  </a:lnTo>
                  <a:lnTo>
                    <a:pt x="848" y="279"/>
                  </a:lnTo>
                  <a:lnTo>
                    <a:pt x="836" y="279"/>
                  </a:lnTo>
                  <a:lnTo>
                    <a:pt x="823" y="279"/>
                  </a:lnTo>
                  <a:lnTo>
                    <a:pt x="811" y="279"/>
                  </a:lnTo>
                  <a:lnTo>
                    <a:pt x="793" y="279"/>
                  </a:lnTo>
                  <a:lnTo>
                    <a:pt x="781" y="279"/>
                  </a:lnTo>
                  <a:lnTo>
                    <a:pt x="769" y="279"/>
                  </a:lnTo>
                  <a:lnTo>
                    <a:pt x="751" y="279"/>
                  </a:lnTo>
                  <a:lnTo>
                    <a:pt x="739" y="279"/>
                  </a:lnTo>
                  <a:lnTo>
                    <a:pt x="727" y="279"/>
                  </a:lnTo>
                  <a:lnTo>
                    <a:pt x="714" y="279"/>
                  </a:lnTo>
                  <a:lnTo>
                    <a:pt x="696" y="279"/>
                  </a:lnTo>
                  <a:lnTo>
                    <a:pt x="684" y="279"/>
                  </a:lnTo>
                  <a:lnTo>
                    <a:pt x="672" y="279"/>
                  </a:lnTo>
                  <a:lnTo>
                    <a:pt x="660" y="279"/>
                  </a:lnTo>
                  <a:lnTo>
                    <a:pt x="642" y="279"/>
                  </a:lnTo>
                  <a:lnTo>
                    <a:pt x="630" y="279"/>
                  </a:lnTo>
                  <a:lnTo>
                    <a:pt x="618" y="279"/>
                  </a:lnTo>
                  <a:lnTo>
                    <a:pt x="605" y="279"/>
                  </a:lnTo>
                  <a:lnTo>
                    <a:pt x="587" y="279"/>
                  </a:lnTo>
                  <a:lnTo>
                    <a:pt x="575" y="279"/>
                  </a:lnTo>
                  <a:lnTo>
                    <a:pt x="563" y="279"/>
                  </a:lnTo>
                  <a:lnTo>
                    <a:pt x="545" y="279"/>
                  </a:lnTo>
                  <a:lnTo>
                    <a:pt x="533" y="279"/>
                  </a:lnTo>
                  <a:lnTo>
                    <a:pt x="521" y="279"/>
                  </a:lnTo>
                  <a:lnTo>
                    <a:pt x="509" y="279"/>
                  </a:lnTo>
                  <a:lnTo>
                    <a:pt x="490" y="279"/>
                  </a:lnTo>
                  <a:lnTo>
                    <a:pt x="478" y="279"/>
                  </a:lnTo>
                  <a:lnTo>
                    <a:pt x="466" y="279"/>
                  </a:lnTo>
                  <a:lnTo>
                    <a:pt x="454" y="279"/>
                  </a:lnTo>
                  <a:lnTo>
                    <a:pt x="436" y="279"/>
                  </a:lnTo>
                  <a:lnTo>
                    <a:pt x="424" y="279"/>
                  </a:lnTo>
                  <a:lnTo>
                    <a:pt x="412" y="279"/>
                  </a:lnTo>
                  <a:lnTo>
                    <a:pt x="394" y="279"/>
                  </a:lnTo>
                  <a:lnTo>
                    <a:pt x="381" y="279"/>
                  </a:lnTo>
                  <a:lnTo>
                    <a:pt x="369" y="279"/>
                  </a:lnTo>
                  <a:lnTo>
                    <a:pt x="357" y="279"/>
                  </a:lnTo>
                  <a:lnTo>
                    <a:pt x="339" y="279"/>
                  </a:lnTo>
                  <a:lnTo>
                    <a:pt x="327" y="279"/>
                  </a:lnTo>
                  <a:lnTo>
                    <a:pt x="315" y="279"/>
                  </a:lnTo>
                  <a:lnTo>
                    <a:pt x="303" y="279"/>
                  </a:lnTo>
                  <a:lnTo>
                    <a:pt x="285" y="279"/>
                  </a:lnTo>
                  <a:lnTo>
                    <a:pt x="273" y="279"/>
                  </a:lnTo>
                  <a:lnTo>
                    <a:pt x="260" y="279"/>
                  </a:lnTo>
                  <a:lnTo>
                    <a:pt x="242" y="279"/>
                  </a:lnTo>
                  <a:lnTo>
                    <a:pt x="230" y="279"/>
                  </a:lnTo>
                  <a:lnTo>
                    <a:pt x="218" y="279"/>
                  </a:lnTo>
                  <a:lnTo>
                    <a:pt x="206" y="279"/>
                  </a:lnTo>
                  <a:lnTo>
                    <a:pt x="188" y="279"/>
                  </a:lnTo>
                  <a:lnTo>
                    <a:pt x="176" y="279"/>
                  </a:lnTo>
                  <a:lnTo>
                    <a:pt x="164" y="279"/>
                  </a:lnTo>
                  <a:lnTo>
                    <a:pt x="151" y="279"/>
                  </a:lnTo>
                  <a:lnTo>
                    <a:pt x="133" y="279"/>
                  </a:lnTo>
                  <a:lnTo>
                    <a:pt x="121" y="279"/>
                  </a:lnTo>
                  <a:lnTo>
                    <a:pt x="109" y="279"/>
                  </a:lnTo>
                  <a:lnTo>
                    <a:pt x="97" y="279"/>
                  </a:lnTo>
                  <a:lnTo>
                    <a:pt x="79" y="279"/>
                  </a:lnTo>
                  <a:lnTo>
                    <a:pt x="67" y="279"/>
                  </a:lnTo>
                  <a:lnTo>
                    <a:pt x="55" y="279"/>
                  </a:lnTo>
                  <a:lnTo>
                    <a:pt x="36" y="279"/>
                  </a:lnTo>
                  <a:lnTo>
                    <a:pt x="24" y="279"/>
                  </a:lnTo>
                  <a:lnTo>
                    <a:pt x="12" y="279"/>
                  </a:lnTo>
                  <a:lnTo>
                    <a:pt x="0" y="279"/>
                  </a:lnTo>
                </a:path>
              </a:pathLst>
            </a:custGeom>
            <a:noFill/>
            <a:ln w="9360">
              <a:solidFill>
                <a:srgbClr val="6800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735200" y="7139160"/>
              <a:ext cx="4363920" cy="500040"/>
            </a:xfrm>
            <a:custGeom>
              <a:avLst/>
              <a:gdLst/>
              <a:ahLst/>
              <a:rect l="l" t="t" r="r" b="b"/>
              <a:pathLst>
                <a:path w="2749" h="315">
                  <a:moveTo>
                    <a:pt x="2749" y="0"/>
                  </a:moveTo>
                  <a:lnTo>
                    <a:pt x="2731" y="0"/>
                  </a:lnTo>
                  <a:lnTo>
                    <a:pt x="2718" y="0"/>
                  </a:lnTo>
                  <a:lnTo>
                    <a:pt x="2706" y="0"/>
                  </a:lnTo>
                  <a:lnTo>
                    <a:pt x="2694" y="6"/>
                  </a:lnTo>
                  <a:lnTo>
                    <a:pt x="2676" y="12"/>
                  </a:lnTo>
                  <a:lnTo>
                    <a:pt x="2664" y="24"/>
                  </a:lnTo>
                  <a:lnTo>
                    <a:pt x="2652" y="36"/>
                  </a:lnTo>
                  <a:lnTo>
                    <a:pt x="2634" y="54"/>
                  </a:lnTo>
                  <a:lnTo>
                    <a:pt x="2622" y="79"/>
                  </a:lnTo>
                  <a:lnTo>
                    <a:pt x="2609" y="103"/>
                  </a:lnTo>
                  <a:lnTo>
                    <a:pt x="2597" y="133"/>
                  </a:lnTo>
                  <a:lnTo>
                    <a:pt x="2579" y="163"/>
                  </a:lnTo>
                  <a:lnTo>
                    <a:pt x="2567" y="194"/>
                  </a:lnTo>
                  <a:lnTo>
                    <a:pt x="2555" y="218"/>
                  </a:lnTo>
                  <a:lnTo>
                    <a:pt x="2543" y="242"/>
                  </a:lnTo>
                  <a:lnTo>
                    <a:pt x="2525" y="266"/>
                  </a:lnTo>
                  <a:lnTo>
                    <a:pt x="2513" y="278"/>
                  </a:lnTo>
                  <a:lnTo>
                    <a:pt x="2501" y="297"/>
                  </a:lnTo>
                  <a:lnTo>
                    <a:pt x="2482" y="309"/>
                  </a:lnTo>
                  <a:lnTo>
                    <a:pt x="2470" y="309"/>
                  </a:lnTo>
                  <a:lnTo>
                    <a:pt x="2458" y="315"/>
                  </a:lnTo>
                  <a:lnTo>
                    <a:pt x="2446" y="315"/>
                  </a:lnTo>
                  <a:lnTo>
                    <a:pt x="2428" y="315"/>
                  </a:lnTo>
                  <a:lnTo>
                    <a:pt x="2416" y="309"/>
                  </a:lnTo>
                  <a:lnTo>
                    <a:pt x="2404" y="303"/>
                  </a:lnTo>
                  <a:lnTo>
                    <a:pt x="2392" y="297"/>
                  </a:lnTo>
                  <a:lnTo>
                    <a:pt x="2373" y="291"/>
                  </a:lnTo>
                  <a:lnTo>
                    <a:pt x="2361" y="285"/>
                  </a:lnTo>
                  <a:lnTo>
                    <a:pt x="2349" y="278"/>
                  </a:lnTo>
                  <a:lnTo>
                    <a:pt x="2337" y="266"/>
                  </a:lnTo>
                  <a:lnTo>
                    <a:pt x="2319" y="260"/>
                  </a:lnTo>
                  <a:lnTo>
                    <a:pt x="2307" y="254"/>
                  </a:lnTo>
                  <a:lnTo>
                    <a:pt x="2295" y="248"/>
                  </a:lnTo>
                  <a:lnTo>
                    <a:pt x="2276" y="242"/>
                  </a:lnTo>
                  <a:lnTo>
                    <a:pt x="2264" y="230"/>
                  </a:lnTo>
                  <a:lnTo>
                    <a:pt x="2252" y="224"/>
                  </a:lnTo>
                  <a:lnTo>
                    <a:pt x="2240" y="218"/>
                  </a:lnTo>
                  <a:lnTo>
                    <a:pt x="2222" y="212"/>
                  </a:lnTo>
                  <a:lnTo>
                    <a:pt x="2210" y="206"/>
                  </a:lnTo>
                  <a:lnTo>
                    <a:pt x="2198" y="200"/>
                  </a:lnTo>
                  <a:lnTo>
                    <a:pt x="2186" y="194"/>
                  </a:lnTo>
                  <a:lnTo>
                    <a:pt x="2168" y="188"/>
                  </a:lnTo>
                  <a:lnTo>
                    <a:pt x="2155" y="182"/>
                  </a:lnTo>
                  <a:lnTo>
                    <a:pt x="2143" y="176"/>
                  </a:lnTo>
                  <a:lnTo>
                    <a:pt x="2125" y="169"/>
                  </a:lnTo>
                  <a:lnTo>
                    <a:pt x="2113" y="163"/>
                  </a:lnTo>
                  <a:lnTo>
                    <a:pt x="2101" y="157"/>
                  </a:lnTo>
                  <a:lnTo>
                    <a:pt x="2089" y="151"/>
                  </a:lnTo>
                  <a:lnTo>
                    <a:pt x="2071" y="145"/>
                  </a:lnTo>
                  <a:lnTo>
                    <a:pt x="2059" y="139"/>
                  </a:lnTo>
                  <a:lnTo>
                    <a:pt x="2046" y="133"/>
                  </a:lnTo>
                  <a:lnTo>
                    <a:pt x="2034" y="127"/>
                  </a:lnTo>
                  <a:lnTo>
                    <a:pt x="2016" y="127"/>
                  </a:lnTo>
                  <a:lnTo>
                    <a:pt x="2004" y="121"/>
                  </a:lnTo>
                  <a:lnTo>
                    <a:pt x="1992" y="115"/>
                  </a:lnTo>
                  <a:lnTo>
                    <a:pt x="1980" y="109"/>
                  </a:lnTo>
                  <a:lnTo>
                    <a:pt x="1962" y="103"/>
                  </a:lnTo>
                  <a:lnTo>
                    <a:pt x="1950" y="103"/>
                  </a:lnTo>
                  <a:lnTo>
                    <a:pt x="1937" y="97"/>
                  </a:lnTo>
                  <a:lnTo>
                    <a:pt x="1919" y="91"/>
                  </a:lnTo>
                  <a:lnTo>
                    <a:pt x="1907" y="91"/>
                  </a:lnTo>
                  <a:lnTo>
                    <a:pt x="1895" y="85"/>
                  </a:lnTo>
                  <a:lnTo>
                    <a:pt x="1883" y="79"/>
                  </a:lnTo>
                  <a:lnTo>
                    <a:pt x="1865" y="79"/>
                  </a:lnTo>
                  <a:lnTo>
                    <a:pt x="1853" y="73"/>
                  </a:lnTo>
                  <a:lnTo>
                    <a:pt x="1841" y="73"/>
                  </a:lnTo>
                  <a:lnTo>
                    <a:pt x="1828" y="66"/>
                  </a:lnTo>
                  <a:lnTo>
                    <a:pt x="1810" y="60"/>
                  </a:lnTo>
                  <a:lnTo>
                    <a:pt x="1798" y="60"/>
                  </a:lnTo>
                  <a:lnTo>
                    <a:pt x="1786" y="54"/>
                  </a:lnTo>
                  <a:lnTo>
                    <a:pt x="1768" y="54"/>
                  </a:lnTo>
                  <a:lnTo>
                    <a:pt x="1756" y="54"/>
                  </a:lnTo>
                  <a:lnTo>
                    <a:pt x="1744" y="48"/>
                  </a:lnTo>
                  <a:lnTo>
                    <a:pt x="1732" y="48"/>
                  </a:lnTo>
                  <a:lnTo>
                    <a:pt x="1713" y="42"/>
                  </a:lnTo>
                  <a:lnTo>
                    <a:pt x="1701" y="42"/>
                  </a:lnTo>
                  <a:lnTo>
                    <a:pt x="1689" y="42"/>
                  </a:lnTo>
                  <a:lnTo>
                    <a:pt x="1677" y="36"/>
                  </a:lnTo>
                  <a:lnTo>
                    <a:pt x="1659" y="36"/>
                  </a:lnTo>
                  <a:lnTo>
                    <a:pt x="1647" y="36"/>
                  </a:lnTo>
                  <a:lnTo>
                    <a:pt x="1635" y="30"/>
                  </a:lnTo>
                  <a:lnTo>
                    <a:pt x="1617" y="30"/>
                  </a:lnTo>
                  <a:lnTo>
                    <a:pt x="1604" y="30"/>
                  </a:lnTo>
                  <a:lnTo>
                    <a:pt x="1592" y="24"/>
                  </a:lnTo>
                  <a:lnTo>
                    <a:pt x="1580" y="24"/>
                  </a:lnTo>
                  <a:lnTo>
                    <a:pt x="1562" y="24"/>
                  </a:lnTo>
                  <a:lnTo>
                    <a:pt x="1550" y="24"/>
                  </a:lnTo>
                  <a:lnTo>
                    <a:pt x="1538" y="24"/>
                  </a:lnTo>
                  <a:lnTo>
                    <a:pt x="1526" y="18"/>
                  </a:lnTo>
                  <a:lnTo>
                    <a:pt x="1508" y="18"/>
                  </a:lnTo>
                  <a:lnTo>
                    <a:pt x="1495" y="18"/>
                  </a:lnTo>
                  <a:lnTo>
                    <a:pt x="1483" y="18"/>
                  </a:lnTo>
                  <a:lnTo>
                    <a:pt x="1471" y="18"/>
                  </a:lnTo>
                  <a:lnTo>
                    <a:pt x="1453" y="18"/>
                  </a:lnTo>
                  <a:lnTo>
                    <a:pt x="1441" y="12"/>
                  </a:lnTo>
                  <a:lnTo>
                    <a:pt x="1429" y="12"/>
                  </a:lnTo>
                  <a:lnTo>
                    <a:pt x="1411" y="12"/>
                  </a:lnTo>
                  <a:lnTo>
                    <a:pt x="1399" y="12"/>
                  </a:lnTo>
                  <a:lnTo>
                    <a:pt x="1387" y="12"/>
                  </a:lnTo>
                  <a:lnTo>
                    <a:pt x="1374" y="12"/>
                  </a:lnTo>
                  <a:lnTo>
                    <a:pt x="1356" y="12"/>
                  </a:lnTo>
                  <a:lnTo>
                    <a:pt x="1344" y="12"/>
                  </a:lnTo>
                  <a:lnTo>
                    <a:pt x="1332" y="12"/>
                  </a:lnTo>
                  <a:lnTo>
                    <a:pt x="1320" y="6"/>
                  </a:lnTo>
                  <a:lnTo>
                    <a:pt x="1302" y="6"/>
                  </a:lnTo>
                  <a:lnTo>
                    <a:pt x="1290" y="6"/>
                  </a:lnTo>
                  <a:lnTo>
                    <a:pt x="1278" y="6"/>
                  </a:lnTo>
                  <a:lnTo>
                    <a:pt x="1259" y="6"/>
                  </a:lnTo>
                  <a:lnTo>
                    <a:pt x="1247" y="6"/>
                  </a:lnTo>
                  <a:lnTo>
                    <a:pt x="1235" y="6"/>
                  </a:lnTo>
                  <a:lnTo>
                    <a:pt x="1223" y="6"/>
                  </a:lnTo>
                  <a:lnTo>
                    <a:pt x="1205" y="6"/>
                  </a:lnTo>
                  <a:lnTo>
                    <a:pt x="1193" y="6"/>
                  </a:lnTo>
                  <a:lnTo>
                    <a:pt x="1181" y="6"/>
                  </a:lnTo>
                  <a:lnTo>
                    <a:pt x="1169" y="6"/>
                  </a:lnTo>
                  <a:lnTo>
                    <a:pt x="1150" y="6"/>
                  </a:lnTo>
                  <a:lnTo>
                    <a:pt x="1138" y="6"/>
                  </a:lnTo>
                  <a:lnTo>
                    <a:pt x="1126" y="6"/>
                  </a:lnTo>
                  <a:lnTo>
                    <a:pt x="1108" y="6"/>
                  </a:lnTo>
                  <a:lnTo>
                    <a:pt x="1096" y="6"/>
                  </a:lnTo>
                  <a:lnTo>
                    <a:pt x="1084" y="6"/>
                  </a:lnTo>
                  <a:lnTo>
                    <a:pt x="1072" y="6"/>
                  </a:lnTo>
                  <a:lnTo>
                    <a:pt x="1054" y="6"/>
                  </a:lnTo>
                  <a:lnTo>
                    <a:pt x="1041" y="6"/>
                  </a:lnTo>
                  <a:lnTo>
                    <a:pt x="1029" y="6"/>
                  </a:lnTo>
                  <a:lnTo>
                    <a:pt x="1017" y="0"/>
                  </a:lnTo>
                  <a:lnTo>
                    <a:pt x="999" y="0"/>
                  </a:lnTo>
                  <a:lnTo>
                    <a:pt x="987" y="0"/>
                  </a:lnTo>
                  <a:lnTo>
                    <a:pt x="975" y="0"/>
                  </a:lnTo>
                  <a:lnTo>
                    <a:pt x="963" y="0"/>
                  </a:lnTo>
                  <a:lnTo>
                    <a:pt x="945" y="0"/>
                  </a:lnTo>
                  <a:lnTo>
                    <a:pt x="932" y="0"/>
                  </a:lnTo>
                  <a:lnTo>
                    <a:pt x="920" y="0"/>
                  </a:lnTo>
                  <a:lnTo>
                    <a:pt x="902" y="0"/>
                  </a:lnTo>
                  <a:lnTo>
                    <a:pt x="890" y="0"/>
                  </a:lnTo>
                  <a:lnTo>
                    <a:pt x="878" y="0"/>
                  </a:lnTo>
                  <a:lnTo>
                    <a:pt x="866" y="0"/>
                  </a:lnTo>
                  <a:lnTo>
                    <a:pt x="848" y="0"/>
                  </a:lnTo>
                  <a:lnTo>
                    <a:pt x="836" y="0"/>
                  </a:lnTo>
                  <a:lnTo>
                    <a:pt x="823" y="0"/>
                  </a:lnTo>
                  <a:lnTo>
                    <a:pt x="811" y="0"/>
                  </a:lnTo>
                  <a:lnTo>
                    <a:pt x="793" y="0"/>
                  </a:lnTo>
                  <a:lnTo>
                    <a:pt x="781" y="0"/>
                  </a:lnTo>
                  <a:lnTo>
                    <a:pt x="769" y="0"/>
                  </a:lnTo>
                  <a:lnTo>
                    <a:pt x="751" y="0"/>
                  </a:lnTo>
                  <a:lnTo>
                    <a:pt x="739" y="0"/>
                  </a:lnTo>
                  <a:lnTo>
                    <a:pt x="727" y="0"/>
                  </a:lnTo>
                  <a:lnTo>
                    <a:pt x="714" y="0"/>
                  </a:lnTo>
                  <a:lnTo>
                    <a:pt x="696" y="0"/>
                  </a:lnTo>
                  <a:lnTo>
                    <a:pt x="684" y="0"/>
                  </a:lnTo>
                  <a:lnTo>
                    <a:pt x="672" y="0"/>
                  </a:lnTo>
                  <a:lnTo>
                    <a:pt x="660" y="0"/>
                  </a:lnTo>
                  <a:lnTo>
                    <a:pt x="642" y="0"/>
                  </a:lnTo>
                  <a:lnTo>
                    <a:pt x="630" y="0"/>
                  </a:lnTo>
                  <a:lnTo>
                    <a:pt x="618" y="0"/>
                  </a:lnTo>
                  <a:lnTo>
                    <a:pt x="605" y="0"/>
                  </a:lnTo>
                  <a:lnTo>
                    <a:pt x="587" y="0"/>
                  </a:lnTo>
                  <a:lnTo>
                    <a:pt x="575" y="0"/>
                  </a:lnTo>
                  <a:lnTo>
                    <a:pt x="563" y="0"/>
                  </a:lnTo>
                  <a:lnTo>
                    <a:pt x="545" y="0"/>
                  </a:lnTo>
                  <a:lnTo>
                    <a:pt x="533" y="0"/>
                  </a:lnTo>
                  <a:lnTo>
                    <a:pt x="521" y="0"/>
                  </a:lnTo>
                  <a:lnTo>
                    <a:pt x="509" y="0"/>
                  </a:lnTo>
                  <a:lnTo>
                    <a:pt x="490" y="0"/>
                  </a:lnTo>
                  <a:lnTo>
                    <a:pt x="478" y="0"/>
                  </a:lnTo>
                  <a:lnTo>
                    <a:pt x="466" y="0"/>
                  </a:lnTo>
                  <a:lnTo>
                    <a:pt x="454" y="0"/>
                  </a:lnTo>
                  <a:lnTo>
                    <a:pt x="436" y="0"/>
                  </a:lnTo>
                  <a:lnTo>
                    <a:pt x="424" y="0"/>
                  </a:lnTo>
                  <a:lnTo>
                    <a:pt x="412" y="0"/>
                  </a:lnTo>
                  <a:lnTo>
                    <a:pt x="394" y="0"/>
                  </a:lnTo>
                  <a:lnTo>
                    <a:pt x="381" y="0"/>
                  </a:lnTo>
                  <a:lnTo>
                    <a:pt x="369" y="0"/>
                  </a:lnTo>
                  <a:lnTo>
                    <a:pt x="357" y="0"/>
                  </a:lnTo>
                  <a:lnTo>
                    <a:pt x="339" y="0"/>
                  </a:lnTo>
                  <a:lnTo>
                    <a:pt x="327" y="0"/>
                  </a:lnTo>
                  <a:lnTo>
                    <a:pt x="315" y="0"/>
                  </a:lnTo>
                  <a:lnTo>
                    <a:pt x="303" y="0"/>
                  </a:lnTo>
                  <a:lnTo>
                    <a:pt x="285" y="0"/>
                  </a:lnTo>
                  <a:lnTo>
                    <a:pt x="273" y="0"/>
                  </a:lnTo>
                  <a:lnTo>
                    <a:pt x="260" y="0"/>
                  </a:lnTo>
                  <a:lnTo>
                    <a:pt x="242" y="0"/>
                  </a:lnTo>
                  <a:lnTo>
                    <a:pt x="230" y="0"/>
                  </a:lnTo>
                  <a:lnTo>
                    <a:pt x="218" y="0"/>
                  </a:lnTo>
                  <a:lnTo>
                    <a:pt x="206" y="0"/>
                  </a:lnTo>
                  <a:lnTo>
                    <a:pt x="188" y="0"/>
                  </a:lnTo>
                  <a:lnTo>
                    <a:pt x="176" y="0"/>
                  </a:lnTo>
                  <a:lnTo>
                    <a:pt x="164" y="0"/>
                  </a:lnTo>
                  <a:lnTo>
                    <a:pt x="151" y="0"/>
                  </a:lnTo>
                  <a:lnTo>
                    <a:pt x="133" y="0"/>
                  </a:lnTo>
                  <a:lnTo>
                    <a:pt x="121" y="0"/>
                  </a:lnTo>
                  <a:lnTo>
                    <a:pt x="109" y="0"/>
                  </a:lnTo>
                  <a:lnTo>
                    <a:pt x="97" y="0"/>
                  </a:lnTo>
                  <a:lnTo>
                    <a:pt x="79" y="0"/>
                  </a:lnTo>
                  <a:lnTo>
                    <a:pt x="67" y="0"/>
                  </a:lnTo>
                  <a:lnTo>
                    <a:pt x="55" y="0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4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735200" y="5773680"/>
              <a:ext cx="4363920" cy="1365480"/>
            </a:xfrm>
            <a:custGeom>
              <a:avLst/>
              <a:gdLst/>
              <a:ahLst/>
              <a:rect l="l" t="t" r="r" b="b"/>
              <a:pathLst>
                <a:path w="2749" h="860">
                  <a:moveTo>
                    <a:pt x="2749" y="860"/>
                  </a:moveTo>
                  <a:lnTo>
                    <a:pt x="2731" y="860"/>
                  </a:lnTo>
                  <a:lnTo>
                    <a:pt x="2718" y="860"/>
                  </a:lnTo>
                  <a:lnTo>
                    <a:pt x="2706" y="860"/>
                  </a:lnTo>
                  <a:lnTo>
                    <a:pt x="2694" y="854"/>
                  </a:lnTo>
                  <a:lnTo>
                    <a:pt x="2676" y="848"/>
                  </a:lnTo>
                  <a:lnTo>
                    <a:pt x="2664" y="830"/>
                  </a:lnTo>
                  <a:lnTo>
                    <a:pt x="2652" y="805"/>
                  </a:lnTo>
                  <a:lnTo>
                    <a:pt x="2634" y="769"/>
                  </a:lnTo>
                  <a:lnTo>
                    <a:pt x="2622" y="721"/>
                  </a:lnTo>
                  <a:lnTo>
                    <a:pt x="2609" y="666"/>
                  </a:lnTo>
                  <a:lnTo>
                    <a:pt x="2597" y="599"/>
                  </a:lnTo>
                  <a:lnTo>
                    <a:pt x="2579" y="527"/>
                  </a:lnTo>
                  <a:lnTo>
                    <a:pt x="2567" y="460"/>
                  </a:lnTo>
                  <a:lnTo>
                    <a:pt x="2555" y="387"/>
                  </a:lnTo>
                  <a:lnTo>
                    <a:pt x="2543" y="315"/>
                  </a:lnTo>
                  <a:lnTo>
                    <a:pt x="2525" y="248"/>
                  </a:lnTo>
                  <a:lnTo>
                    <a:pt x="2513" y="194"/>
                  </a:lnTo>
                  <a:lnTo>
                    <a:pt x="2501" y="139"/>
                  </a:lnTo>
                  <a:lnTo>
                    <a:pt x="2482" y="97"/>
                  </a:lnTo>
                  <a:lnTo>
                    <a:pt x="2470" y="60"/>
                  </a:lnTo>
                  <a:lnTo>
                    <a:pt x="2458" y="36"/>
                  </a:lnTo>
                  <a:lnTo>
                    <a:pt x="2446" y="18"/>
                  </a:lnTo>
                  <a:lnTo>
                    <a:pt x="2428" y="6"/>
                  </a:lnTo>
                  <a:lnTo>
                    <a:pt x="2416" y="0"/>
                  </a:lnTo>
                  <a:lnTo>
                    <a:pt x="2404" y="0"/>
                  </a:lnTo>
                  <a:lnTo>
                    <a:pt x="2392" y="12"/>
                  </a:lnTo>
                  <a:lnTo>
                    <a:pt x="2373" y="18"/>
                  </a:lnTo>
                  <a:lnTo>
                    <a:pt x="2361" y="36"/>
                  </a:lnTo>
                  <a:lnTo>
                    <a:pt x="2349" y="54"/>
                  </a:lnTo>
                  <a:lnTo>
                    <a:pt x="2337" y="79"/>
                  </a:lnTo>
                  <a:lnTo>
                    <a:pt x="2319" y="103"/>
                  </a:lnTo>
                  <a:lnTo>
                    <a:pt x="2307" y="127"/>
                  </a:lnTo>
                  <a:lnTo>
                    <a:pt x="2295" y="151"/>
                  </a:lnTo>
                  <a:lnTo>
                    <a:pt x="2276" y="182"/>
                  </a:lnTo>
                  <a:lnTo>
                    <a:pt x="2264" y="206"/>
                  </a:lnTo>
                  <a:lnTo>
                    <a:pt x="2252" y="236"/>
                  </a:lnTo>
                  <a:lnTo>
                    <a:pt x="2240" y="260"/>
                  </a:lnTo>
                  <a:lnTo>
                    <a:pt x="2222" y="291"/>
                  </a:lnTo>
                  <a:lnTo>
                    <a:pt x="2210" y="315"/>
                  </a:lnTo>
                  <a:lnTo>
                    <a:pt x="2198" y="339"/>
                  </a:lnTo>
                  <a:lnTo>
                    <a:pt x="2186" y="369"/>
                  </a:lnTo>
                  <a:lnTo>
                    <a:pt x="2168" y="394"/>
                  </a:lnTo>
                  <a:lnTo>
                    <a:pt x="2155" y="412"/>
                  </a:lnTo>
                  <a:lnTo>
                    <a:pt x="2143" y="436"/>
                  </a:lnTo>
                  <a:lnTo>
                    <a:pt x="2125" y="460"/>
                  </a:lnTo>
                  <a:lnTo>
                    <a:pt x="2113" y="478"/>
                  </a:lnTo>
                  <a:lnTo>
                    <a:pt x="2101" y="496"/>
                  </a:lnTo>
                  <a:lnTo>
                    <a:pt x="2089" y="521"/>
                  </a:lnTo>
                  <a:lnTo>
                    <a:pt x="2071" y="539"/>
                  </a:lnTo>
                  <a:lnTo>
                    <a:pt x="2059" y="557"/>
                  </a:lnTo>
                  <a:lnTo>
                    <a:pt x="2046" y="569"/>
                  </a:lnTo>
                  <a:lnTo>
                    <a:pt x="2034" y="587"/>
                  </a:lnTo>
                  <a:lnTo>
                    <a:pt x="2016" y="605"/>
                  </a:lnTo>
                  <a:lnTo>
                    <a:pt x="2004" y="618"/>
                  </a:lnTo>
                  <a:lnTo>
                    <a:pt x="1992" y="630"/>
                  </a:lnTo>
                  <a:lnTo>
                    <a:pt x="1980" y="642"/>
                  </a:lnTo>
                  <a:lnTo>
                    <a:pt x="1962" y="654"/>
                  </a:lnTo>
                  <a:lnTo>
                    <a:pt x="1950" y="666"/>
                  </a:lnTo>
                  <a:lnTo>
                    <a:pt x="1937" y="678"/>
                  </a:lnTo>
                  <a:lnTo>
                    <a:pt x="1919" y="690"/>
                  </a:lnTo>
                  <a:lnTo>
                    <a:pt x="1907" y="702"/>
                  </a:lnTo>
                  <a:lnTo>
                    <a:pt x="1895" y="708"/>
                  </a:lnTo>
                  <a:lnTo>
                    <a:pt x="1883" y="715"/>
                  </a:lnTo>
                  <a:lnTo>
                    <a:pt x="1865" y="727"/>
                  </a:lnTo>
                  <a:lnTo>
                    <a:pt x="1853" y="733"/>
                  </a:lnTo>
                  <a:lnTo>
                    <a:pt x="1841" y="739"/>
                  </a:lnTo>
                  <a:lnTo>
                    <a:pt x="1828" y="751"/>
                  </a:lnTo>
                  <a:lnTo>
                    <a:pt x="1810" y="757"/>
                  </a:lnTo>
                  <a:lnTo>
                    <a:pt x="1798" y="763"/>
                  </a:lnTo>
                  <a:lnTo>
                    <a:pt x="1786" y="769"/>
                  </a:lnTo>
                  <a:lnTo>
                    <a:pt x="1768" y="775"/>
                  </a:lnTo>
                  <a:lnTo>
                    <a:pt x="1756" y="775"/>
                  </a:lnTo>
                  <a:lnTo>
                    <a:pt x="1744" y="781"/>
                  </a:lnTo>
                  <a:lnTo>
                    <a:pt x="1732" y="787"/>
                  </a:lnTo>
                  <a:lnTo>
                    <a:pt x="1713" y="793"/>
                  </a:lnTo>
                  <a:lnTo>
                    <a:pt x="1701" y="799"/>
                  </a:lnTo>
                  <a:lnTo>
                    <a:pt x="1689" y="799"/>
                  </a:lnTo>
                  <a:lnTo>
                    <a:pt x="1677" y="805"/>
                  </a:lnTo>
                  <a:lnTo>
                    <a:pt x="1659" y="805"/>
                  </a:lnTo>
                  <a:lnTo>
                    <a:pt x="1647" y="811"/>
                  </a:lnTo>
                  <a:lnTo>
                    <a:pt x="1635" y="811"/>
                  </a:lnTo>
                  <a:lnTo>
                    <a:pt x="1617" y="817"/>
                  </a:lnTo>
                  <a:lnTo>
                    <a:pt x="1604" y="817"/>
                  </a:lnTo>
                  <a:lnTo>
                    <a:pt x="1592" y="824"/>
                  </a:lnTo>
                  <a:lnTo>
                    <a:pt x="1580" y="824"/>
                  </a:lnTo>
                  <a:lnTo>
                    <a:pt x="1562" y="830"/>
                  </a:lnTo>
                  <a:lnTo>
                    <a:pt x="1550" y="830"/>
                  </a:lnTo>
                  <a:lnTo>
                    <a:pt x="1538" y="830"/>
                  </a:lnTo>
                  <a:lnTo>
                    <a:pt x="1526" y="836"/>
                  </a:lnTo>
                  <a:lnTo>
                    <a:pt x="1508" y="836"/>
                  </a:lnTo>
                  <a:lnTo>
                    <a:pt x="1495" y="836"/>
                  </a:lnTo>
                  <a:lnTo>
                    <a:pt x="1483" y="836"/>
                  </a:lnTo>
                  <a:lnTo>
                    <a:pt x="1471" y="842"/>
                  </a:lnTo>
                  <a:lnTo>
                    <a:pt x="1453" y="842"/>
                  </a:lnTo>
                  <a:lnTo>
                    <a:pt x="1441" y="842"/>
                  </a:lnTo>
                  <a:lnTo>
                    <a:pt x="1429" y="842"/>
                  </a:lnTo>
                  <a:lnTo>
                    <a:pt x="1411" y="848"/>
                  </a:lnTo>
                  <a:lnTo>
                    <a:pt x="1399" y="848"/>
                  </a:lnTo>
                  <a:lnTo>
                    <a:pt x="1387" y="848"/>
                  </a:lnTo>
                  <a:lnTo>
                    <a:pt x="1374" y="848"/>
                  </a:lnTo>
                  <a:lnTo>
                    <a:pt x="1356" y="848"/>
                  </a:lnTo>
                  <a:lnTo>
                    <a:pt x="1344" y="848"/>
                  </a:lnTo>
                  <a:lnTo>
                    <a:pt x="1332" y="848"/>
                  </a:lnTo>
                  <a:lnTo>
                    <a:pt x="1320" y="854"/>
                  </a:lnTo>
                  <a:lnTo>
                    <a:pt x="1302" y="854"/>
                  </a:lnTo>
                  <a:lnTo>
                    <a:pt x="1290" y="854"/>
                  </a:lnTo>
                  <a:lnTo>
                    <a:pt x="1278" y="854"/>
                  </a:lnTo>
                  <a:lnTo>
                    <a:pt x="1259" y="854"/>
                  </a:lnTo>
                  <a:lnTo>
                    <a:pt x="1247" y="854"/>
                  </a:lnTo>
                  <a:lnTo>
                    <a:pt x="1235" y="854"/>
                  </a:lnTo>
                  <a:lnTo>
                    <a:pt x="1223" y="854"/>
                  </a:lnTo>
                  <a:lnTo>
                    <a:pt x="1205" y="854"/>
                  </a:lnTo>
                  <a:lnTo>
                    <a:pt x="1193" y="854"/>
                  </a:lnTo>
                  <a:lnTo>
                    <a:pt x="1181" y="854"/>
                  </a:lnTo>
                  <a:lnTo>
                    <a:pt x="1169" y="854"/>
                  </a:lnTo>
                  <a:lnTo>
                    <a:pt x="1150" y="860"/>
                  </a:lnTo>
                  <a:lnTo>
                    <a:pt x="1138" y="860"/>
                  </a:lnTo>
                  <a:lnTo>
                    <a:pt x="1126" y="860"/>
                  </a:lnTo>
                  <a:lnTo>
                    <a:pt x="1108" y="860"/>
                  </a:lnTo>
                  <a:lnTo>
                    <a:pt x="1096" y="860"/>
                  </a:lnTo>
                  <a:lnTo>
                    <a:pt x="1084" y="860"/>
                  </a:lnTo>
                  <a:lnTo>
                    <a:pt x="1072" y="860"/>
                  </a:lnTo>
                  <a:lnTo>
                    <a:pt x="1054" y="860"/>
                  </a:lnTo>
                  <a:lnTo>
                    <a:pt x="1041" y="860"/>
                  </a:lnTo>
                  <a:lnTo>
                    <a:pt x="1029" y="860"/>
                  </a:lnTo>
                  <a:lnTo>
                    <a:pt x="1017" y="860"/>
                  </a:lnTo>
                  <a:lnTo>
                    <a:pt x="999" y="860"/>
                  </a:lnTo>
                  <a:lnTo>
                    <a:pt x="987" y="860"/>
                  </a:lnTo>
                  <a:lnTo>
                    <a:pt x="975" y="860"/>
                  </a:lnTo>
                  <a:lnTo>
                    <a:pt x="963" y="860"/>
                  </a:lnTo>
                  <a:lnTo>
                    <a:pt x="945" y="860"/>
                  </a:lnTo>
                  <a:lnTo>
                    <a:pt x="932" y="860"/>
                  </a:lnTo>
                  <a:lnTo>
                    <a:pt x="920" y="860"/>
                  </a:lnTo>
                  <a:lnTo>
                    <a:pt x="902" y="860"/>
                  </a:lnTo>
                  <a:lnTo>
                    <a:pt x="890" y="860"/>
                  </a:lnTo>
                  <a:lnTo>
                    <a:pt x="878" y="860"/>
                  </a:lnTo>
                  <a:lnTo>
                    <a:pt x="866" y="860"/>
                  </a:lnTo>
                  <a:lnTo>
                    <a:pt x="848" y="860"/>
                  </a:lnTo>
                  <a:lnTo>
                    <a:pt x="836" y="860"/>
                  </a:lnTo>
                  <a:lnTo>
                    <a:pt x="823" y="860"/>
                  </a:lnTo>
                  <a:lnTo>
                    <a:pt x="811" y="860"/>
                  </a:lnTo>
                  <a:lnTo>
                    <a:pt x="793" y="860"/>
                  </a:lnTo>
                  <a:lnTo>
                    <a:pt x="781" y="860"/>
                  </a:lnTo>
                  <a:lnTo>
                    <a:pt x="769" y="860"/>
                  </a:lnTo>
                  <a:lnTo>
                    <a:pt x="751" y="860"/>
                  </a:lnTo>
                  <a:lnTo>
                    <a:pt x="739" y="860"/>
                  </a:lnTo>
                  <a:lnTo>
                    <a:pt x="727" y="860"/>
                  </a:lnTo>
                  <a:lnTo>
                    <a:pt x="714" y="860"/>
                  </a:lnTo>
                  <a:lnTo>
                    <a:pt x="696" y="860"/>
                  </a:lnTo>
                  <a:lnTo>
                    <a:pt x="684" y="860"/>
                  </a:lnTo>
                  <a:lnTo>
                    <a:pt x="672" y="860"/>
                  </a:lnTo>
                  <a:lnTo>
                    <a:pt x="660" y="860"/>
                  </a:lnTo>
                  <a:lnTo>
                    <a:pt x="642" y="860"/>
                  </a:lnTo>
                  <a:lnTo>
                    <a:pt x="630" y="860"/>
                  </a:lnTo>
                  <a:lnTo>
                    <a:pt x="618" y="860"/>
                  </a:lnTo>
                  <a:lnTo>
                    <a:pt x="605" y="860"/>
                  </a:lnTo>
                  <a:lnTo>
                    <a:pt x="587" y="860"/>
                  </a:lnTo>
                  <a:lnTo>
                    <a:pt x="575" y="860"/>
                  </a:lnTo>
                  <a:lnTo>
                    <a:pt x="563" y="860"/>
                  </a:lnTo>
                  <a:lnTo>
                    <a:pt x="545" y="860"/>
                  </a:lnTo>
                  <a:lnTo>
                    <a:pt x="533" y="860"/>
                  </a:lnTo>
                  <a:lnTo>
                    <a:pt x="521" y="860"/>
                  </a:lnTo>
                  <a:lnTo>
                    <a:pt x="509" y="860"/>
                  </a:lnTo>
                  <a:lnTo>
                    <a:pt x="490" y="860"/>
                  </a:lnTo>
                  <a:lnTo>
                    <a:pt x="478" y="860"/>
                  </a:lnTo>
                  <a:lnTo>
                    <a:pt x="466" y="860"/>
                  </a:lnTo>
                  <a:lnTo>
                    <a:pt x="454" y="860"/>
                  </a:lnTo>
                  <a:lnTo>
                    <a:pt x="436" y="860"/>
                  </a:lnTo>
                  <a:lnTo>
                    <a:pt x="424" y="860"/>
                  </a:lnTo>
                  <a:lnTo>
                    <a:pt x="412" y="860"/>
                  </a:lnTo>
                  <a:lnTo>
                    <a:pt x="394" y="860"/>
                  </a:lnTo>
                  <a:lnTo>
                    <a:pt x="381" y="860"/>
                  </a:lnTo>
                  <a:lnTo>
                    <a:pt x="369" y="860"/>
                  </a:lnTo>
                  <a:lnTo>
                    <a:pt x="357" y="860"/>
                  </a:lnTo>
                  <a:lnTo>
                    <a:pt x="339" y="860"/>
                  </a:lnTo>
                  <a:lnTo>
                    <a:pt x="327" y="860"/>
                  </a:lnTo>
                  <a:lnTo>
                    <a:pt x="315" y="860"/>
                  </a:lnTo>
                  <a:lnTo>
                    <a:pt x="303" y="860"/>
                  </a:lnTo>
                  <a:lnTo>
                    <a:pt x="285" y="860"/>
                  </a:lnTo>
                  <a:lnTo>
                    <a:pt x="273" y="860"/>
                  </a:lnTo>
                  <a:lnTo>
                    <a:pt x="260" y="860"/>
                  </a:lnTo>
                  <a:lnTo>
                    <a:pt x="242" y="860"/>
                  </a:lnTo>
                  <a:lnTo>
                    <a:pt x="230" y="860"/>
                  </a:lnTo>
                  <a:lnTo>
                    <a:pt x="218" y="860"/>
                  </a:lnTo>
                  <a:lnTo>
                    <a:pt x="206" y="860"/>
                  </a:lnTo>
                  <a:lnTo>
                    <a:pt x="188" y="860"/>
                  </a:lnTo>
                  <a:lnTo>
                    <a:pt x="176" y="860"/>
                  </a:lnTo>
                  <a:lnTo>
                    <a:pt x="164" y="860"/>
                  </a:lnTo>
                  <a:lnTo>
                    <a:pt x="151" y="860"/>
                  </a:lnTo>
                  <a:lnTo>
                    <a:pt x="133" y="860"/>
                  </a:lnTo>
                  <a:lnTo>
                    <a:pt x="121" y="860"/>
                  </a:lnTo>
                  <a:lnTo>
                    <a:pt x="109" y="860"/>
                  </a:lnTo>
                  <a:lnTo>
                    <a:pt x="97" y="860"/>
                  </a:lnTo>
                  <a:lnTo>
                    <a:pt x="79" y="860"/>
                  </a:lnTo>
                  <a:lnTo>
                    <a:pt x="67" y="860"/>
                  </a:lnTo>
                  <a:lnTo>
                    <a:pt x="55" y="860"/>
                  </a:lnTo>
                  <a:lnTo>
                    <a:pt x="36" y="860"/>
                  </a:lnTo>
                  <a:lnTo>
                    <a:pt x="24" y="860"/>
                  </a:lnTo>
                  <a:lnTo>
                    <a:pt x="12" y="860"/>
                  </a:lnTo>
                  <a:lnTo>
                    <a:pt x="0" y="860"/>
                  </a:lnTo>
                </a:path>
              </a:pathLst>
            </a:custGeom>
            <a:noFill/>
            <a:ln w="9360">
              <a:solidFill>
                <a:srgbClr val="ff4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516680" y="826776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382760" y="7661160"/>
              <a:ext cx="28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-0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575720" y="7066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440360" y="646920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575720" y="5873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440360" y="527688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495800" y="8440560"/>
              <a:ext cx="49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631600" y="844056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765600" y="844056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899600" y="844056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054120" y="84405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728520" y="869004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6" name="" descr=""/>
            <p:cNvPicPr/>
            <p:nvPr/>
          </p:nvPicPr>
          <p:blipFill>
            <a:blip r:embed="rId2"/>
            <a:stretch/>
          </p:blipFill>
          <p:spPr>
            <a:xfrm>
              <a:off x="841320" y="6551640"/>
              <a:ext cx="4320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7" name="" descr=""/>
            <p:cNvPicPr/>
            <p:nvPr/>
          </p:nvPicPr>
          <p:blipFill>
            <a:blip r:embed="rId3"/>
            <a:stretch/>
          </p:blipFill>
          <p:spPr>
            <a:xfrm>
              <a:off x="879480" y="2581200"/>
              <a:ext cx="36504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8" name=""/>
            <p:cNvSpPr/>
            <p:nvPr/>
          </p:nvSpPr>
          <p:spPr>
            <a:xfrm flipV="1">
              <a:off x="957240" y="2811600"/>
              <a:ext cx="144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9" name=""/>
          <p:cNvSpPr/>
          <p:nvPr/>
        </p:nvSpPr>
        <p:spPr>
          <a:xfrm>
            <a:off x="4493880" y="60948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lim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582948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- Summary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6553080" cy="71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ja-JP" sz="3200" spc="-1" strike="noStrike">
                <a:solidFill>
                  <a:srgbClr val="0000ff"/>
                </a:solidFill>
                <a:latin typeface="Symbol"/>
                <a:ea typeface="Symbol"/>
              </a:rPr>
              <a:t></a:t>
            </a:r>
            <a:r>
              <a:rPr b="0" lang="ja-JP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ja-JP" sz="3200" spc="-1" strike="noStrike" baseline="30000">
                <a:solidFill>
                  <a:srgbClr val="0000ff"/>
                </a:solidFill>
                <a:latin typeface="Times New Roman"/>
              </a:rPr>
              <a:t>2  </a:t>
            </a:r>
            <a:r>
              <a:rPr b="0" lang="ja-JP" sz="3200" spc="-1" strike="noStrike">
                <a:solidFill>
                  <a:srgbClr val="0000ff"/>
                </a:solidFill>
                <a:latin typeface="Times New Roman"/>
              </a:rPr>
              <a:t>analysis of available DIS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NLO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s significantly smaller than LO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NLO analysis is necess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g(x) determination is rather difficul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ja-JP" sz="2800" spc="-1" strike="noStrike">
                <a:solidFill>
                  <a:srgbClr val="0000ff"/>
                </a:solidFill>
                <a:latin typeface="Symbol"/>
                <a:ea typeface="Symbol"/>
              </a:rPr>
              <a:t>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</a:t>
            </a:r>
            <a:r>
              <a:rPr b="1" lang="ja-JP" sz="2800" spc="-1" strike="noStrike" baseline="-25000">
                <a:solidFill>
                  <a:srgbClr val="0000ff"/>
                </a:solidFill>
                <a:latin typeface="Times New Roman"/>
                <a:ea typeface="ＭＳ 明朝"/>
              </a:rPr>
              <a:t>LO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=20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％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, </a:t>
            </a:r>
            <a:r>
              <a:rPr b="1" lang="ja-JP" sz="2800" spc="-1" strike="noStrike">
                <a:solidFill>
                  <a:srgbClr val="0000ff"/>
                </a:solidFill>
                <a:latin typeface="Symbol"/>
                <a:ea typeface="Symbol"/>
              </a:rPr>
              <a:t>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</a:t>
            </a:r>
            <a:r>
              <a:rPr b="1" lang="ja-JP" sz="2800" spc="-1" strike="noStrike" baseline="-25000">
                <a:solidFill>
                  <a:srgbClr val="0000ff"/>
                </a:solidFill>
                <a:latin typeface="Times New Roman"/>
                <a:ea typeface="ＭＳ 明朝"/>
              </a:rPr>
              <a:t>NLO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=5</a:t>
            </a:r>
            <a:r>
              <a:rPr b="1" lang="ja-JP" sz="16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~</a:t>
            </a:r>
            <a:r>
              <a:rPr b="1" lang="ja-JP" sz="16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2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small-x behavior of             is not uniquely determined.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</a:t>
            </a:r>
            <a:r>
              <a:rPr b="0" lang="ja-JP" sz="2400" spc="-1" strike="noStrike">
                <a:solidFill>
                  <a:srgbClr val="9900ff"/>
                </a:solidFill>
                <a:latin typeface="Symbol"/>
                <a:ea typeface="Symbol"/>
              </a:rPr>
              <a:t></a:t>
            </a:r>
            <a:r>
              <a:rPr b="0" lang="ja-JP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9900ff"/>
                </a:solidFill>
                <a:latin typeface="Times New Roman"/>
              </a:rPr>
              <a:t>need small-x measurements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               </a:t>
            </a:r>
            <a:r>
              <a:rPr b="1" lang="ja-JP" sz="20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polarized-HERA, eRHIC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f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ff"/>
                </a:solidFill>
                <a:latin typeface="Times New Roman"/>
                <a:ea typeface="ＭＳ 明朝"/>
              </a:rPr>
              <a:t>propose three AAC distribu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     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LO, NLO-1 (</a:t>
            </a:r>
            <a:r>
              <a:rPr b="1" lang="ja-JP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ja-JP" sz="2800" spc="-1" strike="noStrike" baseline="-25000">
                <a:solidFill>
                  <a:srgbClr val="0000ff"/>
                </a:solidFill>
                <a:latin typeface="Times New Roman"/>
                <a:ea typeface="ＭＳ 明朝"/>
              </a:rPr>
              <a:t>q</a:t>
            </a:r>
            <a:r>
              <a:rPr b="1" lang="ja-JP" sz="1400" spc="-1" strike="noStrike" baseline="-25000">
                <a:solidFill>
                  <a:srgbClr val="0000ff"/>
                </a:solidFill>
                <a:latin typeface="Times New Roman"/>
                <a:ea typeface="ＭＳ 明朝"/>
              </a:rPr>
              <a:t> 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=free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             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NLO-2 (</a:t>
            </a:r>
            <a:r>
              <a:rPr b="1" lang="ja-JP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ja-JP" sz="2800" spc="-1" strike="noStrike" baseline="-25000">
                <a:solidFill>
                  <a:srgbClr val="0000ff"/>
                </a:solidFill>
                <a:latin typeface="Times New Roman"/>
                <a:ea typeface="ＭＳ 明朝"/>
              </a:rPr>
              <a:t>q</a:t>
            </a:r>
            <a:r>
              <a:rPr b="1" lang="ja-JP" sz="1400" spc="-1" strike="noStrike" baseline="-25000">
                <a:solidFill>
                  <a:srgbClr val="0000ff"/>
                </a:solidFill>
                <a:latin typeface="Times New Roman"/>
                <a:ea typeface="ＭＳ 明朝"/>
              </a:rPr>
              <a:t> 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=1.0 fix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Phys. Rev. D62 (2000) 034017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http://spin.riken.bnl.gov/aac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for the detai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352680" y="7086600"/>
            <a:ext cx="15264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3" name=""/>
              <p:cNvSpPr txBox="1"/>
              <p:nvPr/>
            </p:nvSpPr>
            <p:spPr>
              <a:xfrm>
                <a:off x="3657600" y="4648320"/>
                <a:ext cx="7239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4" name=""/>
          <p:cNvSpPr/>
          <p:nvPr/>
        </p:nvSpPr>
        <p:spPr>
          <a:xfrm>
            <a:off x="3352680" y="7467480"/>
            <a:ext cx="15264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/>
          <p:nvPr/>
        </p:nvSpPr>
        <p:spPr>
          <a:xfrm>
            <a:off x="1242360" y="1728720"/>
            <a:ext cx="466884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Nucl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parton  distribu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990720" y="5056200"/>
            <a:ext cx="533376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Ref.  M. Hirai, S. Kumano, M. Miyam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        </a:t>
            </a:r>
            <a:r>
              <a:rPr b="0" lang="ja-JP" sz="24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Phys. Rev. D64 (2001) 03400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A library for nuclear parton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can be obtained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http://hs.phys.saga-u.ac.jp/nuclp.htm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514080" y="709560"/>
            <a:ext cx="4810680" cy="58140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</a:t>
            </a:r>
            <a:r>
              <a:rPr b="0" lang="ja-JP" sz="30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parton distributions in nucle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5360" y="1851120"/>
            <a:ext cx="601344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Nuclear modification of F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ja-JP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A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/</a:t>
            </a:r>
            <a:r>
              <a:rPr b="0" lang="ja-JP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ja-JP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D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well known in electron/muon scat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9" name="" descr=""/>
          <p:cNvPicPr/>
          <p:nvPr/>
        </p:nvPicPr>
        <p:blipFill>
          <a:blip r:embed="rId1"/>
          <a:stretch/>
        </p:blipFill>
        <p:spPr>
          <a:xfrm>
            <a:off x="1127160" y="3025800"/>
            <a:ext cx="4965840" cy="546120"/>
          </a:xfrm>
          <a:prstGeom prst="rect">
            <a:avLst/>
          </a:prstGeom>
          <a:ln w="0">
            <a:noFill/>
          </a:ln>
        </p:spPr>
      </p:pic>
      <p:grpSp>
        <p:nvGrpSpPr>
          <p:cNvPr id="1290" name=""/>
          <p:cNvGrpSpPr/>
          <p:nvPr/>
        </p:nvGrpSpPr>
        <p:grpSpPr>
          <a:xfrm>
            <a:off x="237960" y="4276800"/>
            <a:ext cx="6431040" cy="4920480"/>
            <a:chOff x="237960" y="4276800"/>
            <a:chExt cx="6431040" cy="4920480"/>
          </a:xfrm>
        </p:grpSpPr>
        <p:pic>
          <p:nvPicPr>
            <p:cNvPr id="1291" name="" descr=""/>
            <p:cNvPicPr/>
            <p:nvPr/>
          </p:nvPicPr>
          <p:blipFill>
            <a:blip r:embed="rId2"/>
            <a:stretch/>
          </p:blipFill>
          <p:spPr>
            <a:xfrm>
              <a:off x="369720" y="4276800"/>
              <a:ext cx="5786280" cy="38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2" name=""/>
            <p:cNvSpPr/>
            <p:nvPr/>
          </p:nvSpPr>
          <p:spPr>
            <a:xfrm>
              <a:off x="237960" y="8094600"/>
              <a:ext cx="183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562040" y="8483760"/>
              <a:ext cx="172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ＭＳ 明朝"/>
                </a:rPr>
                <a:t>shadow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V="1">
              <a:off x="2298240" y="6997680"/>
              <a:ext cx="571680" cy="148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489040" y="6083280"/>
              <a:ext cx="1587240" cy="952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863960" y="6045120"/>
              <a:ext cx="799920" cy="939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4686120" y="6997320"/>
              <a:ext cx="457200" cy="139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401640" y="8407440"/>
              <a:ext cx="282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ＭＳ 明朝"/>
                </a:rPr>
                <a:t>original EMC fi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673440" y="8737560"/>
              <a:ext cx="299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Times New Roman"/>
                  <a:ea typeface="ＭＳ 明朝"/>
                </a:rPr>
                <a:t>(binding, subnucleon?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0" name=""/>
          <p:cNvGrpSpPr/>
          <p:nvPr/>
        </p:nvGrpSpPr>
        <p:grpSpPr>
          <a:xfrm>
            <a:off x="4100760" y="3733920"/>
            <a:ext cx="1852560" cy="2730240"/>
            <a:chOff x="4100760" y="3733920"/>
            <a:chExt cx="1852560" cy="2730240"/>
          </a:xfrm>
        </p:grpSpPr>
        <p:sp>
          <p:nvSpPr>
            <p:cNvPr id="1301" name=""/>
            <p:cNvSpPr/>
            <p:nvPr/>
          </p:nvSpPr>
          <p:spPr>
            <a:xfrm>
              <a:off x="5283360" y="5359320"/>
              <a:ext cx="419040" cy="1104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270400" y="4152960"/>
              <a:ext cx="190440" cy="11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100760" y="3733920"/>
              <a:ext cx="18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Times New Roman"/>
                  <a:ea typeface="ＭＳ 明朝"/>
                </a:rPr>
                <a:t>Fermi mo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098720" y="974880"/>
            <a:ext cx="5181480" cy="725148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801720" y="952560"/>
            <a:ext cx="26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ltaSymbol"/>
                <a:ea typeface="DeltaSymbol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70040" y="4898880"/>
            <a:ext cx="26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ltaSymbol"/>
                <a:ea typeface="DeltaSymbol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/>
          </p:nvPr>
        </p:nvSpPr>
        <p:spPr>
          <a:xfrm>
            <a:off x="371160" y="577440"/>
            <a:ext cx="59878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08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 depen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8" name=""/>
          <p:cNvGrpSpPr/>
          <p:nvPr/>
        </p:nvGrpSpPr>
        <p:grpSpPr>
          <a:xfrm>
            <a:off x="1549440" y="1924200"/>
            <a:ext cx="3809520" cy="1898280"/>
            <a:chOff x="1549440" y="1924200"/>
            <a:chExt cx="3809520" cy="1898280"/>
          </a:xfrm>
        </p:grpSpPr>
        <p:grpSp>
          <p:nvGrpSpPr>
            <p:cNvPr id="1309" name=""/>
            <p:cNvGrpSpPr/>
            <p:nvPr/>
          </p:nvGrpSpPr>
          <p:grpSpPr>
            <a:xfrm>
              <a:off x="1930320" y="1924200"/>
              <a:ext cx="3428640" cy="1898280"/>
              <a:chOff x="1930320" y="1924200"/>
              <a:chExt cx="3428640" cy="1898280"/>
            </a:xfrm>
          </p:grpSpPr>
          <p:sp>
            <p:nvSpPr>
              <p:cNvPr id="1310" name=""/>
              <p:cNvSpPr/>
              <p:nvPr/>
            </p:nvSpPr>
            <p:spPr>
              <a:xfrm>
                <a:off x="1930320" y="1924200"/>
                <a:ext cx="0" cy="189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930320" y="3822480"/>
                <a:ext cx="342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930320" y="2345400"/>
                <a:ext cx="11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3066480" y="2286360"/>
                <a:ext cx="1369800" cy="1536120"/>
              </a:xfrm>
              <a:custGeom>
                <a:avLst/>
                <a:gdLst/>
                <a:ahLst/>
                <a:rect l="l" t="t" r="r" b="b"/>
                <a:pathLst>
                  <a:path w="633" h="699">
                    <a:moveTo>
                      <a:pt x="0" y="27"/>
                    </a:moveTo>
                    <a:cubicBezTo>
                      <a:pt x="33" y="36"/>
                      <a:pt x="139" y="0"/>
                      <a:pt x="201" y="84"/>
                    </a:cubicBezTo>
                    <a:cubicBezTo>
                      <a:pt x="263" y="168"/>
                      <a:pt x="303" y="429"/>
                      <a:pt x="375" y="531"/>
                    </a:cubicBezTo>
                    <a:cubicBezTo>
                      <a:pt x="447" y="633"/>
                      <a:pt x="579" y="664"/>
                      <a:pt x="633" y="69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4" name=""/>
            <p:cNvSpPr/>
            <p:nvPr/>
          </p:nvSpPr>
          <p:spPr>
            <a:xfrm>
              <a:off x="1549440" y="217188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082960" y="2832120"/>
              <a:ext cx="1447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=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1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930320" y="3079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378240" y="3079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8" name=""/>
          <p:cNvSpPr/>
          <p:nvPr/>
        </p:nvSpPr>
        <p:spPr>
          <a:xfrm>
            <a:off x="1066680" y="1346040"/>
            <a:ext cx="5435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Ref.   I. Sick and D. Day,  Phys. Lett. B 274 (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9" name="" descr=""/>
          <p:cNvPicPr/>
          <p:nvPr/>
        </p:nvPicPr>
        <p:blipFill>
          <a:blip r:embed="rId1"/>
          <a:stretch/>
        </p:blipFill>
        <p:spPr>
          <a:xfrm>
            <a:off x="1257480" y="4229280"/>
            <a:ext cx="4317840" cy="1473120"/>
          </a:xfrm>
          <a:prstGeom prst="rect">
            <a:avLst/>
          </a:prstGeom>
          <a:ln w="0">
            <a:noFill/>
          </a:ln>
        </p:spPr>
      </p:pic>
      <p:sp>
        <p:nvSpPr>
          <p:cNvPr id="1320" name=""/>
          <p:cNvSpPr/>
          <p:nvPr/>
        </p:nvSpPr>
        <p:spPr>
          <a:xfrm>
            <a:off x="2044080" y="23623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volum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873240" y="22986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surfac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>
            <a:off x="3631680" y="2743200"/>
            <a:ext cx="792360" cy="590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3" name="" descr=""/>
          <p:cNvPicPr/>
          <p:nvPr/>
        </p:nvPicPr>
        <p:blipFill>
          <a:blip r:embed="rId2"/>
          <a:stretch/>
        </p:blipFill>
        <p:spPr>
          <a:xfrm>
            <a:off x="584280" y="5843520"/>
            <a:ext cx="5629320" cy="38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4" name="" descr=""/>
          <p:cNvPicPr/>
          <p:nvPr/>
        </p:nvPicPr>
        <p:blipFill>
          <a:blip r:embed="rId1"/>
          <a:stretch/>
        </p:blipFill>
        <p:spPr>
          <a:xfrm>
            <a:off x="498600" y="681120"/>
            <a:ext cx="5956200" cy="4838760"/>
          </a:xfrm>
          <a:prstGeom prst="rect">
            <a:avLst/>
          </a:prstGeom>
          <a:ln w="0">
            <a:noFill/>
          </a:ln>
        </p:spPr>
      </p:pic>
      <p:pic>
        <p:nvPicPr>
          <p:cNvPr id="1325" name="" descr=""/>
          <p:cNvPicPr/>
          <p:nvPr/>
        </p:nvPicPr>
        <p:blipFill>
          <a:blip r:embed="rId2"/>
          <a:stretch/>
        </p:blipFill>
        <p:spPr>
          <a:xfrm>
            <a:off x="569880" y="6143760"/>
            <a:ext cx="60451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5680" y="455760"/>
            <a:ext cx="51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ntroduction: current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923760" y="1536840"/>
            <a:ext cx="5239080" cy="3020040"/>
            <a:chOff x="923760" y="1536840"/>
            <a:chExt cx="5239080" cy="3020040"/>
          </a:xfrm>
        </p:grpSpPr>
        <p:sp>
          <p:nvSpPr>
            <p:cNvPr id="47" name=""/>
            <p:cNvSpPr/>
            <p:nvPr/>
          </p:nvSpPr>
          <p:spPr>
            <a:xfrm>
              <a:off x="923760" y="1536840"/>
              <a:ext cx="52390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8000"/>
                  </a:solidFill>
                  <a:latin typeface="Times New Roman"/>
                  <a:ea typeface="Osaka"/>
                </a:rPr>
                <a:t>Parton distributions are determin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8000"/>
                  </a:solidFill>
                  <a:latin typeface="Times New Roman"/>
                  <a:ea typeface="Osaka"/>
                </a:rPr>
                <a:t>by fitting various experimental dat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Osaka"/>
                </a:rPr>
                <a:t> 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Osaka"/>
                </a:rPr>
                <a:t>electron/muon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Osaka"/>
                </a:rPr>
                <a:t> 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Osaka"/>
                </a:rPr>
                <a:t>neutrin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Osaka"/>
                </a:rPr>
                <a:t> 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Osaka"/>
                </a:rPr>
                <a:t>Drell-Y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Osaka"/>
                </a:rPr>
                <a:t> 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Osaka"/>
                </a:rPr>
                <a:t>direct pho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Osaka"/>
                </a:rPr>
                <a:t> 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Osaka"/>
                </a:rPr>
                <a:t>..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3343320" y="2749680"/>
              <a:ext cx="1957320" cy="1444320"/>
              <a:chOff x="3343320" y="2749680"/>
              <a:chExt cx="1957320" cy="1444320"/>
            </a:xfrm>
          </p:grpSpPr>
          <p:pic>
            <p:nvPicPr>
              <p:cNvPr id="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43320" y="2749680"/>
                <a:ext cx="1625400" cy="33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355920" y="3106800"/>
                <a:ext cx="1714680" cy="33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62400" y="3855960"/>
                <a:ext cx="1778040" cy="33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357720" y="3470400"/>
                <a:ext cx="1942920" cy="330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3" name=""/>
          <p:cNvGrpSpPr/>
          <p:nvPr/>
        </p:nvGrpSpPr>
        <p:grpSpPr>
          <a:xfrm>
            <a:off x="476280" y="5003640"/>
            <a:ext cx="5789520" cy="3436920"/>
            <a:chOff x="476280" y="5003640"/>
            <a:chExt cx="5789520" cy="3436920"/>
          </a:xfrm>
        </p:grpSpPr>
        <p:pic>
          <p:nvPicPr>
            <p:cNvPr id="54" name="" descr=""/>
            <p:cNvPicPr/>
            <p:nvPr/>
          </p:nvPicPr>
          <p:blipFill>
            <a:blip r:embed="rId5"/>
            <a:stretch/>
          </p:blipFill>
          <p:spPr>
            <a:xfrm>
              <a:off x="1160640" y="5086440"/>
              <a:ext cx="510516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961920" y="7024680"/>
              <a:ext cx="18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89160" y="719784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9520" y="5003640"/>
              <a:ext cx="6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8000"/>
                  </a:solidFill>
                  <a:latin typeface="Times New Roman"/>
                  <a:ea typeface="ＭＳ 明朝"/>
                </a:rPr>
                <a:t>(1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7720" y="7504200"/>
              <a:ext cx="6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8000"/>
                  </a:solidFill>
                  <a:latin typeface="Times New Roman"/>
                  <a:ea typeface="ＭＳ 明朝"/>
                </a:rPr>
                <a:t>(3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6280" y="6405480"/>
              <a:ext cx="6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8000"/>
                  </a:solidFill>
                  <a:latin typeface="Times New Roman"/>
                  <a:ea typeface="ＭＳ 明朝"/>
                </a:rPr>
                <a:t>(2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6"/>
            <a:stretch/>
          </p:blipFill>
          <p:spPr>
            <a:xfrm>
              <a:off x="1157400" y="7628040"/>
              <a:ext cx="441936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7"/>
            <a:stretch/>
          </p:blipFill>
          <p:spPr>
            <a:xfrm>
              <a:off x="1173240" y="6504120"/>
              <a:ext cx="4000320" cy="825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6" name="" descr=""/>
          <p:cNvPicPr/>
          <p:nvPr/>
        </p:nvPicPr>
        <p:blipFill>
          <a:blip r:embed="rId1"/>
          <a:stretch/>
        </p:blipFill>
        <p:spPr>
          <a:xfrm>
            <a:off x="507960" y="736560"/>
            <a:ext cx="5562720" cy="72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"/>
          <p:cNvSpPr/>
          <p:nvPr/>
        </p:nvSpPr>
        <p:spPr>
          <a:xfrm>
            <a:off x="554760" y="609480"/>
            <a:ext cx="4603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Experimental data on F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ＭＳ 明朝"/>
              </a:rPr>
              <a:t>2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ＭＳ 明朝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/F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ＭＳ 明朝"/>
              </a:rPr>
              <a:t>2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ＭＳ 明朝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172160" y="1727280"/>
            <a:ext cx="5078880" cy="20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NMC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 He, Li, C,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SLAC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He, Be, C, Al, Ca, Fe, Ag, 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EMC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  C, Ca, Cu, 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E665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C, Ca, Xe, 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BCDMS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N, 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1295280" y="4267080"/>
            <a:ext cx="1296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0" name="" descr=""/>
          <p:cNvPicPr/>
          <p:nvPr/>
        </p:nvPicPr>
        <p:blipFill>
          <a:blip r:embed="rId1"/>
          <a:stretch/>
        </p:blipFill>
        <p:spPr>
          <a:xfrm>
            <a:off x="1295280" y="4267080"/>
            <a:ext cx="12960" cy="12960"/>
          </a:xfrm>
          <a:prstGeom prst="rect">
            <a:avLst/>
          </a:prstGeom>
          <a:ln w="0">
            <a:noFill/>
          </a:ln>
        </p:spPr>
      </p:pic>
      <p:sp>
        <p:nvSpPr>
          <p:cNvPr id="1331" name=""/>
          <p:cNvSpPr/>
          <p:nvPr/>
        </p:nvSpPr>
        <p:spPr>
          <a:xfrm>
            <a:off x="1295280" y="424188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307160" y="4241880"/>
            <a:ext cx="144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DeltaSymbol"/>
                <a:ea typeface="DeltaSymbol"/>
              </a:rPr>
              <a:t>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219320" y="4419720"/>
            <a:ext cx="1260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4" name="" descr=""/>
          <p:cNvPicPr/>
          <p:nvPr/>
        </p:nvPicPr>
        <p:blipFill>
          <a:blip r:embed="rId2"/>
          <a:stretch/>
        </p:blipFill>
        <p:spPr>
          <a:xfrm>
            <a:off x="1219320" y="4419720"/>
            <a:ext cx="12600" cy="12600"/>
          </a:xfrm>
          <a:prstGeom prst="rect">
            <a:avLst/>
          </a:prstGeom>
          <a:ln w="0">
            <a:noFill/>
          </a:ln>
        </p:spPr>
      </p:pic>
      <p:sp>
        <p:nvSpPr>
          <p:cNvPr id="1335" name=""/>
          <p:cNvSpPr/>
          <p:nvPr/>
        </p:nvSpPr>
        <p:spPr>
          <a:xfrm>
            <a:off x="1219320" y="439416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231200" y="4394160"/>
            <a:ext cx="144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DeltaSymbol"/>
                <a:ea typeface="DeltaSymbol"/>
              </a:rPr>
              <a:t>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219320" y="426708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3"/>
          <a:stretch/>
        </p:blipFill>
        <p:spPr>
          <a:xfrm>
            <a:off x="1219320" y="4267080"/>
            <a:ext cx="12600" cy="12960"/>
          </a:xfrm>
          <a:prstGeom prst="rect">
            <a:avLst/>
          </a:prstGeom>
          <a:ln w="0">
            <a:noFill/>
          </a:ln>
        </p:spPr>
      </p:pic>
      <p:sp>
        <p:nvSpPr>
          <p:cNvPr id="1339" name=""/>
          <p:cNvSpPr/>
          <p:nvPr/>
        </p:nvSpPr>
        <p:spPr>
          <a:xfrm>
            <a:off x="1219320" y="424188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1231200" y="4241880"/>
            <a:ext cx="144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DeltaSymbol"/>
                <a:ea typeface="DeltaSymbol"/>
              </a:rPr>
              <a:t>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62120" y="4419720"/>
            <a:ext cx="1260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2" name="" descr=""/>
          <p:cNvPicPr/>
          <p:nvPr/>
        </p:nvPicPr>
        <p:blipFill>
          <a:blip r:embed="rId4"/>
          <a:stretch/>
        </p:blipFill>
        <p:spPr>
          <a:xfrm>
            <a:off x="762120" y="4419720"/>
            <a:ext cx="12600" cy="12600"/>
          </a:xfrm>
          <a:prstGeom prst="rect">
            <a:avLst/>
          </a:prstGeom>
          <a:ln w="0">
            <a:noFill/>
          </a:ln>
        </p:spPr>
      </p:pic>
      <p:sp>
        <p:nvSpPr>
          <p:cNvPr id="1343" name=""/>
          <p:cNvSpPr/>
          <p:nvPr/>
        </p:nvSpPr>
        <p:spPr>
          <a:xfrm>
            <a:off x="762120" y="439416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74000" y="4394160"/>
            <a:ext cx="144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DeltaSymbol"/>
                <a:ea typeface="DeltaSymbol"/>
              </a:rPr>
              <a:t>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066680" y="4419720"/>
            <a:ext cx="1296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6" name="" descr=""/>
          <p:cNvPicPr/>
          <p:nvPr/>
        </p:nvPicPr>
        <p:blipFill>
          <a:blip r:embed="rId5"/>
          <a:stretch/>
        </p:blipFill>
        <p:spPr>
          <a:xfrm>
            <a:off x="1066680" y="4419720"/>
            <a:ext cx="12960" cy="12600"/>
          </a:xfrm>
          <a:prstGeom prst="rect">
            <a:avLst/>
          </a:prstGeom>
          <a:ln w="0">
            <a:noFill/>
          </a:ln>
        </p:spPr>
      </p:pic>
      <p:sp>
        <p:nvSpPr>
          <p:cNvPr id="1347" name=""/>
          <p:cNvSpPr/>
          <p:nvPr/>
        </p:nvSpPr>
        <p:spPr>
          <a:xfrm>
            <a:off x="1066680" y="439416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1078560" y="4394160"/>
            <a:ext cx="144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DeltaSymbol"/>
                <a:ea typeface="DeltaSymbol"/>
              </a:rPr>
              <a:t>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9" name=""/>
          <p:cNvGrpSpPr/>
          <p:nvPr/>
        </p:nvGrpSpPr>
        <p:grpSpPr>
          <a:xfrm>
            <a:off x="1371240" y="4419720"/>
            <a:ext cx="4987440" cy="4546080"/>
            <a:chOff x="1371240" y="4419720"/>
            <a:chExt cx="4987440" cy="4546080"/>
          </a:xfrm>
        </p:grpSpPr>
        <p:grpSp>
          <p:nvGrpSpPr>
            <p:cNvPr id="1350" name=""/>
            <p:cNvGrpSpPr/>
            <p:nvPr/>
          </p:nvGrpSpPr>
          <p:grpSpPr>
            <a:xfrm>
              <a:off x="1733760" y="4525560"/>
              <a:ext cx="4568760" cy="3642480"/>
              <a:chOff x="1733760" y="4525560"/>
              <a:chExt cx="4568760" cy="3642480"/>
            </a:xfrm>
          </p:grpSpPr>
          <p:sp>
            <p:nvSpPr>
              <p:cNvPr id="1351" name=""/>
              <p:cNvSpPr/>
              <p:nvPr/>
            </p:nvSpPr>
            <p:spPr>
              <a:xfrm>
                <a:off x="1812960" y="4532400"/>
                <a:ext cx="4488120" cy="352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1808280" y="8053560"/>
                <a:ext cx="4486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1808280" y="4525920"/>
                <a:ext cx="44863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V="1">
                <a:off x="1808280" y="4525560"/>
                <a:ext cx="1440" cy="352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V="1">
                <a:off x="6294600" y="4525560"/>
                <a:ext cx="1440" cy="352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776600" y="8058240"/>
                <a:ext cx="36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776600" y="7666200"/>
                <a:ext cx="36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1776600" y="7437600"/>
                <a:ext cx="36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1776600" y="7272360"/>
                <a:ext cx="36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1776600" y="7147080"/>
                <a:ext cx="36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1776600" y="7043760"/>
                <a:ext cx="36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1776600" y="6954840"/>
                <a:ext cx="36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1776600" y="6878520"/>
                <a:ext cx="36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1776600" y="6811920"/>
                <a:ext cx="36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1776600" y="6754680"/>
                <a:ext cx="36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1776600" y="6361200"/>
                <a:ext cx="36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1776600" y="6129360"/>
                <a:ext cx="36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1776600" y="5964120"/>
                <a:ext cx="36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1776600" y="5840280"/>
                <a:ext cx="36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1776600" y="5735520"/>
                <a:ext cx="36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1776600" y="5648400"/>
                <a:ext cx="36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776600" y="5572080"/>
                <a:ext cx="36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1776600" y="5505480"/>
                <a:ext cx="36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1776600" y="5446800"/>
                <a:ext cx="36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1776600" y="5052960"/>
                <a:ext cx="36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1776600" y="4821120"/>
                <a:ext cx="36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1776600" y="4660920"/>
                <a:ext cx="36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1776600" y="4532400"/>
                <a:ext cx="36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1733760" y="8056440"/>
                <a:ext cx="759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1733760" y="6751800"/>
                <a:ext cx="759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1733760" y="5443560"/>
                <a:ext cx="759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1733760" y="4529160"/>
                <a:ext cx="759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V="1">
                <a:off x="1812960" y="805824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V="1">
                <a:off x="226548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flipV="1">
                <a:off x="252756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flipV="1">
                <a:off x="2716200" y="805824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flipV="1">
                <a:off x="2859120" y="805824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flipV="1">
                <a:off x="297828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V="1">
                <a:off x="307836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316404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V="1">
                <a:off x="3243240" y="805824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331020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376092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402300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V="1">
                <a:off x="420876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V="1">
                <a:off x="435636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V="1">
                <a:off x="4475160" y="805824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4575240" y="805824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V="1">
                <a:off x="4660920" y="805824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V="1">
                <a:off x="473724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V="1">
                <a:off x="480708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V="1">
                <a:off x="525492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V="1">
                <a:off x="551988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V="1">
                <a:off x="570564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V="1">
                <a:off x="584856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V="1">
                <a:off x="5967360" y="805824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V="1">
                <a:off x="606924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V="1">
                <a:off x="6156360" y="805824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V="1">
                <a:off x="623268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V="1">
                <a:off x="630108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flipV="1">
                <a:off x="1809720" y="8056440"/>
                <a:ext cx="1800" cy="76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V="1">
                <a:off x="3306960" y="8056440"/>
                <a:ext cx="1440" cy="76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V="1">
                <a:off x="4803840" y="8056440"/>
                <a:ext cx="1800" cy="76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V="1">
                <a:off x="6297840" y="8056440"/>
                <a:ext cx="1440" cy="76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V="1">
                <a:off x="1808280" y="4525560"/>
                <a:ext cx="1440" cy="352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808280" y="8053560"/>
                <a:ext cx="4486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2894040" y="7834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3178080" y="76518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3427560" y="74883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3648240" y="73627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3878280" y="72248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4095720" y="71071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259160" y="70056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388040" y="69390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546800" y="68565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4708440" y="67564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4921200" y="66247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140440" y="64882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372280" y="6313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5591160" y="61801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753160" y="60372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884920" y="59212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994360" y="58356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894040" y="79851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178080" y="7792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427560" y="76518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648240" y="75121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3878280" y="73994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4095720" y="7259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4259160" y="71708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4388040" y="70945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4546800" y="69660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4708440" y="68626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921200" y="67262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140440" y="65739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372280" y="63752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591160" y="62038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753160" y="6073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884920" y="60008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994360" y="59054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894040" y="79297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178080" y="77198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3427560" y="75358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648240" y="73803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878280" y="7259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095720" y="71308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4259160" y="70182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4388040" y="69292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4546800" y="68198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708440" y="67006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4921200" y="65739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140440" y="6448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372280" y="62834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591160" y="61135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753160" y="60181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884920" y="59356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994360" y="58784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3178080" y="7792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427560" y="76215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3648240" y="74628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878280" y="72896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4095720" y="71071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259160" y="69962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4388040" y="68961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4546800" y="6799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4708440" y="66945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4921200" y="65739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5140440" y="64882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5372280" y="6313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5591160" y="61801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5753160" y="60548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5884920" y="59673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994360" y="58784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4948200" y="7591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289480" y="7591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28948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491080" y="7591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49108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676840" y="7591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67684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5676840" y="6676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823000" y="7591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582300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823000" y="6676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582300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594216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942160" y="6676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942160" y="6448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04044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040440" y="6676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127920" y="6676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948200" y="7591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5289480" y="7591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528948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5491080" y="7591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549108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5676840" y="7591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567684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5676840" y="6676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5823000" y="7591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582300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5823000" y="6676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594216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5942160" y="6676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5942160" y="6448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604044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6040440" y="6676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6127920" y="6676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528948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549108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567684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582300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94216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5942160" y="6676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04044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948200" y="7591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5289480" y="7591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528948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5491080" y="7591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549108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5676840" y="7591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567684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5676840" y="6676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5823000" y="7591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82300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823000" y="6676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94216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942160" y="6676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942160" y="6448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604044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6040440" y="6676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6127920" y="6676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592520" y="76215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4778280" y="75358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4921200" y="74883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040360" y="74199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5140440" y="74883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268960" y="734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405400" y="72248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518080" y="71708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1" name=""/>
            <p:cNvSpPr/>
            <p:nvPr/>
          </p:nvSpPr>
          <p:spPr>
            <a:xfrm>
              <a:off x="5616720" y="70484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699160" y="6881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772240" y="69055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838840" y="68421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899320" y="67564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954760" y="67834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007320" y="65818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051600" y="66038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097680" y="64944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137280" y="62802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28948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49108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67684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82300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94216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942160" y="6676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04044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702320" y="7591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948200" y="7591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99752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289480" y="7591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28948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491080" y="7591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49108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491080" y="6676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49108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676840" y="7591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67684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676840" y="6676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823000" y="7591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82300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823000" y="6676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82300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94216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942160" y="6676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942160" y="6448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04044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040440" y="6676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04044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127920" y="6676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5372280" y="73072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491080" y="68626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591160" y="69292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5676840" y="68724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753160" y="68626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823000" y="68324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884920" y="68324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942160" y="69660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994360" y="68198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040440" y="66945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086520" y="66038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127920" y="65372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167520" y="63752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203880" y="63054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229360" y="79851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229360" y="79851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229360" y="77565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229360" y="74628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591160" y="77565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591160" y="74628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59116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823000" y="74628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823000" y="74628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82300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28948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49108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67684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82300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94216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942160" y="6676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04044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948200" y="7591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289480" y="7591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28948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491080" y="7591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49108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676840" y="7591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67684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676840" y="6676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823000" y="7591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82300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823000" y="6676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82300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94216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942160" y="6676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942160" y="6448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04044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040440" y="6676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127920" y="6676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229360" y="79851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546360" y="7942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851280" y="79297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183200" y="77709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446720" y="76741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708440" y="75153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016520" y="70610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327560" y="68198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616640" y="66038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911840" y="64692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135760" y="63658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354640" y="62769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576760" y="61768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742000" y="60580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899320" y="59911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546360" y="79297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851280" y="78994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183200" y="77580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446720" y="76802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708440" y="75153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016520" y="71308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327560" y="67705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626000" y="6502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911840" y="63421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135760" y="62467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357880" y="61642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576760" y="60548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743800" y="59752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899320" y="5884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546360" y="71308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016520" y="73072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327560" y="69292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626000" y="67705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911840" y="66247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135760" y="64087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354640" y="63054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576760" y="61405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743800" y="59515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954760" y="58053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016520" y="71978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327560" y="6826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626000" y="66182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911840" y="64627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135760" y="63723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362560" y="62895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576760" y="61610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743800" y="6008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970360" y="78138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376800" y="74851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741840" y="71373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183200" y="68104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510160" y="62164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970360" y="78138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376800" y="74851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741840" y="71373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183200" y="68104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510160" y="62164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003480" y="7819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247920" y="7618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764160" y="72626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367160" y="67896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092920" y="63482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970360" y="78138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376800" y="74851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741840" y="71373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183200" y="68104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510160" y="62164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778280" y="60008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997520" y="5845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159520" y="5710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305320" y="5587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434200" y="5587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591160" y="54309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753160" y="52894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884920" y="5278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994360" y="52531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546800" y="63752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778280" y="62038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997520" y="61246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159520" y="60181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305320" y="56340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434200" y="56196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591160" y="54547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753160" y="53020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884920" y="53020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994360" y="53020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599840" y="79455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483920" y="66387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371240" y="53341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371240" y="44197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559880" y="8163000"/>
              <a:ext cx="51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112560" y="8163000"/>
              <a:ext cx="40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666680" y="8163000"/>
              <a:ext cx="287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243480" y="8163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844800" y="841680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994040" y="4705200"/>
              <a:ext cx="1303200" cy="178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154240" y="48085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DeltaSymbol"/>
                  <a:ea typeface="DeltaSymbol"/>
                </a:rPr>
                <a:t>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368800" y="477036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NM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154240" y="51656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368800" y="5126040"/>
              <a:ext cx="58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SL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154240" y="55180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368440" y="5479920"/>
              <a:ext cx="49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EM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154240" y="58752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368080" y="5837400"/>
              <a:ext cx="48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E66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2154240" y="62326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369160" y="6192720"/>
              <a:ext cx="799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BCD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6" name=""/>
          <p:cNvSpPr/>
          <p:nvPr/>
        </p:nvSpPr>
        <p:spPr>
          <a:xfrm rot="16200000">
            <a:off x="108000" y="6064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(Ge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7" name="" descr=""/>
          <p:cNvPicPr/>
          <p:nvPr/>
        </p:nvPicPr>
        <p:blipFill>
          <a:blip r:embed="rId1"/>
          <a:stretch/>
        </p:blipFill>
        <p:spPr>
          <a:xfrm>
            <a:off x="615960" y="471600"/>
            <a:ext cx="5956200" cy="90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"/>
          <p:cNvSpPr/>
          <p:nvPr/>
        </p:nvSpPr>
        <p:spPr>
          <a:xfrm>
            <a:off x="673560" y="457200"/>
            <a:ext cx="25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Analysis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1447920" y="1447920"/>
            <a:ext cx="936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0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1751" name=""/>
          <p:cNvSpPr/>
          <p:nvPr/>
        </p:nvSpPr>
        <p:spPr>
          <a:xfrm>
            <a:off x="1447920" y="142704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1447920" y="142704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470600" y="1427040"/>
            <a:ext cx="144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DeltaSymbol"/>
                <a:ea typeface="DeltaSymbol"/>
              </a:rPr>
              <a:t>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451520" y="1417680"/>
            <a:ext cx="11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Chicago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447920" y="142704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6" name=""/>
          <p:cNvGrpSpPr/>
          <p:nvPr/>
        </p:nvGrpSpPr>
        <p:grpSpPr>
          <a:xfrm>
            <a:off x="1483920" y="1450800"/>
            <a:ext cx="4962240" cy="7844760"/>
            <a:chOff x="1483920" y="1450800"/>
            <a:chExt cx="4962240" cy="7844760"/>
          </a:xfrm>
        </p:grpSpPr>
        <p:grpSp>
          <p:nvGrpSpPr>
            <p:cNvPr id="1757" name=""/>
            <p:cNvGrpSpPr/>
            <p:nvPr/>
          </p:nvGrpSpPr>
          <p:grpSpPr>
            <a:xfrm>
              <a:off x="1695600" y="5265360"/>
              <a:ext cx="4655880" cy="3362760"/>
              <a:chOff x="1695600" y="5265360"/>
              <a:chExt cx="4655880" cy="3362760"/>
            </a:xfrm>
          </p:grpSpPr>
          <p:sp>
            <p:nvSpPr>
              <p:cNvPr id="1758" name=""/>
              <p:cNvSpPr/>
              <p:nvPr/>
            </p:nvSpPr>
            <p:spPr>
              <a:xfrm>
                <a:off x="1758960" y="5270400"/>
                <a:ext cx="4591080" cy="329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1754280" y="8564400"/>
                <a:ext cx="4591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1754280" y="5265720"/>
                <a:ext cx="4591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V="1">
                <a:off x="1754280" y="5265360"/>
                <a:ext cx="1440" cy="329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V="1">
                <a:off x="6345360" y="5265360"/>
                <a:ext cx="1440" cy="329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1727280" y="856944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1727280" y="843768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1727280" y="830412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1727280" y="817416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1727280" y="804240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1727280" y="790884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1727280" y="777708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1727280" y="764712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1727280" y="751212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1727280" y="738180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1727280" y="725004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1727280" y="711684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1727280" y="698508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1727280" y="685476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1727280" y="672156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1727280" y="658980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727280" y="645804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727280" y="632448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1727280" y="619452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1727280" y="606276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1727280" y="592920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1727280" y="579744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1727280" y="566748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1727280" y="553248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1727280" y="540216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1727280" y="527040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1695600" y="8566200"/>
                <a:ext cx="6012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1695600" y="7905600"/>
                <a:ext cx="6012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1695600" y="7248600"/>
                <a:ext cx="6012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1695600" y="6586560"/>
                <a:ext cx="6012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1695600" y="5925960"/>
                <a:ext cx="6012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1695600" y="5268960"/>
                <a:ext cx="6012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flipV="1">
                <a:off x="175896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V="1">
                <a:off x="221940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V="1">
                <a:off x="2489040" y="856908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flipV="1">
                <a:off x="267984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V="1">
                <a:off x="282744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flipV="1">
                <a:off x="294804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V="1">
                <a:off x="305280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flipV="1">
                <a:off x="3139920" y="856908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V="1">
                <a:off x="321804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flipV="1">
                <a:off x="328788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flipV="1">
                <a:off x="374976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V="1">
                <a:off x="4019400" y="856908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flipV="1">
                <a:off x="421164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flipV="1">
                <a:off x="4359240" y="856908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V="1">
                <a:off x="448164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flipV="1">
                <a:off x="458316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V="1">
                <a:off x="467208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V="1">
                <a:off x="474984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V="1">
                <a:off x="4821120" y="856908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V="1">
                <a:off x="5281560" y="856908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V="1">
                <a:off x="555156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V="1">
                <a:off x="574056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V="1">
                <a:off x="5891040" y="856908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flipV="1">
                <a:off x="6010200" y="856908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V="1">
                <a:off x="6114960" y="856908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V="1">
                <a:off x="620244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628344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V="1">
                <a:off x="635004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1755720" y="8566200"/>
                <a:ext cx="1800" cy="61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3286080" y="8566200"/>
                <a:ext cx="1800" cy="61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4818240" y="8566200"/>
                <a:ext cx="1440" cy="61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V="1">
                <a:off x="6348240" y="8566200"/>
                <a:ext cx="1800" cy="61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flipV="1">
                <a:off x="1754280" y="5265360"/>
                <a:ext cx="1440" cy="329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1754280" y="8564400"/>
                <a:ext cx="4591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1754280" y="6585120"/>
                <a:ext cx="4591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6251400" y="5273640"/>
                <a:ext cx="972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246720" y="5392800"/>
                <a:ext cx="9720" cy="4104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1" y="0"/>
                    </a:moveTo>
                    <a:lnTo>
                      <a:pt x="0" y="24"/>
                    </a:lnTo>
                    <a:lnTo>
                      <a:pt x="4" y="26"/>
                    </a:lnTo>
                    <a:lnTo>
                      <a:pt x="6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6243480" y="5511960"/>
                <a:ext cx="9720" cy="42840"/>
              </a:xfrm>
              <a:custGeom>
                <a:avLst/>
                <a:gdLst/>
                <a:ahLst/>
                <a:rect l="l" t="t" r="r" b="b"/>
                <a:pathLst>
                  <a:path w="6" h="27">
                    <a:moveTo>
                      <a:pt x="2" y="0"/>
                    </a:moveTo>
                    <a:lnTo>
                      <a:pt x="0" y="26"/>
                    </a:lnTo>
                    <a:lnTo>
                      <a:pt x="5" y="27"/>
                    </a:lnTo>
                    <a:lnTo>
                      <a:pt x="6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6242040" y="5635800"/>
                <a:ext cx="9360" cy="37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237360" y="5751360"/>
                <a:ext cx="9360" cy="4464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1" y="0"/>
                    </a:moveTo>
                    <a:lnTo>
                      <a:pt x="0" y="26"/>
                    </a:lnTo>
                    <a:lnTo>
                      <a:pt x="4" y="28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6234120" y="5875200"/>
                <a:ext cx="936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6230880" y="5994360"/>
                <a:ext cx="1116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6226200" y="6113520"/>
                <a:ext cx="11160" cy="410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2" y="0"/>
                    </a:moveTo>
                    <a:lnTo>
                      <a:pt x="0" y="25"/>
                    </a:lnTo>
                    <a:lnTo>
                      <a:pt x="5" y="26"/>
                    </a:lnTo>
                    <a:lnTo>
                      <a:pt x="7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6224760" y="6235560"/>
                <a:ext cx="936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6216480" y="6354720"/>
                <a:ext cx="9720" cy="4140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2" y="0"/>
                    </a:moveTo>
                    <a:lnTo>
                      <a:pt x="0" y="24"/>
                    </a:lnTo>
                    <a:lnTo>
                      <a:pt x="5" y="26"/>
                    </a:lnTo>
                    <a:lnTo>
                      <a:pt x="6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211800" y="6473880"/>
                <a:ext cx="9720" cy="42840"/>
              </a:xfrm>
              <a:custGeom>
                <a:avLst/>
                <a:gdLst/>
                <a:ahLst/>
                <a:rect l="l" t="t" r="r" b="b"/>
                <a:pathLst>
                  <a:path w="6" h="27">
                    <a:moveTo>
                      <a:pt x="2" y="0"/>
                    </a:moveTo>
                    <a:lnTo>
                      <a:pt x="0" y="26"/>
                    </a:lnTo>
                    <a:lnTo>
                      <a:pt x="5" y="27"/>
                    </a:lnTo>
                    <a:lnTo>
                      <a:pt x="6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6205680" y="6594480"/>
                <a:ext cx="9360" cy="4140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1" y="0"/>
                    </a:moveTo>
                    <a:lnTo>
                      <a:pt x="0" y="25"/>
                    </a:lnTo>
                    <a:lnTo>
                      <a:pt x="4" y="26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6195960" y="6713640"/>
                <a:ext cx="11160" cy="442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3" y="0"/>
                    </a:moveTo>
                    <a:lnTo>
                      <a:pt x="0" y="26"/>
                    </a:lnTo>
                    <a:lnTo>
                      <a:pt x="4" y="28"/>
                    </a:lnTo>
                    <a:lnTo>
                      <a:pt x="7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6183360" y="6835680"/>
                <a:ext cx="12600" cy="41400"/>
              </a:xfrm>
              <a:custGeom>
                <a:avLst/>
                <a:gdLst/>
                <a:ahLst/>
                <a:rect l="l" t="t" r="r" b="b"/>
                <a:pathLst>
                  <a:path w="8" h="26">
                    <a:moveTo>
                      <a:pt x="3" y="0"/>
                    </a:moveTo>
                    <a:lnTo>
                      <a:pt x="0" y="24"/>
                    </a:lnTo>
                    <a:lnTo>
                      <a:pt x="4" y="26"/>
                    </a:lnTo>
                    <a:lnTo>
                      <a:pt x="8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164280" y="6954840"/>
                <a:ext cx="14400" cy="4284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4" y="0"/>
                    </a:moveTo>
                    <a:lnTo>
                      <a:pt x="0" y="26"/>
                    </a:lnTo>
                    <a:lnTo>
                      <a:pt x="4" y="27"/>
                    </a:lnTo>
                    <a:lnTo>
                      <a:pt x="9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137280" y="707220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0"/>
                    </a:moveTo>
                    <a:lnTo>
                      <a:pt x="0" y="4"/>
                    </a:lnTo>
                    <a:lnTo>
                      <a:pt x="4" y="5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111720" y="7075440"/>
                <a:ext cx="3204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6" y="0"/>
                    </a:moveTo>
                    <a:lnTo>
                      <a:pt x="0" y="9"/>
                    </a:lnTo>
                    <a:lnTo>
                      <a:pt x="5" y="14"/>
                    </a:lnTo>
                    <a:lnTo>
                      <a:pt x="20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107040" y="708804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1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5" y="6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6019920" y="7010280"/>
                <a:ext cx="27000" cy="320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15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13" y="20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013440" y="700092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6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4" y="10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5952960" y="691848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10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7" y="15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5940360" y="690084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11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8" y="15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5884920" y="682776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6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4" y="11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5864400" y="6804000"/>
                <a:ext cx="26640" cy="316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15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13" y="20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5792760" y="671832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16" y="14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12" y="18"/>
                    </a:ln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5784840" y="670860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6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5" y="11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5724360" y="66484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1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5699160" y="662616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20" y="14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16" y="18"/>
                    </a:lnTo>
                    <a:lnTo>
                      <a:pt x="2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5694480" y="662148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3" y="8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5632560" y="65660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1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5607000" y="654840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11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16" y="15"/>
                    </a:lnTo>
                    <a:lnTo>
                      <a:pt x="2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5600880" y="654372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3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4" y="8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5518080" y="648972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5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7" y="9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5495760" y="6478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7"/>
                    </a:moveTo>
                    <a:lnTo>
                      <a:pt x="1" y="0"/>
                    </a:lnTo>
                    <a:lnTo>
                      <a:pt x="0" y="4"/>
                    </a:lnTo>
                    <a:lnTo>
                      <a:pt x="15" y="12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5403960" y="643896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1" y="2"/>
                    </a:moveTo>
                    <a:lnTo>
                      <a:pt x="1" y="0"/>
                    </a:lnTo>
                    <a:lnTo>
                      <a:pt x="0" y="5"/>
                    </a:lnTo>
                    <a:lnTo>
                      <a:pt x="9" y="6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5381640" y="64324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4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14" y="9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5376960" y="642924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2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5291280" y="6411960"/>
                <a:ext cx="10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5267160" y="6410160"/>
                <a:ext cx="2412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5" y="1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14" y="6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5257800" y="640728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6" y="6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5178600" y="6407280"/>
                <a:ext cx="1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5151600" y="640728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5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5141880" y="64101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5037120" y="642132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4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5018040" y="642456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3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4923000" y="644832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9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11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4900680" y="64515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4" y="0"/>
                    </a:moveTo>
                    <a:lnTo>
                      <a:pt x="0" y="4"/>
                    </a:lnTo>
                    <a:lnTo>
                      <a:pt x="2" y="9"/>
                    </a:lnTo>
                    <a:lnTo>
                      <a:pt x="15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4896000" y="64580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2" y="0"/>
                    </a:moveTo>
                    <a:lnTo>
                      <a:pt x="0" y="2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4808520" y="648504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6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8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4784760" y="6488280"/>
                <a:ext cx="27000" cy="140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5" y="0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17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4776840" y="64944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6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4697280" y="6529320"/>
                <a:ext cx="1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4670280" y="652932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5" y="0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17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4656240" y="653580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7" y="0"/>
                    </a:moveTo>
                    <a:lnTo>
                      <a:pt x="0" y="5"/>
                    </a:lnTo>
                    <a:lnTo>
                      <a:pt x="4" y="10"/>
                    </a:lnTo>
                    <a:lnTo>
                      <a:pt x="12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4556160" y="65721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4" y="0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4537080" y="658008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4441680" y="662148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1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4417920" y="6626160"/>
                <a:ext cx="27000" cy="17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5" y="0"/>
                    </a:moveTo>
                    <a:lnTo>
                      <a:pt x="0" y="6"/>
                    </a:lnTo>
                    <a:lnTo>
                      <a:pt x="1" y="11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4325760" y="6667560"/>
                <a:ext cx="14400" cy="93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7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9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4303800" y="667080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0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15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4294080" y="668016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4" y="0"/>
                    </a:moveTo>
                    <a:lnTo>
                      <a:pt x="0" y="3"/>
                    </a:lnTo>
                    <a:lnTo>
                      <a:pt x="4" y="7"/>
                    </a:lnTo>
                    <a:lnTo>
                      <a:pt x="9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4213080" y="6713640"/>
                <a:ext cx="5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4189320" y="6713640"/>
                <a:ext cx="23760" cy="1728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0" y="6"/>
                    </a:lnTo>
                    <a:lnTo>
                      <a:pt x="2" y="11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4176720" y="672300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8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0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4075200" y="67546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4" y="0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4056120" y="67626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3959280" y="6796080"/>
                <a:ext cx="19080" cy="126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0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2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3936960" y="68007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4" y="0"/>
                    </a:moveTo>
                    <a:lnTo>
                      <a:pt x="0" y="5"/>
                    </a:lnTo>
                    <a:lnTo>
                      <a:pt x="1" y="9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3844800" y="683568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7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9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3822840" y="6837480"/>
                <a:ext cx="23760" cy="1404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4" y="0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3814920" y="6845400"/>
                <a:ext cx="1080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7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3732120" y="6869160"/>
                <a:ext cx="4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3706920" y="686916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5" y="0"/>
                    </a:moveTo>
                    <a:lnTo>
                      <a:pt x="0" y="5"/>
                    </a:lnTo>
                    <a:lnTo>
                      <a:pt x="1" y="9"/>
                    </a:lnTo>
                    <a:lnTo>
                      <a:pt x="16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3695760" y="687708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8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3592440" y="689760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5" y="0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3575160" y="690552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2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3478320" y="692784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1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12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3456000" y="6929280"/>
                <a:ext cx="237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4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3363840" y="695160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8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9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3340080" y="695484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5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16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3335400" y="695952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4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3252960" y="6973920"/>
                <a:ext cx="4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3225960" y="6973920"/>
                <a:ext cx="27000" cy="1116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5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17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3216240" y="69786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6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7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135240" y="6993000"/>
                <a:ext cx="3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3111480" y="6993000"/>
                <a:ext cx="23760" cy="1260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4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3094200" y="699768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1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2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2998800" y="70120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2975040" y="7012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4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2882880" y="7026120"/>
                <a:ext cx="144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2859120" y="702612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4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2854440" y="702936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4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2768760" y="70390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2744640" y="7039080"/>
                <a:ext cx="24120" cy="93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4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2735280" y="7042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6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7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2654280" y="7051680"/>
                <a:ext cx="3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2630520" y="70516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4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15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2612880" y="705312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1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2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516040" y="70628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494080" y="706284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3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4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401920" y="70707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378160" y="707076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4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373480" y="707220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3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4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2287440" y="708012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2265480" y="7080120"/>
                <a:ext cx="219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2254320" y="708012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6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7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2173320" y="7088040"/>
                <a:ext cx="32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2149560" y="7088040"/>
                <a:ext cx="237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2131920" y="708804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0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11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2035080" y="70945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2016000" y="70945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920960" y="709920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893960" y="7099200"/>
                <a:ext cx="27000" cy="972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6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7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893960" y="7102440"/>
                <a:ext cx="32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805040" y="7104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781280" y="710424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1776240" y="7107120"/>
                <a:ext cx="64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1754280" y="5265720"/>
                <a:ext cx="4516200" cy="1936800"/>
              </a:xfrm>
              <a:custGeom>
                <a:avLst/>
                <a:gdLst/>
                <a:ahLst/>
                <a:rect l="l" t="t" r="r" b="b"/>
                <a:pathLst>
                  <a:path w="2845" h="1220">
                    <a:moveTo>
                      <a:pt x="2845" y="0"/>
                    </a:moveTo>
                    <a:lnTo>
                      <a:pt x="2831" y="395"/>
                    </a:lnTo>
                    <a:lnTo>
                      <a:pt x="2816" y="676"/>
                    </a:lnTo>
                    <a:lnTo>
                      <a:pt x="2802" y="866"/>
                    </a:lnTo>
                    <a:lnTo>
                      <a:pt x="2787" y="990"/>
                    </a:lnTo>
                    <a:lnTo>
                      <a:pt x="2773" y="1071"/>
                    </a:lnTo>
                    <a:lnTo>
                      <a:pt x="2759" y="1119"/>
                    </a:lnTo>
                    <a:lnTo>
                      <a:pt x="2744" y="1143"/>
                    </a:lnTo>
                    <a:lnTo>
                      <a:pt x="2730" y="1152"/>
                    </a:lnTo>
                    <a:lnTo>
                      <a:pt x="2715" y="1148"/>
                    </a:lnTo>
                    <a:lnTo>
                      <a:pt x="2701" y="1137"/>
                    </a:lnTo>
                    <a:lnTo>
                      <a:pt x="2686" y="1119"/>
                    </a:lnTo>
                    <a:lnTo>
                      <a:pt x="2672" y="1099"/>
                    </a:lnTo>
                    <a:lnTo>
                      <a:pt x="2657" y="1076"/>
                    </a:lnTo>
                    <a:lnTo>
                      <a:pt x="2643" y="1051"/>
                    </a:lnTo>
                    <a:lnTo>
                      <a:pt x="2629" y="1027"/>
                    </a:lnTo>
                    <a:lnTo>
                      <a:pt x="2614" y="1002"/>
                    </a:lnTo>
                    <a:lnTo>
                      <a:pt x="2600" y="979"/>
                    </a:lnTo>
                    <a:lnTo>
                      <a:pt x="2585" y="958"/>
                    </a:lnTo>
                    <a:lnTo>
                      <a:pt x="2571" y="937"/>
                    </a:lnTo>
                    <a:lnTo>
                      <a:pt x="2556" y="918"/>
                    </a:lnTo>
                    <a:lnTo>
                      <a:pt x="2542" y="900"/>
                    </a:lnTo>
                    <a:lnTo>
                      <a:pt x="2528" y="883"/>
                    </a:lnTo>
                    <a:lnTo>
                      <a:pt x="2513" y="868"/>
                    </a:lnTo>
                    <a:lnTo>
                      <a:pt x="2499" y="854"/>
                    </a:lnTo>
                    <a:lnTo>
                      <a:pt x="2484" y="842"/>
                    </a:lnTo>
                    <a:lnTo>
                      <a:pt x="2470" y="831"/>
                    </a:lnTo>
                    <a:lnTo>
                      <a:pt x="2455" y="820"/>
                    </a:lnTo>
                    <a:lnTo>
                      <a:pt x="2441" y="811"/>
                    </a:lnTo>
                    <a:lnTo>
                      <a:pt x="2426" y="802"/>
                    </a:lnTo>
                    <a:lnTo>
                      <a:pt x="2412" y="794"/>
                    </a:lnTo>
                    <a:lnTo>
                      <a:pt x="2397" y="787"/>
                    </a:lnTo>
                    <a:lnTo>
                      <a:pt x="2383" y="780"/>
                    </a:lnTo>
                    <a:lnTo>
                      <a:pt x="2369" y="774"/>
                    </a:lnTo>
                    <a:lnTo>
                      <a:pt x="2354" y="768"/>
                    </a:lnTo>
                    <a:lnTo>
                      <a:pt x="2340" y="764"/>
                    </a:lnTo>
                    <a:lnTo>
                      <a:pt x="2325" y="758"/>
                    </a:lnTo>
                    <a:lnTo>
                      <a:pt x="2311" y="754"/>
                    </a:lnTo>
                    <a:lnTo>
                      <a:pt x="2296" y="750"/>
                    </a:lnTo>
                    <a:lnTo>
                      <a:pt x="2282" y="745"/>
                    </a:lnTo>
                    <a:lnTo>
                      <a:pt x="2268" y="742"/>
                    </a:lnTo>
                    <a:lnTo>
                      <a:pt x="2253" y="739"/>
                    </a:lnTo>
                    <a:lnTo>
                      <a:pt x="2239" y="736"/>
                    </a:lnTo>
                    <a:lnTo>
                      <a:pt x="2224" y="733"/>
                    </a:lnTo>
                    <a:lnTo>
                      <a:pt x="2210" y="732"/>
                    </a:lnTo>
                    <a:lnTo>
                      <a:pt x="2195" y="728"/>
                    </a:lnTo>
                    <a:lnTo>
                      <a:pt x="2181" y="727"/>
                    </a:lnTo>
                    <a:lnTo>
                      <a:pt x="2166" y="725"/>
                    </a:lnTo>
                    <a:lnTo>
                      <a:pt x="2152" y="724"/>
                    </a:lnTo>
                    <a:lnTo>
                      <a:pt x="2137" y="724"/>
                    </a:lnTo>
                    <a:lnTo>
                      <a:pt x="2123" y="722"/>
                    </a:lnTo>
                    <a:lnTo>
                      <a:pt x="2109" y="722"/>
                    </a:lnTo>
                    <a:lnTo>
                      <a:pt x="2094" y="722"/>
                    </a:lnTo>
                    <a:lnTo>
                      <a:pt x="2080" y="722"/>
                    </a:lnTo>
                    <a:lnTo>
                      <a:pt x="2065" y="724"/>
                    </a:lnTo>
                    <a:lnTo>
                      <a:pt x="2051" y="724"/>
                    </a:lnTo>
                    <a:lnTo>
                      <a:pt x="2036" y="725"/>
                    </a:lnTo>
                    <a:lnTo>
                      <a:pt x="2022" y="727"/>
                    </a:lnTo>
                    <a:lnTo>
                      <a:pt x="2007" y="728"/>
                    </a:lnTo>
                    <a:lnTo>
                      <a:pt x="1993" y="730"/>
                    </a:lnTo>
                    <a:lnTo>
                      <a:pt x="1979" y="733"/>
                    </a:lnTo>
                    <a:lnTo>
                      <a:pt x="1964" y="735"/>
                    </a:lnTo>
                    <a:lnTo>
                      <a:pt x="1950" y="738"/>
                    </a:lnTo>
                    <a:lnTo>
                      <a:pt x="1935" y="741"/>
                    </a:lnTo>
                    <a:lnTo>
                      <a:pt x="1921" y="744"/>
                    </a:lnTo>
                    <a:lnTo>
                      <a:pt x="1906" y="748"/>
                    </a:lnTo>
                    <a:lnTo>
                      <a:pt x="1892" y="751"/>
                    </a:lnTo>
                    <a:lnTo>
                      <a:pt x="1877" y="756"/>
                    </a:lnTo>
                    <a:lnTo>
                      <a:pt x="1863" y="759"/>
                    </a:lnTo>
                    <a:lnTo>
                      <a:pt x="1849" y="764"/>
                    </a:lnTo>
                    <a:lnTo>
                      <a:pt x="1834" y="768"/>
                    </a:lnTo>
                    <a:lnTo>
                      <a:pt x="1820" y="773"/>
                    </a:lnTo>
                    <a:lnTo>
                      <a:pt x="1805" y="779"/>
                    </a:lnTo>
                    <a:lnTo>
                      <a:pt x="1791" y="784"/>
                    </a:lnTo>
                    <a:lnTo>
                      <a:pt x="1776" y="788"/>
                    </a:lnTo>
                    <a:lnTo>
                      <a:pt x="1762" y="794"/>
                    </a:lnTo>
                    <a:lnTo>
                      <a:pt x="1747" y="800"/>
                    </a:lnTo>
                    <a:lnTo>
                      <a:pt x="1733" y="805"/>
                    </a:lnTo>
                    <a:lnTo>
                      <a:pt x="1719" y="811"/>
                    </a:lnTo>
                    <a:lnTo>
                      <a:pt x="1704" y="817"/>
                    </a:lnTo>
                    <a:lnTo>
                      <a:pt x="1690" y="823"/>
                    </a:lnTo>
                    <a:lnTo>
                      <a:pt x="1675" y="829"/>
                    </a:lnTo>
                    <a:lnTo>
                      <a:pt x="1661" y="836"/>
                    </a:lnTo>
                    <a:lnTo>
                      <a:pt x="1646" y="842"/>
                    </a:lnTo>
                    <a:lnTo>
                      <a:pt x="1632" y="848"/>
                    </a:lnTo>
                    <a:lnTo>
                      <a:pt x="1617" y="854"/>
                    </a:lnTo>
                    <a:lnTo>
                      <a:pt x="1603" y="860"/>
                    </a:lnTo>
                    <a:lnTo>
                      <a:pt x="1589" y="866"/>
                    </a:lnTo>
                    <a:lnTo>
                      <a:pt x="1574" y="872"/>
                    </a:lnTo>
                    <a:lnTo>
                      <a:pt x="1560" y="878"/>
                    </a:lnTo>
                    <a:lnTo>
                      <a:pt x="1545" y="886"/>
                    </a:lnTo>
                    <a:lnTo>
                      <a:pt x="1531" y="892"/>
                    </a:lnTo>
                    <a:lnTo>
                      <a:pt x="1516" y="898"/>
                    </a:lnTo>
                    <a:lnTo>
                      <a:pt x="1502" y="904"/>
                    </a:lnTo>
                    <a:lnTo>
                      <a:pt x="1487" y="911"/>
                    </a:lnTo>
                    <a:lnTo>
                      <a:pt x="1473" y="917"/>
                    </a:lnTo>
                    <a:lnTo>
                      <a:pt x="1459" y="923"/>
                    </a:lnTo>
                    <a:lnTo>
                      <a:pt x="1444" y="929"/>
                    </a:lnTo>
                    <a:lnTo>
                      <a:pt x="1430" y="935"/>
                    </a:lnTo>
                    <a:lnTo>
                      <a:pt x="1415" y="941"/>
                    </a:lnTo>
                    <a:lnTo>
                      <a:pt x="1401" y="947"/>
                    </a:lnTo>
                    <a:lnTo>
                      <a:pt x="1386" y="953"/>
                    </a:lnTo>
                    <a:lnTo>
                      <a:pt x="1372" y="959"/>
                    </a:lnTo>
                    <a:lnTo>
                      <a:pt x="1357" y="966"/>
                    </a:lnTo>
                    <a:lnTo>
                      <a:pt x="1343" y="972"/>
                    </a:lnTo>
                    <a:lnTo>
                      <a:pt x="1329" y="978"/>
                    </a:lnTo>
                    <a:lnTo>
                      <a:pt x="1314" y="982"/>
                    </a:lnTo>
                    <a:lnTo>
                      <a:pt x="1300" y="989"/>
                    </a:lnTo>
                    <a:lnTo>
                      <a:pt x="1285" y="995"/>
                    </a:lnTo>
                    <a:lnTo>
                      <a:pt x="1271" y="999"/>
                    </a:lnTo>
                    <a:lnTo>
                      <a:pt x="1256" y="1005"/>
                    </a:lnTo>
                    <a:lnTo>
                      <a:pt x="1242" y="1010"/>
                    </a:lnTo>
                    <a:lnTo>
                      <a:pt x="1227" y="1016"/>
                    </a:lnTo>
                    <a:lnTo>
                      <a:pt x="1213" y="1021"/>
                    </a:lnTo>
                    <a:lnTo>
                      <a:pt x="1199" y="1025"/>
                    </a:lnTo>
                    <a:lnTo>
                      <a:pt x="1184" y="1031"/>
                    </a:lnTo>
                    <a:lnTo>
                      <a:pt x="1170" y="1036"/>
                    </a:lnTo>
                    <a:lnTo>
                      <a:pt x="1155" y="1041"/>
                    </a:lnTo>
                    <a:lnTo>
                      <a:pt x="1141" y="1045"/>
                    </a:lnTo>
                    <a:lnTo>
                      <a:pt x="1126" y="1050"/>
                    </a:lnTo>
                    <a:lnTo>
                      <a:pt x="1112" y="1054"/>
                    </a:lnTo>
                    <a:lnTo>
                      <a:pt x="1097" y="1059"/>
                    </a:lnTo>
                    <a:lnTo>
                      <a:pt x="1083" y="1064"/>
                    </a:lnTo>
                    <a:lnTo>
                      <a:pt x="1069" y="1068"/>
                    </a:lnTo>
                    <a:lnTo>
                      <a:pt x="1054" y="1071"/>
                    </a:lnTo>
                    <a:lnTo>
                      <a:pt x="1040" y="1076"/>
                    </a:lnTo>
                    <a:lnTo>
                      <a:pt x="1025" y="1080"/>
                    </a:lnTo>
                    <a:lnTo>
                      <a:pt x="1011" y="1083"/>
                    </a:lnTo>
                    <a:lnTo>
                      <a:pt x="996" y="1088"/>
                    </a:lnTo>
                    <a:lnTo>
                      <a:pt x="982" y="1091"/>
                    </a:lnTo>
                    <a:lnTo>
                      <a:pt x="966" y="1096"/>
                    </a:lnTo>
                    <a:lnTo>
                      <a:pt x="953" y="1099"/>
                    </a:lnTo>
                    <a:lnTo>
                      <a:pt x="939" y="1103"/>
                    </a:lnTo>
                    <a:lnTo>
                      <a:pt x="924" y="1106"/>
                    </a:lnTo>
                    <a:lnTo>
                      <a:pt x="910" y="1109"/>
                    </a:lnTo>
                    <a:lnTo>
                      <a:pt x="895" y="1112"/>
                    </a:lnTo>
                    <a:lnTo>
                      <a:pt x="881" y="1116"/>
                    </a:lnTo>
                    <a:lnTo>
                      <a:pt x="866" y="1119"/>
                    </a:lnTo>
                    <a:lnTo>
                      <a:pt x="852" y="1123"/>
                    </a:lnTo>
                    <a:lnTo>
                      <a:pt x="836" y="1126"/>
                    </a:lnTo>
                    <a:lnTo>
                      <a:pt x="823" y="1128"/>
                    </a:lnTo>
                    <a:lnTo>
                      <a:pt x="809" y="1131"/>
                    </a:lnTo>
                    <a:lnTo>
                      <a:pt x="794" y="1134"/>
                    </a:lnTo>
                    <a:lnTo>
                      <a:pt x="780" y="1137"/>
                    </a:lnTo>
                    <a:lnTo>
                      <a:pt x="765" y="1140"/>
                    </a:lnTo>
                    <a:lnTo>
                      <a:pt x="751" y="1143"/>
                    </a:lnTo>
                    <a:lnTo>
                      <a:pt x="736" y="1145"/>
                    </a:lnTo>
                    <a:lnTo>
                      <a:pt x="722" y="1148"/>
                    </a:lnTo>
                    <a:lnTo>
                      <a:pt x="706" y="1149"/>
                    </a:lnTo>
                    <a:lnTo>
                      <a:pt x="693" y="1152"/>
                    </a:lnTo>
                    <a:lnTo>
                      <a:pt x="679" y="1155"/>
                    </a:lnTo>
                    <a:lnTo>
                      <a:pt x="664" y="1157"/>
                    </a:lnTo>
                    <a:lnTo>
                      <a:pt x="650" y="1160"/>
                    </a:lnTo>
                    <a:lnTo>
                      <a:pt x="635" y="1161"/>
                    </a:lnTo>
                    <a:lnTo>
                      <a:pt x="621" y="1163"/>
                    </a:lnTo>
                    <a:lnTo>
                      <a:pt x="605" y="1166"/>
                    </a:lnTo>
                    <a:lnTo>
                      <a:pt x="592" y="1168"/>
                    </a:lnTo>
                    <a:lnTo>
                      <a:pt x="576" y="1169"/>
                    </a:lnTo>
                    <a:lnTo>
                      <a:pt x="563" y="1172"/>
                    </a:lnTo>
                    <a:lnTo>
                      <a:pt x="549" y="1174"/>
                    </a:lnTo>
                    <a:lnTo>
                      <a:pt x="534" y="1175"/>
                    </a:lnTo>
                    <a:lnTo>
                      <a:pt x="520" y="1177"/>
                    </a:lnTo>
                    <a:lnTo>
                      <a:pt x="505" y="1178"/>
                    </a:lnTo>
                    <a:lnTo>
                      <a:pt x="491" y="1180"/>
                    </a:lnTo>
                    <a:lnTo>
                      <a:pt x="475" y="1183"/>
                    </a:lnTo>
                    <a:lnTo>
                      <a:pt x="462" y="1184"/>
                    </a:lnTo>
                    <a:lnTo>
                      <a:pt x="446" y="1186"/>
                    </a:lnTo>
                    <a:lnTo>
                      <a:pt x="433" y="1187"/>
                    </a:lnTo>
                    <a:lnTo>
                      <a:pt x="419" y="1189"/>
                    </a:lnTo>
                    <a:lnTo>
                      <a:pt x="404" y="1191"/>
                    </a:lnTo>
                    <a:lnTo>
                      <a:pt x="390" y="1192"/>
                    </a:lnTo>
                    <a:lnTo>
                      <a:pt x="375" y="1192"/>
                    </a:lnTo>
                    <a:lnTo>
                      <a:pt x="361" y="1194"/>
                    </a:lnTo>
                    <a:lnTo>
                      <a:pt x="345" y="1195"/>
                    </a:lnTo>
                    <a:lnTo>
                      <a:pt x="332" y="1197"/>
                    </a:lnTo>
                    <a:lnTo>
                      <a:pt x="318" y="1198"/>
                    </a:lnTo>
                    <a:lnTo>
                      <a:pt x="303" y="1200"/>
                    </a:lnTo>
                    <a:lnTo>
                      <a:pt x="289" y="1201"/>
                    </a:lnTo>
                    <a:lnTo>
                      <a:pt x="274" y="1201"/>
                    </a:lnTo>
                    <a:lnTo>
                      <a:pt x="260" y="1203"/>
                    </a:lnTo>
                    <a:lnTo>
                      <a:pt x="244" y="1204"/>
                    </a:lnTo>
                    <a:lnTo>
                      <a:pt x="231" y="1206"/>
                    </a:lnTo>
                    <a:lnTo>
                      <a:pt x="215" y="1206"/>
                    </a:lnTo>
                    <a:lnTo>
                      <a:pt x="202" y="1207"/>
                    </a:lnTo>
                    <a:lnTo>
                      <a:pt x="188" y="1209"/>
                    </a:lnTo>
                    <a:lnTo>
                      <a:pt x="173" y="1209"/>
                    </a:lnTo>
                    <a:lnTo>
                      <a:pt x="159" y="1210"/>
                    </a:lnTo>
                    <a:lnTo>
                      <a:pt x="144" y="1212"/>
                    </a:lnTo>
                    <a:lnTo>
                      <a:pt x="130" y="1212"/>
                    </a:lnTo>
                    <a:lnTo>
                      <a:pt x="114" y="1213"/>
                    </a:lnTo>
                    <a:lnTo>
                      <a:pt x="101" y="1215"/>
                    </a:lnTo>
                    <a:lnTo>
                      <a:pt x="85" y="1215"/>
                    </a:lnTo>
                    <a:lnTo>
                      <a:pt x="72" y="1217"/>
                    </a:lnTo>
                    <a:lnTo>
                      <a:pt x="56" y="1217"/>
                    </a:lnTo>
                    <a:lnTo>
                      <a:pt x="43" y="1218"/>
                    </a:lnTo>
                    <a:lnTo>
                      <a:pt x="27" y="1218"/>
                    </a:lnTo>
                    <a:lnTo>
                      <a:pt x="14" y="1220"/>
                    </a:lnTo>
                    <a:lnTo>
                      <a:pt x="0" y="12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3552840" y="6915240"/>
                <a:ext cx="1440" cy="658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3516480" y="6915240"/>
                <a:ext cx="7272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3516480" y="7574040"/>
                <a:ext cx="7272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3867120" y="6915240"/>
                <a:ext cx="1440" cy="658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3830760" y="6915240"/>
                <a:ext cx="7128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3830760" y="7574040"/>
                <a:ext cx="7128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4206960" y="6727680"/>
                <a:ext cx="1440" cy="7700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4170240" y="6727680"/>
                <a:ext cx="7308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4170240" y="7497720"/>
                <a:ext cx="7308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4476600" y="6031080"/>
                <a:ext cx="1800" cy="8460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8" name=""/>
            <p:cNvGrpSpPr/>
            <p:nvPr/>
          </p:nvGrpSpPr>
          <p:grpSpPr>
            <a:xfrm>
              <a:off x="1491840" y="1539720"/>
              <a:ext cx="4954320" cy="7755840"/>
              <a:chOff x="1491840" y="1539720"/>
              <a:chExt cx="4954320" cy="7755840"/>
            </a:xfrm>
          </p:grpSpPr>
          <p:sp>
            <p:nvSpPr>
              <p:cNvPr id="1959" name=""/>
              <p:cNvSpPr/>
              <p:nvPr/>
            </p:nvSpPr>
            <p:spPr>
              <a:xfrm>
                <a:off x="4440240" y="6031080"/>
                <a:ext cx="7128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440240" y="6877080"/>
                <a:ext cx="7128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4745160" y="5919840"/>
                <a:ext cx="1440" cy="93492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4708440" y="5919840"/>
                <a:ext cx="7308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4708440" y="6854760"/>
                <a:ext cx="7308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037040" y="6773760"/>
                <a:ext cx="1440" cy="6368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4000680" y="6773760"/>
                <a:ext cx="7272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000680" y="7410600"/>
                <a:ext cx="7272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4354560" y="6186600"/>
                <a:ext cx="1440" cy="53172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4317840" y="6186600"/>
                <a:ext cx="7308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4317840" y="6718320"/>
                <a:ext cx="7308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4651200" y="6354720"/>
                <a:ext cx="1800" cy="433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4614840" y="6354720"/>
                <a:ext cx="7308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4614840" y="6788160"/>
                <a:ext cx="7308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4951440" y="6048360"/>
                <a:ext cx="1440" cy="49212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4917960" y="6048360"/>
                <a:ext cx="7308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4917960" y="6540480"/>
                <a:ext cx="7308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180040" y="6346800"/>
                <a:ext cx="1440" cy="54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5143680" y="6346800"/>
                <a:ext cx="7272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5143680" y="6888240"/>
                <a:ext cx="7272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5405400" y="6626160"/>
                <a:ext cx="1800" cy="48276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5369040" y="6626160"/>
                <a:ext cx="7308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5369040" y="7108920"/>
                <a:ext cx="7308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5634000" y="6913440"/>
                <a:ext cx="1800" cy="6350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5597640" y="6913440"/>
                <a:ext cx="7308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5597640" y="7548480"/>
                <a:ext cx="7308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5803920" y="6762600"/>
                <a:ext cx="1440" cy="93672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5767560" y="6762600"/>
                <a:ext cx="7272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5767560" y="7699320"/>
                <a:ext cx="7272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5967360" y="6819840"/>
                <a:ext cx="1800" cy="119376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5931000" y="6819840"/>
                <a:ext cx="7308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5931000" y="8013600"/>
                <a:ext cx="7308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887560" y="7134120"/>
                <a:ext cx="1800" cy="16992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851200" y="7134120"/>
                <a:ext cx="73080" cy="18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51200" y="7304040"/>
                <a:ext cx="73080" cy="18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3176640" y="6913440"/>
                <a:ext cx="1440" cy="1476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3139920" y="6913440"/>
                <a:ext cx="73080" cy="18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139920" y="7061040"/>
                <a:ext cx="73080" cy="18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3432240" y="6932520"/>
                <a:ext cx="1440" cy="1112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395520" y="6932520"/>
                <a:ext cx="73080" cy="18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395520" y="7043760"/>
                <a:ext cx="7308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3654360" y="6808680"/>
                <a:ext cx="1800" cy="1206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3621240" y="6808680"/>
                <a:ext cx="72720" cy="18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3621240" y="6929280"/>
                <a:ext cx="72720" cy="18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3892680" y="6772320"/>
                <a:ext cx="1440" cy="1112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855960" y="6772320"/>
                <a:ext cx="7308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855960" y="6883560"/>
                <a:ext cx="7308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4116240" y="6594480"/>
                <a:ext cx="1800" cy="1112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4079880" y="6594480"/>
                <a:ext cx="7308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4079880" y="6705720"/>
                <a:ext cx="7308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4284720" y="6634080"/>
                <a:ext cx="1440" cy="1256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4248000" y="6634080"/>
                <a:ext cx="73080" cy="18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4248000" y="6759720"/>
                <a:ext cx="7308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4417920" y="6443640"/>
                <a:ext cx="1800" cy="136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4381560" y="6443640"/>
                <a:ext cx="7308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4381560" y="6580080"/>
                <a:ext cx="73080" cy="18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4578480" y="6391440"/>
                <a:ext cx="1440" cy="11088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4541760" y="6391440"/>
                <a:ext cx="7308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4541760" y="6502320"/>
                <a:ext cx="73080" cy="18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4745160" y="6332400"/>
                <a:ext cx="1440" cy="1368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4708440" y="6332400"/>
                <a:ext cx="73080" cy="18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4708440" y="6469200"/>
                <a:ext cx="7308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4964040" y="6318360"/>
                <a:ext cx="1800" cy="11088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4927680" y="6318360"/>
                <a:ext cx="7308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927680" y="6429240"/>
                <a:ext cx="73080" cy="18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5187960" y="6438960"/>
                <a:ext cx="1440" cy="14616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5151600" y="6438960"/>
                <a:ext cx="7272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5151600" y="6585120"/>
                <a:ext cx="7272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5425920" y="6443640"/>
                <a:ext cx="1800" cy="1494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389560" y="6443640"/>
                <a:ext cx="7308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389560" y="6593040"/>
                <a:ext cx="7308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648400" y="6672240"/>
                <a:ext cx="1440" cy="20952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611680" y="6672240"/>
                <a:ext cx="7308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611680" y="6881760"/>
                <a:ext cx="73080" cy="18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816520" y="6586560"/>
                <a:ext cx="1800" cy="3240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5780160" y="6586560"/>
                <a:ext cx="7308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5780160" y="6910560"/>
                <a:ext cx="7308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5950080" y="6832440"/>
                <a:ext cx="1440" cy="49536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5913360" y="6832440"/>
                <a:ext cx="73080" cy="18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5913360" y="7327800"/>
                <a:ext cx="73080" cy="18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6059520" y="7066080"/>
                <a:ext cx="1440" cy="7142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6022800" y="7066080"/>
                <a:ext cx="7308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6022800" y="7780320"/>
                <a:ext cx="7308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5340240" y="6504120"/>
                <a:ext cx="1800" cy="17280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5303880" y="6504120"/>
                <a:ext cx="73080" cy="144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5303880" y="6676920"/>
                <a:ext cx="73080" cy="180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546880" y="6427800"/>
                <a:ext cx="1440" cy="19512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5510160" y="6427800"/>
                <a:ext cx="73080" cy="144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5510160" y="6622920"/>
                <a:ext cx="73080" cy="180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5735520" y="6676920"/>
                <a:ext cx="1800" cy="11916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699160" y="6676920"/>
                <a:ext cx="73080" cy="180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5699160" y="6796080"/>
                <a:ext cx="73080" cy="144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5886360" y="6888240"/>
                <a:ext cx="1800" cy="13176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5850000" y="6888240"/>
                <a:ext cx="73080" cy="144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5850000" y="7020000"/>
                <a:ext cx="73080" cy="144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6005520" y="7126200"/>
                <a:ext cx="1440" cy="10476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5969160" y="7126200"/>
                <a:ext cx="72720" cy="180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5969160" y="7230960"/>
                <a:ext cx="72720" cy="180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6005520" y="7157880"/>
                <a:ext cx="1440" cy="17316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5969160" y="7157880"/>
                <a:ext cx="72720" cy="180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5969160" y="7331040"/>
                <a:ext cx="72720" cy="180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6110280" y="7269120"/>
                <a:ext cx="1440" cy="10800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6073920" y="7269120"/>
                <a:ext cx="72720" cy="180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6073920" y="7377120"/>
                <a:ext cx="72720" cy="144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2965320" y="6524640"/>
                <a:ext cx="1800" cy="47772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2928960" y="6524640"/>
                <a:ext cx="73080" cy="14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2928960" y="7002360"/>
                <a:ext cx="73080" cy="18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78240" y="6195960"/>
                <a:ext cx="1440" cy="4748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341520" y="6195960"/>
                <a:ext cx="73080" cy="18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341520" y="6670800"/>
                <a:ext cx="73080" cy="14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54440" y="5765760"/>
                <a:ext cx="1440" cy="91116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3718080" y="5765760"/>
                <a:ext cx="72720" cy="18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718080" y="6676920"/>
                <a:ext cx="72720" cy="18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206960" y="6118200"/>
                <a:ext cx="1440" cy="4842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70240" y="6118200"/>
                <a:ext cx="73080" cy="14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4170240" y="6602400"/>
                <a:ext cx="73080" cy="14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564160" y="6006960"/>
                <a:ext cx="1440" cy="9036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527800" y="6006960"/>
                <a:ext cx="73080" cy="18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527800" y="6910560"/>
                <a:ext cx="73080" cy="14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3511440" y="7202520"/>
                <a:ext cx="92160" cy="93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3548160" y="7238880"/>
                <a:ext cx="21960" cy="20880"/>
              </a:xfrm>
              <a:prstGeom prst="ellipse">
                <a:avLst/>
              </a:prstGeom>
              <a:solidFill>
                <a:srgbClr val="00d400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3825720" y="7202520"/>
                <a:ext cx="92160" cy="93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859200" y="7238880"/>
                <a:ext cx="23760" cy="20880"/>
              </a:xfrm>
              <a:prstGeom prst="ellipse">
                <a:avLst/>
              </a:prstGeom>
              <a:solidFill>
                <a:srgbClr val="00d400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4165560" y="7070760"/>
                <a:ext cx="92160" cy="9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4199040" y="7107120"/>
                <a:ext cx="23760" cy="22320"/>
              </a:xfrm>
              <a:prstGeom prst="ellipse">
                <a:avLst/>
              </a:prstGeom>
              <a:solidFill>
                <a:srgbClr val="00d400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4433760" y="6410160"/>
                <a:ext cx="93960" cy="93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4468680" y="6446880"/>
                <a:ext cx="24120" cy="22320"/>
              </a:xfrm>
              <a:prstGeom prst="ellipse">
                <a:avLst/>
              </a:prstGeom>
              <a:solidFill>
                <a:srgbClr val="00d400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4703760" y="6343560"/>
                <a:ext cx="92160" cy="95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4738680" y="6380280"/>
                <a:ext cx="23760" cy="21960"/>
              </a:xfrm>
              <a:prstGeom prst="ellipse">
                <a:avLst/>
              </a:prstGeom>
              <a:solidFill>
                <a:srgbClr val="00d400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95640" y="7051680"/>
                <a:ext cx="92160" cy="9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4029120" y="7085160"/>
                <a:ext cx="23760" cy="23760"/>
              </a:xfrm>
              <a:prstGeom prst="ellipse">
                <a:avLst/>
              </a:prstGeom>
              <a:solidFill>
                <a:srgbClr val="00d400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313160" y="6410160"/>
                <a:ext cx="92160" cy="93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4346640" y="6446880"/>
                <a:ext cx="25200" cy="22320"/>
              </a:xfrm>
              <a:prstGeom prst="ellipse">
                <a:avLst/>
              </a:prstGeom>
              <a:solidFill>
                <a:srgbClr val="00d400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4610160" y="6529320"/>
                <a:ext cx="92160" cy="93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4643280" y="6566040"/>
                <a:ext cx="22320" cy="20520"/>
              </a:xfrm>
              <a:prstGeom prst="ellipse">
                <a:avLst/>
              </a:prstGeom>
              <a:solidFill>
                <a:srgbClr val="00d400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4910040" y="6251400"/>
                <a:ext cx="95400" cy="95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4946760" y="6288120"/>
                <a:ext cx="21960" cy="22320"/>
              </a:xfrm>
              <a:prstGeom prst="ellipse">
                <a:avLst/>
              </a:prstGeom>
              <a:solidFill>
                <a:srgbClr val="00d400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138640" y="6575400"/>
                <a:ext cx="92160" cy="95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173560" y="6611760"/>
                <a:ext cx="23760" cy="22320"/>
              </a:xfrm>
              <a:prstGeom prst="ellipse">
                <a:avLst/>
              </a:prstGeom>
              <a:solidFill>
                <a:srgbClr val="00d400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5364000" y="6827760"/>
                <a:ext cx="92160" cy="9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5398920" y="6861240"/>
                <a:ext cx="24120" cy="22320"/>
              </a:xfrm>
              <a:prstGeom prst="ellipse">
                <a:avLst/>
              </a:prstGeom>
              <a:solidFill>
                <a:srgbClr val="00d400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592600" y="7189920"/>
                <a:ext cx="92160" cy="91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629320" y="7223040"/>
                <a:ext cx="22320" cy="25560"/>
              </a:xfrm>
              <a:prstGeom prst="ellipse">
                <a:avLst/>
              </a:prstGeom>
              <a:solidFill>
                <a:srgbClr val="00d400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5762520" y="7189920"/>
                <a:ext cx="92160" cy="91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5797440" y="7223040"/>
                <a:ext cx="20880" cy="25560"/>
              </a:xfrm>
              <a:prstGeom prst="ellipse">
                <a:avLst/>
              </a:prstGeom>
              <a:solidFill>
                <a:srgbClr val="00d400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5923080" y="7373880"/>
                <a:ext cx="95040" cy="9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5959440" y="7410600"/>
                <a:ext cx="22320" cy="21960"/>
              </a:xfrm>
              <a:prstGeom prst="ellipse">
                <a:avLst/>
              </a:prstGeom>
              <a:solidFill>
                <a:srgbClr val="00d400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846520" y="7176960"/>
                <a:ext cx="95040" cy="9540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3135240" y="6946920"/>
                <a:ext cx="95400" cy="9540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3390840" y="6946920"/>
                <a:ext cx="93600" cy="9540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3613320" y="6827760"/>
                <a:ext cx="95040" cy="9540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3851280" y="6786720"/>
                <a:ext cx="95400" cy="9504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4075200" y="6608880"/>
                <a:ext cx="95040" cy="9504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4243320" y="6654960"/>
                <a:ext cx="93600" cy="9504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4376880" y="6470640"/>
                <a:ext cx="93600" cy="9540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4537080" y="6405480"/>
                <a:ext cx="93600" cy="9360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4703760" y="6359400"/>
                <a:ext cx="95400" cy="9396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4923000" y="6332400"/>
                <a:ext cx="95040" cy="9540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146560" y="6470640"/>
                <a:ext cx="93600" cy="9540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384880" y="6478560"/>
                <a:ext cx="93600" cy="9360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607000" y="6735600"/>
                <a:ext cx="95400" cy="9396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775480" y="6708600"/>
                <a:ext cx="95040" cy="9540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5908680" y="7039080"/>
                <a:ext cx="95400" cy="9504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6018120" y="7381800"/>
                <a:ext cx="93600" cy="9360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5299200" y="6551640"/>
                <a:ext cx="9180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5505480" y="648324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5694480" y="6694560"/>
                <a:ext cx="93600" cy="9216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29" y="0"/>
                    </a:moveTo>
                    <a:lnTo>
                      <a:pt x="0" y="58"/>
                    </a:lnTo>
                    <a:lnTo>
                      <a:pt x="59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5845320" y="6913440"/>
                <a:ext cx="9180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5964120" y="713592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5964120" y="720396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6068880" y="728172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924280" y="6721560"/>
                <a:ext cx="9180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29"/>
                    </a:moveTo>
                    <a:lnTo>
                      <a:pt x="29" y="0"/>
                    </a:ln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d400d4"/>
              </a:solidFill>
              <a:ln w="3240">
                <a:solidFill>
                  <a:srgbClr val="d400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3336840" y="639144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29"/>
                    </a:moveTo>
                    <a:lnTo>
                      <a:pt x="29" y="0"/>
                    </a:ln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d400d4"/>
              </a:solidFill>
              <a:ln w="3240">
                <a:solidFill>
                  <a:srgbClr val="d400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713040" y="6181560"/>
                <a:ext cx="92160" cy="90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0" y="29"/>
                    </a:moveTo>
                    <a:lnTo>
                      <a:pt x="29" y="0"/>
                    </a:lnTo>
                    <a:lnTo>
                      <a:pt x="58" y="29"/>
                    </a:lnTo>
                    <a:lnTo>
                      <a:pt x="29" y="5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d400d4"/>
              </a:solidFill>
              <a:ln w="3240">
                <a:solidFill>
                  <a:srgbClr val="d400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4165560" y="631980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29"/>
                    </a:moveTo>
                    <a:lnTo>
                      <a:pt x="29" y="0"/>
                    </a:ln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d400d4"/>
              </a:solidFill>
              <a:ln w="3240">
                <a:solidFill>
                  <a:srgbClr val="d400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5522760" y="6416640"/>
                <a:ext cx="92160" cy="93600"/>
              </a:xfrm>
              <a:custGeom>
                <a:avLst/>
                <a:gdLst/>
                <a:ahLst/>
                <a:rect l="l" t="t" r="r" b="b"/>
                <a:pathLst>
                  <a:path w="58" h="59">
                    <a:moveTo>
                      <a:pt x="0" y="29"/>
                    </a:moveTo>
                    <a:lnTo>
                      <a:pt x="29" y="0"/>
                    </a:lnTo>
                    <a:lnTo>
                      <a:pt x="58" y="29"/>
                    </a:lnTo>
                    <a:lnTo>
                      <a:pt x="29" y="5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d400d4"/>
              </a:solidFill>
              <a:ln w="3240">
                <a:solidFill>
                  <a:srgbClr val="d400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1491840" y="847872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7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1491840" y="781848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1491840" y="715788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9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1627920" y="64990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1491840" y="583884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1491840" y="517860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.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1587240" y="8651880"/>
                <a:ext cx="432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00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68000" y="8651880"/>
                <a:ext cx="335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0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4746240" y="865188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6349320" y="86518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976200" y="8853480"/>
                <a:ext cx="1850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9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x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1874880" y="5310360"/>
                <a:ext cx="801720" cy="113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1979640" y="5416560"/>
                <a:ext cx="74520" cy="7308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008080" y="5443560"/>
                <a:ext cx="17640" cy="19080"/>
              </a:xfrm>
              <a:prstGeom prst="ellipse">
                <a:avLst/>
              </a:prstGeom>
              <a:solidFill>
                <a:srgbClr val="00d400"/>
              </a:solidFill>
              <a:ln w="792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194200" y="5361120"/>
                <a:ext cx="412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EMC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1979640" y="5699160"/>
                <a:ext cx="74520" cy="745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2193120" y="5645160"/>
                <a:ext cx="433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NMC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1979640" y="598320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23" y="0"/>
                    </a:moveTo>
                    <a:lnTo>
                      <a:pt x="0" y="45"/>
                    </a:lnTo>
                    <a:lnTo>
                      <a:pt x="46" y="45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2187720" y="5929200"/>
                <a:ext cx="404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E139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1979640" y="6267600"/>
                <a:ext cx="73080" cy="712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0" y="22"/>
                    </a:moveTo>
                    <a:lnTo>
                      <a:pt x="23" y="0"/>
                    </a:lnTo>
                    <a:lnTo>
                      <a:pt x="46" y="22"/>
                    </a:lnTo>
                    <a:lnTo>
                      <a:pt x="23" y="4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d400d4"/>
              </a:solidFill>
              <a:ln w="3240">
                <a:solidFill>
                  <a:srgbClr val="d400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2187720" y="6210360"/>
                <a:ext cx="404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E665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3849840" y="7926480"/>
                <a:ext cx="2124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1751040" y="1539720"/>
                <a:ext cx="4597200" cy="331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1746360" y="4851360"/>
                <a:ext cx="45972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9" name=""/>
            <p:cNvGrpSpPr/>
            <p:nvPr/>
          </p:nvGrpSpPr>
          <p:grpSpPr>
            <a:xfrm>
              <a:off x="1687680" y="1535040"/>
              <a:ext cx="4662360" cy="3377880"/>
              <a:chOff x="1687680" y="1535040"/>
              <a:chExt cx="4662360" cy="3377880"/>
            </a:xfrm>
          </p:grpSpPr>
          <p:sp>
            <p:nvSpPr>
              <p:cNvPr id="2160" name=""/>
              <p:cNvSpPr/>
              <p:nvPr/>
            </p:nvSpPr>
            <p:spPr>
              <a:xfrm>
                <a:off x="1746360" y="1535040"/>
                <a:ext cx="45972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V="1">
                <a:off x="1746360" y="1535040"/>
                <a:ext cx="1440" cy="331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flipV="1">
                <a:off x="6343560" y="1535040"/>
                <a:ext cx="1800" cy="331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1719360" y="485604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1719360" y="472140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1719360" y="459108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719360" y="445788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1719360" y="432432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1719360" y="419256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719360" y="405936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1719360" y="392760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1719360" y="379404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1719360" y="366084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1719360" y="352908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1719360" y="339552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1719360" y="326376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1719360" y="313056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1719360" y="299736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1719360" y="286704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1719360" y="273204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1719360" y="260208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1719360" y="246852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1719360" y="233352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1719360" y="220356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1719360" y="207000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1719360" y="193680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1719360" y="180504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1719360" y="167148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1719360" y="153972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1687680" y="4853160"/>
                <a:ext cx="6192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1687680" y="4189320"/>
                <a:ext cx="6192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1687680" y="3527280"/>
                <a:ext cx="6192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1687680" y="2863800"/>
                <a:ext cx="6192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1687680" y="2200320"/>
                <a:ext cx="6192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1687680" y="1538280"/>
                <a:ext cx="6192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flipV="1">
                <a:off x="1751040" y="4856040"/>
                <a:ext cx="144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V="1">
                <a:off x="2212920" y="4856040"/>
                <a:ext cx="180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flipV="1">
                <a:off x="2482920" y="4856040"/>
                <a:ext cx="144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 flipV="1">
                <a:off x="2673360" y="4856040"/>
                <a:ext cx="144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V="1">
                <a:off x="2822400" y="4856040"/>
                <a:ext cx="180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flipV="1">
                <a:off x="2943360" y="4856040"/>
                <a:ext cx="144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flipV="1">
                <a:off x="3046320" y="4856040"/>
                <a:ext cx="180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V="1">
                <a:off x="3135240" y="4856040"/>
                <a:ext cx="180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flipV="1">
                <a:off x="3213000" y="4856040"/>
                <a:ext cx="180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flipV="1">
                <a:off x="3282840" y="4856040"/>
                <a:ext cx="180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flipV="1">
                <a:off x="3745080" y="4856040"/>
                <a:ext cx="144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 flipV="1">
                <a:off x="4014720" y="4856040"/>
                <a:ext cx="180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flipV="1">
                <a:off x="4206960" y="4856040"/>
                <a:ext cx="144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flipV="1">
                <a:off x="4354560" y="4856040"/>
                <a:ext cx="144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flipV="1">
                <a:off x="4476600" y="4856040"/>
                <a:ext cx="180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 flipV="1">
                <a:off x="4578480" y="4856040"/>
                <a:ext cx="144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flipV="1">
                <a:off x="4667400" y="4856040"/>
                <a:ext cx="144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flipV="1">
                <a:off x="4745160" y="4856040"/>
                <a:ext cx="144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 flipV="1">
                <a:off x="4816440" y="4856040"/>
                <a:ext cx="180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V="1">
                <a:off x="5276880" y="4856040"/>
                <a:ext cx="144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 flipV="1">
                <a:off x="5546880" y="4856040"/>
                <a:ext cx="144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flipV="1">
                <a:off x="5738760" y="4856040"/>
                <a:ext cx="180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flipV="1">
                <a:off x="5886360" y="4856040"/>
                <a:ext cx="180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flipV="1">
                <a:off x="6008760" y="4856040"/>
                <a:ext cx="144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 flipV="1">
                <a:off x="6111720" y="4856040"/>
                <a:ext cx="180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 flipV="1">
                <a:off x="6200640" y="4856040"/>
                <a:ext cx="180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 flipV="1">
                <a:off x="6278400" y="4856040"/>
                <a:ext cx="180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 flipV="1">
                <a:off x="6348240" y="4856040"/>
                <a:ext cx="180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V="1">
                <a:off x="1749600" y="4852800"/>
                <a:ext cx="1440" cy="60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 flipV="1">
                <a:off x="3281400" y="4852800"/>
                <a:ext cx="1440" cy="60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 flipV="1">
                <a:off x="4813200" y="4852800"/>
                <a:ext cx="1800" cy="60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 flipV="1">
                <a:off x="6345360" y="4852800"/>
                <a:ext cx="1440" cy="60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flipV="1">
                <a:off x="1751040" y="28353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 flipV="1">
                <a:off x="2212920" y="28353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V="1">
                <a:off x="2482920" y="28353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 flipV="1">
                <a:off x="2673360" y="28353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 flipV="1">
                <a:off x="2822400" y="28353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 flipV="1">
                <a:off x="2943360" y="28353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 flipV="1">
                <a:off x="3046320" y="28353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 flipV="1">
                <a:off x="3135240" y="28353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 flipV="1">
                <a:off x="3213000" y="28353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 flipV="1">
                <a:off x="3282840" y="28353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 flipV="1">
                <a:off x="3745080" y="28353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 flipV="1">
                <a:off x="4014720" y="28353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 flipV="1">
                <a:off x="4206960" y="28353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 flipV="1">
                <a:off x="4354560" y="28353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 flipV="1">
                <a:off x="4476600" y="28353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 flipV="1">
                <a:off x="4578480" y="28353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 flipV="1">
                <a:off x="4667400" y="28353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 flipV="1">
                <a:off x="4745160" y="28353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 flipV="1">
                <a:off x="4816440" y="28353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 flipV="1">
                <a:off x="5276880" y="28353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 flipV="1">
                <a:off x="5546880" y="28353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 flipV="1">
                <a:off x="5738760" y="28353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 flipV="1">
                <a:off x="5886360" y="28353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 flipV="1">
                <a:off x="6008760" y="28353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 flipV="1">
                <a:off x="6111720" y="28353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flipV="1">
                <a:off x="6200640" y="28353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 flipV="1">
                <a:off x="6278400" y="28353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flipV="1">
                <a:off x="6348240" y="28353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flipV="1">
                <a:off x="1749600" y="2803320"/>
                <a:ext cx="1440" cy="60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flipV="1">
                <a:off x="3281400" y="2803320"/>
                <a:ext cx="1440" cy="60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V="1">
                <a:off x="4813200" y="2803320"/>
                <a:ext cx="1800" cy="60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V="1">
                <a:off x="6345360" y="2803320"/>
                <a:ext cx="1440" cy="60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V="1">
                <a:off x="1746360" y="1535040"/>
                <a:ext cx="1440" cy="331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746360" y="4851360"/>
                <a:ext cx="45972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746360" y="2860560"/>
                <a:ext cx="45972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6256440" y="1539720"/>
                <a:ext cx="9360" cy="4464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1" y="0"/>
                    </a:moveTo>
                    <a:lnTo>
                      <a:pt x="0" y="26"/>
                    </a:lnTo>
                    <a:lnTo>
                      <a:pt x="4" y="28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6253200" y="1662120"/>
                <a:ext cx="9360" cy="4140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2" y="0"/>
                    </a:moveTo>
                    <a:lnTo>
                      <a:pt x="0" y="24"/>
                    </a:lnTo>
                    <a:lnTo>
                      <a:pt x="5" y="26"/>
                    </a:lnTo>
                    <a:lnTo>
                      <a:pt x="6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6253200" y="1782720"/>
                <a:ext cx="936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251400" y="1905120"/>
                <a:ext cx="97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6248520" y="2023920"/>
                <a:ext cx="936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248520" y="2144880"/>
                <a:ext cx="936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6246720" y="2158920"/>
                <a:ext cx="9720" cy="2556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1" y="0"/>
                    </a:moveTo>
                    <a:lnTo>
                      <a:pt x="0" y="14"/>
                    </a:lnTo>
                    <a:lnTo>
                      <a:pt x="4" y="16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6243480" y="2263680"/>
                <a:ext cx="972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6238800" y="2386080"/>
                <a:ext cx="97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6234120" y="2502000"/>
                <a:ext cx="9360" cy="4428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2" y="0"/>
                    </a:moveTo>
                    <a:lnTo>
                      <a:pt x="0" y="26"/>
                    </a:lnTo>
                    <a:lnTo>
                      <a:pt x="5" y="28"/>
                    </a:lnTo>
                    <a:lnTo>
                      <a:pt x="6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6230880" y="2625840"/>
                <a:ext cx="11160" cy="39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6226200" y="2744640"/>
                <a:ext cx="1116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6224760" y="2867040"/>
                <a:ext cx="936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6221520" y="288612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2" y="0"/>
                    </a:moveTo>
                    <a:lnTo>
                      <a:pt x="0" y="10"/>
                    </a:lnTo>
                    <a:lnTo>
                      <a:pt x="5" y="12"/>
                    </a:lnTo>
                    <a:lnTo>
                      <a:pt x="6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6215040" y="2982960"/>
                <a:ext cx="9720" cy="4428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1" y="0"/>
                    </a:moveTo>
                    <a:lnTo>
                      <a:pt x="0" y="26"/>
                    </a:lnTo>
                    <a:lnTo>
                      <a:pt x="4" y="28"/>
                    </a:lnTo>
                    <a:lnTo>
                      <a:pt x="6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6207120" y="3103560"/>
                <a:ext cx="9360" cy="4140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2" y="0"/>
                    </a:moveTo>
                    <a:lnTo>
                      <a:pt x="0" y="25"/>
                    </a:lnTo>
                    <a:lnTo>
                      <a:pt x="5" y="26"/>
                    </a:lnTo>
                    <a:lnTo>
                      <a:pt x="6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6202440" y="3225960"/>
                <a:ext cx="9360" cy="33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6200640" y="3257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0"/>
                    </a:moveTo>
                    <a:lnTo>
                      <a:pt x="0" y="4"/>
                    </a:lnTo>
                    <a:lnTo>
                      <a:pt x="4" y="6"/>
                    </a:lnTo>
                    <a:lnTo>
                      <a:pt x="6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6184800" y="3344760"/>
                <a:ext cx="12960" cy="41400"/>
              </a:xfrm>
              <a:custGeom>
                <a:avLst/>
                <a:gdLst/>
                <a:ahLst/>
                <a:rect l="l" t="t" r="r" b="b"/>
                <a:pathLst>
                  <a:path w="8" h="26">
                    <a:moveTo>
                      <a:pt x="3" y="0"/>
                    </a:moveTo>
                    <a:lnTo>
                      <a:pt x="0" y="24"/>
                    </a:lnTo>
                    <a:lnTo>
                      <a:pt x="5" y="26"/>
                    </a:lnTo>
                    <a:lnTo>
                      <a:pt x="8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6164280" y="3463920"/>
                <a:ext cx="15840" cy="4140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6" y="0"/>
                    </a:moveTo>
                    <a:lnTo>
                      <a:pt x="0" y="24"/>
                    </a:lnTo>
                    <a:lnTo>
                      <a:pt x="4" y="26"/>
                    </a:lnTo>
                    <a:lnTo>
                      <a:pt x="10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6111720" y="356868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0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11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6091200" y="3560760"/>
                <a:ext cx="23760" cy="176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6"/>
                    </a:moveTo>
                    <a:lnTo>
                      <a:pt x="1" y="0"/>
                    </a:lnTo>
                    <a:lnTo>
                      <a:pt x="0" y="5"/>
                    </a:lnTo>
                    <a:lnTo>
                      <a:pt x="13" y="11"/>
                    </a:lnTo>
                    <a:lnTo>
                      <a:pt x="1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6086520" y="35593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1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6018120" y="348624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7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7" y="12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6004080" y="3463920"/>
                <a:ext cx="20520" cy="284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13" y="14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9" y="18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5950080" y="33955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5927760" y="3363840"/>
                <a:ext cx="30240" cy="3672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19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14" y="23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5857920" y="32767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18" y="15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14" y="2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5850000" y="327024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4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5789520" y="319392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8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6" y="12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5770440" y="3174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2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12" y="17"/>
                    </a:lnTo>
                    <a:lnTo>
                      <a:pt x="1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5697360" y="3098880"/>
                <a:ext cx="2412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11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11" y="16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5684760" y="308772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7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8" y="12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5605560" y="30160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5" y="1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11" y="14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5591160" y="30052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7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9" y="12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5513400" y="294948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4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7" y="9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5491080" y="2933640"/>
                <a:ext cx="28800" cy="2232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18" y="1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14" y="14"/>
                    </a:lnTo>
                    <a:lnTo>
                      <a:pt x="18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5487840" y="29322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1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5400720" y="288612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4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11" y="9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5380200" y="2876400"/>
                <a:ext cx="23760" cy="1620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6"/>
                    </a:moveTo>
                    <a:lnTo>
                      <a:pt x="1" y="0"/>
                    </a:lnTo>
                    <a:lnTo>
                      <a:pt x="0" y="4"/>
                    </a:lnTo>
                    <a:lnTo>
                      <a:pt x="13" y="10"/>
                    </a:lnTo>
                    <a:lnTo>
                      <a:pt x="1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5286240" y="2844720"/>
                <a:ext cx="1584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1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8" y="6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5262480" y="2840040"/>
                <a:ext cx="27000" cy="1116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7" y="3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15" y="7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5257800" y="2836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2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5173560" y="2825640"/>
                <a:ext cx="64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5148360" y="2822400"/>
                <a:ext cx="25200" cy="97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16" y="2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14" y="6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5141880" y="28224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5059440" y="2819520"/>
                <a:ext cx="14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5033880" y="281952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4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5019840" y="282240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4919760" y="2832120"/>
                <a:ext cx="205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4898880" y="2832120"/>
                <a:ext cx="2088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3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4807080" y="28512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4781520" y="285120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4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4776840" y="28558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4692600" y="2878200"/>
                <a:ext cx="64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4665600" y="287820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5" y="0"/>
                    </a:moveTo>
                    <a:lnTo>
                      <a:pt x="0" y="5"/>
                    </a:lnTo>
                    <a:lnTo>
                      <a:pt x="1" y="9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4657680" y="2886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6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4578480" y="2909880"/>
                <a:ext cx="1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4551480" y="290988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5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4537080" y="291456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9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0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4437000" y="294336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14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4417920" y="294948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2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4322880" y="2978280"/>
                <a:ext cx="17280" cy="126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1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4299120" y="2982960"/>
                <a:ext cx="26640" cy="126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5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4294080" y="29876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0"/>
                    </a:moveTo>
                    <a:lnTo>
                      <a:pt x="0" y="2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4206960" y="30114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6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7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4184640" y="301464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4" y="0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15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4176720" y="302112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6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4094280" y="3046320"/>
                <a:ext cx="46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4070520" y="304632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4" y="0"/>
                    </a:moveTo>
                    <a:lnTo>
                      <a:pt x="0" y="4"/>
                    </a:lnTo>
                    <a:lnTo>
                      <a:pt x="2" y="9"/>
                    </a:lnTo>
                    <a:lnTo>
                      <a:pt x="15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4056120" y="3052800"/>
                <a:ext cx="17280" cy="126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1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3954600" y="307980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3936960" y="308304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1" y="0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12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3840120" y="311004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12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3817800" y="3111480"/>
                <a:ext cx="24120" cy="1260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4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3813120" y="31161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0"/>
                    </a:moveTo>
                    <a:lnTo>
                      <a:pt x="0" y="2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3726000" y="313524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6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7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3701880" y="313848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5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6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3695760" y="31431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5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3613320" y="3162240"/>
                <a:ext cx="61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3587760" y="316224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5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6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3575160" y="3166920"/>
                <a:ext cx="14040" cy="97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8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9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3473280" y="3184560"/>
                <a:ext cx="24120" cy="93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4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3456000" y="318600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12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3360600" y="320688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3335400" y="320688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5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16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3244680" y="3222720"/>
                <a:ext cx="129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3220920" y="3222720"/>
                <a:ext cx="23760" cy="1260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3216240" y="322740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3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4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130560" y="32385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3106800" y="323856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4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15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094200" y="3243240"/>
                <a:ext cx="14040" cy="97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8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9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2989440" y="3252960"/>
                <a:ext cx="26640" cy="936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6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17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2975040" y="325440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9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1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2878200" y="326700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2854440" y="326700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2763720" y="3276720"/>
                <a:ext cx="129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2736720" y="327672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6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7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0" name=""/>
            <p:cNvSpPr/>
            <p:nvPr/>
          </p:nvSpPr>
          <p:spPr>
            <a:xfrm>
              <a:off x="2732040" y="32796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2" y="0"/>
                  </a:moveTo>
                  <a:lnTo>
                    <a:pt x="0" y="1"/>
                  </a:lnTo>
                  <a:lnTo>
                    <a:pt x="5" y="6"/>
                  </a:lnTo>
                  <a:lnTo>
                    <a:pt x="6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649600" y="3286080"/>
              <a:ext cx="79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22600" y="3286080"/>
              <a:ext cx="27000" cy="972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6" y="0"/>
                  </a:moveTo>
                  <a:lnTo>
                    <a:pt x="0" y="2"/>
                  </a:lnTo>
                  <a:lnTo>
                    <a:pt x="2" y="6"/>
                  </a:lnTo>
                  <a:lnTo>
                    <a:pt x="17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616120" y="328932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533680" y="3294000"/>
              <a:ext cx="14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508120" y="3294000"/>
              <a:ext cx="25560" cy="972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14" y="0"/>
                  </a:moveTo>
                  <a:lnTo>
                    <a:pt x="0" y="1"/>
                  </a:lnTo>
                  <a:lnTo>
                    <a:pt x="2" y="6"/>
                  </a:lnTo>
                  <a:lnTo>
                    <a:pt x="16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496960" y="3295800"/>
              <a:ext cx="144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97240" y="3303720"/>
              <a:ext cx="19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374920" y="3303720"/>
              <a:ext cx="223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281320" y="3308400"/>
              <a:ext cx="140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255760" y="3308400"/>
              <a:ext cx="25560" cy="936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14" y="0"/>
                  </a:moveTo>
                  <a:lnTo>
                    <a:pt x="0" y="2"/>
                  </a:lnTo>
                  <a:lnTo>
                    <a:pt x="2" y="6"/>
                  </a:lnTo>
                  <a:lnTo>
                    <a:pt x="16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2255760" y="3311640"/>
              <a:ext cx="32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66840" y="3313080"/>
              <a:ext cx="9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41640" y="3313080"/>
              <a:ext cx="25200" cy="972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14" y="0"/>
                  </a:moveTo>
                  <a:lnTo>
                    <a:pt x="0" y="2"/>
                  </a:lnTo>
                  <a:lnTo>
                    <a:pt x="2" y="6"/>
                  </a:lnTo>
                  <a:lnTo>
                    <a:pt x="16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35160" y="331632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052720" y="3321000"/>
              <a:ext cx="14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028960" y="3321000"/>
              <a:ext cx="237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016000" y="3321000"/>
              <a:ext cx="129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1914480" y="3325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1893960" y="3325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1800360" y="3327480"/>
              <a:ext cx="140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1773360" y="3327480"/>
              <a:ext cx="27000" cy="936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5" y="0"/>
                  </a:moveTo>
                  <a:lnTo>
                    <a:pt x="0" y="2"/>
                  </a:lnTo>
                  <a:lnTo>
                    <a:pt x="2" y="6"/>
                  </a:lnTo>
                  <a:lnTo>
                    <a:pt x="17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1746360" y="1535040"/>
              <a:ext cx="4537080" cy="2025720"/>
            </a:xfrm>
            <a:custGeom>
              <a:avLst/>
              <a:gdLst/>
              <a:ahLst/>
              <a:rect l="l" t="t" r="r" b="b"/>
              <a:pathLst>
                <a:path w="2858" h="1276">
                  <a:moveTo>
                    <a:pt x="2858" y="0"/>
                  </a:moveTo>
                  <a:lnTo>
                    <a:pt x="2848" y="311"/>
                  </a:lnTo>
                  <a:lnTo>
                    <a:pt x="2835" y="664"/>
                  </a:lnTo>
                  <a:lnTo>
                    <a:pt x="2819" y="897"/>
                  </a:lnTo>
                  <a:lnTo>
                    <a:pt x="2806" y="1051"/>
                  </a:lnTo>
                  <a:lnTo>
                    <a:pt x="2790" y="1154"/>
                  </a:lnTo>
                  <a:lnTo>
                    <a:pt x="2777" y="1216"/>
                  </a:lnTo>
                  <a:lnTo>
                    <a:pt x="2761" y="1255"/>
                  </a:lnTo>
                  <a:lnTo>
                    <a:pt x="2747" y="1273"/>
                  </a:lnTo>
                  <a:lnTo>
                    <a:pt x="2734" y="1276"/>
                  </a:lnTo>
                  <a:lnTo>
                    <a:pt x="2718" y="1272"/>
                  </a:lnTo>
                  <a:lnTo>
                    <a:pt x="2705" y="1258"/>
                  </a:lnTo>
                  <a:lnTo>
                    <a:pt x="2689" y="1241"/>
                  </a:lnTo>
                  <a:lnTo>
                    <a:pt x="2676" y="1219"/>
                  </a:lnTo>
                  <a:lnTo>
                    <a:pt x="2660" y="1198"/>
                  </a:lnTo>
                  <a:lnTo>
                    <a:pt x="2646" y="1175"/>
                  </a:lnTo>
                  <a:lnTo>
                    <a:pt x="2631" y="1152"/>
                  </a:lnTo>
                  <a:lnTo>
                    <a:pt x="2617" y="1129"/>
                  </a:lnTo>
                  <a:lnTo>
                    <a:pt x="2604" y="1106"/>
                  </a:lnTo>
                  <a:lnTo>
                    <a:pt x="2588" y="1086"/>
                  </a:lnTo>
                  <a:lnTo>
                    <a:pt x="2575" y="1065"/>
                  </a:lnTo>
                  <a:lnTo>
                    <a:pt x="2559" y="1047"/>
                  </a:lnTo>
                  <a:lnTo>
                    <a:pt x="2546" y="1030"/>
                  </a:lnTo>
                  <a:lnTo>
                    <a:pt x="2530" y="1013"/>
                  </a:lnTo>
                  <a:lnTo>
                    <a:pt x="2516" y="998"/>
                  </a:lnTo>
                  <a:lnTo>
                    <a:pt x="2501" y="984"/>
                  </a:lnTo>
                  <a:lnTo>
                    <a:pt x="2487" y="972"/>
                  </a:lnTo>
                  <a:lnTo>
                    <a:pt x="2472" y="959"/>
                  </a:lnTo>
                  <a:lnTo>
                    <a:pt x="2458" y="947"/>
                  </a:lnTo>
                  <a:lnTo>
                    <a:pt x="2445" y="938"/>
                  </a:lnTo>
                  <a:lnTo>
                    <a:pt x="2429" y="927"/>
                  </a:lnTo>
                  <a:lnTo>
                    <a:pt x="2416" y="918"/>
                  </a:lnTo>
                  <a:lnTo>
                    <a:pt x="2400" y="910"/>
                  </a:lnTo>
                  <a:lnTo>
                    <a:pt x="2386" y="901"/>
                  </a:lnTo>
                  <a:lnTo>
                    <a:pt x="2371" y="894"/>
                  </a:lnTo>
                  <a:lnTo>
                    <a:pt x="2357" y="887"/>
                  </a:lnTo>
                  <a:lnTo>
                    <a:pt x="2342" y="880"/>
                  </a:lnTo>
                  <a:lnTo>
                    <a:pt x="2328" y="874"/>
                  </a:lnTo>
                  <a:lnTo>
                    <a:pt x="2313" y="868"/>
                  </a:lnTo>
                  <a:lnTo>
                    <a:pt x="2299" y="861"/>
                  </a:lnTo>
                  <a:lnTo>
                    <a:pt x="2285" y="855"/>
                  </a:lnTo>
                  <a:lnTo>
                    <a:pt x="2270" y="851"/>
                  </a:lnTo>
                  <a:lnTo>
                    <a:pt x="2256" y="846"/>
                  </a:lnTo>
                  <a:lnTo>
                    <a:pt x="2241" y="840"/>
                  </a:lnTo>
                  <a:lnTo>
                    <a:pt x="2227" y="835"/>
                  </a:lnTo>
                  <a:lnTo>
                    <a:pt x="2212" y="832"/>
                  </a:lnTo>
                  <a:lnTo>
                    <a:pt x="2198" y="828"/>
                  </a:lnTo>
                  <a:lnTo>
                    <a:pt x="2183" y="825"/>
                  </a:lnTo>
                  <a:lnTo>
                    <a:pt x="2169" y="820"/>
                  </a:lnTo>
                  <a:lnTo>
                    <a:pt x="2154" y="817"/>
                  </a:lnTo>
                  <a:lnTo>
                    <a:pt x="2140" y="816"/>
                  </a:lnTo>
                  <a:lnTo>
                    <a:pt x="2126" y="813"/>
                  </a:lnTo>
                  <a:lnTo>
                    <a:pt x="2111" y="809"/>
                  </a:lnTo>
                  <a:lnTo>
                    <a:pt x="2097" y="808"/>
                  </a:lnTo>
                  <a:lnTo>
                    <a:pt x="2082" y="806"/>
                  </a:lnTo>
                  <a:lnTo>
                    <a:pt x="2068" y="805"/>
                  </a:lnTo>
                  <a:lnTo>
                    <a:pt x="2053" y="805"/>
                  </a:lnTo>
                  <a:lnTo>
                    <a:pt x="2039" y="803"/>
                  </a:lnTo>
                  <a:lnTo>
                    <a:pt x="2024" y="803"/>
                  </a:lnTo>
                  <a:lnTo>
                    <a:pt x="2010" y="803"/>
                  </a:lnTo>
                  <a:lnTo>
                    <a:pt x="1995" y="803"/>
                  </a:lnTo>
                  <a:lnTo>
                    <a:pt x="1981" y="803"/>
                  </a:lnTo>
                  <a:lnTo>
                    <a:pt x="1967" y="805"/>
                  </a:lnTo>
                  <a:lnTo>
                    <a:pt x="1952" y="805"/>
                  </a:lnTo>
                  <a:lnTo>
                    <a:pt x="1938" y="806"/>
                  </a:lnTo>
                  <a:lnTo>
                    <a:pt x="1923" y="808"/>
                  </a:lnTo>
                  <a:lnTo>
                    <a:pt x="1909" y="809"/>
                  </a:lnTo>
                  <a:lnTo>
                    <a:pt x="1894" y="811"/>
                  </a:lnTo>
                  <a:lnTo>
                    <a:pt x="1880" y="814"/>
                  </a:lnTo>
                  <a:lnTo>
                    <a:pt x="1865" y="817"/>
                  </a:lnTo>
                  <a:lnTo>
                    <a:pt x="1851" y="819"/>
                  </a:lnTo>
                  <a:lnTo>
                    <a:pt x="1836" y="822"/>
                  </a:lnTo>
                  <a:lnTo>
                    <a:pt x="1822" y="825"/>
                  </a:lnTo>
                  <a:lnTo>
                    <a:pt x="1808" y="828"/>
                  </a:lnTo>
                  <a:lnTo>
                    <a:pt x="1793" y="832"/>
                  </a:lnTo>
                  <a:lnTo>
                    <a:pt x="1779" y="835"/>
                  </a:lnTo>
                  <a:lnTo>
                    <a:pt x="1764" y="839"/>
                  </a:lnTo>
                  <a:lnTo>
                    <a:pt x="1750" y="843"/>
                  </a:lnTo>
                  <a:lnTo>
                    <a:pt x="1735" y="848"/>
                  </a:lnTo>
                  <a:lnTo>
                    <a:pt x="1721" y="851"/>
                  </a:lnTo>
                  <a:lnTo>
                    <a:pt x="1706" y="855"/>
                  </a:lnTo>
                  <a:lnTo>
                    <a:pt x="1692" y="860"/>
                  </a:lnTo>
                  <a:lnTo>
                    <a:pt x="1677" y="865"/>
                  </a:lnTo>
                  <a:lnTo>
                    <a:pt x="1663" y="869"/>
                  </a:lnTo>
                  <a:lnTo>
                    <a:pt x="1649" y="874"/>
                  </a:lnTo>
                  <a:lnTo>
                    <a:pt x="1634" y="878"/>
                  </a:lnTo>
                  <a:lnTo>
                    <a:pt x="1620" y="883"/>
                  </a:lnTo>
                  <a:lnTo>
                    <a:pt x="1605" y="887"/>
                  </a:lnTo>
                  <a:lnTo>
                    <a:pt x="1591" y="894"/>
                  </a:lnTo>
                  <a:lnTo>
                    <a:pt x="1576" y="898"/>
                  </a:lnTo>
                  <a:lnTo>
                    <a:pt x="1562" y="903"/>
                  </a:lnTo>
                  <a:lnTo>
                    <a:pt x="1547" y="907"/>
                  </a:lnTo>
                  <a:lnTo>
                    <a:pt x="1533" y="913"/>
                  </a:lnTo>
                  <a:lnTo>
                    <a:pt x="1518" y="918"/>
                  </a:lnTo>
                  <a:lnTo>
                    <a:pt x="1504" y="923"/>
                  </a:lnTo>
                  <a:lnTo>
                    <a:pt x="1490" y="929"/>
                  </a:lnTo>
                  <a:lnTo>
                    <a:pt x="1475" y="933"/>
                  </a:lnTo>
                  <a:lnTo>
                    <a:pt x="1461" y="938"/>
                  </a:lnTo>
                  <a:lnTo>
                    <a:pt x="1446" y="943"/>
                  </a:lnTo>
                  <a:lnTo>
                    <a:pt x="1432" y="949"/>
                  </a:lnTo>
                  <a:lnTo>
                    <a:pt x="1417" y="953"/>
                  </a:lnTo>
                  <a:lnTo>
                    <a:pt x="1403" y="958"/>
                  </a:lnTo>
                  <a:lnTo>
                    <a:pt x="1388" y="962"/>
                  </a:lnTo>
                  <a:lnTo>
                    <a:pt x="1374" y="969"/>
                  </a:lnTo>
                  <a:lnTo>
                    <a:pt x="1358" y="973"/>
                  </a:lnTo>
                  <a:lnTo>
                    <a:pt x="1345" y="978"/>
                  </a:lnTo>
                  <a:lnTo>
                    <a:pt x="1331" y="982"/>
                  </a:lnTo>
                  <a:lnTo>
                    <a:pt x="1316" y="987"/>
                  </a:lnTo>
                  <a:lnTo>
                    <a:pt x="1302" y="992"/>
                  </a:lnTo>
                  <a:lnTo>
                    <a:pt x="1287" y="996"/>
                  </a:lnTo>
                  <a:lnTo>
                    <a:pt x="1273" y="1001"/>
                  </a:lnTo>
                  <a:lnTo>
                    <a:pt x="1258" y="1005"/>
                  </a:lnTo>
                  <a:lnTo>
                    <a:pt x="1244" y="1010"/>
                  </a:lnTo>
                  <a:lnTo>
                    <a:pt x="1228" y="1014"/>
                  </a:lnTo>
                  <a:lnTo>
                    <a:pt x="1215" y="1018"/>
                  </a:lnTo>
                  <a:lnTo>
                    <a:pt x="1201" y="1022"/>
                  </a:lnTo>
                  <a:lnTo>
                    <a:pt x="1186" y="1027"/>
                  </a:lnTo>
                  <a:lnTo>
                    <a:pt x="1172" y="1031"/>
                  </a:lnTo>
                  <a:lnTo>
                    <a:pt x="1157" y="1034"/>
                  </a:lnTo>
                  <a:lnTo>
                    <a:pt x="1143" y="1039"/>
                  </a:lnTo>
                  <a:lnTo>
                    <a:pt x="1128" y="1042"/>
                  </a:lnTo>
                  <a:lnTo>
                    <a:pt x="1114" y="1047"/>
                  </a:lnTo>
                  <a:lnTo>
                    <a:pt x="1098" y="1050"/>
                  </a:lnTo>
                  <a:lnTo>
                    <a:pt x="1085" y="1054"/>
                  </a:lnTo>
                  <a:lnTo>
                    <a:pt x="1069" y="1057"/>
                  </a:lnTo>
                  <a:lnTo>
                    <a:pt x="1056" y="1060"/>
                  </a:lnTo>
                  <a:lnTo>
                    <a:pt x="1042" y="1065"/>
                  </a:lnTo>
                  <a:lnTo>
                    <a:pt x="1027" y="1068"/>
                  </a:lnTo>
                  <a:lnTo>
                    <a:pt x="1013" y="1071"/>
                  </a:lnTo>
                  <a:lnTo>
                    <a:pt x="997" y="1074"/>
                  </a:lnTo>
                  <a:lnTo>
                    <a:pt x="984" y="1077"/>
                  </a:lnTo>
                  <a:lnTo>
                    <a:pt x="968" y="1080"/>
                  </a:lnTo>
                  <a:lnTo>
                    <a:pt x="955" y="1083"/>
                  </a:lnTo>
                  <a:lnTo>
                    <a:pt x="939" y="1086"/>
                  </a:lnTo>
                  <a:lnTo>
                    <a:pt x="926" y="1089"/>
                  </a:lnTo>
                  <a:lnTo>
                    <a:pt x="910" y="1093"/>
                  </a:lnTo>
                  <a:lnTo>
                    <a:pt x="897" y="1096"/>
                  </a:lnTo>
                  <a:lnTo>
                    <a:pt x="883" y="1099"/>
                  </a:lnTo>
                  <a:lnTo>
                    <a:pt x="867" y="1100"/>
                  </a:lnTo>
                  <a:lnTo>
                    <a:pt x="854" y="1103"/>
                  </a:lnTo>
                  <a:lnTo>
                    <a:pt x="838" y="1106"/>
                  </a:lnTo>
                  <a:lnTo>
                    <a:pt x="825" y="1108"/>
                  </a:lnTo>
                  <a:lnTo>
                    <a:pt x="809" y="1111"/>
                  </a:lnTo>
                  <a:lnTo>
                    <a:pt x="796" y="1112"/>
                  </a:lnTo>
                  <a:lnTo>
                    <a:pt x="780" y="1115"/>
                  </a:lnTo>
                  <a:lnTo>
                    <a:pt x="767" y="1117"/>
                  </a:lnTo>
                  <a:lnTo>
                    <a:pt x="751" y="1120"/>
                  </a:lnTo>
                  <a:lnTo>
                    <a:pt x="737" y="1122"/>
                  </a:lnTo>
                  <a:lnTo>
                    <a:pt x="724" y="1125"/>
                  </a:lnTo>
                  <a:lnTo>
                    <a:pt x="708" y="1126"/>
                  </a:lnTo>
                  <a:lnTo>
                    <a:pt x="695" y="1128"/>
                  </a:lnTo>
                  <a:lnTo>
                    <a:pt x="679" y="1131"/>
                  </a:lnTo>
                  <a:lnTo>
                    <a:pt x="666" y="1132"/>
                  </a:lnTo>
                  <a:lnTo>
                    <a:pt x="650" y="1134"/>
                  </a:lnTo>
                  <a:lnTo>
                    <a:pt x="636" y="1135"/>
                  </a:lnTo>
                  <a:lnTo>
                    <a:pt x="621" y="1137"/>
                  </a:lnTo>
                  <a:lnTo>
                    <a:pt x="607" y="1138"/>
                  </a:lnTo>
                  <a:lnTo>
                    <a:pt x="592" y="1141"/>
                  </a:lnTo>
                  <a:lnTo>
                    <a:pt x="578" y="1143"/>
                  </a:lnTo>
                  <a:lnTo>
                    <a:pt x="565" y="1145"/>
                  </a:lnTo>
                  <a:lnTo>
                    <a:pt x="549" y="1146"/>
                  </a:lnTo>
                  <a:lnTo>
                    <a:pt x="536" y="1148"/>
                  </a:lnTo>
                  <a:lnTo>
                    <a:pt x="520" y="1149"/>
                  </a:lnTo>
                  <a:lnTo>
                    <a:pt x="506" y="1151"/>
                  </a:lnTo>
                  <a:lnTo>
                    <a:pt x="491" y="1151"/>
                  </a:lnTo>
                  <a:lnTo>
                    <a:pt x="477" y="1152"/>
                  </a:lnTo>
                  <a:lnTo>
                    <a:pt x="462" y="1154"/>
                  </a:lnTo>
                  <a:lnTo>
                    <a:pt x="448" y="1155"/>
                  </a:lnTo>
                  <a:lnTo>
                    <a:pt x="433" y="1157"/>
                  </a:lnTo>
                  <a:lnTo>
                    <a:pt x="419" y="1158"/>
                  </a:lnTo>
                  <a:lnTo>
                    <a:pt x="406" y="1160"/>
                  </a:lnTo>
                  <a:lnTo>
                    <a:pt x="390" y="1160"/>
                  </a:lnTo>
                  <a:lnTo>
                    <a:pt x="376" y="1161"/>
                  </a:lnTo>
                  <a:lnTo>
                    <a:pt x="361" y="1163"/>
                  </a:lnTo>
                  <a:lnTo>
                    <a:pt x="347" y="1164"/>
                  </a:lnTo>
                  <a:lnTo>
                    <a:pt x="332" y="1164"/>
                  </a:lnTo>
                  <a:lnTo>
                    <a:pt x="318" y="1166"/>
                  </a:lnTo>
                  <a:lnTo>
                    <a:pt x="303" y="1167"/>
                  </a:lnTo>
                  <a:lnTo>
                    <a:pt x="289" y="1167"/>
                  </a:lnTo>
                  <a:lnTo>
                    <a:pt x="275" y="1169"/>
                  </a:lnTo>
                  <a:lnTo>
                    <a:pt x="260" y="1169"/>
                  </a:lnTo>
                  <a:lnTo>
                    <a:pt x="246" y="1171"/>
                  </a:lnTo>
                  <a:lnTo>
                    <a:pt x="231" y="1172"/>
                  </a:lnTo>
                  <a:lnTo>
                    <a:pt x="217" y="1172"/>
                  </a:lnTo>
                  <a:lnTo>
                    <a:pt x="202" y="1174"/>
                  </a:lnTo>
                  <a:lnTo>
                    <a:pt x="188" y="1174"/>
                  </a:lnTo>
                  <a:lnTo>
                    <a:pt x="173" y="1175"/>
                  </a:lnTo>
                  <a:lnTo>
                    <a:pt x="159" y="1175"/>
                  </a:lnTo>
                  <a:lnTo>
                    <a:pt x="144" y="1177"/>
                  </a:lnTo>
                  <a:lnTo>
                    <a:pt x="130" y="1177"/>
                  </a:lnTo>
                  <a:lnTo>
                    <a:pt x="116" y="1178"/>
                  </a:lnTo>
                  <a:lnTo>
                    <a:pt x="101" y="1178"/>
                  </a:lnTo>
                  <a:lnTo>
                    <a:pt x="87" y="1180"/>
                  </a:lnTo>
                  <a:lnTo>
                    <a:pt x="72" y="1180"/>
                  </a:lnTo>
                  <a:lnTo>
                    <a:pt x="58" y="1181"/>
                  </a:lnTo>
                  <a:lnTo>
                    <a:pt x="43" y="1181"/>
                  </a:lnTo>
                  <a:lnTo>
                    <a:pt x="29" y="1183"/>
                  </a:lnTo>
                  <a:lnTo>
                    <a:pt x="14" y="1183"/>
                  </a:lnTo>
                  <a:lnTo>
                    <a:pt x="0" y="118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H="1">
              <a:off x="1746360" y="2860560"/>
              <a:ext cx="4597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986360" y="2529000"/>
              <a:ext cx="1440" cy="2127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950000" y="2529000"/>
              <a:ext cx="72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4950000" y="2741760"/>
              <a:ext cx="72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335560" y="2754360"/>
              <a:ext cx="1440" cy="1839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299200" y="2754360"/>
              <a:ext cx="73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299200" y="2938320"/>
              <a:ext cx="7308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335560" y="2762280"/>
              <a:ext cx="1440" cy="198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5299200" y="2762280"/>
              <a:ext cx="73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5299200" y="2960640"/>
              <a:ext cx="7308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5541840" y="2700360"/>
              <a:ext cx="1800" cy="187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5505480" y="2700360"/>
              <a:ext cx="73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505480" y="2887560"/>
              <a:ext cx="7308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541840" y="2808360"/>
              <a:ext cx="1800" cy="198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505480" y="2808360"/>
              <a:ext cx="73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5505480" y="3006720"/>
              <a:ext cx="73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734080" y="3027240"/>
              <a:ext cx="1440" cy="1843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697360" y="3027240"/>
              <a:ext cx="7308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697360" y="3211560"/>
              <a:ext cx="73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734080" y="2965320"/>
              <a:ext cx="1440" cy="133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697360" y="2965320"/>
              <a:ext cx="7308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697360" y="3098880"/>
              <a:ext cx="73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734080" y="3038400"/>
              <a:ext cx="1440" cy="173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697360" y="3038400"/>
              <a:ext cx="7308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697360" y="3211560"/>
              <a:ext cx="73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881680" y="3060720"/>
              <a:ext cx="1440" cy="1839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5845320" y="3060720"/>
              <a:ext cx="72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845320" y="3244680"/>
              <a:ext cx="7272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881680" y="3052800"/>
              <a:ext cx="1440" cy="133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845320" y="3052800"/>
              <a:ext cx="72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845320" y="3186000"/>
              <a:ext cx="7272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881680" y="3119400"/>
              <a:ext cx="1440" cy="2383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845320" y="3119400"/>
              <a:ext cx="7272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845320" y="3357720"/>
              <a:ext cx="72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004080" y="3186000"/>
              <a:ext cx="1440" cy="1317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967360" y="3186000"/>
              <a:ext cx="7308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967360" y="3317760"/>
              <a:ext cx="7308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6004080" y="3298680"/>
              <a:ext cx="1440" cy="1717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967360" y="3298680"/>
              <a:ext cx="7308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967360" y="3470400"/>
              <a:ext cx="73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6004080" y="3417840"/>
              <a:ext cx="1440" cy="198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967360" y="3417840"/>
              <a:ext cx="7308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5967360" y="3616200"/>
              <a:ext cx="7308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6107040" y="3382920"/>
              <a:ext cx="1800" cy="1350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6070680" y="3382920"/>
              <a:ext cx="7308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6070680" y="3517920"/>
              <a:ext cx="73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107040" y="3192480"/>
              <a:ext cx="1800" cy="2397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6070680" y="3192480"/>
              <a:ext cx="73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6070680" y="3432240"/>
              <a:ext cx="73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6195960" y="2992320"/>
              <a:ext cx="1800" cy="241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6159600" y="2992320"/>
              <a:ext cx="7128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6159600" y="3233880"/>
              <a:ext cx="712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033160" y="25765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382360" y="27874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382360" y="27986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588640" y="27338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588640" y="28479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780880" y="30592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780880" y="29718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780880" y="30672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928480" y="30924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928480" y="30592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928480" y="31780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050520" y="31924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050520" y="33242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6050520" y="34574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6155640" y="33894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6155640" y="32511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242760" y="30510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1483920" y="476568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1483920" y="410220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1483920" y="344016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1621440" y="27766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1483920" y="211284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1483920" y="145080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.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582560" y="4935600"/>
              <a:ext cx="432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3160080" y="4935600"/>
              <a:ext cx="335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4741560" y="493560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6347520" y="49356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1971720" y="1965240"/>
              <a:ext cx="8413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174040" y="20462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26320" y="2021040"/>
              <a:ext cx="433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NM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3690720" y="2054160"/>
              <a:ext cx="325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B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02080" y="4102200"/>
              <a:ext cx="660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627280" y="4441680"/>
              <a:ext cx="414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749680" y="4441680"/>
              <a:ext cx="37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2868480" y="4441680"/>
              <a:ext cx="414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989440" y="4441680"/>
              <a:ext cx="39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3108240" y="4441680"/>
              <a:ext cx="414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3230640" y="4441680"/>
              <a:ext cx="38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3415320" y="4308480"/>
              <a:ext cx="1238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quadratic f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3427560" y="3983040"/>
              <a:ext cx="1337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cubic fit at 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4720320" y="39355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4765680" y="3983040"/>
              <a:ext cx="8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=5 Ge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587200" y="39355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8" name=""/>
          <p:cNvSpPr/>
          <p:nvPr/>
        </p:nvSpPr>
        <p:spPr>
          <a:xfrm rot="16200000">
            <a:off x="310680" y="2813760"/>
            <a:ext cx="148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/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 rot="16200000">
            <a:off x="310680" y="6471360"/>
            <a:ext cx="148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/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"/>
          <p:cNvSpPr/>
          <p:nvPr/>
        </p:nvSpPr>
        <p:spPr>
          <a:xfrm>
            <a:off x="1066680" y="990720"/>
            <a:ext cx="972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1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9720" cy="9360"/>
          </a:xfrm>
          <a:prstGeom prst="rect">
            <a:avLst/>
          </a:prstGeom>
          <a:ln w="0">
            <a:noFill/>
          </a:ln>
        </p:spPr>
      </p:pic>
      <p:sp>
        <p:nvSpPr>
          <p:cNvPr id="2482" name=""/>
          <p:cNvSpPr/>
          <p:nvPr/>
        </p:nvSpPr>
        <p:spPr>
          <a:xfrm>
            <a:off x="1066680" y="96984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1066680" y="96984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1078560" y="969840"/>
            <a:ext cx="144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DeltaSymbol"/>
                <a:ea typeface="DeltaSymbol"/>
              </a:rPr>
              <a:t>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1067400" y="958680"/>
            <a:ext cx="11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Chicago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1066680" y="96984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685800" y="1143000"/>
            <a:ext cx="936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8" name="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2489" name=""/>
          <p:cNvSpPr/>
          <p:nvPr/>
        </p:nvSpPr>
        <p:spPr>
          <a:xfrm>
            <a:off x="685800" y="112248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685800" y="112248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697680" y="1122480"/>
            <a:ext cx="144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DeltaSymbol"/>
                <a:ea typeface="DeltaSymbol"/>
              </a:rPr>
              <a:t>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686160" y="1111320"/>
            <a:ext cx="11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Chicago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685800" y="112248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371600" y="1219320"/>
            <a:ext cx="936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5" name="" descr=""/>
          <p:cNvPicPr/>
          <p:nvPr/>
        </p:nvPicPr>
        <p:blipFill>
          <a:blip r:embed="rId3"/>
          <a:stretch/>
        </p:blipFill>
        <p:spPr>
          <a:xfrm>
            <a:off x="1371600" y="1219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2496" name=""/>
          <p:cNvSpPr/>
          <p:nvPr/>
        </p:nvSpPr>
        <p:spPr>
          <a:xfrm>
            <a:off x="1371600" y="119844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1371600" y="119844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1383480" y="1198440"/>
            <a:ext cx="144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DeltaSymbol"/>
                <a:ea typeface="DeltaSymbol"/>
              </a:rPr>
              <a:t>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1371960" y="1189080"/>
            <a:ext cx="11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Chicago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1371600" y="119844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1" name=""/>
          <p:cNvGrpSpPr/>
          <p:nvPr/>
        </p:nvGrpSpPr>
        <p:grpSpPr>
          <a:xfrm>
            <a:off x="1370520" y="1219320"/>
            <a:ext cx="4969080" cy="7846200"/>
            <a:chOff x="1370520" y="1219320"/>
            <a:chExt cx="4969080" cy="7846200"/>
          </a:xfrm>
        </p:grpSpPr>
        <p:grpSp>
          <p:nvGrpSpPr>
            <p:cNvPr id="2502" name=""/>
            <p:cNvGrpSpPr/>
            <p:nvPr/>
          </p:nvGrpSpPr>
          <p:grpSpPr>
            <a:xfrm>
              <a:off x="1633680" y="5032440"/>
              <a:ext cx="4654440" cy="3364920"/>
              <a:chOff x="1633680" y="5032440"/>
              <a:chExt cx="4654440" cy="3364920"/>
            </a:xfrm>
          </p:grpSpPr>
          <p:sp>
            <p:nvSpPr>
              <p:cNvPr id="2503" name=""/>
              <p:cNvSpPr/>
              <p:nvPr/>
            </p:nvSpPr>
            <p:spPr>
              <a:xfrm>
                <a:off x="1697040" y="5037120"/>
                <a:ext cx="4589640" cy="330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1692360" y="8334360"/>
                <a:ext cx="4589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1692360" y="5032440"/>
                <a:ext cx="4589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 flipV="1">
                <a:off x="1692360" y="5032440"/>
                <a:ext cx="1440" cy="330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 flipV="1">
                <a:off x="6281640" y="5032440"/>
                <a:ext cx="1800" cy="330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1665360" y="833904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1665360" y="820908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1665360" y="807408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1665360" y="794376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1665360" y="781200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1665360" y="767880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1665360" y="754704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1665360" y="741528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1665360" y="728172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1665360" y="714996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1665360" y="702000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1665360" y="688500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1665360" y="675468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1665360" y="662292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1665360" y="648972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1665360" y="635796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1665360" y="622620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1665360" y="609300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1665360" y="596124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1665360" y="583092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1665360" y="569592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1665360" y="556560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1665360" y="543384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1665360" y="530064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1665360" y="516888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1665360" y="503712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1633680" y="8337600"/>
                <a:ext cx="6192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1633680" y="7675560"/>
                <a:ext cx="6192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1633680" y="7016760"/>
                <a:ext cx="6192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1633680" y="6354720"/>
                <a:ext cx="6192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1633680" y="5694480"/>
                <a:ext cx="6192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1633680" y="5035680"/>
                <a:ext cx="6192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 flipV="1">
                <a:off x="169704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V="1">
                <a:off x="215748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 flipV="1">
                <a:off x="2427120" y="833904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V="1">
                <a:off x="261936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2766960" y="833904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 flipV="1">
                <a:off x="288936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V="1">
                <a:off x="299088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 flipV="1">
                <a:off x="307980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V="1">
                <a:off x="315756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322740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 flipV="1">
                <a:off x="3689280" y="833904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V="1">
                <a:off x="3957480" y="833904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 flipV="1">
                <a:off x="414972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V="1">
                <a:off x="4297320" y="833904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441972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 flipV="1">
                <a:off x="452124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V="1">
                <a:off x="4608360" y="833904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 flipV="1">
                <a:off x="468648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V="1">
                <a:off x="475776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219640" y="833904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 flipV="1">
                <a:off x="548640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V="1">
                <a:off x="567864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 flipV="1">
                <a:off x="5827680" y="833904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V="1">
                <a:off x="5948280" y="833904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605160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 flipV="1">
                <a:off x="6138720" y="833904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V="1">
                <a:off x="621828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 flipV="1">
                <a:off x="628668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V="1">
                <a:off x="1695600" y="8337240"/>
                <a:ext cx="1440" cy="60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3224160" y="8337240"/>
                <a:ext cx="1800" cy="60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 flipV="1">
                <a:off x="4754520" y="8337240"/>
                <a:ext cx="1800" cy="60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V="1">
                <a:off x="6284880" y="8337240"/>
                <a:ext cx="1800" cy="60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 flipV="1">
                <a:off x="1692360" y="5032440"/>
                <a:ext cx="1440" cy="330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1692360" y="8334360"/>
                <a:ext cx="4589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1692360" y="6353280"/>
                <a:ext cx="4589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6180120" y="5037120"/>
                <a:ext cx="9720" cy="4464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1" y="0"/>
                    </a:moveTo>
                    <a:lnTo>
                      <a:pt x="0" y="26"/>
                    </a:lnTo>
                    <a:lnTo>
                      <a:pt x="5" y="28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6176880" y="5159520"/>
                <a:ext cx="11160" cy="410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2" y="0"/>
                    </a:moveTo>
                    <a:lnTo>
                      <a:pt x="0" y="24"/>
                    </a:lnTo>
                    <a:lnTo>
                      <a:pt x="5" y="26"/>
                    </a:lnTo>
                    <a:lnTo>
                      <a:pt x="7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6176880" y="5280120"/>
                <a:ext cx="11160" cy="41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6175440" y="5402160"/>
                <a:ext cx="936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6172200" y="5521320"/>
                <a:ext cx="936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6170760" y="5643720"/>
                <a:ext cx="9360" cy="37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6167520" y="5762520"/>
                <a:ext cx="936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6165720" y="5881680"/>
                <a:ext cx="9720" cy="4140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1" y="0"/>
                    </a:moveTo>
                    <a:lnTo>
                      <a:pt x="0" y="24"/>
                    </a:lnTo>
                    <a:lnTo>
                      <a:pt x="4" y="26"/>
                    </a:lnTo>
                    <a:lnTo>
                      <a:pt x="6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6165720" y="6002280"/>
                <a:ext cx="972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6161040" y="6124680"/>
                <a:ext cx="97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6156360" y="6243480"/>
                <a:ext cx="936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6151680" y="6362640"/>
                <a:ext cx="9360" cy="4140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1" y="0"/>
                    </a:moveTo>
                    <a:lnTo>
                      <a:pt x="0" y="25"/>
                    </a:lnTo>
                    <a:lnTo>
                      <a:pt x="4" y="26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145200" y="6481800"/>
                <a:ext cx="11160" cy="442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2" y="0"/>
                    </a:moveTo>
                    <a:lnTo>
                      <a:pt x="0" y="26"/>
                    </a:lnTo>
                    <a:lnTo>
                      <a:pt x="5" y="28"/>
                    </a:lnTo>
                    <a:lnTo>
                      <a:pt x="7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6140520" y="66038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2" y="0"/>
                    </a:moveTo>
                    <a:lnTo>
                      <a:pt x="0" y="24"/>
                    </a:lnTo>
                    <a:lnTo>
                      <a:pt x="5" y="26"/>
                    </a:lnTo>
                    <a:lnTo>
                      <a:pt x="7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6135840" y="6723000"/>
                <a:ext cx="9360" cy="42840"/>
              </a:xfrm>
              <a:custGeom>
                <a:avLst/>
                <a:gdLst/>
                <a:ahLst/>
                <a:rect l="l" t="t" r="r" b="b"/>
                <a:pathLst>
                  <a:path w="6" h="27">
                    <a:moveTo>
                      <a:pt x="2" y="0"/>
                    </a:moveTo>
                    <a:lnTo>
                      <a:pt x="0" y="26"/>
                    </a:lnTo>
                    <a:lnTo>
                      <a:pt x="5" y="27"/>
                    </a:lnTo>
                    <a:lnTo>
                      <a:pt x="6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129360" y="6843600"/>
                <a:ext cx="9360" cy="4140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1" y="0"/>
                    </a:moveTo>
                    <a:lnTo>
                      <a:pt x="0" y="25"/>
                    </a:lnTo>
                    <a:lnTo>
                      <a:pt x="4" y="26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6119640" y="6962760"/>
                <a:ext cx="9720" cy="4464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1" y="0"/>
                    </a:moveTo>
                    <a:lnTo>
                      <a:pt x="0" y="26"/>
                    </a:lnTo>
                    <a:lnTo>
                      <a:pt x="4" y="28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103800" y="7085160"/>
                <a:ext cx="12960" cy="41040"/>
              </a:xfrm>
              <a:custGeom>
                <a:avLst/>
                <a:gdLst/>
                <a:ahLst/>
                <a:rect l="l" t="t" r="r" b="b"/>
                <a:pathLst>
                  <a:path w="8" h="26">
                    <a:moveTo>
                      <a:pt x="4" y="0"/>
                    </a:moveTo>
                    <a:lnTo>
                      <a:pt x="0" y="24"/>
                    </a:lnTo>
                    <a:lnTo>
                      <a:pt x="5" y="26"/>
                    </a:lnTo>
                    <a:lnTo>
                      <a:pt x="8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6078600" y="7203960"/>
                <a:ext cx="19080" cy="41400"/>
              </a:xfrm>
              <a:custGeom>
                <a:avLst/>
                <a:gdLst/>
                <a:ahLst/>
                <a:rect l="l" t="t" r="r" b="b"/>
                <a:pathLst>
                  <a:path w="12" h="26">
                    <a:moveTo>
                      <a:pt x="7" y="0"/>
                    </a:moveTo>
                    <a:lnTo>
                      <a:pt x="0" y="25"/>
                    </a:lnTo>
                    <a:lnTo>
                      <a:pt x="4" y="26"/>
                    </a:lnTo>
                    <a:lnTo>
                      <a:pt x="12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6005520" y="722628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11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7" y="15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5996160" y="72118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10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6" y="12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5938920" y="710424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16" y="23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11" y="25"/>
                    </a:lnTo>
                    <a:lnTo>
                      <a:pt x="1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5888160" y="699912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4" y="20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9" y="22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5886360" y="6994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5845320" y="690552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9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4" y="10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5832360" y="688356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14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8" y="15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5776920" y="677376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6" y="23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12" y="24"/>
                    </a:lnTo>
                    <a:lnTo>
                      <a:pt x="1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5730840" y="66880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8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4" y="13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5715000" y="666432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14" y="15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10" y="20"/>
                    </a:lnTo>
                    <a:lnTo>
                      <a:pt x="1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5659560" y="6573960"/>
                <a:ext cx="19080" cy="27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13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8" y="17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5649840" y="65595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11" y="9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6" y="14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5591160" y="6473880"/>
                <a:ext cx="19080" cy="2520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11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8" y="16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5580000" y="64594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9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7" y="14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5522760" y="638964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3" y="8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5499000" y="636588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20" y="15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15" y="19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5430960" y="629928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6" y="1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5411880" y="62816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7" y="11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12" y="16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5340240" y="62308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2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5319720" y="621972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5" y="7"/>
                    </a:moveTo>
                    <a:lnTo>
                      <a:pt x="1" y="0"/>
                    </a:lnTo>
                    <a:lnTo>
                      <a:pt x="0" y="4"/>
                    </a:lnTo>
                    <a:lnTo>
                      <a:pt x="13" y="12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5308560" y="62150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3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7" y="7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5229360" y="6183360"/>
                <a:ext cx="4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5205240" y="6175440"/>
                <a:ext cx="2412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5"/>
                    </a:moveTo>
                    <a:lnTo>
                      <a:pt x="1" y="0"/>
                    </a:lnTo>
                    <a:lnTo>
                      <a:pt x="0" y="5"/>
                    </a:lnTo>
                    <a:lnTo>
                      <a:pt x="13" y="9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5189400" y="617076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3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10" y="8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5092560" y="6165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5073480" y="6165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4976640" y="6175440"/>
                <a:ext cx="1620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9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10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4951440" y="6178680"/>
                <a:ext cx="27000" cy="1116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6" y="0"/>
                    </a:moveTo>
                    <a:lnTo>
                      <a:pt x="0" y="3"/>
                    </a:lnTo>
                    <a:lnTo>
                      <a:pt x="2" y="7"/>
                    </a:lnTo>
                    <a:lnTo>
                      <a:pt x="17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4946760" y="61833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0"/>
                    </a:moveTo>
                    <a:lnTo>
                      <a:pt x="0" y="1"/>
                    </a:lnTo>
                    <a:lnTo>
                      <a:pt x="5" y="6"/>
                    </a:lnTo>
                    <a:lnTo>
                      <a:pt x="6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4859280" y="620712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6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8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4836960" y="6208560"/>
                <a:ext cx="25560" cy="17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4" y="0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4830840" y="62197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6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4748040" y="6256440"/>
                <a:ext cx="5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4722840" y="6256440"/>
                <a:ext cx="2520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4" y="0"/>
                    </a:moveTo>
                    <a:lnTo>
                      <a:pt x="0" y="6"/>
                    </a:lnTo>
                    <a:lnTo>
                      <a:pt x="2" y="10"/>
                    </a:lnTo>
                    <a:lnTo>
                      <a:pt x="16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4708440" y="62658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8" y="0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12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4630680" y="630864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5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4608360" y="631188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4" y="0"/>
                    </a:moveTo>
                    <a:lnTo>
                      <a:pt x="0" y="7"/>
                    </a:lnTo>
                    <a:lnTo>
                      <a:pt x="2" y="12"/>
                    </a:lnTo>
                    <a:lnTo>
                      <a:pt x="16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4599000" y="632304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8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4513320" y="636588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5" y="0"/>
                    </a:moveTo>
                    <a:lnTo>
                      <a:pt x="0" y="3"/>
                    </a:lnTo>
                    <a:lnTo>
                      <a:pt x="5" y="7"/>
                    </a:lnTo>
                    <a:lnTo>
                      <a:pt x="10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4492800" y="637056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13" y="0"/>
                    </a:moveTo>
                    <a:lnTo>
                      <a:pt x="0" y="9"/>
                    </a:lnTo>
                    <a:lnTo>
                      <a:pt x="4" y="13"/>
                    </a:lnTo>
                    <a:lnTo>
                      <a:pt x="18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4484520" y="638496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5" y="0"/>
                    </a:moveTo>
                    <a:lnTo>
                      <a:pt x="0" y="3"/>
                    </a:lnTo>
                    <a:lnTo>
                      <a:pt x="5" y="7"/>
                    </a:lnTo>
                    <a:lnTo>
                      <a:pt x="9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4398840" y="6426360"/>
                <a:ext cx="20880" cy="140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8" y="0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13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4379760" y="6432480"/>
                <a:ext cx="25560" cy="2088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4" y="0"/>
                    </a:moveTo>
                    <a:lnTo>
                      <a:pt x="0" y="8"/>
                    </a:lnTo>
                    <a:lnTo>
                      <a:pt x="2" y="13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4287960" y="648648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2" y="0"/>
                    </a:moveTo>
                    <a:lnTo>
                      <a:pt x="0" y="6"/>
                    </a:lnTo>
                    <a:lnTo>
                      <a:pt x="2" y="11"/>
                    </a:lnTo>
                    <a:lnTo>
                      <a:pt x="14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4270320" y="6496200"/>
                <a:ext cx="20520" cy="1728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1" y="0"/>
                    </a:moveTo>
                    <a:lnTo>
                      <a:pt x="0" y="6"/>
                    </a:lnTo>
                    <a:lnTo>
                      <a:pt x="2" y="11"/>
                    </a:lnTo>
                    <a:lnTo>
                      <a:pt x="13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4197240" y="6546960"/>
                <a:ext cx="32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4173480" y="654696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4" y="0"/>
                    </a:moveTo>
                    <a:lnTo>
                      <a:pt x="0" y="8"/>
                    </a:lnTo>
                    <a:lnTo>
                      <a:pt x="2" y="13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4159080" y="655956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7" y="0"/>
                    </a:moveTo>
                    <a:lnTo>
                      <a:pt x="0" y="5"/>
                    </a:lnTo>
                    <a:lnTo>
                      <a:pt x="4" y="9"/>
                    </a:lnTo>
                    <a:lnTo>
                      <a:pt x="12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4081320" y="660384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4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4059360" y="660564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4" y="0"/>
                    </a:moveTo>
                    <a:lnTo>
                      <a:pt x="0" y="8"/>
                    </a:lnTo>
                    <a:lnTo>
                      <a:pt x="1" y="12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4049640" y="661824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7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3967200" y="665964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7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3941640" y="6664320"/>
                <a:ext cx="27000" cy="17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6" y="0"/>
                    </a:moveTo>
                    <a:lnTo>
                      <a:pt x="0" y="6"/>
                    </a:lnTo>
                    <a:lnTo>
                      <a:pt x="2" y="11"/>
                    </a:lnTo>
                    <a:lnTo>
                      <a:pt x="17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3936960" y="66736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5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3849840" y="671364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5" y="0"/>
                    </a:moveTo>
                    <a:lnTo>
                      <a:pt x="0" y="3"/>
                    </a:lnTo>
                    <a:lnTo>
                      <a:pt x="5" y="7"/>
                    </a:lnTo>
                    <a:lnTo>
                      <a:pt x="9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3827520" y="671832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6" y="0"/>
                    </a:moveTo>
                    <a:lnTo>
                      <a:pt x="0" y="6"/>
                    </a:lnTo>
                    <a:lnTo>
                      <a:pt x="2" y="10"/>
                    </a:lnTo>
                    <a:lnTo>
                      <a:pt x="17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3817800" y="672768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5" y="0"/>
                    </a:moveTo>
                    <a:lnTo>
                      <a:pt x="0" y="3"/>
                    </a:lnTo>
                    <a:lnTo>
                      <a:pt x="5" y="7"/>
                    </a:lnTo>
                    <a:lnTo>
                      <a:pt x="9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3740040" y="6765840"/>
                <a:ext cx="32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3713040" y="6765840"/>
                <a:ext cx="27000" cy="17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6" y="0"/>
                    </a:moveTo>
                    <a:lnTo>
                      <a:pt x="0" y="6"/>
                    </a:lnTo>
                    <a:lnTo>
                      <a:pt x="2" y="11"/>
                    </a:lnTo>
                    <a:lnTo>
                      <a:pt x="17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3699000" y="677556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8" y="0"/>
                    </a:moveTo>
                    <a:lnTo>
                      <a:pt x="0" y="5"/>
                    </a:lnTo>
                    <a:lnTo>
                      <a:pt x="5" y="10"/>
                    </a:lnTo>
                    <a:lnTo>
                      <a:pt x="12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3598920" y="6815160"/>
                <a:ext cx="2520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4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3579840" y="681984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2" y="0"/>
                    </a:moveTo>
                    <a:lnTo>
                      <a:pt x="0" y="6"/>
                    </a:lnTo>
                    <a:lnTo>
                      <a:pt x="2" y="11"/>
                    </a:lnTo>
                    <a:lnTo>
                      <a:pt x="14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3484440" y="685656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0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1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3463920" y="686124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0" y="5"/>
                    </a:lnTo>
                    <a:lnTo>
                      <a:pt x="1" y="9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3459240" y="68691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0"/>
                    </a:moveTo>
                    <a:lnTo>
                      <a:pt x="0" y="1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3370320" y="68943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7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8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3346560" y="6897600"/>
                <a:ext cx="2700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5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3338640" y="690228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7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3259080" y="6929280"/>
                <a:ext cx="1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3232080" y="6929280"/>
                <a:ext cx="2700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5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3219480" y="693432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8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0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3117960" y="696132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4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15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3098880" y="696276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4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3003480" y="698508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9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1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2981160" y="6988320"/>
                <a:ext cx="2556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4" y="0"/>
                    </a:moveTo>
                    <a:lnTo>
                      <a:pt x="0" y="3"/>
                    </a:lnTo>
                    <a:lnTo>
                      <a:pt x="2" y="7"/>
                    </a:lnTo>
                    <a:lnTo>
                      <a:pt x="16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2976480" y="69930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0"/>
                    </a:moveTo>
                    <a:lnTo>
                      <a:pt x="0" y="1"/>
                    </a:lnTo>
                    <a:lnTo>
                      <a:pt x="5" y="6"/>
                    </a:lnTo>
                    <a:lnTo>
                      <a:pt x="6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2892600" y="700884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2867040" y="700884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4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2857680" y="701532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6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8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2778120" y="7031160"/>
                <a:ext cx="1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2751120" y="703116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5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2738520" y="703404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8" y="0"/>
                    </a:moveTo>
                    <a:lnTo>
                      <a:pt x="0" y="3"/>
                    </a:lnTo>
                    <a:lnTo>
                      <a:pt x="2" y="7"/>
                    </a:lnTo>
                    <a:lnTo>
                      <a:pt x="9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2638440" y="7051680"/>
                <a:ext cx="22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2616120" y="70516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3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14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2523960" y="706608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2500200" y="706608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4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15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2495520" y="70707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0"/>
                    </a:moveTo>
                    <a:lnTo>
                      <a:pt x="0" y="1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2409840" y="70801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2386080" y="708012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4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2376360" y="70819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6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7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2295360" y="7093080"/>
                <a:ext cx="3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2271600" y="709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4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15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2257560" y="7094520"/>
                <a:ext cx="1584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9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10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2157480" y="7104240"/>
                <a:ext cx="22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2135160" y="710424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4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2043000" y="71136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2019240" y="711360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2013120" y="7116840"/>
                <a:ext cx="1080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2" y="0"/>
                    </a:moveTo>
                    <a:lnTo>
                      <a:pt x="0" y="1"/>
                    </a:lnTo>
                    <a:lnTo>
                      <a:pt x="5" y="6"/>
                    </a:lnTo>
                    <a:lnTo>
                      <a:pt x="7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1928880" y="71229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1906560" y="7122960"/>
                <a:ext cx="223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1893960" y="71229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7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8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1814400" y="7130880"/>
                <a:ext cx="1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1792440" y="7130880"/>
                <a:ext cx="219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1774800" y="713088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1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1692360" y="5032440"/>
                <a:ext cx="4505400" cy="2249280"/>
              </a:xfrm>
              <a:custGeom>
                <a:avLst/>
                <a:gdLst/>
                <a:ahLst/>
                <a:rect l="l" t="t" r="r" b="b"/>
                <a:pathLst>
                  <a:path w="2838" h="1417">
                    <a:moveTo>
                      <a:pt x="2838" y="0"/>
                    </a:moveTo>
                    <a:lnTo>
                      <a:pt x="2830" y="325"/>
                    </a:lnTo>
                    <a:lnTo>
                      <a:pt x="2816" y="731"/>
                    </a:lnTo>
                    <a:lnTo>
                      <a:pt x="2801" y="1002"/>
                    </a:lnTo>
                    <a:lnTo>
                      <a:pt x="2787" y="1181"/>
                    </a:lnTo>
                    <a:lnTo>
                      <a:pt x="2772" y="1295"/>
                    </a:lnTo>
                    <a:lnTo>
                      <a:pt x="2758" y="1362"/>
                    </a:lnTo>
                    <a:lnTo>
                      <a:pt x="2743" y="1397"/>
                    </a:lnTo>
                    <a:lnTo>
                      <a:pt x="2729" y="1406"/>
                    </a:lnTo>
                    <a:lnTo>
                      <a:pt x="2715" y="1400"/>
                    </a:lnTo>
                    <a:lnTo>
                      <a:pt x="2700" y="1382"/>
                    </a:lnTo>
                    <a:lnTo>
                      <a:pt x="2686" y="1354"/>
                    </a:lnTo>
                    <a:lnTo>
                      <a:pt x="2671" y="1322"/>
                    </a:lnTo>
                    <a:lnTo>
                      <a:pt x="2657" y="1287"/>
                    </a:lnTo>
                    <a:lnTo>
                      <a:pt x="2642" y="1250"/>
                    </a:lnTo>
                    <a:lnTo>
                      <a:pt x="2628" y="1212"/>
                    </a:lnTo>
                    <a:lnTo>
                      <a:pt x="2614" y="1175"/>
                    </a:lnTo>
                    <a:lnTo>
                      <a:pt x="2599" y="1140"/>
                    </a:lnTo>
                    <a:lnTo>
                      <a:pt x="2585" y="1108"/>
                    </a:lnTo>
                    <a:lnTo>
                      <a:pt x="2570" y="1075"/>
                    </a:lnTo>
                    <a:lnTo>
                      <a:pt x="2556" y="1045"/>
                    </a:lnTo>
                    <a:lnTo>
                      <a:pt x="2542" y="1019"/>
                    </a:lnTo>
                    <a:lnTo>
                      <a:pt x="2527" y="993"/>
                    </a:lnTo>
                    <a:lnTo>
                      <a:pt x="2513" y="970"/>
                    </a:lnTo>
                    <a:lnTo>
                      <a:pt x="2498" y="948"/>
                    </a:lnTo>
                    <a:lnTo>
                      <a:pt x="2484" y="928"/>
                    </a:lnTo>
                    <a:lnTo>
                      <a:pt x="2468" y="910"/>
                    </a:lnTo>
                    <a:lnTo>
                      <a:pt x="2455" y="893"/>
                    </a:lnTo>
                    <a:lnTo>
                      <a:pt x="2441" y="878"/>
                    </a:lnTo>
                    <a:lnTo>
                      <a:pt x="2426" y="864"/>
                    </a:lnTo>
                    <a:lnTo>
                      <a:pt x="2412" y="850"/>
                    </a:lnTo>
                    <a:lnTo>
                      <a:pt x="2396" y="838"/>
                    </a:lnTo>
                    <a:lnTo>
                      <a:pt x="2383" y="827"/>
                    </a:lnTo>
                    <a:lnTo>
                      <a:pt x="2367" y="817"/>
                    </a:lnTo>
                    <a:lnTo>
                      <a:pt x="2354" y="807"/>
                    </a:lnTo>
                    <a:lnTo>
                      <a:pt x="2340" y="798"/>
                    </a:lnTo>
                    <a:lnTo>
                      <a:pt x="2324" y="789"/>
                    </a:lnTo>
                    <a:lnTo>
                      <a:pt x="2311" y="781"/>
                    </a:lnTo>
                    <a:lnTo>
                      <a:pt x="2295" y="774"/>
                    </a:lnTo>
                    <a:lnTo>
                      <a:pt x="2282" y="766"/>
                    </a:lnTo>
                    <a:lnTo>
                      <a:pt x="2266" y="760"/>
                    </a:lnTo>
                    <a:lnTo>
                      <a:pt x="2252" y="754"/>
                    </a:lnTo>
                    <a:lnTo>
                      <a:pt x="2239" y="748"/>
                    </a:lnTo>
                    <a:lnTo>
                      <a:pt x="2223" y="743"/>
                    </a:lnTo>
                    <a:lnTo>
                      <a:pt x="2210" y="737"/>
                    </a:lnTo>
                    <a:lnTo>
                      <a:pt x="2194" y="734"/>
                    </a:lnTo>
                    <a:lnTo>
                      <a:pt x="2180" y="729"/>
                    </a:lnTo>
                    <a:lnTo>
                      <a:pt x="2167" y="726"/>
                    </a:lnTo>
                    <a:lnTo>
                      <a:pt x="2151" y="722"/>
                    </a:lnTo>
                    <a:lnTo>
                      <a:pt x="2138" y="720"/>
                    </a:lnTo>
                    <a:lnTo>
                      <a:pt x="2122" y="717"/>
                    </a:lnTo>
                    <a:lnTo>
                      <a:pt x="2108" y="715"/>
                    </a:lnTo>
                    <a:lnTo>
                      <a:pt x="2093" y="714"/>
                    </a:lnTo>
                    <a:lnTo>
                      <a:pt x="2079" y="714"/>
                    </a:lnTo>
                    <a:lnTo>
                      <a:pt x="2065" y="712"/>
                    </a:lnTo>
                    <a:lnTo>
                      <a:pt x="2050" y="714"/>
                    </a:lnTo>
                    <a:lnTo>
                      <a:pt x="2036" y="714"/>
                    </a:lnTo>
                    <a:lnTo>
                      <a:pt x="2021" y="715"/>
                    </a:lnTo>
                    <a:lnTo>
                      <a:pt x="2007" y="717"/>
                    </a:lnTo>
                    <a:lnTo>
                      <a:pt x="1992" y="719"/>
                    </a:lnTo>
                    <a:lnTo>
                      <a:pt x="1978" y="720"/>
                    </a:lnTo>
                    <a:lnTo>
                      <a:pt x="1964" y="723"/>
                    </a:lnTo>
                    <a:lnTo>
                      <a:pt x="1949" y="726"/>
                    </a:lnTo>
                    <a:lnTo>
                      <a:pt x="1935" y="731"/>
                    </a:lnTo>
                    <a:lnTo>
                      <a:pt x="1920" y="734"/>
                    </a:lnTo>
                    <a:lnTo>
                      <a:pt x="1906" y="738"/>
                    </a:lnTo>
                    <a:lnTo>
                      <a:pt x="1891" y="743"/>
                    </a:lnTo>
                    <a:lnTo>
                      <a:pt x="1877" y="749"/>
                    </a:lnTo>
                    <a:lnTo>
                      <a:pt x="1863" y="754"/>
                    </a:lnTo>
                    <a:lnTo>
                      <a:pt x="1848" y="760"/>
                    </a:lnTo>
                    <a:lnTo>
                      <a:pt x="1834" y="766"/>
                    </a:lnTo>
                    <a:lnTo>
                      <a:pt x="1819" y="772"/>
                    </a:lnTo>
                    <a:lnTo>
                      <a:pt x="1805" y="780"/>
                    </a:lnTo>
                    <a:lnTo>
                      <a:pt x="1790" y="786"/>
                    </a:lnTo>
                    <a:lnTo>
                      <a:pt x="1776" y="794"/>
                    </a:lnTo>
                    <a:lnTo>
                      <a:pt x="1762" y="801"/>
                    </a:lnTo>
                    <a:lnTo>
                      <a:pt x="1747" y="809"/>
                    </a:lnTo>
                    <a:lnTo>
                      <a:pt x="1733" y="817"/>
                    </a:lnTo>
                    <a:lnTo>
                      <a:pt x="1718" y="824"/>
                    </a:lnTo>
                    <a:lnTo>
                      <a:pt x="1704" y="832"/>
                    </a:lnTo>
                    <a:lnTo>
                      <a:pt x="1690" y="841"/>
                    </a:lnTo>
                    <a:lnTo>
                      <a:pt x="1675" y="849"/>
                    </a:lnTo>
                    <a:lnTo>
                      <a:pt x="1661" y="858"/>
                    </a:lnTo>
                    <a:lnTo>
                      <a:pt x="1646" y="867"/>
                    </a:lnTo>
                    <a:lnTo>
                      <a:pt x="1632" y="875"/>
                    </a:lnTo>
                    <a:lnTo>
                      <a:pt x="1617" y="884"/>
                    </a:lnTo>
                    <a:lnTo>
                      <a:pt x="1603" y="893"/>
                    </a:lnTo>
                    <a:lnTo>
                      <a:pt x="1589" y="902"/>
                    </a:lnTo>
                    <a:lnTo>
                      <a:pt x="1574" y="912"/>
                    </a:lnTo>
                    <a:lnTo>
                      <a:pt x="1560" y="921"/>
                    </a:lnTo>
                    <a:lnTo>
                      <a:pt x="1545" y="930"/>
                    </a:lnTo>
                    <a:lnTo>
                      <a:pt x="1531" y="939"/>
                    </a:lnTo>
                    <a:lnTo>
                      <a:pt x="1515" y="948"/>
                    </a:lnTo>
                    <a:lnTo>
                      <a:pt x="1502" y="957"/>
                    </a:lnTo>
                    <a:lnTo>
                      <a:pt x="1488" y="967"/>
                    </a:lnTo>
                    <a:lnTo>
                      <a:pt x="1473" y="974"/>
                    </a:lnTo>
                    <a:lnTo>
                      <a:pt x="1459" y="984"/>
                    </a:lnTo>
                    <a:lnTo>
                      <a:pt x="1443" y="993"/>
                    </a:lnTo>
                    <a:lnTo>
                      <a:pt x="1430" y="1002"/>
                    </a:lnTo>
                    <a:lnTo>
                      <a:pt x="1414" y="1011"/>
                    </a:lnTo>
                    <a:lnTo>
                      <a:pt x="1401" y="1020"/>
                    </a:lnTo>
                    <a:lnTo>
                      <a:pt x="1387" y="1028"/>
                    </a:lnTo>
                    <a:lnTo>
                      <a:pt x="1371" y="1037"/>
                    </a:lnTo>
                    <a:lnTo>
                      <a:pt x="1358" y="1046"/>
                    </a:lnTo>
                    <a:lnTo>
                      <a:pt x="1342" y="1054"/>
                    </a:lnTo>
                    <a:lnTo>
                      <a:pt x="1329" y="1063"/>
                    </a:lnTo>
                    <a:lnTo>
                      <a:pt x="1315" y="1071"/>
                    </a:lnTo>
                    <a:lnTo>
                      <a:pt x="1299" y="1079"/>
                    </a:lnTo>
                    <a:lnTo>
                      <a:pt x="1286" y="1088"/>
                    </a:lnTo>
                    <a:lnTo>
                      <a:pt x="1270" y="1095"/>
                    </a:lnTo>
                    <a:lnTo>
                      <a:pt x="1257" y="1103"/>
                    </a:lnTo>
                    <a:lnTo>
                      <a:pt x="1241" y="1111"/>
                    </a:lnTo>
                    <a:lnTo>
                      <a:pt x="1227" y="1118"/>
                    </a:lnTo>
                    <a:lnTo>
                      <a:pt x="1214" y="1126"/>
                    </a:lnTo>
                    <a:lnTo>
                      <a:pt x="1198" y="1134"/>
                    </a:lnTo>
                    <a:lnTo>
                      <a:pt x="1185" y="1140"/>
                    </a:lnTo>
                    <a:lnTo>
                      <a:pt x="1169" y="1147"/>
                    </a:lnTo>
                    <a:lnTo>
                      <a:pt x="1155" y="1155"/>
                    </a:lnTo>
                    <a:lnTo>
                      <a:pt x="1140" y="1161"/>
                    </a:lnTo>
                    <a:lnTo>
                      <a:pt x="1126" y="1169"/>
                    </a:lnTo>
                    <a:lnTo>
                      <a:pt x="1113" y="1175"/>
                    </a:lnTo>
                    <a:lnTo>
                      <a:pt x="1097" y="1181"/>
                    </a:lnTo>
                    <a:lnTo>
                      <a:pt x="1083" y="1189"/>
                    </a:lnTo>
                    <a:lnTo>
                      <a:pt x="1068" y="1195"/>
                    </a:lnTo>
                    <a:lnTo>
                      <a:pt x="1054" y="1201"/>
                    </a:lnTo>
                    <a:lnTo>
                      <a:pt x="1039" y="1207"/>
                    </a:lnTo>
                    <a:lnTo>
                      <a:pt x="1025" y="1213"/>
                    </a:lnTo>
                    <a:lnTo>
                      <a:pt x="1011" y="1218"/>
                    </a:lnTo>
                    <a:lnTo>
                      <a:pt x="996" y="1224"/>
                    </a:lnTo>
                    <a:lnTo>
                      <a:pt x="982" y="1230"/>
                    </a:lnTo>
                    <a:lnTo>
                      <a:pt x="967" y="1235"/>
                    </a:lnTo>
                    <a:lnTo>
                      <a:pt x="953" y="1241"/>
                    </a:lnTo>
                    <a:lnTo>
                      <a:pt x="939" y="1245"/>
                    </a:lnTo>
                    <a:lnTo>
                      <a:pt x="924" y="1252"/>
                    </a:lnTo>
                    <a:lnTo>
                      <a:pt x="910" y="1256"/>
                    </a:lnTo>
                    <a:lnTo>
                      <a:pt x="895" y="1261"/>
                    </a:lnTo>
                    <a:lnTo>
                      <a:pt x="881" y="1265"/>
                    </a:lnTo>
                    <a:lnTo>
                      <a:pt x="866" y="1270"/>
                    </a:lnTo>
                    <a:lnTo>
                      <a:pt x="852" y="1275"/>
                    </a:lnTo>
                    <a:lnTo>
                      <a:pt x="838" y="1279"/>
                    </a:lnTo>
                    <a:lnTo>
                      <a:pt x="823" y="1284"/>
                    </a:lnTo>
                    <a:lnTo>
                      <a:pt x="809" y="1288"/>
                    </a:lnTo>
                    <a:lnTo>
                      <a:pt x="794" y="1291"/>
                    </a:lnTo>
                    <a:lnTo>
                      <a:pt x="780" y="1296"/>
                    </a:lnTo>
                    <a:lnTo>
                      <a:pt x="765" y="1301"/>
                    </a:lnTo>
                    <a:lnTo>
                      <a:pt x="751" y="1304"/>
                    </a:lnTo>
                    <a:lnTo>
                      <a:pt x="737" y="1308"/>
                    </a:lnTo>
                    <a:lnTo>
                      <a:pt x="722" y="1311"/>
                    </a:lnTo>
                    <a:lnTo>
                      <a:pt x="708" y="1314"/>
                    </a:lnTo>
                    <a:lnTo>
                      <a:pt x="693" y="1319"/>
                    </a:lnTo>
                    <a:lnTo>
                      <a:pt x="679" y="1322"/>
                    </a:lnTo>
                    <a:lnTo>
                      <a:pt x="664" y="1325"/>
                    </a:lnTo>
                    <a:lnTo>
                      <a:pt x="650" y="1328"/>
                    </a:lnTo>
                    <a:lnTo>
                      <a:pt x="636" y="1331"/>
                    </a:lnTo>
                    <a:lnTo>
                      <a:pt x="621" y="1334"/>
                    </a:lnTo>
                    <a:lnTo>
                      <a:pt x="607" y="1337"/>
                    </a:lnTo>
                    <a:lnTo>
                      <a:pt x="592" y="1340"/>
                    </a:lnTo>
                    <a:lnTo>
                      <a:pt x="578" y="1344"/>
                    </a:lnTo>
                    <a:lnTo>
                      <a:pt x="563" y="1347"/>
                    </a:lnTo>
                    <a:lnTo>
                      <a:pt x="549" y="1350"/>
                    </a:lnTo>
                    <a:lnTo>
                      <a:pt x="535" y="1351"/>
                    </a:lnTo>
                    <a:lnTo>
                      <a:pt x="520" y="1354"/>
                    </a:lnTo>
                    <a:lnTo>
                      <a:pt x="506" y="1357"/>
                    </a:lnTo>
                    <a:lnTo>
                      <a:pt x="491" y="1359"/>
                    </a:lnTo>
                    <a:lnTo>
                      <a:pt x="477" y="1362"/>
                    </a:lnTo>
                    <a:lnTo>
                      <a:pt x="463" y="1365"/>
                    </a:lnTo>
                    <a:lnTo>
                      <a:pt x="448" y="1367"/>
                    </a:lnTo>
                    <a:lnTo>
                      <a:pt x="434" y="1370"/>
                    </a:lnTo>
                    <a:lnTo>
                      <a:pt x="418" y="1371"/>
                    </a:lnTo>
                    <a:lnTo>
                      <a:pt x="405" y="1373"/>
                    </a:lnTo>
                    <a:lnTo>
                      <a:pt x="389" y="1376"/>
                    </a:lnTo>
                    <a:lnTo>
                      <a:pt x="376" y="1377"/>
                    </a:lnTo>
                    <a:lnTo>
                      <a:pt x="362" y="1379"/>
                    </a:lnTo>
                    <a:lnTo>
                      <a:pt x="346" y="1382"/>
                    </a:lnTo>
                    <a:lnTo>
                      <a:pt x="333" y="1383"/>
                    </a:lnTo>
                    <a:lnTo>
                      <a:pt x="317" y="1385"/>
                    </a:lnTo>
                    <a:lnTo>
                      <a:pt x="304" y="1386"/>
                    </a:lnTo>
                    <a:lnTo>
                      <a:pt x="288" y="1388"/>
                    </a:lnTo>
                    <a:lnTo>
                      <a:pt x="274" y="1391"/>
                    </a:lnTo>
                    <a:lnTo>
                      <a:pt x="261" y="1393"/>
                    </a:lnTo>
                    <a:lnTo>
                      <a:pt x="245" y="1394"/>
                    </a:lnTo>
                    <a:lnTo>
                      <a:pt x="232" y="1396"/>
                    </a:lnTo>
                    <a:lnTo>
                      <a:pt x="216" y="1397"/>
                    </a:lnTo>
                    <a:lnTo>
                      <a:pt x="202" y="1399"/>
                    </a:lnTo>
                    <a:lnTo>
                      <a:pt x="187" y="1400"/>
                    </a:lnTo>
                    <a:lnTo>
                      <a:pt x="173" y="1402"/>
                    </a:lnTo>
                    <a:lnTo>
                      <a:pt x="160" y="1403"/>
                    </a:lnTo>
                    <a:lnTo>
                      <a:pt x="144" y="1405"/>
                    </a:lnTo>
                    <a:lnTo>
                      <a:pt x="130" y="1406"/>
                    </a:lnTo>
                    <a:lnTo>
                      <a:pt x="115" y="1408"/>
                    </a:lnTo>
                    <a:lnTo>
                      <a:pt x="101" y="1408"/>
                    </a:lnTo>
                    <a:lnTo>
                      <a:pt x="88" y="1409"/>
                    </a:lnTo>
                    <a:lnTo>
                      <a:pt x="72" y="1411"/>
                    </a:lnTo>
                    <a:lnTo>
                      <a:pt x="58" y="1412"/>
                    </a:lnTo>
                    <a:lnTo>
                      <a:pt x="43" y="1414"/>
                    </a:lnTo>
                    <a:lnTo>
                      <a:pt x="29" y="1414"/>
                    </a:lnTo>
                    <a:lnTo>
                      <a:pt x="14" y="1416"/>
                    </a:lnTo>
                    <a:lnTo>
                      <a:pt x="0" y="141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4516560" y="5886360"/>
                <a:ext cx="1440" cy="29844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4479840" y="5886360"/>
                <a:ext cx="73080" cy="180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4479840" y="6184800"/>
                <a:ext cx="73080" cy="180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4753080" y="5878440"/>
                <a:ext cx="1440" cy="19692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3" name=""/>
            <p:cNvGrpSpPr/>
            <p:nvPr/>
          </p:nvGrpSpPr>
          <p:grpSpPr>
            <a:xfrm>
              <a:off x="4475160" y="3597120"/>
              <a:ext cx="1785960" cy="4243680"/>
              <a:chOff x="4475160" y="3597120"/>
              <a:chExt cx="1785960" cy="4243680"/>
            </a:xfrm>
          </p:grpSpPr>
          <p:sp>
            <p:nvSpPr>
              <p:cNvPr id="2704" name=""/>
              <p:cNvSpPr/>
              <p:nvPr/>
            </p:nvSpPr>
            <p:spPr>
              <a:xfrm>
                <a:off x="4716360" y="5878440"/>
                <a:ext cx="73080" cy="180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4716360" y="6075360"/>
                <a:ext cx="73080" cy="144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4976640" y="5956200"/>
                <a:ext cx="1800" cy="18756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4940280" y="5956200"/>
                <a:ext cx="73080" cy="180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4940280" y="6143760"/>
                <a:ext cx="73080" cy="144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5143680" y="5938920"/>
                <a:ext cx="1440" cy="16812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5106960" y="5938920"/>
                <a:ext cx="73080" cy="144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5106960" y="6107040"/>
                <a:ext cx="73080" cy="180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5292720" y="6084720"/>
                <a:ext cx="1440" cy="17784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5256360" y="6084720"/>
                <a:ext cx="72720" cy="180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5256360" y="6262560"/>
                <a:ext cx="72720" cy="180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5425920" y="6256440"/>
                <a:ext cx="1800" cy="19692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5389560" y="6256440"/>
                <a:ext cx="73080" cy="144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5389560" y="6453360"/>
                <a:ext cx="73080" cy="144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5586480" y="6531120"/>
                <a:ext cx="1440" cy="18720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5549760" y="6531120"/>
                <a:ext cx="73080" cy="144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5549760" y="6718320"/>
                <a:ext cx="73080" cy="144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5751360" y="6729480"/>
                <a:ext cx="1800" cy="26352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5715000" y="6729480"/>
                <a:ext cx="73080" cy="144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5715000" y="6993000"/>
                <a:ext cx="73080" cy="144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5886360" y="6715080"/>
                <a:ext cx="1800" cy="37476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5850000" y="6715080"/>
                <a:ext cx="73080" cy="180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5850000" y="7089840"/>
                <a:ext cx="73080" cy="144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5997600" y="7337520"/>
                <a:ext cx="1440" cy="50148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5961240" y="7337520"/>
                <a:ext cx="72720" cy="144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5961240" y="7839000"/>
                <a:ext cx="72720" cy="180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5362560" y="4562640"/>
                <a:ext cx="1440" cy="1401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5326200" y="4562640"/>
                <a:ext cx="7272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5326200" y="5964120"/>
                <a:ext cx="7272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5481720" y="6261120"/>
                <a:ext cx="1440" cy="8319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5445000" y="626112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5445000" y="709308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5586480" y="6313320"/>
                <a:ext cx="1440" cy="2239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5549760" y="631332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5549760" y="653724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5673600" y="6340320"/>
                <a:ext cx="1800" cy="3049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5637240" y="634032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5637240" y="664524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5751360" y="6558120"/>
                <a:ext cx="1800" cy="225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5715000" y="655812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715000" y="678348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5823000" y="6672240"/>
                <a:ext cx="1440" cy="249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5786280" y="667224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5786280" y="692136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5886360" y="6834240"/>
                <a:ext cx="1800" cy="2649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5850000" y="683424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850000" y="709920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5943600" y="7067520"/>
                <a:ext cx="1440" cy="2095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5907240" y="7067520"/>
                <a:ext cx="7272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5907240" y="7277040"/>
                <a:ext cx="7272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5997600" y="7099200"/>
                <a:ext cx="1440" cy="2239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5961240" y="7099200"/>
                <a:ext cx="7272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5961240" y="7323120"/>
                <a:ext cx="7272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6046920" y="6934320"/>
                <a:ext cx="1440" cy="357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6010200" y="693432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6010200" y="729144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6093000" y="6518160"/>
                <a:ext cx="1440" cy="54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6056280" y="651816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6056280" y="706104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6134040" y="6418440"/>
                <a:ext cx="1800" cy="715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6097680" y="641844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6097680" y="713412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6175440" y="5243400"/>
                <a:ext cx="1440" cy="13082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6138720" y="524340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6138720" y="655164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6213600" y="3597120"/>
                <a:ext cx="1440" cy="33703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6176880" y="359712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6176880" y="696744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4675320" y="6234120"/>
                <a:ext cx="1440" cy="25092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4638600" y="623412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4638600" y="648504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4927680" y="5991120"/>
                <a:ext cx="1440" cy="18432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4890960" y="5991120"/>
                <a:ext cx="73080" cy="1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4890960" y="617544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4976640" y="5783400"/>
                <a:ext cx="1800" cy="39672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4940280" y="578340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4940280" y="618012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5278320" y="6161040"/>
                <a:ext cx="1800" cy="18432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5241960" y="6161040"/>
                <a:ext cx="73080" cy="1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5241960" y="634536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5278320" y="6188040"/>
                <a:ext cx="1800" cy="17136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5241960" y="6188040"/>
                <a:ext cx="73080" cy="1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241960" y="6359400"/>
                <a:ext cx="73080" cy="1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481720" y="6267600"/>
                <a:ext cx="1440" cy="16956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5445000" y="626760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5445000" y="6437160"/>
                <a:ext cx="73080" cy="1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5481720" y="6215040"/>
                <a:ext cx="1440" cy="18432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445000" y="621504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5445000" y="639936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5481720" y="6599160"/>
                <a:ext cx="1440" cy="27648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445000" y="6599160"/>
                <a:ext cx="73080" cy="1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445000" y="687564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481720" y="6380280"/>
                <a:ext cx="1440" cy="19656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445000" y="638028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5445000" y="6576840"/>
                <a:ext cx="73080" cy="1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5673600" y="6618240"/>
                <a:ext cx="1800" cy="16992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5637240" y="6618240"/>
                <a:ext cx="73080" cy="1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5637240" y="678816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5673600" y="6505560"/>
                <a:ext cx="1800" cy="11916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5637240" y="650556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5637240" y="662472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5673600" y="6702480"/>
                <a:ext cx="1800" cy="15876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5637240" y="670248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5637240" y="686124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5823000" y="6907320"/>
                <a:ext cx="1440" cy="145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5786280" y="690732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5786280" y="7053120"/>
                <a:ext cx="73080" cy="1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5823000" y="6823080"/>
                <a:ext cx="1440" cy="11916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5786280" y="682308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5786280" y="694224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5823000" y="6975360"/>
                <a:ext cx="1440" cy="20952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5786280" y="6975360"/>
                <a:ext cx="73080" cy="1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5786280" y="7184880"/>
                <a:ext cx="73080" cy="1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5823000" y="6880320"/>
                <a:ext cx="1440" cy="1602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5786280" y="688032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5786280" y="7040520"/>
                <a:ext cx="73080" cy="1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5943600" y="7093080"/>
                <a:ext cx="1440" cy="91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5907240" y="7093080"/>
                <a:ext cx="7272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5907240" y="7184880"/>
                <a:ext cx="72720" cy="1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5943600" y="7253280"/>
                <a:ext cx="1440" cy="14292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5907240" y="7253280"/>
                <a:ext cx="7272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5907240" y="7396200"/>
                <a:ext cx="7272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5943600" y="7145280"/>
                <a:ext cx="1440" cy="17316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5907240" y="7145280"/>
                <a:ext cx="72720" cy="1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5907240" y="7318440"/>
                <a:ext cx="7272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6046920" y="7299360"/>
                <a:ext cx="1440" cy="10476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6010200" y="729936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6010200" y="740412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6046920" y="7134120"/>
                <a:ext cx="1440" cy="21132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6010200" y="7134120"/>
                <a:ext cx="73080" cy="1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6010200" y="734544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6046920" y="7253280"/>
                <a:ext cx="1440" cy="18432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6010200" y="725328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6010200" y="743760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6134040" y="6545160"/>
                <a:ext cx="1800" cy="22392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6097680" y="6545160"/>
                <a:ext cx="73080" cy="1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6097680" y="676908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5214960" y="6270480"/>
                <a:ext cx="1440" cy="842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5178600" y="6270480"/>
                <a:ext cx="7272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5178600" y="6354720"/>
                <a:ext cx="7272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5214960" y="6165720"/>
                <a:ext cx="1440" cy="8568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5178600" y="6165720"/>
                <a:ext cx="7272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5178600" y="6251400"/>
                <a:ext cx="7272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5214960" y="6138720"/>
                <a:ext cx="1440" cy="590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5178600" y="6138720"/>
                <a:ext cx="7272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5178600" y="6197760"/>
                <a:ext cx="72720" cy="14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5214960" y="6157800"/>
                <a:ext cx="1440" cy="8568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5178600" y="6157800"/>
                <a:ext cx="7272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5178600" y="6243480"/>
                <a:ext cx="7272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5586480" y="6316560"/>
                <a:ext cx="1440" cy="7308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5549760" y="6316560"/>
                <a:ext cx="7308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5549760" y="6389640"/>
                <a:ext cx="7308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5586480" y="6350040"/>
                <a:ext cx="1440" cy="7128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5549760" y="6350040"/>
                <a:ext cx="73080" cy="14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5549760" y="6421320"/>
                <a:ext cx="7308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5586480" y="6443640"/>
                <a:ext cx="1440" cy="698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5549760" y="6443640"/>
                <a:ext cx="73080" cy="14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5549760" y="6513480"/>
                <a:ext cx="7308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5823000" y="6792840"/>
                <a:ext cx="1440" cy="1364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5786280" y="6792840"/>
                <a:ext cx="7308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5786280" y="6929280"/>
                <a:ext cx="7308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5823000" y="6761160"/>
                <a:ext cx="1440" cy="7128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5786280" y="6761160"/>
                <a:ext cx="73080" cy="14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5786280" y="6832440"/>
                <a:ext cx="7308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5823000" y="6708600"/>
                <a:ext cx="1440" cy="9396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5786280" y="6708600"/>
                <a:ext cx="7308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5786280" y="6802560"/>
                <a:ext cx="73080" cy="14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4475160" y="5996160"/>
                <a:ext cx="95400" cy="9360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4711680" y="5934240"/>
                <a:ext cx="93600" cy="9504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4935600" y="6006960"/>
                <a:ext cx="93600" cy="9540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5102280" y="5979960"/>
                <a:ext cx="95040" cy="9540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5251320" y="6134040"/>
                <a:ext cx="93960" cy="9540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5384880" y="6311880"/>
                <a:ext cx="95040" cy="9540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5545080" y="6581880"/>
                <a:ext cx="95400" cy="9684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5710320" y="6819840"/>
                <a:ext cx="95040" cy="9540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5845320" y="6861240"/>
                <a:ext cx="93600" cy="9504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5956200" y="7547040"/>
                <a:ext cx="95400" cy="9504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5321160" y="522288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0" y="55"/>
                    </a:moveTo>
                    <a:lnTo>
                      <a:pt x="55" y="55"/>
                    </a:lnTo>
                    <a:lnTo>
                      <a:pt x="28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5440320" y="6635880"/>
                <a:ext cx="90360" cy="87120"/>
              </a:xfrm>
              <a:custGeom>
                <a:avLst/>
                <a:gdLst/>
                <a:ahLst/>
                <a:rect l="l" t="t" r="r" b="b"/>
                <a:pathLst>
                  <a:path w="57" h="55">
                    <a:moveTo>
                      <a:pt x="0" y="55"/>
                    </a:moveTo>
                    <a:lnTo>
                      <a:pt x="57" y="55"/>
                    </a:lnTo>
                    <a:lnTo>
                      <a:pt x="28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5543640" y="6384960"/>
                <a:ext cx="88920" cy="87120"/>
              </a:xfrm>
              <a:custGeom>
                <a:avLst/>
                <a:gdLst/>
                <a:ahLst/>
                <a:rect l="l" t="t" r="r" b="b"/>
                <a:pathLst>
                  <a:path w="56" h="55">
                    <a:moveTo>
                      <a:pt x="0" y="55"/>
                    </a:moveTo>
                    <a:lnTo>
                      <a:pt x="56" y="55"/>
                    </a:lnTo>
                    <a:lnTo>
                      <a:pt x="29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5632560" y="6450120"/>
                <a:ext cx="87120" cy="8712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0" y="55"/>
                    </a:moveTo>
                    <a:lnTo>
                      <a:pt x="55" y="55"/>
                    </a:lnTo>
                    <a:lnTo>
                      <a:pt x="28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5710320" y="6627960"/>
                <a:ext cx="87120" cy="9036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0" y="57"/>
                    </a:moveTo>
                    <a:lnTo>
                      <a:pt x="55" y="57"/>
                    </a:lnTo>
                    <a:lnTo>
                      <a:pt x="28" y="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5781600" y="675468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0" y="55"/>
                    </a:moveTo>
                    <a:lnTo>
                      <a:pt x="55" y="55"/>
                    </a:lnTo>
                    <a:lnTo>
                      <a:pt x="2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5845320" y="6926400"/>
                <a:ext cx="87120" cy="8892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0" y="56"/>
                    </a:moveTo>
                    <a:lnTo>
                      <a:pt x="55" y="56"/>
                    </a:lnTo>
                    <a:lnTo>
                      <a:pt x="27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5902200" y="713088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0" y="55"/>
                    </a:moveTo>
                    <a:lnTo>
                      <a:pt x="55" y="55"/>
                    </a:lnTo>
                    <a:lnTo>
                      <a:pt x="28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5956200" y="7170840"/>
                <a:ext cx="87480" cy="8712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0" y="55"/>
                    </a:moveTo>
                    <a:lnTo>
                      <a:pt x="55" y="55"/>
                    </a:lnTo>
                    <a:lnTo>
                      <a:pt x="28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6005520" y="7070760"/>
                <a:ext cx="87480" cy="8892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0" y="56"/>
                    </a:moveTo>
                    <a:lnTo>
                      <a:pt x="55" y="56"/>
                    </a:lnTo>
                    <a:lnTo>
                      <a:pt x="27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6051600" y="6746760"/>
                <a:ext cx="87120" cy="9072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0" y="57"/>
                    </a:moveTo>
                    <a:lnTo>
                      <a:pt x="55" y="57"/>
                    </a:lnTo>
                    <a:lnTo>
                      <a:pt x="27" y="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6093000" y="6734160"/>
                <a:ext cx="8856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0" y="56"/>
                    </a:moveTo>
                    <a:lnTo>
                      <a:pt x="56" y="56"/>
                    </a:lnTo>
                    <a:lnTo>
                      <a:pt x="27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6134040" y="5856120"/>
                <a:ext cx="87480" cy="8892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0" y="56"/>
                    </a:moveTo>
                    <a:lnTo>
                      <a:pt x="55" y="56"/>
                    </a:lnTo>
                    <a:lnTo>
                      <a:pt x="27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6172200" y="5241960"/>
                <a:ext cx="88920" cy="87120"/>
              </a:xfrm>
              <a:custGeom>
                <a:avLst/>
                <a:gdLst/>
                <a:ahLst/>
                <a:rect l="l" t="t" r="r" b="b"/>
                <a:pathLst>
                  <a:path w="56" h="55">
                    <a:moveTo>
                      <a:pt x="0" y="55"/>
                    </a:moveTo>
                    <a:lnTo>
                      <a:pt x="56" y="55"/>
                    </a:lnTo>
                    <a:lnTo>
                      <a:pt x="28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4633920" y="6318360"/>
                <a:ext cx="92160" cy="93600"/>
              </a:xfrm>
              <a:custGeom>
                <a:avLst/>
                <a:gdLst/>
                <a:ahLst/>
                <a:rect l="l" t="t" r="r" b="b"/>
                <a:pathLst>
                  <a:path w="58" h="59">
                    <a:moveTo>
                      <a:pt x="29" y="0"/>
                    </a:moveTo>
                    <a:lnTo>
                      <a:pt x="0" y="59"/>
                    </a:lnTo>
                    <a:lnTo>
                      <a:pt x="58" y="5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4886280" y="604188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4935600" y="594216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5235480" y="6211800"/>
                <a:ext cx="93600" cy="9216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30" y="0"/>
                    </a:moveTo>
                    <a:lnTo>
                      <a:pt x="0" y="58"/>
                    </a:lnTo>
                    <a:lnTo>
                      <a:pt x="59" y="5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5235480" y="6234120"/>
                <a:ext cx="93600" cy="9216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30" y="0"/>
                    </a:moveTo>
                    <a:lnTo>
                      <a:pt x="0" y="58"/>
                    </a:lnTo>
                    <a:lnTo>
                      <a:pt x="59" y="5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5440320" y="631188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5440320" y="626580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5440320" y="669600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5440320" y="6437160"/>
                <a:ext cx="92160" cy="93960"/>
              </a:xfrm>
              <a:custGeom>
                <a:avLst/>
                <a:gdLst/>
                <a:ahLst/>
                <a:rect l="l" t="t" r="r" b="b"/>
                <a:pathLst>
                  <a:path w="58" h="59">
                    <a:moveTo>
                      <a:pt x="29" y="0"/>
                    </a:moveTo>
                    <a:lnTo>
                      <a:pt x="0" y="59"/>
                    </a:lnTo>
                    <a:lnTo>
                      <a:pt x="58" y="5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4" name=""/>
            <p:cNvGrpSpPr/>
            <p:nvPr/>
          </p:nvGrpSpPr>
          <p:grpSpPr>
            <a:xfrm>
              <a:off x="1392840" y="1305000"/>
              <a:ext cx="4946760" cy="7760520"/>
              <a:chOff x="1392840" y="1305000"/>
              <a:chExt cx="4946760" cy="7760520"/>
            </a:xfrm>
          </p:grpSpPr>
          <p:sp>
            <p:nvSpPr>
              <p:cNvPr id="2905" name=""/>
              <p:cNvSpPr/>
              <p:nvPr/>
            </p:nvSpPr>
            <p:spPr>
              <a:xfrm>
                <a:off x="5632560" y="6661080"/>
                <a:ext cx="91800" cy="93600"/>
              </a:xfrm>
              <a:custGeom>
                <a:avLst/>
                <a:gdLst/>
                <a:ahLst/>
                <a:rect l="l" t="t" r="r" b="b"/>
                <a:pathLst>
                  <a:path w="58" h="59">
                    <a:moveTo>
                      <a:pt x="29" y="0"/>
                    </a:moveTo>
                    <a:lnTo>
                      <a:pt x="0" y="59"/>
                    </a:lnTo>
                    <a:lnTo>
                      <a:pt x="58" y="5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5632560" y="6523200"/>
                <a:ext cx="9180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5632560" y="6742080"/>
                <a:ext cx="9180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5781600" y="693900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5781600" y="683892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5781600" y="703908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5781600" y="691992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5902200" y="7097760"/>
                <a:ext cx="93960" cy="9216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29" y="0"/>
                    </a:moveTo>
                    <a:lnTo>
                      <a:pt x="0" y="58"/>
                    </a:lnTo>
                    <a:lnTo>
                      <a:pt x="59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5902200" y="7281720"/>
                <a:ext cx="93960" cy="9216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29" y="0"/>
                    </a:moveTo>
                    <a:lnTo>
                      <a:pt x="0" y="58"/>
                    </a:lnTo>
                    <a:lnTo>
                      <a:pt x="59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5902200" y="7189920"/>
                <a:ext cx="93960" cy="9180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29" y="0"/>
                    </a:moveTo>
                    <a:lnTo>
                      <a:pt x="0" y="58"/>
                    </a:lnTo>
                    <a:lnTo>
                      <a:pt x="59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6005520" y="730872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6005520" y="7196040"/>
                <a:ext cx="92160" cy="93600"/>
              </a:xfrm>
              <a:custGeom>
                <a:avLst/>
                <a:gdLst/>
                <a:ahLst/>
                <a:rect l="l" t="t" r="r" b="b"/>
                <a:pathLst>
                  <a:path w="58" h="59">
                    <a:moveTo>
                      <a:pt x="29" y="0"/>
                    </a:moveTo>
                    <a:lnTo>
                      <a:pt x="0" y="59"/>
                    </a:lnTo>
                    <a:lnTo>
                      <a:pt x="58" y="5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6005520" y="730404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6093000" y="6615000"/>
                <a:ext cx="91800" cy="93600"/>
              </a:xfrm>
              <a:custGeom>
                <a:avLst/>
                <a:gdLst/>
                <a:ahLst/>
                <a:rect l="l" t="t" r="r" b="b"/>
                <a:pathLst>
                  <a:path w="58" h="59">
                    <a:moveTo>
                      <a:pt x="29" y="0"/>
                    </a:moveTo>
                    <a:lnTo>
                      <a:pt x="0" y="59"/>
                    </a:lnTo>
                    <a:lnTo>
                      <a:pt x="58" y="5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5173560" y="6272280"/>
                <a:ext cx="92160" cy="9360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5173560" y="6165720"/>
                <a:ext cx="92160" cy="921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5173560" y="6126120"/>
                <a:ext cx="92160" cy="9360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5173560" y="6157800"/>
                <a:ext cx="92160" cy="9540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5543640" y="6311880"/>
                <a:ext cx="93600" cy="921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5543640" y="6345360"/>
                <a:ext cx="93600" cy="9180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5543640" y="6437160"/>
                <a:ext cx="93600" cy="939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781600" y="6819840"/>
                <a:ext cx="92160" cy="921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5781600" y="6754680"/>
                <a:ext cx="92160" cy="921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5781600" y="6715080"/>
                <a:ext cx="92160" cy="921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1392840" y="825012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7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1392840" y="758808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1392840" y="692928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9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1524960" y="626760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1392840" y="560700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1392840" y="494820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.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1494000" y="8423280"/>
                <a:ext cx="432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00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3070800" y="8423280"/>
                <a:ext cx="335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0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4644000" y="842328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6242760" y="8423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3823920" y="8623440"/>
                <a:ext cx="1850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9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x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1814400" y="5065560"/>
                <a:ext cx="1036800" cy="1138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1924200" y="5173560"/>
                <a:ext cx="74520" cy="7488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2108880" y="5118120"/>
                <a:ext cx="6667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BCDM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1924200" y="545616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44" h="44">
                    <a:moveTo>
                      <a:pt x="0" y="44"/>
                    </a:moveTo>
                    <a:lnTo>
                      <a:pt x="44" y="44"/>
                    </a:lnTo>
                    <a:lnTo>
                      <a:pt x="21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107080" y="5402160"/>
                <a:ext cx="308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E87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1924200" y="5740560"/>
                <a:ext cx="7272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23" y="0"/>
                    </a:moveTo>
                    <a:lnTo>
                      <a:pt x="0" y="46"/>
                    </a:lnTo>
                    <a:lnTo>
                      <a:pt x="46" y="46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2106720" y="5686560"/>
                <a:ext cx="404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E139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1924200" y="6022800"/>
                <a:ext cx="74520" cy="7488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2106720" y="5969160"/>
                <a:ext cx="404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E14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3876480" y="7699320"/>
                <a:ext cx="30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Fe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4187880" y="3322800"/>
                <a:ext cx="2092320" cy="167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1676520" y="1309680"/>
                <a:ext cx="4599000" cy="3287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1670040" y="4592520"/>
                <a:ext cx="4600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1670040" y="1305000"/>
                <a:ext cx="4600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 flipV="1">
                <a:off x="1670040" y="1305000"/>
                <a:ext cx="1440" cy="328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6270480" y="1305000"/>
                <a:ext cx="1800" cy="328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1644480" y="459756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1644480" y="446580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1644480" y="433404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1644480" y="420372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1644480" y="407196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1644480" y="394020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1644480" y="380844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1644480" y="367524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1644480" y="354492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1644480" y="341316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1644480" y="328140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1644480" y="314964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1644480" y="3019320"/>
                <a:ext cx="32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1644480" y="2887560"/>
                <a:ext cx="32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1644480" y="2755800"/>
                <a:ext cx="32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1644480" y="2624040"/>
                <a:ext cx="32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1644480" y="249408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1644480" y="236232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1644480" y="223056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1644480" y="210024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1644480" y="1965240"/>
                <a:ext cx="32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1644480" y="183528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1644480" y="170352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1644480" y="157176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1644480" y="144000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1644480" y="130968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1612800" y="4594320"/>
                <a:ext cx="6048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1612800" y="3938760"/>
                <a:ext cx="6048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1612800" y="3279600"/>
                <a:ext cx="6048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1612800" y="2622600"/>
                <a:ext cx="6048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1612800" y="1963800"/>
                <a:ext cx="6048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1612800" y="1306440"/>
                <a:ext cx="6048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 flipV="1">
                <a:off x="1676520" y="45975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2135160" y="45975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2405160" y="45975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V="1">
                <a:off x="2597040" y="45975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2746440" y="45975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V="1">
                <a:off x="2867040" y="45975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2970360" y="45975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3059280" y="45975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3137040" y="45975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 flipV="1">
                <a:off x="3208320" y="45975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V="1">
                <a:off x="3670200" y="45975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3940200" y="45975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4129200" y="45975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4280040" y="45975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4398840" y="45975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4503600" y="45975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4591080" y="45975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4670280" y="45975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4740120" y="45975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5202360" y="45975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5472000" y="45975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5664240" y="45975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5813280" y="45975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 flipV="1">
                <a:off x="5934240" y="45975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 flipV="1">
                <a:off x="6037200" y="45975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V="1">
                <a:off x="6126120" y="45975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6203880" y="45975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 flipV="1">
                <a:off x="6275520" y="45975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1673280" y="4594320"/>
                <a:ext cx="1440" cy="61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3205080" y="4594320"/>
                <a:ext cx="1800" cy="61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4737240" y="4594320"/>
                <a:ext cx="1440" cy="61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6272280" y="4594320"/>
                <a:ext cx="1440" cy="61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1676520" y="2593800"/>
                <a:ext cx="144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 flipV="1">
                <a:off x="2135160" y="2593800"/>
                <a:ext cx="144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V="1">
                <a:off x="2405160" y="2593800"/>
                <a:ext cx="144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flipV="1">
                <a:off x="2597040" y="2593800"/>
                <a:ext cx="180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2746440" y="2593800"/>
                <a:ext cx="144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2867040" y="2593800"/>
                <a:ext cx="144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V="1">
                <a:off x="2970360" y="2593800"/>
                <a:ext cx="144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3059280" y="2593800"/>
                <a:ext cx="144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3137040" y="2593800"/>
                <a:ext cx="144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V="1">
                <a:off x="3208320" y="2593800"/>
                <a:ext cx="144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3670200" y="2593800"/>
                <a:ext cx="180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 flipV="1">
                <a:off x="3940200" y="2593800"/>
                <a:ext cx="144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4129200" y="2593800"/>
                <a:ext cx="144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4280040" y="2593800"/>
                <a:ext cx="144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4398840" y="2593800"/>
                <a:ext cx="180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4503600" y="2593800"/>
                <a:ext cx="180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 flipV="1">
                <a:off x="4591080" y="2593800"/>
                <a:ext cx="144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4670280" y="2593800"/>
                <a:ext cx="180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V="1">
                <a:off x="4740120" y="2593800"/>
                <a:ext cx="180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 flipV="1">
                <a:off x="5202360" y="2593800"/>
                <a:ext cx="144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V="1">
                <a:off x="5472000" y="2593800"/>
                <a:ext cx="180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V="1">
                <a:off x="5664240" y="2593800"/>
                <a:ext cx="144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5813280" y="2593800"/>
                <a:ext cx="180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5934240" y="2593800"/>
                <a:ext cx="144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6037200" y="2593800"/>
                <a:ext cx="180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6126120" y="2593800"/>
                <a:ext cx="180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6203880" y="2593800"/>
                <a:ext cx="180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6275520" y="2593800"/>
                <a:ext cx="144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1673280" y="2562120"/>
                <a:ext cx="1440" cy="604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 flipV="1">
                <a:off x="3205080" y="2562120"/>
                <a:ext cx="1800" cy="604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4737240" y="2562120"/>
                <a:ext cx="1440" cy="604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6272280" y="2562120"/>
                <a:ext cx="1440" cy="604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1670040" y="1305000"/>
                <a:ext cx="1440" cy="328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1670040" y="4592520"/>
                <a:ext cx="4600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1670040" y="2619360"/>
                <a:ext cx="4600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6162840" y="1309680"/>
                <a:ext cx="9360" cy="42840"/>
              </a:xfrm>
              <a:custGeom>
                <a:avLst/>
                <a:gdLst/>
                <a:ahLst/>
                <a:rect l="l" t="t" r="r" b="b"/>
                <a:pathLst>
                  <a:path w="6" h="27">
                    <a:moveTo>
                      <a:pt x="2" y="0"/>
                    </a:moveTo>
                    <a:lnTo>
                      <a:pt x="0" y="26"/>
                    </a:lnTo>
                    <a:lnTo>
                      <a:pt x="5" y="27"/>
                    </a:lnTo>
                    <a:lnTo>
                      <a:pt x="6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6161040" y="1430280"/>
                <a:ext cx="9720" cy="4140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1" y="0"/>
                    </a:moveTo>
                    <a:lnTo>
                      <a:pt x="0" y="25"/>
                    </a:lnTo>
                    <a:lnTo>
                      <a:pt x="4" y="26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6157800" y="1549440"/>
                <a:ext cx="9720" cy="4428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2" y="0"/>
                    </a:moveTo>
                    <a:lnTo>
                      <a:pt x="0" y="26"/>
                    </a:lnTo>
                    <a:lnTo>
                      <a:pt x="5" y="28"/>
                    </a:lnTo>
                    <a:lnTo>
                      <a:pt x="6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6157800" y="1673280"/>
                <a:ext cx="9720" cy="39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6156360" y="1793880"/>
                <a:ext cx="936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6153120" y="1914480"/>
                <a:ext cx="9720" cy="39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6151680" y="2033640"/>
                <a:ext cx="936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6145200" y="2152800"/>
                <a:ext cx="11160" cy="410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2" y="0"/>
                    </a:moveTo>
                    <a:lnTo>
                      <a:pt x="0" y="25"/>
                    </a:lnTo>
                    <a:lnTo>
                      <a:pt x="5" y="26"/>
                    </a:lnTo>
                    <a:lnTo>
                      <a:pt x="7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6140520" y="2271600"/>
                <a:ext cx="11160" cy="446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2" y="0"/>
                    </a:moveTo>
                    <a:lnTo>
                      <a:pt x="0" y="26"/>
                    </a:lnTo>
                    <a:lnTo>
                      <a:pt x="5" y="28"/>
                    </a:lnTo>
                    <a:lnTo>
                      <a:pt x="7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6138720" y="2395440"/>
                <a:ext cx="972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6134040" y="2516040"/>
                <a:ext cx="972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6129360" y="2637000"/>
                <a:ext cx="9360" cy="39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6121440" y="2754360"/>
                <a:ext cx="12600" cy="42840"/>
              </a:xfrm>
              <a:custGeom>
                <a:avLst/>
                <a:gdLst/>
                <a:ahLst/>
                <a:rect l="l" t="t" r="r" b="b"/>
                <a:pathLst>
                  <a:path w="8" h="27">
                    <a:moveTo>
                      <a:pt x="3" y="0"/>
                    </a:moveTo>
                    <a:lnTo>
                      <a:pt x="0" y="26"/>
                    </a:lnTo>
                    <a:lnTo>
                      <a:pt x="5" y="27"/>
                    </a:lnTo>
                    <a:lnTo>
                      <a:pt x="8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6114960" y="2874960"/>
                <a:ext cx="9720" cy="4140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1" y="0"/>
                    </a:moveTo>
                    <a:lnTo>
                      <a:pt x="0" y="25"/>
                    </a:lnTo>
                    <a:lnTo>
                      <a:pt x="4" y="26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6107040" y="2994120"/>
                <a:ext cx="9720" cy="4428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2" y="0"/>
                    </a:moveTo>
                    <a:lnTo>
                      <a:pt x="0" y="26"/>
                    </a:lnTo>
                    <a:lnTo>
                      <a:pt x="5" y="28"/>
                    </a:lnTo>
                    <a:lnTo>
                      <a:pt x="6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6093000" y="311616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3" y="0"/>
                    </a:moveTo>
                    <a:lnTo>
                      <a:pt x="0" y="24"/>
                    </a:lnTo>
                    <a:lnTo>
                      <a:pt x="4" y="26"/>
                    </a:lnTo>
                    <a:lnTo>
                      <a:pt x="7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6080040" y="3236760"/>
                <a:ext cx="97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6067440" y="3240000"/>
                <a:ext cx="20520" cy="3960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8" y="0"/>
                    </a:moveTo>
                    <a:lnTo>
                      <a:pt x="0" y="23"/>
                    </a:lnTo>
                    <a:lnTo>
                      <a:pt x="5" y="25"/>
                    </a:lnTo>
                    <a:lnTo>
                      <a:pt x="13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6014880" y="3316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1"/>
                    </a:moveTo>
                    <a:lnTo>
                      <a:pt x="1" y="0"/>
                    </a:lnTo>
                    <a:lnTo>
                      <a:pt x="0" y="4"/>
                    </a:lnTo>
                    <a:lnTo>
                      <a:pt x="4" y="6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989680" y="3289320"/>
                <a:ext cx="30240" cy="3348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9" y="17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14" y="21"/>
                    </a:lnTo>
                    <a:lnTo>
                      <a:pt x="1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943600" y="321300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5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3" y="9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927760" y="318456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15" y="18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10" y="23"/>
                    </a:lnTo>
                    <a:lnTo>
                      <a:pt x="1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873760" y="30844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15" y="18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11" y="23"/>
                    </a:lnTo>
                    <a:lnTo>
                      <a:pt x="1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869080" y="307656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5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3" y="10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5827680" y="3002040"/>
                <a:ext cx="972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3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5810400" y="2970360"/>
                <a:ext cx="23760" cy="3312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15" y="20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11" y="21"/>
                    </a:lnTo>
                    <a:lnTo>
                      <a:pt x="1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5759280" y="288288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11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6" y="12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5749920" y="28638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10" y="12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6" y="13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5691240" y="277344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14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8" y="15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5681520" y="275904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7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6" y="12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5622840" y="267660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1" y="9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6" y="13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5608800" y="2655720"/>
                <a:ext cx="21960" cy="270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4" y="13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9" y="17"/>
                    </a:lnTo>
                    <a:lnTo>
                      <a:pt x="1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5530680" y="256860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18" y="16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14" y="2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5526000" y="256392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5459400" y="250344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5438880" y="2486160"/>
                <a:ext cx="28440" cy="2376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8" y="11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13" y="15"/>
                    </a:lnTo>
                    <a:lnTo>
                      <a:pt x="1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5433840" y="248112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5348160" y="242568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4" y="6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12" y="11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5330880" y="241632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3" y="6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11" y="10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5234040" y="2381400"/>
                <a:ext cx="19080" cy="126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3"/>
                    </a:moveTo>
                    <a:lnTo>
                      <a:pt x="1" y="0"/>
                    </a:lnTo>
                    <a:lnTo>
                      <a:pt x="0" y="5"/>
                    </a:lnTo>
                    <a:lnTo>
                      <a:pt x="11" y="8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5211720" y="237960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5" y="1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14" y="6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5121360" y="2370240"/>
                <a:ext cx="126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5095800" y="2370240"/>
                <a:ext cx="25560" cy="93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15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16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5092560" y="2371680"/>
                <a:ext cx="5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5006880" y="2384280"/>
                <a:ext cx="64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4981680" y="238428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5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16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4970520" y="238932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8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4890960" y="2416320"/>
                <a:ext cx="1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4867200" y="2416320"/>
                <a:ext cx="23760" cy="1404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4849920" y="242244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1" y="0"/>
                    </a:moveTo>
                    <a:lnTo>
                      <a:pt x="0" y="5"/>
                    </a:lnTo>
                    <a:lnTo>
                      <a:pt x="1" y="9"/>
                    </a:lnTo>
                    <a:lnTo>
                      <a:pt x="12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5" name=""/>
            <p:cNvGrpSpPr/>
            <p:nvPr/>
          </p:nvGrpSpPr>
          <p:grpSpPr>
            <a:xfrm>
              <a:off x="1669680" y="1305000"/>
              <a:ext cx="4600440" cy="2727360"/>
              <a:chOff x="1669680" y="1305000"/>
              <a:chExt cx="4600440" cy="2727360"/>
            </a:xfrm>
          </p:grpSpPr>
          <p:sp>
            <p:nvSpPr>
              <p:cNvPr id="3106" name=""/>
              <p:cNvSpPr/>
              <p:nvPr/>
            </p:nvSpPr>
            <p:spPr>
              <a:xfrm>
                <a:off x="4753080" y="246384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2" y="0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13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4732200" y="2471760"/>
                <a:ext cx="22320" cy="1728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3" y="0"/>
                    </a:moveTo>
                    <a:lnTo>
                      <a:pt x="0" y="6"/>
                    </a:lnTo>
                    <a:lnTo>
                      <a:pt x="2" y="11"/>
                    </a:lnTo>
                    <a:lnTo>
                      <a:pt x="14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4638600" y="2517840"/>
                <a:ext cx="20880" cy="1728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2" y="0"/>
                    </a:moveTo>
                    <a:lnTo>
                      <a:pt x="0" y="6"/>
                    </a:lnTo>
                    <a:lnTo>
                      <a:pt x="1" y="11"/>
                    </a:lnTo>
                    <a:lnTo>
                      <a:pt x="13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4621320" y="252720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1" y="0"/>
                    </a:moveTo>
                    <a:lnTo>
                      <a:pt x="0" y="6"/>
                    </a:lnTo>
                    <a:lnTo>
                      <a:pt x="1" y="11"/>
                    </a:lnTo>
                    <a:lnTo>
                      <a:pt x="12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4548240" y="2576520"/>
                <a:ext cx="1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4521240" y="2576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5" y="0"/>
                    </a:moveTo>
                    <a:lnTo>
                      <a:pt x="0" y="7"/>
                    </a:lnTo>
                    <a:lnTo>
                      <a:pt x="2" y="12"/>
                    </a:lnTo>
                    <a:lnTo>
                      <a:pt x="17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4511520" y="258768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0"/>
                    </a:moveTo>
                    <a:lnTo>
                      <a:pt x="0" y="4"/>
                    </a:lnTo>
                    <a:lnTo>
                      <a:pt x="1" y="8"/>
                    </a:lnTo>
                    <a:lnTo>
                      <a:pt x="8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4429080" y="263520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4" y="0"/>
                    </a:moveTo>
                    <a:lnTo>
                      <a:pt x="0" y="3"/>
                    </a:lnTo>
                    <a:lnTo>
                      <a:pt x="4" y="7"/>
                    </a:lnTo>
                    <a:lnTo>
                      <a:pt x="9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4406760" y="26398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5" y="0"/>
                    </a:moveTo>
                    <a:lnTo>
                      <a:pt x="0" y="7"/>
                    </a:lnTo>
                    <a:lnTo>
                      <a:pt x="2" y="12"/>
                    </a:lnTo>
                    <a:lnTo>
                      <a:pt x="17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4402080" y="265104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5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4311720" y="2692440"/>
                <a:ext cx="22320" cy="1728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9" y="0"/>
                    </a:moveTo>
                    <a:lnTo>
                      <a:pt x="0" y="6"/>
                    </a:lnTo>
                    <a:lnTo>
                      <a:pt x="5" y="11"/>
                    </a:lnTo>
                    <a:lnTo>
                      <a:pt x="14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4292640" y="270180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4" y="0"/>
                    </a:moveTo>
                    <a:lnTo>
                      <a:pt x="0" y="8"/>
                    </a:lnTo>
                    <a:lnTo>
                      <a:pt x="2" y="13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4200480" y="275436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0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15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4183200" y="276372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9" y="0"/>
                    </a:moveTo>
                    <a:lnTo>
                      <a:pt x="0" y="6"/>
                    </a:lnTo>
                    <a:lnTo>
                      <a:pt x="5" y="10"/>
                    </a:lnTo>
                    <a:lnTo>
                      <a:pt x="14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4108320" y="280980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4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4086360" y="281160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4" y="0"/>
                    </a:moveTo>
                    <a:lnTo>
                      <a:pt x="0" y="8"/>
                    </a:lnTo>
                    <a:lnTo>
                      <a:pt x="1" y="13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4076640" y="282420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7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3994200" y="28656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6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3971880" y="286848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4" y="0"/>
                    </a:moveTo>
                    <a:lnTo>
                      <a:pt x="0" y="7"/>
                    </a:lnTo>
                    <a:lnTo>
                      <a:pt x="1" y="12"/>
                    </a:lnTo>
                    <a:lnTo>
                      <a:pt x="15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3962520" y="28796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7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3879720" y="291924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4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3857760" y="2921040"/>
                <a:ext cx="23760" cy="1728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0" y="6"/>
                    </a:lnTo>
                    <a:lnTo>
                      <a:pt x="1" y="11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3843360" y="293040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7" y="0"/>
                    </a:moveTo>
                    <a:lnTo>
                      <a:pt x="0" y="5"/>
                    </a:lnTo>
                    <a:lnTo>
                      <a:pt x="4" y="10"/>
                    </a:lnTo>
                    <a:lnTo>
                      <a:pt x="12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3767040" y="2973240"/>
                <a:ext cx="32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3740040" y="297324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6" y="0"/>
                    </a:moveTo>
                    <a:lnTo>
                      <a:pt x="0" y="4"/>
                    </a:lnTo>
                    <a:lnTo>
                      <a:pt x="2" y="9"/>
                    </a:lnTo>
                    <a:lnTo>
                      <a:pt x="17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3726000" y="2979720"/>
                <a:ext cx="1728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9" y="0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11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3625920" y="301932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3" y="0"/>
                    </a:moveTo>
                    <a:lnTo>
                      <a:pt x="0" y="4"/>
                    </a:lnTo>
                    <a:lnTo>
                      <a:pt x="2" y="9"/>
                    </a:lnTo>
                    <a:lnTo>
                      <a:pt x="14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3606840" y="30258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14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3511440" y="306072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9" y="0"/>
                    </a:moveTo>
                    <a:lnTo>
                      <a:pt x="0" y="3"/>
                    </a:lnTo>
                    <a:lnTo>
                      <a:pt x="2" y="7"/>
                    </a:lnTo>
                    <a:lnTo>
                      <a:pt x="11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3487680" y="306540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5" y="0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17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3483000" y="30751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0"/>
                    </a:moveTo>
                    <a:lnTo>
                      <a:pt x="0" y="1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3400560" y="3102120"/>
                <a:ext cx="61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3373560" y="3102120"/>
                <a:ext cx="27000" cy="140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5" y="0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17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3365640" y="310824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6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3282840" y="3135240"/>
                <a:ext cx="5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3259080" y="3135240"/>
                <a:ext cx="23760" cy="1260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4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3244680" y="3139920"/>
                <a:ext cx="16200" cy="129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9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0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3144960" y="316692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14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3125880" y="317016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2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13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3030480" y="319392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9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11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3006720" y="319572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5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16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3002040" y="31989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0"/>
                    </a:moveTo>
                    <a:lnTo>
                      <a:pt x="0" y="2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2916360" y="3218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2892600" y="3218040"/>
                <a:ext cx="23760" cy="1260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2884320" y="32227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6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2801880" y="3236760"/>
                <a:ext cx="46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2778120" y="3236760"/>
                <a:ext cx="237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0" y="4"/>
                    </a:lnTo>
                    <a:lnTo>
                      <a:pt x="1" y="8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2762280" y="32432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0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11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2664000" y="325764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2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13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2643120" y="325908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3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4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2549520" y="3273480"/>
                <a:ext cx="158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2523960" y="327348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4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2519280" y="32767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0"/>
                    </a:moveTo>
                    <a:lnTo>
                      <a:pt x="0" y="2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2435400" y="32893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2409840" y="3289320"/>
                <a:ext cx="25560" cy="93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14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16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2403360" y="32907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6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2320920" y="3300480"/>
                <a:ext cx="4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2295360" y="3300480"/>
                <a:ext cx="25560" cy="93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14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2281320" y="330372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9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11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2181240" y="3313080"/>
                <a:ext cx="223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2162160" y="331308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1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12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2066760" y="332280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2043000" y="332280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4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2038320" y="33256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0"/>
                    </a:moveTo>
                    <a:lnTo>
                      <a:pt x="0" y="1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1952640" y="3332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1928880" y="3332160"/>
                <a:ext cx="237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1920960" y="33321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5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1838160" y="3340080"/>
                <a:ext cx="5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1811160" y="3340080"/>
                <a:ext cx="27000" cy="972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6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17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1801800" y="3341520"/>
                <a:ext cx="126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1697040" y="334656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4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1682640" y="334980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1670040" y="1305000"/>
                <a:ext cx="4510080" cy="2181240"/>
              </a:xfrm>
              <a:custGeom>
                <a:avLst/>
                <a:gdLst/>
                <a:ahLst/>
                <a:rect l="l" t="t" r="r" b="b"/>
                <a:pathLst>
                  <a:path w="2841" h="1374">
                    <a:moveTo>
                      <a:pt x="2841" y="0"/>
                    </a:moveTo>
                    <a:lnTo>
                      <a:pt x="2835" y="216"/>
                    </a:lnTo>
                    <a:lnTo>
                      <a:pt x="2821" y="611"/>
                    </a:lnTo>
                    <a:lnTo>
                      <a:pt x="2806" y="876"/>
                    </a:lnTo>
                    <a:lnTo>
                      <a:pt x="2792" y="1051"/>
                    </a:lnTo>
                    <a:lnTo>
                      <a:pt x="2777" y="1162"/>
                    </a:lnTo>
                    <a:lnTo>
                      <a:pt x="2763" y="1230"/>
                    </a:lnTo>
                    <a:lnTo>
                      <a:pt x="2747" y="1265"/>
                    </a:lnTo>
                    <a:lnTo>
                      <a:pt x="2734" y="1277"/>
                    </a:lnTo>
                    <a:lnTo>
                      <a:pt x="2720" y="1271"/>
                    </a:lnTo>
                    <a:lnTo>
                      <a:pt x="2705" y="1256"/>
                    </a:lnTo>
                    <a:lnTo>
                      <a:pt x="2691" y="1231"/>
                    </a:lnTo>
                    <a:lnTo>
                      <a:pt x="2675" y="1202"/>
                    </a:lnTo>
                    <a:lnTo>
                      <a:pt x="2662" y="1170"/>
                    </a:lnTo>
                    <a:lnTo>
                      <a:pt x="2646" y="1135"/>
                    </a:lnTo>
                    <a:lnTo>
                      <a:pt x="2633" y="1101"/>
                    </a:lnTo>
                    <a:lnTo>
                      <a:pt x="2617" y="1067"/>
                    </a:lnTo>
                    <a:lnTo>
                      <a:pt x="2603" y="1035"/>
                    </a:lnTo>
                    <a:lnTo>
                      <a:pt x="2590" y="1005"/>
                    </a:lnTo>
                    <a:lnTo>
                      <a:pt x="2574" y="975"/>
                    </a:lnTo>
                    <a:lnTo>
                      <a:pt x="2561" y="949"/>
                    </a:lnTo>
                    <a:lnTo>
                      <a:pt x="2545" y="923"/>
                    </a:lnTo>
                    <a:lnTo>
                      <a:pt x="2531" y="900"/>
                    </a:lnTo>
                    <a:lnTo>
                      <a:pt x="2516" y="880"/>
                    </a:lnTo>
                    <a:lnTo>
                      <a:pt x="2502" y="861"/>
                    </a:lnTo>
                    <a:lnTo>
                      <a:pt x="2489" y="844"/>
                    </a:lnTo>
                    <a:lnTo>
                      <a:pt x="2473" y="827"/>
                    </a:lnTo>
                    <a:lnTo>
                      <a:pt x="2459" y="813"/>
                    </a:lnTo>
                    <a:lnTo>
                      <a:pt x="2444" y="799"/>
                    </a:lnTo>
                    <a:lnTo>
                      <a:pt x="2430" y="787"/>
                    </a:lnTo>
                    <a:lnTo>
                      <a:pt x="2415" y="776"/>
                    </a:lnTo>
                    <a:lnTo>
                      <a:pt x="2401" y="766"/>
                    </a:lnTo>
                    <a:lnTo>
                      <a:pt x="2386" y="756"/>
                    </a:lnTo>
                    <a:lnTo>
                      <a:pt x="2372" y="749"/>
                    </a:lnTo>
                    <a:lnTo>
                      <a:pt x="2358" y="740"/>
                    </a:lnTo>
                    <a:lnTo>
                      <a:pt x="2343" y="733"/>
                    </a:lnTo>
                    <a:lnTo>
                      <a:pt x="2329" y="726"/>
                    </a:lnTo>
                    <a:lnTo>
                      <a:pt x="2314" y="720"/>
                    </a:lnTo>
                    <a:lnTo>
                      <a:pt x="2300" y="713"/>
                    </a:lnTo>
                    <a:lnTo>
                      <a:pt x="2285" y="709"/>
                    </a:lnTo>
                    <a:lnTo>
                      <a:pt x="2271" y="704"/>
                    </a:lnTo>
                    <a:lnTo>
                      <a:pt x="2256" y="700"/>
                    </a:lnTo>
                    <a:lnTo>
                      <a:pt x="2242" y="695"/>
                    </a:lnTo>
                    <a:lnTo>
                      <a:pt x="2228" y="692"/>
                    </a:lnTo>
                    <a:lnTo>
                      <a:pt x="2213" y="687"/>
                    </a:lnTo>
                    <a:lnTo>
                      <a:pt x="2199" y="686"/>
                    </a:lnTo>
                    <a:lnTo>
                      <a:pt x="2184" y="683"/>
                    </a:lnTo>
                    <a:lnTo>
                      <a:pt x="2170" y="680"/>
                    </a:lnTo>
                    <a:lnTo>
                      <a:pt x="2155" y="678"/>
                    </a:lnTo>
                    <a:lnTo>
                      <a:pt x="2141" y="677"/>
                    </a:lnTo>
                    <a:lnTo>
                      <a:pt x="2125" y="677"/>
                    </a:lnTo>
                    <a:lnTo>
                      <a:pt x="2112" y="677"/>
                    </a:lnTo>
                    <a:lnTo>
                      <a:pt x="2098" y="677"/>
                    </a:lnTo>
                    <a:lnTo>
                      <a:pt x="2083" y="677"/>
                    </a:lnTo>
                    <a:lnTo>
                      <a:pt x="2069" y="677"/>
                    </a:lnTo>
                    <a:lnTo>
                      <a:pt x="2053" y="678"/>
                    </a:lnTo>
                    <a:lnTo>
                      <a:pt x="2040" y="680"/>
                    </a:lnTo>
                    <a:lnTo>
                      <a:pt x="2024" y="681"/>
                    </a:lnTo>
                    <a:lnTo>
                      <a:pt x="2011" y="684"/>
                    </a:lnTo>
                    <a:lnTo>
                      <a:pt x="1995" y="687"/>
                    </a:lnTo>
                    <a:lnTo>
                      <a:pt x="1981" y="691"/>
                    </a:lnTo>
                    <a:lnTo>
                      <a:pt x="1968" y="694"/>
                    </a:lnTo>
                    <a:lnTo>
                      <a:pt x="1952" y="698"/>
                    </a:lnTo>
                    <a:lnTo>
                      <a:pt x="1939" y="701"/>
                    </a:lnTo>
                    <a:lnTo>
                      <a:pt x="1923" y="706"/>
                    </a:lnTo>
                    <a:lnTo>
                      <a:pt x="1909" y="712"/>
                    </a:lnTo>
                    <a:lnTo>
                      <a:pt x="1894" y="717"/>
                    </a:lnTo>
                    <a:lnTo>
                      <a:pt x="1880" y="723"/>
                    </a:lnTo>
                    <a:lnTo>
                      <a:pt x="1867" y="729"/>
                    </a:lnTo>
                    <a:lnTo>
                      <a:pt x="1851" y="735"/>
                    </a:lnTo>
                    <a:lnTo>
                      <a:pt x="1837" y="741"/>
                    </a:lnTo>
                    <a:lnTo>
                      <a:pt x="1822" y="747"/>
                    </a:lnTo>
                    <a:lnTo>
                      <a:pt x="1808" y="755"/>
                    </a:lnTo>
                    <a:lnTo>
                      <a:pt x="1793" y="763"/>
                    </a:lnTo>
                    <a:lnTo>
                      <a:pt x="1779" y="769"/>
                    </a:lnTo>
                    <a:lnTo>
                      <a:pt x="1764" y="776"/>
                    </a:lnTo>
                    <a:lnTo>
                      <a:pt x="1750" y="784"/>
                    </a:lnTo>
                    <a:lnTo>
                      <a:pt x="1736" y="793"/>
                    </a:lnTo>
                    <a:lnTo>
                      <a:pt x="1721" y="801"/>
                    </a:lnTo>
                    <a:lnTo>
                      <a:pt x="1707" y="808"/>
                    </a:lnTo>
                    <a:lnTo>
                      <a:pt x="1692" y="818"/>
                    </a:lnTo>
                    <a:lnTo>
                      <a:pt x="1678" y="825"/>
                    </a:lnTo>
                    <a:lnTo>
                      <a:pt x="1663" y="835"/>
                    </a:lnTo>
                    <a:lnTo>
                      <a:pt x="1649" y="842"/>
                    </a:lnTo>
                    <a:lnTo>
                      <a:pt x="1634" y="851"/>
                    </a:lnTo>
                    <a:lnTo>
                      <a:pt x="1620" y="861"/>
                    </a:lnTo>
                    <a:lnTo>
                      <a:pt x="1606" y="868"/>
                    </a:lnTo>
                    <a:lnTo>
                      <a:pt x="1591" y="877"/>
                    </a:lnTo>
                    <a:lnTo>
                      <a:pt x="1577" y="887"/>
                    </a:lnTo>
                    <a:lnTo>
                      <a:pt x="1562" y="896"/>
                    </a:lnTo>
                    <a:lnTo>
                      <a:pt x="1548" y="905"/>
                    </a:lnTo>
                    <a:lnTo>
                      <a:pt x="1533" y="913"/>
                    </a:lnTo>
                    <a:lnTo>
                      <a:pt x="1519" y="922"/>
                    </a:lnTo>
                    <a:lnTo>
                      <a:pt x="1503" y="931"/>
                    </a:lnTo>
                    <a:lnTo>
                      <a:pt x="1490" y="940"/>
                    </a:lnTo>
                    <a:lnTo>
                      <a:pt x="1476" y="948"/>
                    </a:lnTo>
                    <a:lnTo>
                      <a:pt x="1461" y="957"/>
                    </a:lnTo>
                    <a:lnTo>
                      <a:pt x="1447" y="966"/>
                    </a:lnTo>
                    <a:lnTo>
                      <a:pt x="1431" y="974"/>
                    </a:lnTo>
                    <a:lnTo>
                      <a:pt x="1418" y="983"/>
                    </a:lnTo>
                    <a:lnTo>
                      <a:pt x="1402" y="992"/>
                    </a:lnTo>
                    <a:lnTo>
                      <a:pt x="1389" y="1000"/>
                    </a:lnTo>
                    <a:lnTo>
                      <a:pt x="1375" y="1009"/>
                    </a:lnTo>
                    <a:lnTo>
                      <a:pt x="1359" y="1017"/>
                    </a:lnTo>
                    <a:lnTo>
                      <a:pt x="1346" y="1024"/>
                    </a:lnTo>
                    <a:lnTo>
                      <a:pt x="1330" y="1034"/>
                    </a:lnTo>
                    <a:lnTo>
                      <a:pt x="1317" y="1041"/>
                    </a:lnTo>
                    <a:lnTo>
                      <a:pt x="1301" y="1049"/>
                    </a:lnTo>
                    <a:lnTo>
                      <a:pt x="1287" y="1057"/>
                    </a:lnTo>
                    <a:lnTo>
                      <a:pt x="1272" y="1064"/>
                    </a:lnTo>
                    <a:lnTo>
                      <a:pt x="1258" y="1072"/>
                    </a:lnTo>
                    <a:lnTo>
                      <a:pt x="1245" y="1080"/>
                    </a:lnTo>
                    <a:lnTo>
                      <a:pt x="1229" y="1087"/>
                    </a:lnTo>
                    <a:lnTo>
                      <a:pt x="1215" y="1093"/>
                    </a:lnTo>
                    <a:lnTo>
                      <a:pt x="1200" y="1101"/>
                    </a:lnTo>
                    <a:lnTo>
                      <a:pt x="1186" y="1109"/>
                    </a:lnTo>
                    <a:lnTo>
                      <a:pt x="1171" y="1115"/>
                    </a:lnTo>
                    <a:lnTo>
                      <a:pt x="1157" y="1121"/>
                    </a:lnTo>
                    <a:lnTo>
                      <a:pt x="1142" y="1129"/>
                    </a:lnTo>
                    <a:lnTo>
                      <a:pt x="1128" y="1135"/>
                    </a:lnTo>
                    <a:lnTo>
                      <a:pt x="1114" y="1141"/>
                    </a:lnTo>
                    <a:lnTo>
                      <a:pt x="1099" y="1147"/>
                    </a:lnTo>
                    <a:lnTo>
                      <a:pt x="1085" y="1153"/>
                    </a:lnTo>
                    <a:lnTo>
                      <a:pt x="1070" y="1159"/>
                    </a:lnTo>
                    <a:lnTo>
                      <a:pt x="1056" y="1165"/>
                    </a:lnTo>
                    <a:lnTo>
                      <a:pt x="1041" y="1172"/>
                    </a:lnTo>
                    <a:lnTo>
                      <a:pt x="1027" y="1178"/>
                    </a:lnTo>
                    <a:lnTo>
                      <a:pt x="1012" y="1182"/>
                    </a:lnTo>
                    <a:lnTo>
                      <a:pt x="998" y="1188"/>
                    </a:lnTo>
                    <a:lnTo>
                      <a:pt x="984" y="1193"/>
                    </a:lnTo>
                    <a:lnTo>
                      <a:pt x="969" y="1199"/>
                    </a:lnTo>
                    <a:lnTo>
                      <a:pt x="955" y="1204"/>
                    </a:lnTo>
                    <a:lnTo>
                      <a:pt x="940" y="1208"/>
                    </a:lnTo>
                    <a:lnTo>
                      <a:pt x="926" y="1213"/>
                    </a:lnTo>
                    <a:lnTo>
                      <a:pt x="911" y="1217"/>
                    </a:lnTo>
                    <a:lnTo>
                      <a:pt x="897" y="1224"/>
                    </a:lnTo>
                    <a:lnTo>
                      <a:pt x="881" y="1228"/>
                    </a:lnTo>
                    <a:lnTo>
                      <a:pt x="868" y="1231"/>
                    </a:lnTo>
                    <a:lnTo>
                      <a:pt x="854" y="1236"/>
                    </a:lnTo>
                    <a:lnTo>
                      <a:pt x="839" y="1240"/>
                    </a:lnTo>
                    <a:lnTo>
                      <a:pt x="825" y="1245"/>
                    </a:lnTo>
                    <a:lnTo>
                      <a:pt x="809" y="1248"/>
                    </a:lnTo>
                    <a:lnTo>
                      <a:pt x="796" y="1253"/>
                    </a:lnTo>
                    <a:lnTo>
                      <a:pt x="780" y="1257"/>
                    </a:lnTo>
                    <a:lnTo>
                      <a:pt x="766" y="1260"/>
                    </a:lnTo>
                    <a:lnTo>
                      <a:pt x="753" y="1263"/>
                    </a:lnTo>
                    <a:lnTo>
                      <a:pt x="737" y="1268"/>
                    </a:lnTo>
                    <a:lnTo>
                      <a:pt x="724" y="1271"/>
                    </a:lnTo>
                    <a:lnTo>
                      <a:pt x="708" y="1274"/>
                    </a:lnTo>
                    <a:lnTo>
                      <a:pt x="694" y="1279"/>
                    </a:lnTo>
                    <a:lnTo>
                      <a:pt x="679" y="1282"/>
                    </a:lnTo>
                    <a:lnTo>
                      <a:pt x="665" y="1285"/>
                    </a:lnTo>
                    <a:lnTo>
                      <a:pt x="650" y="1288"/>
                    </a:lnTo>
                    <a:lnTo>
                      <a:pt x="636" y="1291"/>
                    </a:lnTo>
                    <a:lnTo>
                      <a:pt x="622" y="1294"/>
                    </a:lnTo>
                    <a:lnTo>
                      <a:pt x="607" y="1297"/>
                    </a:lnTo>
                    <a:lnTo>
                      <a:pt x="593" y="1300"/>
                    </a:lnTo>
                    <a:lnTo>
                      <a:pt x="578" y="1302"/>
                    </a:lnTo>
                    <a:lnTo>
                      <a:pt x="564" y="1305"/>
                    </a:lnTo>
                    <a:lnTo>
                      <a:pt x="549" y="1308"/>
                    </a:lnTo>
                    <a:lnTo>
                      <a:pt x="535" y="1311"/>
                    </a:lnTo>
                    <a:lnTo>
                      <a:pt x="520" y="1312"/>
                    </a:lnTo>
                    <a:lnTo>
                      <a:pt x="506" y="1316"/>
                    </a:lnTo>
                    <a:lnTo>
                      <a:pt x="492" y="1317"/>
                    </a:lnTo>
                    <a:lnTo>
                      <a:pt x="477" y="1320"/>
                    </a:lnTo>
                    <a:lnTo>
                      <a:pt x="463" y="1322"/>
                    </a:lnTo>
                    <a:lnTo>
                      <a:pt x="448" y="1325"/>
                    </a:lnTo>
                    <a:lnTo>
                      <a:pt x="434" y="1326"/>
                    </a:lnTo>
                    <a:lnTo>
                      <a:pt x="419" y="1329"/>
                    </a:lnTo>
                    <a:lnTo>
                      <a:pt x="405" y="1331"/>
                    </a:lnTo>
                    <a:lnTo>
                      <a:pt x="391" y="1332"/>
                    </a:lnTo>
                    <a:lnTo>
                      <a:pt x="376" y="1335"/>
                    </a:lnTo>
                    <a:lnTo>
                      <a:pt x="362" y="1337"/>
                    </a:lnTo>
                    <a:lnTo>
                      <a:pt x="347" y="1339"/>
                    </a:lnTo>
                    <a:lnTo>
                      <a:pt x="333" y="1340"/>
                    </a:lnTo>
                    <a:lnTo>
                      <a:pt x="318" y="1342"/>
                    </a:lnTo>
                    <a:lnTo>
                      <a:pt x="304" y="1345"/>
                    </a:lnTo>
                    <a:lnTo>
                      <a:pt x="288" y="1346"/>
                    </a:lnTo>
                    <a:lnTo>
                      <a:pt x="275" y="1348"/>
                    </a:lnTo>
                    <a:lnTo>
                      <a:pt x="259" y="1349"/>
                    </a:lnTo>
                    <a:lnTo>
                      <a:pt x="246" y="1351"/>
                    </a:lnTo>
                    <a:lnTo>
                      <a:pt x="232" y="1352"/>
                    </a:lnTo>
                    <a:lnTo>
                      <a:pt x="216" y="1354"/>
                    </a:lnTo>
                    <a:lnTo>
                      <a:pt x="203" y="1355"/>
                    </a:lnTo>
                    <a:lnTo>
                      <a:pt x="187" y="1357"/>
                    </a:lnTo>
                    <a:lnTo>
                      <a:pt x="174" y="1358"/>
                    </a:lnTo>
                    <a:lnTo>
                      <a:pt x="158" y="1360"/>
                    </a:lnTo>
                    <a:lnTo>
                      <a:pt x="144" y="1361"/>
                    </a:lnTo>
                    <a:lnTo>
                      <a:pt x="131" y="1363"/>
                    </a:lnTo>
                    <a:lnTo>
                      <a:pt x="115" y="1363"/>
                    </a:lnTo>
                    <a:lnTo>
                      <a:pt x="102" y="1365"/>
                    </a:lnTo>
                    <a:lnTo>
                      <a:pt x="86" y="1366"/>
                    </a:lnTo>
                    <a:lnTo>
                      <a:pt x="72" y="1368"/>
                    </a:lnTo>
                    <a:lnTo>
                      <a:pt x="57" y="1369"/>
                    </a:lnTo>
                    <a:lnTo>
                      <a:pt x="43" y="1369"/>
                    </a:lnTo>
                    <a:lnTo>
                      <a:pt x="28" y="1371"/>
                    </a:lnTo>
                    <a:lnTo>
                      <a:pt x="14" y="1372"/>
                    </a:lnTo>
                    <a:lnTo>
                      <a:pt x="0" y="137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 flipH="1">
                <a:off x="1669680" y="2619360"/>
                <a:ext cx="4600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3473280" y="3444840"/>
                <a:ext cx="1800" cy="58572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3436920" y="3444840"/>
                <a:ext cx="7308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3436920" y="4030560"/>
                <a:ext cx="7308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3786120" y="3112920"/>
                <a:ext cx="1800" cy="58896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3749760" y="3112920"/>
                <a:ext cx="7308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3749760" y="3701880"/>
                <a:ext cx="7308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4124160" y="2563920"/>
                <a:ext cx="1800" cy="7682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4087800" y="2563920"/>
                <a:ext cx="7308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4087800" y="3332160"/>
                <a:ext cx="7308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4394160" y="1671480"/>
                <a:ext cx="1800" cy="84456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4357800" y="1671480"/>
                <a:ext cx="7308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4357800" y="2516040"/>
                <a:ext cx="7308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4664160" y="2330280"/>
                <a:ext cx="1440" cy="84168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4627440" y="2330280"/>
                <a:ext cx="7308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4627440" y="3171960"/>
                <a:ext cx="7308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3094200" y="3544920"/>
                <a:ext cx="1440" cy="176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3057480" y="354492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3057480" y="372096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3351240" y="3405240"/>
                <a:ext cx="1440" cy="139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3314880" y="3405240"/>
                <a:ext cx="7272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3314880" y="3544920"/>
                <a:ext cx="7272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3575160" y="3154320"/>
                <a:ext cx="1440" cy="139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3538440" y="315432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3538440" y="329400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3813120" y="2919240"/>
                <a:ext cx="1800" cy="1112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3776760" y="291924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3776760" y="303048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4037040" y="2852640"/>
                <a:ext cx="1440" cy="112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4000680" y="2852640"/>
                <a:ext cx="7272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4000680" y="2965320"/>
                <a:ext cx="7272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4205160" y="2644920"/>
                <a:ext cx="1800" cy="1346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4168800" y="264492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4168800" y="277956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4338720" y="2724120"/>
                <a:ext cx="1440" cy="146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4302000" y="272412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4302000" y="287028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4498920" y="2590920"/>
                <a:ext cx="1800" cy="123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4462560" y="259092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4462560" y="271476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4664160" y="2370240"/>
                <a:ext cx="1440" cy="145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4627440" y="237024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4627440" y="251604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4883040" y="2367000"/>
                <a:ext cx="1800" cy="123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4846680" y="236700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4846680" y="249084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5106960" y="2270160"/>
                <a:ext cx="1440" cy="146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5070600" y="227016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5070600" y="241632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5345280" y="2593800"/>
                <a:ext cx="1440" cy="144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5308560" y="259380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5308560" y="273852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5568840" y="2546280"/>
                <a:ext cx="1800" cy="2397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5532480" y="254628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5532480" y="278604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5737320" y="2846520"/>
                <a:ext cx="1440" cy="36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5700600" y="284652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5700600" y="320832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5870520" y="3149640"/>
                <a:ext cx="1800" cy="557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5834160" y="314964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5834160" y="370692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5983200" y="2709720"/>
                <a:ext cx="1800" cy="8859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5946840" y="270972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5946840" y="359568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5261040" y="2435400"/>
                <a:ext cx="1440" cy="21096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5224320" y="2435400"/>
                <a:ext cx="73080" cy="14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5224320" y="2646360"/>
                <a:ext cx="73080" cy="14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5467320" y="2370240"/>
                <a:ext cx="1440" cy="19692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5430960" y="2370240"/>
                <a:ext cx="73080" cy="14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5430960" y="2567160"/>
                <a:ext cx="73080" cy="14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5659560" y="2724120"/>
                <a:ext cx="1440" cy="14616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5622840" y="2724120"/>
                <a:ext cx="73080" cy="14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5622840" y="2870280"/>
                <a:ext cx="73080" cy="14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5808600" y="2982960"/>
                <a:ext cx="1800" cy="12996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5772240" y="2982960"/>
                <a:ext cx="73080" cy="14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5772240" y="3112920"/>
                <a:ext cx="7308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5929200" y="3191040"/>
                <a:ext cx="1800" cy="118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5892840" y="3191040"/>
                <a:ext cx="73080" cy="14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5892840" y="3309840"/>
                <a:ext cx="7308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5929200" y="3236760"/>
                <a:ext cx="1800" cy="17172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5892840" y="3236760"/>
                <a:ext cx="7308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5892840" y="3408480"/>
                <a:ext cx="73080" cy="14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6031080" y="3322800"/>
                <a:ext cx="1440" cy="13176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5996160" y="3322800"/>
                <a:ext cx="71280" cy="14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5996160" y="3454560"/>
                <a:ext cx="71280" cy="14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2881440" y="2955960"/>
                <a:ext cx="1440" cy="5364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2844720" y="2955960"/>
                <a:ext cx="73080" cy="14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2844720" y="3492360"/>
                <a:ext cx="73080" cy="18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3297240" y="2712960"/>
                <a:ext cx="1440" cy="4446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3260880" y="2712960"/>
                <a:ext cx="72720" cy="18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3260880" y="3157560"/>
                <a:ext cx="72720" cy="14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3672000" y="2320920"/>
                <a:ext cx="1440" cy="53172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3635280" y="2320920"/>
                <a:ext cx="73080" cy="14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3635280" y="2852640"/>
                <a:ext cx="73080" cy="18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4124160" y="2093760"/>
                <a:ext cx="1800" cy="9176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4087800" y="2093760"/>
                <a:ext cx="73080" cy="18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4087800" y="3011400"/>
                <a:ext cx="73080" cy="18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5486400" y="1401840"/>
                <a:ext cx="1440" cy="13842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5450040" y="1401840"/>
                <a:ext cx="72720" cy="14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5450040" y="2786040"/>
                <a:ext cx="72720" cy="14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3454200" y="36766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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3767040" y="33480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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4105080" y="28893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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4375080" y="20318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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4646520" y="26924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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3074760" y="3571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3332160" y="34146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3556080" y="31640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3794040" y="29145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4017960" y="28494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4186080" y="26496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4319640" y="27385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4479840" y="25923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4646520" y="23828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4863960" y="23684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5087880" y="2282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5327640" y="2606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5549760" y="2606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5718240" y="29671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5851440" y="33670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5964120" y="30924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5241960" y="24796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7f00"/>
                    </a:solidFill>
                    <a:latin typeface="DeltaSymbol"/>
                    <a:ea typeface="DeltaSymbol"/>
                  </a:rPr>
                  <a:t>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5448240" y="24066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7f00"/>
                    </a:solidFill>
                    <a:latin typeface="DeltaSymbol"/>
                    <a:ea typeface="DeltaSymbol"/>
                  </a:rPr>
                  <a:t>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5640480" y="27385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7f00"/>
                    </a:solidFill>
                    <a:latin typeface="DeltaSymbol"/>
                    <a:ea typeface="DeltaSymbol"/>
                  </a:rPr>
                  <a:t>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5789520" y="29862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7f00"/>
                    </a:solidFill>
                    <a:latin typeface="DeltaSymbol"/>
                    <a:ea typeface="DeltaSymbol"/>
                  </a:rPr>
                  <a:t>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5910120" y="31910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7f00"/>
                    </a:solidFill>
                    <a:latin typeface="DeltaSymbol"/>
                    <a:ea typeface="DeltaSymbol"/>
                  </a:rPr>
                  <a:t>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5910120" y="3263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7f00"/>
                    </a:solidFill>
                    <a:latin typeface="DeltaSymbol"/>
                    <a:ea typeface="DeltaSymbol"/>
                  </a:rPr>
                  <a:t>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6" name=""/>
            <p:cNvSpPr/>
            <p:nvPr/>
          </p:nvSpPr>
          <p:spPr>
            <a:xfrm>
              <a:off x="6013440" y="3328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f00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2863800" y="31640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400d4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3279600" y="28735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400d4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3652920" y="2525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400d4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4105080" y="24940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400d4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5467320" y="20318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400d4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1370520" y="450684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1370520" y="384804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1370520" y="319104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1502640" y="25351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1370520" y="187632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1370520" y="121932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.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1469880" y="4680000"/>
              <a:ext cx="432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3048480" y="4680000"/>
              <a:ext cx="335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4628160" y="468000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6228720" y="46800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1851120" y="1419120"/>
              <a:ext cx="8413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1989000" y="15001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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2170440" y="1474920"/>
              <a:ext cx="41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EM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1989000" y="17827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2170800" y="1757520"/>
              <a:ext cx="433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NM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1989000" y="2066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f00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2168640" y="204156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E13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1989000" y="23511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400d4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2168640" y="232560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E66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4483800" y="3919680"/>
              <a:ext cx="35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Ca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2" name=""/>
          <p:cNvSpPr/>
          <p:nvPr/>
        </p:nvSpPr>
        <p:spPr>
          <a:xfrm rot="16200000">
            <a:off x="310320" y="2737080"/>
            <a:ext cx="148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C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/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 rot="16200000">
            <a:off x="381600" y="6382440"/>
            <a:ext cx="134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F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/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"/>
          <p:cNvSpPr/>
          <p:nvPr/>
        </p:nvSpPr>
        <p:spPr>
          <a:xfrm>
            <a:off x="1295280" y="1219320"/>
            <a:ext cx="972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5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9720" cy="9360"/>
          </a:xfrm>
          <a:prstGeom prst="rect">
            <a:avLst/>
          </a:prstGeom>
          <a:ln w="0">
            <a:noFill/>
          </a:ln>
        </p:spPr>
      </p:pic>
      <p:sp>
        <p:nvSpPr>
          <p:cNvPr id="3336" name=""/>
          <p:cNvSpPr/>
          <p:nvPr/>
        </p:nvSpPr>
        <p:spPr>
          <a:xfrm>
            <a:off x="1295280" y="119844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1295280" y="119844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1307160" y="1198440"/>
            <a:ext cx="144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DeltaSymbol"/>
                <a:ea typeface="DeltaSymbol"/>
              </a:rPr>
              <a:t>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1296000" y="1187280"/>
            <a:ext cx="11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Chicago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1295280" y="119844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1371600" y="1219320"/>
            <a:ext cx="936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2" name="" descr=""/>
          <p:cNvPicPr/>
          <p:nvPr/>
        </p:nvPicPr>
        <p:blipFill>
          <a:blip r:embed="rId2"/>
          <a:stretch/>
        </p:blipFill>
        <p:spPr>
          <a:xfrm>
            <a:off x="1371600" y="1219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3343" name=""/>
          <p:cNvSpPr/>
          <p:nvPr/>
        </p:nvSpPr>
        <p:spPr>
          <a:xfrm>
            <a:off x="1371600" y="119844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1371600" y="119844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1383480" y="1198440"/>
            <a:ext cx="144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DeltaSymbol"/>
                <a:ea typeface="DeltaSymbol"/>
              </a:rPr>
              <a:t>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>
            <a:off x="1371960" y="1189080"/>
            <a:ext cx="11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Chicago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1371600" y="119844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8" name=""/>
          <p:cNvGrpSpPr/>
          <p:nvPr/>
        </p:nvGrpSpPr>
        <p:grpSpPr>
          <a:xfrm>
            <a:off x="1370520" y="1220760"/>
            <a:ext cx="4974120" cy="7936560"/>
            <a:chOff x="1370520" y="1220760"/>
            <a:chExt cx="4974120" cy="7936560"/>
          </a:xfrm>
        </p:grpSpPr>
        <p:grpSp>
          <p:nvGrpSpPr>
            <p:cNvPr id="3349" name=""/>
            <p:cNvGrpSpPr/>
            <p:nvPr/>
          </p:nvGrpSpPr>
          <p:grpSpPr>
            <a:xfrm>
              <a:off x="1614600" y="5084640"/>
              <a:ext cx="4668840" cy="3400560"/>
              <a:chOff x="1614600" y="5084640"/>
              <a:chExt cx="4668840" cy="3400560"/>
            </a:xfrm>
          </p:grpSpPr>
          <p:sp>
            <p:nvSpPr>
              <p:cNvPr id="3350" name=""/>
              <p:cNvSpPr/>
              <p:nvPr/>
            </p:nvSpPr>
            <p:spPr>
              <a:xfrm>
                <a:off x="1677960" y="5089680"/>
                <a:ext cx="4603680" cy="333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1673280" y="8421840"/>
                <a:ext cx="4603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1673280" y="5084640"/>
                <a:ext cx="4603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 flipV="1">
                <a:off x="1673280" y="5084640"/>
                <a:ext cx="1440" cy="333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 flipV="1">
                <a:off x="6276960" y="5084640"/>
                <a:ext cx="1440" cy="333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1646280" y="842652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1646280" y="829476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1646280" y="815976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1646280" y="802800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1646280" y="789300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1646280" y="776124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1646280" y="762624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1646280" y="749304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1646280" y="735948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1646280" y="722628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1646280" y="709128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1646280" y="695952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1646280" y="682452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1646280" y="669276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1646280" y="655812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1646280" y="642636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1646280" y="629136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1646280" y="615780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1646280" y="602280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1646280" y="589104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1646280" y="575640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1646280" y="562464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1646280" y="548964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1646280" y="535788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1646280" y="522288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1646280" y="508968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1614600" y="8424720"/>
                <a:ext cx="6012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1614600" y="7758000"/>
                <a:ext cx="6012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1614600" y="7089840"/>
                <a:ext cx="6012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1614600" y="6423120"/>
                <a:ext cx="6012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1614600" y="5754600"/>
                <a:ext cx="6012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1614600" y="5087880"/>
                <a:ext cx="6012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 flipV="1">
                <a:off x="1677960" y="84265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 flipV="1">
                <a:off x="2141640" y="84265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 flipV="1">
                <a:off x="2409840" y="84265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 flipV="1">
                <a:off x="2602080" y="84265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 flipV="1">
                <a:off x="2751120" y="84265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 flipV="1">
                <a:off x="2871720" y="84265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 flipV="1">
                <a:off x="2975040" y="84265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 flipV="1">
                <a:off x="3065400" y="84265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 flipV="1">
                <a:off x="3143160" y="84265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 flipV="1">
                <a:off x="3211560" y="84265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 flipV="1">
                <a:off x="3675240" y="84265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 flipV="1">
                <a:off x="3944880" y="84265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 flipV="1">
                <a:off x="4135320" y="84265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 flipV="1">
                <a:off x="4284720" y="84265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 flipV="1">
                <a:off x="4408560" y="84265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 flipV="1">
                <a:off x="4510080" y="84265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 flipV="1">
                <a:off x="4599000" y="84265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 flipV="1">
                <a:off x="4676760" y="84265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 flipV="1">
                <a:off x="4748040" y="84265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 flipV="1">
                <a:off x="5208480" y="84265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 flipV="1">
                <a:off x="5481720" y="84265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 flipV="1">
                <a:off x="5672160" y="84265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 flipV="1">
                <a:off x="5821200" y="84265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 flipV="1">
                <a:off x="5942160" y="84265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 flipV="1">
                <a:off x="6045120" y="84265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 flipV="1">
                <a:off x="6132600" y="84265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 flipV="1">
                <a:off x="6211800" y="84265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 flipV="1">
                <a:off x="6281640" y="84265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 flipV="1">
                <a:off x="1674720" y="8424720"/>
                <a:ext cx="1800" cy="604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 flipV="1">
                <a:off x="3209760" y="8424720"/>
                <a:ext cx="1800" cy="604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 flipV="1">
                <a:off x="4746600" y="8424720"/>
                <a:ext cx="1440" cy="604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 flipV="1">
                <a:off x="6280200" y="8424720"/>
                <a:ext cx="1440" cy="604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 flipV="1">
                <a:off x="1673280" y="5084640"/>
                <a:ext cx="1440" cy="333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1673280" y="8421840"/>
                <a:ext cx="4603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1673280" y="6419880"/>
                <a:ext cx="4603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6181560" y="50925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6180120" y="5100480"/>
                <a:ext cx="9720" cy="334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1" y="0"/>
                    </a:moveTo>
                    <a:lnTo>
                      <a:pt x="0" y="20"/>
                    </a:lnTo>
                    <a:lnTo>
                      <a:pt x="4" y="21"/>
                    </a:lnTo>
                    <a:lnTo>
                      <a:pt x="6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6176880" y="5213520"/>
                <a:ext cx="9720" cy="4104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2" y="0"/>
                    </a:moveTo>
                    <a:lnTo>
                      <a:pt x="0" y="24"/>
                    </a:lnTo>
                    <a:lnTo>
                      <a:pt x="5" y="26"/>
                    </a:lnTo>
                    <a:lnTo>
                      <a:pt x="6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6176880" y="5335560"/>
                <a:ext cx="972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6173640" y="5457960"/>
                <a:ext cx="11160" cy="39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6172200" y="5578560"/>
                <a:ext cx="9360" cy="41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6168960" y="5700600"/>
                <a:ext cx="1116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6167520" y="5819760"/>
                <a:ext cx="936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6164280" y="5942160"/>
                <a:ext cx="9360" cy="39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6162840" y="6060960"/>
                <a:ext cx="9360" cy="42840"/>
              </a:xfrm>
              <a:custGeom>
                <a:avLst/>
                <a:gdLst/>
                <a:ahLst/>
                <a:rect l="l" t="t" r="r" b="b"/>
                <a:pathLst>
                  <a:path w="6" h="27">
                    <a:moveTo>
                      <a:pt x="1" y="0"/>
                    </a:moveTo>
                    <a:lnTo>
                      <a:pt x="0" y="26"/>
                    </a:lnTo>
                    <a:lnTo>
                      <a:pt x="4" y="27"/>
                    </a:lnTo>
                    <a:lnTo>
                      <a:pt x="6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6159600" y="6183360"/>
                <a:ext cx="9360" cy="4140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2" y="0"/>
                    </a:moveTo>
                    <a:lnTo>
                      <a:pt x="0" y="24"/>
                    </a:lnTo>
                    <a:lnTo>
                      <a:pt x="5" y="26"/>
                    </a:lnTo>
                    <a:lnTo>
                      <a:pt x="6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6159600" y="6305400"/>
                <a:ext cx="936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6157800" y="6427800"/>
                <a:ext cx="9720" cy="39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6153120" y="6545160"/>
                <a:ext cx="9720" cy="4464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1" y="0"/>
                    </a:moveTo>
                    <a:lnTo>
                      <a:pt x="0" y="26"/>
                    </a:lnTo>
                    <a:lnTo>
                      <a:pt x="4" y="28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6149880" y="6670800"/>
                <a:ext cx="9720" cy="39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6145200" y="6788160"/>
                <a:ext cx="9360" cy="4428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2" y="0"/>
                    </a:moveTo>
                    <a:lnTo>
                      <a:pt x="0" y="26"/>
                    </a:lnTo>
                    <a:lnTo>
                      <a:pt x="5" y="28"/>
                    </a:lnTo>
                    <a:lnTo>
                      <a:pt x="6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6141960" y="6913440"/>
                <a:ext cx="1116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6137280" y="70311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2" y="0"/>
                    </a:moveTo>
                    <a:lnTo>
                      <a:pt x="0" y="26"/>
                    </a:lnTo>
                    <a:lnTo>
                      <a:pt x="5" y="27"/>
                    </a:lnTo>
                    <a:lnTo>
                      <a:pt x="7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6135840" y="7155000"/>
                <a:ext cx="9360" cy="39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6127920" y="7272360"/>
                <a:ext cx="9360" cy="4428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2" y="0"/>
                    </a:moveTo>
                    <a:lnTo>
                      <a:pt x="0" y="27"/>
                    </a:lnTo>
                    <a:lnTo>
                      <a:pt x="5" y="28"/>
                    </a:lnTo>
                    <a:lnTo>
                      <a:pt x="6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6121440" y="7396200"/>
                <a:ext cx="9360" cy="4140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1" y="0"/>
                    </a:moveTo>
                    <a:lnTo>
                      <a:pt x="0" y="24"/>
                    </a:lnTo>
                    <a:lnTo>
                      <a:pt x="4" y="26"/>
                    </a:lnTo>
                    <a:lnTo>
                      <a:pt x="6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6113520" y="7518240"/>
                <a:ext cx="936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6110280" y="75517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6094440" y="7637400"/>
                <a:ext cx="14400" cy="4284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4" y="0"/>
                    </a:moveTo>
                    <a:lnTo>
                      <a:pt x="0" y="25"/>
                    </a:lnTo>
                    <a:lnTo>
                      <a:pt x="4" y="27"/>
                    </a:lnTo>
                    <a:lnTo>
                      <a:pt x="9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6067440" y="775800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10" h="20">
                    <a:moveTo>
                      <a:pt x="6" y="0"/>
                    </a:moveTo>
                    <a:lnTo>
                      <a:pt x="0" y="19"/>
                    </a:lnTo>
                    <a:lnTo>
                      <a:pt x="4" y="20"/>
                    </a:lnTo>
                    <a:lnTo>
                      <a:pt x="10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6059520" y="778500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8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5997600" y="77342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6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5983200" y="7707240"/>
                <a:ext cx="22320" cy="2880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14" y="17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9" y="18"/>
                    </a:lnTo>
                    <a:lnTo>
                      <a:pt x="1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5951520" y="7628040"/>
                <a:ext cx="972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5937120" y="759132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22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9" y="23"/>
                    </a:lnTo>
                    <a:lnTo>
                      <a:pt x="14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5905440" y="75088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1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5892840" y="7477200"/>
                <a:ext cx="19080" cy="3312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12" y="20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8" y="21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5861160" y="738828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6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1" y="8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5848200" y="7361280"/>
                <a:ext cx="20880" cy="302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13" y="17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8" y="19"/>
                    </a:lnTo>
                    <a:lnTo>
                      <a:pt x="1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5815080" y="727560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6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1" y="8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5802480" y="7246800"/>
                <a:ext cx="18720" cy="3204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2" y="18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8" y="20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5767560" y="716580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3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2" y="4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5753160" y="7134120"/>
                <a:ext cx="2232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0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9" y="21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5702400" y="7018200"/>
                <a:ext cx="23760" cy="41400"/>
              </a:xfrm>
              <a:custGeom>
                <a:avLst/>
                <a:gdLst/>
                <a:ahLst/>
                <a:rect l="l" t="t" r="r" b="b"/>
                <a:pathLst>
                  <a:path w="15" h="26">
                    <a:moveTo>
                      <a:pt x="15" y="25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10" y="26"/>
                    </a:lnTo>
                    <a:lnTo>
                      <a:pt x="15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5653080" y="691848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2" y="17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7" y="18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5648400" y="69087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6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5605560" y="682956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5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5589720" y="679752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15" y="19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10" y="23"/>
                    </a:lnTo>
                    <a:lnTo>
                      <a:pt x="1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5537160" y="6707160"/>
                <a:ext cx="19080" cy="27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12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8" y="17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5524560" y="668988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3" y="11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8" y="16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5468760" y="660708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11" y="9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6" y="14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5454720" y="658656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4" y="13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9" y="17"/>
                    </a:lnTo>
                    <a:lnTo>
                      <a:pt x="1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5375160" y="64962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16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16" y="20"/>
                    </a:lnTo>
                    <a:lnTo>
                      <a:pt x="2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5370480" y="649116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5310360" y="6432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2"/>
                    </a:moveTo>
                    <a:lnTo>
                      <a:pt x="1" y="0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5284800" y="6415200"/>
                <a:ext cx="30240" cy="252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9" y="11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14" y="16"/>
                    </a:lnTo>
                    <a:lnTo>
                      <a:pt x="1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5278320" y="6410160"/>
                <a:ext cx="14400" cy="129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3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4" y="8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5194440" y="636120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3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8" y="8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5172120" y="635472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4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14" y="9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5167440" y="63514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2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5084640" y="6329520"/>
                <a:ext cx="50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5057640" y="6327720"/>
                <a:ext cx="27000" cy="972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7" y="1"/>
                    </a:moveTo>
                    <a:lnTo>
                      <a:pt x="1" y="0"/>
                    </a:lnTo>
                    <a:lnTo>
                      <a:pt x="0" y="4"/>
                    </a:lnTo>
                    <a:lnTo>
                      <a:pt x="15" y="6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5049720" y="63277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4941720" y="6329520"/>
                <a:ext cx="27000" cy="1080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5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4924440" y="633240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1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3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4827600" y="6356520"/>
                <a:ext cx="19080" cy="126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0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2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4805280" y="636120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0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4711680" y="640080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8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9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4689360" y="6405480"/>
                <a:ext cx="23760" cy="176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0" y="6"/>
                    </a:lnTo>
                    <a:lnTo>
                      <a:pt x="2" y="11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4680000" y="641520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5" y="0"/>
                    </a:moveTo>
                    <a:lnTo>
                      <a:pt x="0" y="3"/>
                    </a:lnTo>
                    <a:lnTo>
                      <a:pt x="5" y="8"/>
                    </a:lnTo>
                    <a:lnTo>
                      <a:pt x="9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4595760" y="645804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8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4575240" y="645948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3" y="0"/>
                    </a:moveTo>
                    <a:lnTo>
                      <a:pt x="0" y="8"/>
                    </a:lnTo>
                    <a:lnTo>
                      <a:pt x="1" y="12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4568760" y="6472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5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4481640" y="651672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8" y="0"/>
                    </a:moveTo>
                    <a:lnTo>
                      <a:pt x="0" y="4"/>
                    </a:lnTo>
                    <a:lnTo>
                      <a:pt x="4" y="9"/>
                    </a:lnTo>
                    <a:lnTo>
                      <a:pt x="12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4459320" y="65232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5" y="0"/>
                    </a:moveTo>
                    <a:lnTo>
                      <a:pt x="0" y="8"/>
                    </a:lnTo>
                    <a:lnTo>
                      <a:pt x="2" y="13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4368960" y="6580080"/>
                <a:ext cx="18720" cy="176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1" y="0"/>
                    </a:moveTo>
                    <a:lnTo>
                      <a:pt x="0" y="6"/>
                    </a:lnTo>
                    <a:lnTo>
                      <a:pt x="1" y="11"/>
                    </a:lnTo>
                    <a:lnTo>
                      <a:pt x="12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4346640" y="6589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2" y="0"/>
                    </a:moveTo>
                    <a:lnTo>
                      <a:pt x="0" y="8"/>
                    </a:lnTo>
                    <a:lnTo>
                      <a:pt x="5" y="12"/>
                    </a:lnTo>
                    <a:lnTo>
                      <a:pt x="17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4251240" y="6643800"/>
                <a:ext cx="28800" cy="2196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14" y="0"/>
                    </a:moveTo>
                    <a:lnTo>
                      <a:pt x="0" y="9"/>
                    </a:lnTo>
                    <a:lnTo>
                      <a:pt x="4" y="14"/>
                    </a:lnTo>
                    <a:lnTo>
                      <a:pt x="18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4238640" y="665784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8" y="0"/>
                    </a:moveTo>
                    <a:lnTo>
                      <a:pt x="0" y="5"/>
                    </a:lnTo>
                    <a:lnTo>
                      <a:pt x="5" y="9"/>
                    </a:lnTo>
                    <a:lnTo>
                      <a:pt x="12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4160880" y="67104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6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4138560" y="671184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4" y="0"/>
                    </a:moveTo>
                    <a:lnTo>
                      <a:pt x="0" y="8"/>
                    </a:lnTo>
                    <a:lnTo>
                      <a:pt x="1" y="12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4129200" y="672480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4" y="0"/>
                    </a:moveTo>
                    <a:lnTo>
                      <a:pt x="0" y="3"/>
                    </a:lnTo>
                    <a:lnTo>
                      <a:pt x="4" y="8"/>
                    </a:lnTo>
                    <a:lnTo>
                      <a:pt x="9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4043520" y="6770520"/>
                <a:ext cx="1872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7" y="0"/>
                    </a:moveTo>
                    <a:lnTo>
                      <a:pt x="0" y="5"/>
                    </a:lnTo>
                    <a:lnTo>
                      <a:pt x="4" y="9"/>
                    </a:lnTo>
                    <a:lnTo>
                      <a:pt x="12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4022640" y="6778800"/>
                <a:ext cx="25560" cy="1872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4" y="0"/>
                    </a:moveTo>
                    <a:lnTo>
                      <a:pt x="0" y="7"/>
                    </a:lnTo>
                    <a:lnTo>
                      <a:pt x="2" y="12"/>
                    </a:lnTo>
                    <a:lnTo>
                      <a:pt x="16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4017960" y="67896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2" y="0"/>
                    </a:moveTo>
                    <a:lnTo>
                      <a:pt x="0" y="2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3930480" y="683244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0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12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3909960" y="683892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3" y="0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14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3817800" y="6888240"/>
                <a:ext cx="20880" cy="1728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2" y="0"/>
                    </a:moveTo>
                    <a:lnTo>
                      <a:pt x="0" y="6"/>
                    </a:lnTo>
                    <a:lnTo>
                      <a:pt x="1" y="11"/>
                    </a:lnTo>
                    <a:lnTo>
                      <a:pt x="13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3800520" y="689760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1" y="0"/>
                    </a:moveTo>
                    <a:lnTo>
                      <a:pt x="0" y="7"/>
                    </a:lnTo>
                    <a:lnTo>
                      <a:pt x="1" y="11"/>
                    </a:lnTo>
                    <a:lnTo>
                      <a:pt x="12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3701880" y="6945480"/>
                <a:ext cx="22320" cy="140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0" y="4"/>
                    </a:lnTo>
                    <a:lnTo>
                      <a:pt x="2" y="9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3683160" y="695160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2" y="0"/>
                    </a:moveTo>
                    <a:lnTo>
                      <a:pt x="0" y="7"/>
                    </a:lnTo>
                    <a:lnTo>
                      <a:pt x="1" y="11"/>
                    </a:lnTo>
                    <a:lnTo>
                      <a:pt x="14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3586320" y="699624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1" y="0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13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3562200" y="7004160"/>
                <a:ext cx="27000" cy="172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5" y="0"/>
                    </a:moveTo>
                    <a:lnTo>
                      <a:pt x="0" y="6"/>
                    </a:lnTo>
                    <a:lnTo>
                      <a:pt x="2" y="11"/>
                    </a:lnTo>
                    <a:lnTo>
                      <a:pt x="17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3471840" y="7045200"/>
                <a:ext cx="1260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6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8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3446640" y="7048440"/>
                <a:ext cx="26640" cy="15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6" y="0"/>
                    </a:moveTo>
                    <a:lnTo>
                      <a:pt x="0" y="6"/>
                    </a:lnTo>
                    <a:lnTo>
                      <a:pt x="2" y="10"/>
                    </a:lnTo>
                    <a:lnTo>
                      <a:pt x="17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3441600" y="70581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5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3359160" y="7089840"/>
                <a:ext cx="4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3332160" y="708984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5" y="0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17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3319560" y="7095960"/>
                <a:ext cx="14040" cy="129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8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9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3219480" y="712800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0" y="4"/>
                    </a:lnTo>
                    <a:lnTo>
                      <a:pt x="1" y="8"/>
                    </a:lnTo>
                    <a:lnTo>
                      <a:pt x="14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3200400" y="713412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2" y="0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13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3103560" y="716292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1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3079800" y="716580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5" y="0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17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3075120" y="71722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0"/>
                    </a:moveTo>
                    <a:lnTo>
                      <a:pt x="0" y="2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2990880" y="71946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2963880" y="719460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6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7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2957400" y="71992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6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2876400" y="7219800"/>
                <a:ext cx="1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2849400" y="7219800"/>
                <a:ext cx="27000" cy="1116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5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17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2835360" y="722484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9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10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2736720" y="724392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1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12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2714760" y="724680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4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15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2620800" y="7262640"/>
                <a:ext cx="162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8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0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2597040" y="7265880"/>
                <a:ext cx="27000" cy="972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5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17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2592360" y="726768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3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4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2508120" y="7283520"/>
                <a:ext cx="5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2481120" y="728352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6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17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2471760" y="7284960"/>
                <a:ext cx="1260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6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8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2367000" y="7297560"/>
                <a:ext cx="27000" cy="972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5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2349360" y="729936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1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12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2254320" y="73119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2228760" y="7311960"/>
                <a:ext cx="25560" cy="97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14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2141640" y="73245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2114640" y="7324560"/>
                <a:ext cx="27000" cy="972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5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2106720" y="73263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6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2025720" y="7334280"/>
                <a:ext cx="3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1998720" y="733428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6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7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1986120" y="733752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8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10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1886040" y="7346880"/>
                <a:ext cx="219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1863720" y="734688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3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14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1773360" y="7353360"/>
                <a:ext cx="126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1746360" y="7353360"/>
                <a:ext cx="27000" cy="1116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6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7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1741320" y="73566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0"/>
                    </a:moveTo>
                    <a:lnTo>
                      <a:pt x="0" y="2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0" name=""/>
            <p:cNvGrpSpPr/>
            <p:nvPr/>
          </p:nvGrpSpPr>
          <p:grpSpPr>
            <a:xfrm>
              <a:off x="1370520" y="1307880"/>
              <a:ext cx="4961160" cy="7849440"/>
              <a:chOff x="1370520" y="1307880"/>
              <a:chExt cx="4961160" cy="7849440"/>
            </a:xfrm>
          </p:grpSpPr>
          <p:sp>
            <p:nvSpPr>
              <p:cNvPr id="3551" name=""/>
              <p:cNvSpPr/>
              <p:nvPr/>
            </p:nvSpPr>
            <p:spPr>
              <a:xfrm>
                <a:off x="1673280" y="5084640"/>
                <a:ext cx="4522680" cy="2683080"/>
              </a:xfrm>
              <a:custGeom>
                <a:avLst/>
                <a:gdLst/>
                <a:ahLst/>
                <a:rect l="l" t="t" r="r" b="b"/>
                <a:pathLst>
                  <a:path w="2849" h="1690">
                    <a:moveTo>
                      <a:pt x="2849" y="0"/>
                    </a:moveTo>
                    <a:lnTo>
                      <a:pt x="2839" y="513"/>
                    </a:lnTo>
                    <a:lnTo>
                      <a:pt x="2823" y="960"/>
                    </a:lnTo>
                    <a:lnTo>
                      <a:pt x="2809" y="1258"/>
                    </a:lnTo>
                    <a:lnTo>
                      <a:pt x="2795" y="1453"/>
                    </a:lnTo>
                    <a:lnTo>
                      <a:pt x="2780" y="1576"/>
                    </a:lnTo>
                    <a:lnTo>
                      <a:pt x="2766" y="1649"/>
                    </a:lnTo>
                    <a:lnTo>
                      <a:pt x="2752" y="1683"/>
                    </a:lnTo>
                    <a:lnTo>
                      <a:pt x="2737" y="1690"/>
                    </a:lnTo>
                    <a:lnTo>
                      <a:pt x="2723" y="1679"/>
                    </a:lnTo>
                    <a:lnTo>
                      <a:pt x="2707" y="1655"/>
                    </a:lnTo>
                    <a:lnTo>
                      <a:pt x="2693" y="1621"/>
                    </a:lnTo>
                    <a:lnTo>
                      <a:pt x="2680" y="1581"/>
                    </a:lnTo>
                    <a:lnTo>
                      <a:pt x="2664" y="1537"/>
                    </a:lnTo>
                    <a:lnTo>
                      <a:pt x="2650" y="1493"/>
                    </a:lnTo>
                    <a:lnTo>
                      <a:pt x="2636" y="1448"/>
                    </a:lnTo>
                    <a:lnTo>
                      <a:pt x="2621" y="1403"/>
                    </a:lnTo>
                    <a:lnTo>
                      <a:pt x="2607" y="1360"/>
                    </a:lnTo>
                    <a:lnTo>
                      <a:pt x="2592" y="1320"/>
                    </a:lnTo>
                    <a:lnTo>
                      <a:pt x="2578" y="1281"/>
                    </a:lnTo>
                    <a:lnTo>
                      <a:pt x="2564" y="1244"/>
                    </a:lnTo>
                    <a:lnTo>
                      <a:pt x="2548" y="1210"/>
                    </a:lnTo>
                    <a:lnTo>
                      <a:pt x="2534" y="1179"/>
                    </a:lnTo>
                    <a:lnTo>
                      <a:pt x="2519" y="1150"/>
                    </a:lnTo>
                    <a:lnTo>
                      <a:pt x="2505" y="1122"/>
                    </a:lnTo>
                    <a:lnTo>
                      <a:pt x="2491" y="1098"/>
                    </a:lnTo>
                    <a:lnTo>
                      <a:pt x="2476" y="1074"/>
                    </a:lnTo>
                    <a:lnTo>
                      <a:pt x="2462" y="1053"/>
                    </a:lnTo>
                    <a:lnTo>
                      <a:pt x="2448" y="1033"/>
                    </a:lnTo>
                    <a:lnTo>
                      <a:pt x="2433" y="1014"/>
                    </a:lnTo>
                    <a:lnTo>
                      <a:pt x="2419" y="996"/>
                    </a:lnTo>
                    <a:lnTo>
                      <a:pt x="2403" y="980"/>
                    </a:lnTo>
                    <a:lnTo>
                      <a:pt x="2389" y="965"/>
                    </a:lnTo>
                    <a:lnTo>
                      <a:pt x="2375" y="949"/>
                    </a:lnTo>
                    <a:lnTo>
                      <a:pt x="2360" y="936"/>
                    </a:lnTo>
                    <a:lnTo>
                      <a:pt x="2346" y="922"/>
                    </a:lnTo>
                    <a:lnTo>
                      <a:pt x="2331" y="909"/>
                    </a:lnTo>
                    <a:lnTo>
                      <a:pt x="2317" y="897"/>
                    </a:lnTo>
                    <a:lnTo>
                      <a:pt x="2303" y="886"/>
                    </a:lnTo>
                    <a:lnTo>
                      <a:pt x="2288" y="875"/>
                    </a:lnTo>
                    <a:lnTo>
                      <a:pt x="2274" y="865"/>
                    </a:lnTo>
                    <a:lnTo>
                      <a:pt x="2260" y="855"/>
                    </a:lnTo>
                    <a:lnTo>
                      <a:pt x="2244" y="846"/>
                    </a:lnTo>
                    <a:lnTo>
                      <a:pt x="2230" y="837"/>
                    </a:lnTo>
                    <a:lnTo>
                      <a:pt x="2215" y="829"/>
                    </a:lnTo>
                    <a:lnTo>
                      <a:pt x="2201" y="821"/>
                    </a:lnTo>
                    <a:lnTo>
                      <a:pt x="2187" y="814"/>
                    </a:lnTo>
                    <a:lnTo>
                      <a:pt x="2172" y="807"/>
                    </a:lnTo>
                    <a:lnTo>
                      <a:pt x="2158" y="801"/>
                    </a:lnTo>
                    <a:lnTo>
                      <a:pt x="2144" y="795"/>
                    </a:lnTo>
                    <a:lnTo>
                      <a:pt x="2129" y="791"/>
                    </a:lnTo>
                    <a:lnTo>
                      <a:pt x="2115" y="786"/>
                    </a:lnTo>
                    <a:lnTo>
                      <a:pt x="2099" y="783"/>
                    </a:lnTo>
                    <a:lnTo>
                      <a:pt x="2085" y="780"/>
                    </a:lnTo>
                    <a:lnTo>
                      <a:pt x="2071" y="777"/>
                    </a:lnTo>
                    <a:lnTo>
                      <a:pt x="2056" y="775"/>
                    </a:lnTo>
                    <a:lnTo>
                      <a:pt x="2042" y="774"/>
                    </a:lnTo>
                    <a:lnTo>
                      <a:pt x="2027" y="774"/>
                    </a:lnTo>
                    <a:lnTo>
                      <a:pt x="2013" y="772"/>
                    </a:lnTo>
                    <a:lnTo>
                      <a:pt x="1999" y="774"/>
                    </a:lnTo>
                    <a:lnTo>
                      <a:pt x="1983" y="774"/>
                    </a:lnTo>
                    <a:lnTo>
                      <a:pt x="1970" y="775"/>
                    </a:lnTo>
                    <a:lnTo>
                      <a:pt x="1956" y="778"/>
                    </a:lnTo>
                    <a:lnTo>
                      <a:pt x="1940" y="780"/>
                    </a:lnTo>
                    <a:lnTo>
                      <a:pt x="1926" y="784"/>
                    </a:lnTo>
                    <a:lnTo>
                      <a:pt x="1911" y="787"/>
                    </a:lnTo>
                    <a:lnTo>
                      <a:pt x="1897" y="792"/>
                    </a:lnTo>
                    <a:lnTo>
                      <a:pt x="1883" y="797"/>
                    </a:lnTo>
                    <a:lnTo>
                      <a:pt x="1868" y="801"/>
                    </a:lnTo>
                    <a:lnTo>
                      <a:pt x="1854" y="806"/>
                    </a:lnTo>
                    <a:lnTo>
                      <a:pt x="1838" y="812"/>
                    </a:lnTo>
                    <a:lnTo>
                      <a:pt x="1824" y="818"/>
                    </a:lnTo>
                    <a:lnTo>
                      <a:pt x="1811" y="826"/>
                    </a:lnTo>
                    <a:lnTo>
                      <a:pt x="1795" y="832"/>
                    </a:lnTo>
                    <a:lnTo>
                      <a:pt x="1781" y="840"/>
                    </a:lnTo>
                    <a:lnTo>
                      <a:pt x="1767" y="848"/>
                    </a:lnTo>
                    <a:lnTo>
                      <a:pt x="1752" y="855"/>
                    </a:lnTo>
                    <a:lnTo>
                      <a:pt x="1738" y="863"/>
                    </a:lnTo>
                    <a:lnTo>
                      <a:pt x="1723" y="872"/>
                    </a:lnTo>
                    <a:lnTo>
                      <a:pt x="1709" y="880"/>
                    </a:lnTo>
                    <a:lnTo>
                      <a:pt x="1695" y="889"/>
                    </a:lnTo>
                    <a:lnTo>
                      <a:pt x="1679" y="899"/>
                    </a:lnTo>
                    <a:lnTo>
                      <a:pt x="1665" y="908"/>
                    </a:lnTo>
                    <a:lnTo>
                      <a:pt x="1652" y="917"/>
                    </a:lnTo>
                    <a:lnTo>
                      <a:pt x="1636" y="926"/>
                    </a:lnTo>
                    <a:lnTo>
                      <a:pt x="1622" y="937"/>
                    </a:lnTo>
                    <a:lnTo>
                      <a:pt x="1607" y="946"/>
                    </a:lnTo>
                    <a:lnTo>
                      <a:pt x="1593" y="956"/>
                    </a:lnTo>
                    <a:lnTo>
                      <a:pt x="1579" y="966"/>
                    </a:lnTo>
                    <a:lnTo>
                      <a:pt x="1564" y="976"/>
                    </a:lnTo>
                    <a:lnTo>
                      <a:pt x="1550" y="987"/>
                    </a:lnTo>
                    <a:lnTo>
                      <a:pt x="1534" y="996"/>
                    </a:lnTo>
                    <a:lnTo>
                      <a:pt x="1520" y="1007"/>
                    </a:lnTo>
                    <a:lnTo>
                      <a:pt x="1506" y="1017"/>
                    </a:lnTo>
                    <a:lnTo>
                      <a:pt x="1491" y="1027"/>
                    </a:lnTo>
                    <a:lnTo>
                      <a:pt x="1477" y="1037"/>
                    </a:lnTo>
                    <a:lnTo>
                      <a:pt x="1463" y="1047"/>
                    </a:lnTo>
                    <a:lnTo>
                      <a:pt x="1448" y="1057"/>
                    </a:lnTo>
                    <a:lnTo>
                      <a:pt x="1434" y="1067"/>
                    </a:lnTo>
                    <a:lnTo>
                      <a:pt x="1418" y="1078"/>
                    </a:lnTo>
                    <a:lnTo>
                      <a:pt x="1405" y="1087"/>
                    </a:lnTo>
                    <a:lnTo>
                      <a:pt x="1391" y="1098"/>
                    </a:lnTo>
                    <a:lnTo>
                      <a:pt x="1375" y="1107"/>
                    </a:lnTo>
                    <a:lnTo>
                      <a:pt x="1361" y="1116"/>
                    </a:lnTo>
                    <a:lnTo>
                      <a:pt x="1347" y="1127"/>
                    </a:lnTo>
                    <a:lnTo>
                      <a:pt x="1332" y="1136"/>
                    </a:lnTo>
                    <a:lnTo>
                      <a:pt x="1318" y="1145"/>
                    </a:lnTo>
                    <a:lnTo>
                      <a:pt x="1303" y="1155"/>
                    </a:lnTo>
                    <a:lnTo>
                      <a:pt x="1289" y="1164"/>
                    </a:lnTo>
                    <a:lnTo>
                      <a:pt x="1275" y="1173"/>
                    </a:lnTo>
                    <a:lnTo>
                      <a:pt x="1259" y="1183"/>
                    </a:lnTo>
                    <a:lnTo>
                      <a:pt x="1246" y="1192"/>
                    </a:lnTo>
                    <a:lnTo>
                      <a:pt x="1230" y="1199"/>
                    </a:lnTo>
                    <a:lnTo>
                      <a:pt x="1216" y="1209"/>
                    </a:lnTo>
                    <a:lnTo>
                      <a:pt x="1202" y="1216"/>
                    </a:lnTo>
                    <a:lnTo>
                      <a:pt x="1187" y="1226"/>
                    </a:lnTo>
                    <a:lnTo>
                      <a:pt x="1173" y="1233"/>
                    </a:lnTo>
                    <a:lnTo>
                      <a:pt x="1159" y="1241"/>
                    </a:lnTo>
                    <a:lnTo>
                      <a:pt x="1144" y="1249"/>
                    </a:lnTo>
                    <a:lnTo>
                      <a:pt x="1130" y="1257"/>
                    </a:lnTo>
                    <a:lnTo>
                      <a:pt x="1114" y="1264"/>
                    </a:lnTo>
                    <a:lnTo>
                      <a:pt x="1100" y="1272"/>
                    </a:lnTo>
                    <a:lnTo>
                      <a:pt x="1087" y="1280"/>
                    </a:lnTo>
                    <a:lnTo>
                      <a:pt x="1071" y="1287"/>
                    </a:lnTo>
                    <a:lnTo>
                      <a:pt x="1057" y="1294"/>
                    </a:lnTo>
                    <a:lnTo>
                      <a:pt x="1042" y="1301"/>
                    </a:lnTo>
                    <a:lnTo>
                      <a:pt x="1028" y="1308"/>
                    </a:lnTo>
                    <a:lnTo>
                      <a:pt x="1014" y="1315"/>
                    </a:lnTo>
                    <a:lnTo>
                      <a:pt x="999" y="1321"/>
                    </a:lnTo>
                    <a:lnTo>
                      <a:pt x="985" y="1328"/>
                    </a:lnTo>
                    <a:lnTo>
                      <a:pt x="971" y="1334"/>
                    </a:lnTo>
                    <a:lnTo>
                      <a:pt x="955" y="1340"/>
                    </a:lnTo>
                    <a:lnTo>
                      <a:pt x="941" y="1346"/>
                    </a:lnTo>
                    <a:lnTo>
                      <a:pt x="926" y="1352"/>
                    </a:lnTo>
                    <a:lnTo>
                      <a:pt x="912" y="1358"/>
                    </a:lnTo>
                    <a:lnTo>
                      <a:pt x="898" y="1363"/>
                    </a:lnTo>
                    <a:lnTo>
                      <a:pt x="883" y="1369"/>
                    </a:lnTo>
                    <a:lnTo>
                      <a:pt x="869" y="1374"/>
                    </a:lnTo>
                    <a:lnTo>
                      <a:pt x="855" y="1380"/>
                    </a:lnTo>
                    <a:lnTo>
                      <a:pt x="840" y="1385"/>
                    </a:lnTo>
                    <a:lnTo>
                      <a:pt x="826" y="1389"/>
                    </a:lnTo>
                    <a:lnTo>
                      <a:pt x="810" y="1394"/>
                    </a:lnTo>
                    <a:lnTo>
                      <a:pt x="796" y="1399"/>
                    </a:lnTo>
                    <a:lnTo>
                      <a:pt x="782" y="1405"/>
                    </a:lnTo>
                    <a:lnTo>
                      <a:pt x="767" y="1408"/>
                    </a:lnTo>
                    <a:lnTo>
                      <a:pt x="753" y="1412"/>
                    </a:lnTo>
                    <a:lnTo>
                      <a:pt x="738" y="1417"/>
                    </a:lnTo>
                    <a:lnTo>
                      <a:pt x="724" y="1422"/>
                    </a:lnTo>
                    <a:lnTo>
                      <a:pt x="710" y="1426"/>
                    </a:lnTo>
                    <a:lnTo>
                      <a:pt x="694" y="1429"/>
                    </a:lnTo>
                    <a:lnTo>
                      <a:pt x="681" y="1434"/>
                    </a:lnTo>
                    <a:lnTo>
                      <a:pt x="667" y="1437"/>
                    </a:lnTo>
                    <a:lnTo>
                      <a:pt x="651" y="1442"/>
                    </a:lnTo>
                    <a:lnTo>
                      <a:pt x="637" y="1445"/>
                    </a:lnTo>
                    <a:lnTo>
                      <a:pt x="622" y="1448"/>
                    </a:lnTo>
                    <a:lnTo>
                      <a:pt x="608" y="1453"/>
                    </a:lnTo>
                    <a:lnTo>
                      <a:pt x="594" y="1456"/>
                    </a:lnTo>
                    <a:lnTo>
                      <a:pt x="579" y="1459"/>
                    </a:lnTo>
                    <a:lnTo>
                      <a:pt x="565" y="1462"/>
                    </a:lnTo>
                    <a:lnTo>
                      <a:pt x="549" y="1465"/>
                    </a:lnTo>
                    <a:lnTo>
                      <a:pt x="536" y="1468"/>
                    </a:lnTo>
                    <a:lnTo>
                      <a:pt x="522" y="1471"/>
                    </a:lnTo>
                    <a:lnTo>
                      <a:pt x="506" y="1474"/>
                    </a:lnTo>
                    <a:lnTo>
                      <a:pt x="492" y="1477"/>
                    </a:lnTo>
                    <a:lnTo>
                      <a:pt x="478" y="1479"/>
                    </a:lnTo>
                    <a:lnTo>
                      <a:pt x="463" y="1482"/>
                    </a:lnTo>
                    <a:lnTo>
                      <a:pt x="449" y="1485"/>
                    </a:lnTo>
                    <a:lnTo>
                      <a:pt x="434" y="1488"/>
                    </a:lnTo>
                    <a:lnTo>
                      <a:pt x="420" y="1490"/>
                    </a:lnTo>
                    <a:lnTo>
                      <a:pt x="406" y="1493"/>
                    </a:lnTo>
                    <a:lnTo>
                      <a:pt x="390" y="1494"/>
                    </a:lnTo>
                    <a:lnTo>
                      <a:pt x="377" y="1497"/>
                    </a:lnTo>
                    <a:lnTo>
                      <a:pt x="361" y="1499"/>
                    </a:lnTo>
                    <a:lnTo>
                      <a:pt x="347" y="1502"/>
                    </a:lnTo>
                    <a:lnTo>
                      <a:pt x="333" y="1504"/>
                    </a:lnTo>
                    <a:lnTo>
                      <a:pt x="318" y="1505"/>
                    </a:lnTo>
                    <a:lnTo>
                      <a:pt x="304" y="1508"/>
                    </a:lnTo>
                    <a:lnTo>
                      <a:pt x="290" y="1510"/>
                    </a:lnTo>
                    <a:lnTo>
                      <a:pt x="275" y="1511"/>
                    </a:lnTo>
                    <a:lnTo>
                      <a:pt x="261" y="1514"/>
                    </a:lnTo>
                    <a:lnTo>
                      <a:pt x="245" y="1516"/>
                    </a:lnTo>
                    <a:lnTo>
                      <a:pt x="231" y="1517"/>
                    </a:lnTo>
                    <a:lnTo>
                      <a:pt x="218" y="1519"/>
                    </a:lnTo>
                    <a:lnTo>
                      <a:pt x="202" y="1520"/>
                    </a:lnTo>
                    <a:lnTo>
                      <a:pt x="188" y="1522"/>
                    </a:lnTo>
                    <a:lnTo>
                      <a:pt x="174" y="1524"/>
                    </a:lnTo>
                    <a:lnTo>
                      <a:pt x="159" y="1525"/>
                    </a:lnTo>
                    <a:lnTo>
                      <a:pt x="145" y="1527"/>
                    </a:lnTo>
                    <a:lnTo>
                      <a:pt x="130" y="1528"/>
                    </a:lnTo>
                    <a:lnTo>
                      <a:pt x="116" y="1530"/>
                    </a:lnTo>
                    <a:lnTo>
                      <a:pt x="102" y="1531"/>
                    </a:lnTo>
                    <a:lnTo>
                      <a:pt x="86" y="1533"/>
                    </a:lnTo>
                    <a:lnTo>
                      <a:pt x="72" y="1534"/>
                    </a:lnTo>
                    <a:lnTo>
                      <a:pt x="59" y="1536"/>
                    </a:lnTo>
                    <a:lnTo>
                      <a:pt x="43" y="1537"/>
                    </a:lnTo>
                    <a:lnTo>
                      <a:pt x="29" y="1539"/>
                    </a:lnTo>
                    <a:lnTo>
                      <a:pt x="14" y="1541"/>
                    </a:lnTo>
                    <a:lnTo>
                      <a:pt x="0" y="154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2887560" y="7113600"/>
                <a:ext cx="1800" cy="73512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2851200" y="7113600"/>
                <a:ext cx="74520" cy="14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2851200" y="7848720"/>
                <a:ext cx="74520" cy="14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3301920" y="6900840"/>
                <a:ext cx="1800" cy="49536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3265560" y="6900840"/>
                <a:ext cx="74520" cy="14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3265560" y="7396200"/>
                <a:ext cx="74520" cy="14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3679920" y="6043680"/>
                <a:ext cx="1440" cy="95256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3643200" y="6043680"/>
                <a:ext cx="73080" cy="14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3643200" y="6996240"/>
                <a:ext cx="73080" cy="14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4130640" y="5856120"/>
                <a:ext cx="1800" cy="8748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4094280" y="5856120"/>
                <a:ext cx="73080" cy="18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4094280" y="6730920"/>
                <a:ext cx="73080" cy="18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5492880" y="5137200"/>
                <a:ext cx="1440" cy="89676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5456160" y="5137200"/>
                <a:ext cx="74520" cy="14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5456160" y="6033960"/>
                <a:ext cx="74520" cy="18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2846520" y="7439040"/>
                <a:ext cx="93600" cy="9360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0" y="30"/>
                    </a:moveTo>
                    <a:lnTo>
                      <a:pt x="30" y="0"/>
                    </a:lnTo>
                    <a:lnTo>
                      <a:pt x="59" y="30"/>
                    </a:lnTo>
                    <a:lnTo>
                      <a:pt x="30" y="5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d400d4"/>
              </a:solidFill>
              <a:ln w="3240">
                <a:solidFill>
                  <a:srgbClr val="d400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3260880" y="7107120"/>
                <a:ext cx="93600" cy="9216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0" y="29"/>
                    </a:moveTo>
                    <a:lnTo>
                      <a:pt x="29" y="0"/>
                    </a:lnTo>
                    <a:lnTo>
                      <a:pt x="59" y="29"/>
                    </a:lnTo>
                    <a:lnTo>
                      <a:pt x="29" y="5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d400d4"/>
              </a:solidFill>
              <a:ln w="3240">
                <a:solidFill>
                  <a:srgbClr val="d400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3638520" y="6478560"/>
                <a:ext cx="93600" cy="9360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0" y="30"/>
                    </a:moveTo>
                    <a:lnTo>
                      <a:pt x="29" y="0"/>
                    </a:lnTo>
                    <a:lnTo>
                      <a:pt x="59" y="30"/>
                    </a:lnTo>
                    <a:lnTo>
                      <a:pt x="29" y="5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d400d4"/>
              </a:solidFill>
              <a:ln w="3240">
                <a:solidFill>
                  <a:srgbClr val="d400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4089240" y="6251400"/>
                <a:ext cx="93960" cy="9396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0" y="29"/>
                    </a:moveTo>
                    <a:lnTo>
                      <a:pt x="29" y="0"/>
                    </a:lnTo>
                    <a:lnTo>
                      <a:pt x="59" y="29"/>
                    </a:lnTo>
                    <a:lnTo>
                      <a:pt x="29" y="5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d400d4"/>
              </a:solidFill>
              <a:ln w="3240">
                <a:solidFill>
                  <a:srgbClr val="d400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5451480" y="5543640"/>
                <a:ext cx="93600" cy="9360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0" y="29"/>
                    </a:moveTo>
                    <a:lnTo>
                      <a:pt x="29" y="0"/>
                    </a:lnTo>
                    <a:lnTo>
                      <a:pt x="59" y="29"/>
                    </a:lnTo>
                    <a:lnTo>
                      <a:pt x="29" y="5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d400d4"/>
              </a:solidFill>
              <a:ln w="3240">
                <a:solidFill>
                  <a:srgbClr val="d400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1370520" y="833580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7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1370520" y="766908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1370520" y="700092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9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1504080" y="633420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1370520" y="566568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1370520" y="499896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.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1473120" y="8510760"/>
                <a:ext cx="432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00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3054960" y="8510760"/>
                <a:ext cx="335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0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4634640" y="851076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6234840" y="851076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3809520" y="8715240"/>
                <a:ext cx="1850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9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x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1825560" y="5192640"/>
                <a:ext cx="758880" cy="28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1927080" y="5299200"/>
                <a:ext cx="7488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23"/>
                    </a:moveTo>
                    <a:lnTo>
                      <a:pt x="24" y="0"/>
                    </a:lnTo>
                    <a:lnTo>
                      <a:pt x="47" y="23"/>
                    </a:lnTo>
                    <a:lnTo>
                      <a:pt x="24" y="4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d400d4"/>
              </a:solidFill>
              <a:ln w="3240">
                <a:solidFill>
                  <a:srgbClr val="d400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2100240" y="5243400"/>
                <a:ext cx="404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E665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4286880" y="7580160"/>
                <a:ext cx="3420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3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Pb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1690560" y="1312920"/>
                <a:ext cx="4604040" cy="333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1685880" y="4645080"/>
                <a:ext cx="4603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1685880" y="1308240"/>
                <a:ext cx="4603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 flipV="1">
                <a:off x="1685880" y="1307880"/>
                <a:ext cx="1800" cy="333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 flipV="1">
                <a:off x="6289560" y="1307880"/>
                <a:ext cx="1800" cy="333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1660680" y="4649760"/>
                <a:ext cx="29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1660680" y="4514760"/>
                <a:ext cx="298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1660680" y="4381560"/>
                <a:ext cx="29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1660680" y="4248000"/>
                <a:ext cx="298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1660680" y="4114800"/>
                <a:ext cx="29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1660680" y="3979800"/>
                <a:ext cx="298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1660680" y="3848040"/>
                <a:ext cx="298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1660680" y="3716280"/>
                <a:ext cx="298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1660680" y="3581280"/>
                <a:ext cx="298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1660680" y="3448080"/>
                <a:ext cx="29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1660680" y="3314880"/>
                <a:ext cx="29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1660680" y="3181320"/>
                <a:ext cx="29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1660680" y="3046320"/>
                <a:ext cx="298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1660680" y="2914560"/>
                <a:ext cx="298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1660680" y="2779560"/>
                <a:ext cx="298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1660680" y="2647800"/>
                <a:ext cx="298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1660680" y="2513160"/>
                <a:ext cx="29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1660680" y="2381400"/>
                <a:ext cx="29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1660680" y="2246400"/>
                <a:ext cx="29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1660680" y="2112840"/>
                <a:ext cx="298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1660680" y="1978200"/>
                <a:ext cx="29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1660680" y="1846440"/>
                <a:ext cx="29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1660680" y="1711440"/>
                <a:ext cx="29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1660680" y="1579680"/>
                <a:ext cx="29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1660680" y="1444680"/>
                <a:ext cx="29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1660680" y="1312920"/>
                <a:ext cx="29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1627200" y="4646520"/>
                <a:ext cx="6048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1627200" y="3978360"/>
                <a:ext cx="6048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1627200" y="3311640"/>
                <a:ext cx="6048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1627200" y="2644920"/>
                <a:ext cx="6048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1627200" y="1976400"/>
                <a:ext cx="6048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1627200" y="1309680"/>
                <a:ext cx="6048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 flipV="1">
                <a:off x="1690560" y="464940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 flipV="1">
                <a:off x="215280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 flipV="1">
                <a:off x="2422440" y="464940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 flipV="1">
                <a:off x="261468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 flipV="1">
                <a:off x="2763720" y="464940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 flipV="1">
                <a:off x="288612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 flipV="1">
                <a:off x="298620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 flipV="1">
                <a:off x="307656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 flipV="1">
                <a:off x="315612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 flipV="1">
                <a:off x="322740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 flipV="1">
                <a:off x="368784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 flipV="1">
                <a:off x="3957480" y="464940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 flipV="1">
                <a:off x="414972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 flipV="1">
                <a:off x="4297320" y="464940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 flipV="1">
                <a:off x="441972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 flipV="1">
                <a:off x="4522680" y="464940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 flipV="1">
                <a:off x="4611600" y="464940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 flipV="1">
                <a:off x="4689360" y="464940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 flipV="1">
                <a:off x="476100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 flipV="1">
                <a:off x="522144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 flipV="1">
                <a:off x="549288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 flipV="1">
                <a:off x="5684760" y="464940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 flipV="1">
                <a:off x="583416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 flipV="1">
                <a:off x="595476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 flipV="1">
                <a:off x="6056280" y="464940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 flipV="1">
                <a:off x="614844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 flipV="1">
                <a:off x="622620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 flipV="1">
                <a:off x="629460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 flipV="1">
                <a:off x="1687680" y="4646520"/>
                <a:ext cx="1440" cy="61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 flipV="1">
                <a:off x="3224160" y="4646520"/>
                <a:ext cx="1800" cy="61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 flipV="1">
                <a:off x="4757760" y="4646520"/>
                <a:ext cx="1440" cy="61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 flipV="1">
                <a:off x="6292800" y="4646520"/>
                <a:ext cx="1800" cy="61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 flipV="1">
                <a:off x="1690560" y="26161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 flipV="1">
                <a:off x="215280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 flipV="1">
                <a:off x="2422440" y="26161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 flipV="1">
                <a:off x="261468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 flipV="1">
                <a:off x="2763720" y="26161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 flipV="1">
                <a:off x="288612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 flipV="1">
                <a:off x="298620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 flipV="1">
                <a:off x="307656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 flipV="1">
                <a:off x="315612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 flipV="1">
                <a:off x="322740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 flipV="1">
                <a:off x="368784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 flipV="1">
                <a:off x="3957480" y="26161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 flipV="1">
                <a:off x="414972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 flipV="1">
                <a:off x="4297320" y="26161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 flipV="1">
                <a:off x="441972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 flipV="1">
                <a:off x="4522680" y="26161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 flipV="1">
                <a:off x="4611600" y="26161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 flipV="1">
                <a:off x="4689360" y="26161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 flipV="1">
                <a:off x="476100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 flipV="1">
                <a:off x="522144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 flipV="1">
                <a:off x="549288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 flipV="1">
                <a:off x="5684760" y="26161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 flipV="1">
                <a:off x="583416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 flipV="1">
                <a:off x="595476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 flipV="1">
                <a:off x="6056280" y="26161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 flipV="1">
                <a:off x="614844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 flipV="1">
                <a:off x="622620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 flipV="1">
                <a:off x="629460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 flipV="1">
                <a:off x="1687680" y="2584440"/>
                <a:ext cx="1440" cy="604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 flipV="1">
                <a:off x="3224160" y="2584440"/>
                <a:ext cx="1800" cy="604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 flipV="1">
                <a:off x="4757760" y="2584440"/>
                <a:ext cx="1440" cy="604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 flipV="1">
                <a:off x="6292800" y="2584440"/>
                <a:ext cx="1800" cy="604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 flipV="1">
                <a:off x="1685880" y="1307880"/>
                <a:ext cx="1800" cy="333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1685880" y="4645080"/>
                <a:ext cx="4603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1685880" y="2643120"/>
                <a:ext cx="4603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6191280" y="1312920"/>
                <a:ext cx="9360" cy="42840"/>
              </a:xfrm>
              <a:custGeom>
                <a:avLst/>
                <a:gdLst/>
                <a:ahLst/>
                <a:rect l="l" t="t" r="r" b="b"/>
                <a:pathLst>
                  <a:path w="6" h="27">
                    <a:moveTo>
                      <a:pt x="2" y="0"/>
                    </a:moveTo>
                    <a:lnTo>
                      <a:pt x="0" y="26"/>
                    </a:lnTo>
                    <a:lnTo>
                      <a:pt x="5" y="27"/>
                    </a:lnTo>
                    <a:lnTo>
                      <a:pt x="6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6189840" y="1434960"/>
                <a:ext cx="9360" cy="4140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1" y="0"/>
                    </a:moveTo>
                    <a:lnTo>
                      <a:pt x="0" y="25"/>
                    </a:lnTo>
                    <a:lnTo>
                      <a:pt x="4" y="26"/>
                    </a:lnTo>
                    <a:lnTo>
                      <a:pt x="6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6189840" y="1557360"/>
                <a:ext cx="936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6186600" y="1679400"/>
                <a:ext cx="936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6184800" y="1800360"/>
                <a:ext cx="9720" cy="41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6181560" y="1922400"/>
                <a:ext cx="9720" cy="39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6180120" y="2039760"/>
                <a:ext cx="9720" cy="4464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1" y="0"/>
                    </a:moveTo>
                    <a:lnTo>
                      <a:pt x="0" y="26"/>
                    </a:lnTo>
                    <a:lnTo>
                      <a:pt x="4" y="28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6180120" y="2165400"/>
                <a:ext cx="97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6176880" y="2284560"/>
                <a:ext cx="972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6173640" y="2408400"/>
                <a:ext cx="11160" cy="37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6172200" y="2527200"/>
                <a:ext cx="936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6172200" y="2649600"/>
                <a:ext cx="936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6168960" y="2665440"/>
                <a:ext cx="11160" cy="2376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2" y="0"/>
                    </a:moveTo>
                    <a:lnTo>
                      <a:pt x="0" y="13"/>
                    </a:lnTo>
                    <a:lnTo>
                      <a:pt x="5" y="15"/>
                    </a:lnTo>
                    <a:lnTo>
                      <a:pt x="7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6164280" y="2766960"/>
                <a:ext cx="9360" cy="4464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2" y="0"/>
                    </a:moveTo>
                    <a:lnTo>
                      <a:pt x="0" y="27"/>
                    </a:lnTo>
                    <a:lnTo>
                      <a:pt x="5" y="28"/>
                    </a:lnTo>
                    <a:lnTo>
                      <a:pt x="6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6162840" y="2892600"/>
                <a:ext cx="9360" cy="39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6157800" y="3009960"/>
                <a:ext cx="9720" cy="4428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1" y="0"/>
                    </a:moveTo>
                    <a:lnTo>
                      <a:pt x="0" y="26"/>
                    </a:lnTo>
                    <a:lnTo>
                      <a:pt x="4" y="28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6153120" y="3132000"/>
                <a:ext cx="9720" cy="42840"/>
              </a:xfrm>
              <a:custGeom>
                <a:avLst/>
                <a:gdLst/>
                <a:ahLst/>
                <a:rect l="l" t="t" r="r" b="b"/>
                <a:pathLst>
                  <a:path w="6" h="27">
                    <a:moveTo>
                      <a:pt x="1" y="0"/>
                    </a:moveTo>
                    <a:lnTo>
                      <a:pt x="0" y="25"/>
                    </a:lnTo>
                    <a:lnTo>
                      <a:pt x="4" y="27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6149880" y="3254400"/>
                <a:ext cx="972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6148440" y="3378240"/>
                <a:ext cx="9360" cy="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6145200" y="3379680"/>
                <a:ext cx="9360" cy="3672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2" y="0"/>
                    </a:moveTo>
                    <a:lnTo>
                      <a:pt x="0" y="22"/>
                    </a:lnTo>
                    <a:lnTo>
                      <a:pt x="5" y="23"/>
                    </a:lnTo>
                    <a:lnTo>
                      <a:pt x="6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6137280" y="3495600"/>
                <a:ext cx="11160" cy="446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2" y="0"/>
                    </a:moveTo>
                    <a:lnTo>
                      <a:pt x="0" y="26"/>
                    </a:lnTo>
                    <a:lnTo>
                      <a:pt x="5" y="28"/>
                    </a:lnTo>
                    <a:lnTo>
                      <a:pt x="7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6130800" y="3618000"/>
                <a:ext cx="9720" cy="4104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1" y="0"/>
                    </a:moveTo>
                    <a:lnTo>
                      <a:pt x="0" y="25"/>
                    </a:lnTo>
                    <a:lnTo>
                      <a:pt x="4" y="26"/>
                    </a:lnTo>
                    <a:lnTo>
                      <a:pt x="6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6118200" y="3738600"/>
                <a:ext cx="14400" cy="4284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5" y="0"/>
                    </a:moveTo>
                    <a:lnTo>
                      <a:pt x="0" y="26"/>
                    </a:lnTo>
                    <a:lnTo>
                      <a:pt x="5" y="27"/>
                    </a:lnTo>
                    <a:lnTo>
                      <a:pt x="9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6100920" y="3860640"/>
                <a:ext cx="12600" cy="41400"/>
              </a:xfrm>
              <a:custGeom>
                <a:avLst/>
                <a:gdLst/>
                <a:ahLst/>
                <a:rect l="l" t="t" r="r" b="b"/>
                <a:pathLst>
                  <a:path w="8" h="26">
                    <a:moveTo>
                      <a:pt x="3" y="0"/>
                    </a:moveTo>
                    <a:lnTo>
                      <a:pt x="0" y="24"/>
                    </a:lnTo>
                    <a:lnTo>
                      <a:pt x="5" y="26"/>
                    </a:lnTo>
                    <a:lnTo>
                      <a:pt x="8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6059520" y="397368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1" y="0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12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6037200" y="39625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7" y="11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12" y="16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5987880" y="3870360"/>
                <a:ext cx="1764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15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6" y="17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5981760" y="385596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9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4" y="10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5942160" y="3757680"/>
                <a:ext cx="14040" cy="237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14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4" y="15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5934240" y="374328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9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5" y="10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5896080" y="3639960"/>
                <a:ext cx="15840" cy="2880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10" y="17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6" y="18"/>
                    </a:lnTo>
                    <a:lnTo>
                      <a:pt x="1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5889600" y="362736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8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4" y="9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5848200" y="3522600"/>
                <a:ext cx="20880" cy="3168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8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8" y="20"/>
                    </a:lnTo>
                    <a:lnTo>
                      <a:pt x="1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5843520" y="35132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6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5802480" y="341136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16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6" y="17"/>
                    </a:lnTo>
                    <a:lnTo>
                      <a:pt x="1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5797440" y="340056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7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3" y="9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5757840" y="330660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8" y="9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3" y="11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5745240" y="3284640"/>
                <a:ext cx="20520" cy="237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14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8" y="15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5711760" y="3208320"/>
                <a:ext cx="972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5694480" y="317196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15" y="22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11" y="23"/>
                    </a:lnTo>
                    <a:lnTo>
                      <a:pt x="1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5643720" y="306864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9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9" y="20"/>
                    </a:lnTo>
                    <a:lnTo>
                      <a:pt x="1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5637240" y="305928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5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5595840" y="2986200"/>
                <a:ext cx="972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3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2" y="4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5578560" y="2954160"/>
                <a:ext cx="2520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16" y="20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11" y="21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5527800" y="287028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8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5" y="13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5510160" y="2846520"/>
                <a:ext cx="25560" cy="316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15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11" y="20"/>
                    </a:lnTo>
                    <a:lnTo>
                      <a:pt x="1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5459400" y="27795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5433840" y="2747880"/>
                <a:ext cx="32040" cy="3672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19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16" y="23"/>
                    </a:lnTo>
                    <a:lnTo>
                      <a:pt x="2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5365800" y="267660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6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8" y="11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5346720" y="26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2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12" y="17"/>
                    </a:lnTo>
                    <a:lnTo>
                      <a:pt x="1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5278320" y="260676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1"/>
                    </a:moveTo>
                    <a:lnTo>
                      <a:pt x="1" y="0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5251320" y="2590920"/>
                <a:ext cx="32040" cy="2196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1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15" y="14"/>
                    </a:ln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5243400" y="2585880"/>
                <a:ext cx="14400" cy="129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3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5" y="8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5165640" y="2554200"/>
                <a:ext cx="46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5138640" y="254628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7" y="5"/>
                    </a:moveTo>
                    <a:lnTo>
                      <a:pt x="1" y="0"/>
                    </a:lnTo>
                    <a:lnTo>
                      <a:pt x="0" y="5"/>
                    </a:lnTo>
                    <a:lnTo>
                      <a:pt x="15" y="10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5126040" y="2544840"/>
                <a:ext cx="14400" cy="93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1"/>
                    </a:moveTo>
                    <a:lnTo>
                      <a:pt x="1" y="0"/>
                    </a:lnTo>
                    <a:lnTo>
                      <a:pt x="0" y="5"/>
                    </a:lnTo>
                    <a:lnTo>
                      <a:pt x="8" y="6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5025960" y="2536920"/>
                <a:ext cx="20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5008680" y="253692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4910040" y="254952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9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1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4886280" y="255276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5" y="0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17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1" name=""/>
            <p:cNvSpPr/>
            <p:nvPr/>
          </p:nvSpPr>
          <p:spPr>
            <a:xfrm>
              <a:off x="4879800" y="255888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2" y="0"/>
                  </a:moveTo>
                  <a:lnTo>
                    <a:pt x="0" y="2"/>
                  </a:lnTo>
                  <a:lnTo>
                    <a:pt x="5" y="6"/>
                  </a:lnTo>
                  <a:lnTo>
                    <a:pt x="7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4794120" y="258588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5" y="0"/>
                  </a:moveTo>
                  <a:lnTo>
                    <a:pt x="0" y="2"/>
                  </a:lnTo>
                  <a:lnTo>
                    <a:pt x="2" y="6"/>
                  </a:lnTo>
                  <a:lnTo>
                    <a:pt x="7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4770360" y="2589120"/>
              <a:ext cx="27000" cy="176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5" y="0"/>
                  </a:moveTo>
                  <a:lnTo>
                    <a:pt x="0" y="6"/>
                  </a:lnTo>
                  <a:lnTo>
                    <a:pt x="2" y="11"/>
                  </a:lnTo>
                  <a:lnTo>
                    <a:pt x="17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4761000" y="2598840"/>
              <a:ext cx="1404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0"/>
                  </a:moveTo>
                  <a:lnTo>
                    <a:pt x="0" y="3"/>
                  </a:lnTo>
                  <a:lnTo>
                    <a:pt x="4" y="8"/>
                  </a:lnTo>
                  <a:lnTo>
                    <a:pt x="9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4676760" y="263844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2" y="0"/>
                  </a:moveTo>
                  <a:lnTo>
                    <a:pt x="0" y="1"/>
                  </a:lnTo>
                  <a:lnTo>
                    <a:pt x="5" y="6"/>
                  </a:lnTo>
                  <a:lnTo>
                    <a:pt x="7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4654440" y="2639880"/>
              <a:ext cx="27000" cy="176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6" y="0"/>
                  </a:moveTo>
                  <a:lnTo>
                    <a:pt x="0" y="6"/>
                  </a:lnTo>
                  <a:lnTo>
                    <a:pt x="2" y="11"/>
                  </a:lnTo>
                  <a:lnTo>
                    <a:pt x="17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4640400" y="264960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8" y="0"/>
                  </a:moveTo>
                  <a:lnTo>
                    <a:pt x="0" y="5"/>
                  </a:lnTo>
                  <a:lnTo>
                    <a:pt x="5" y="10"/>
                  </a:lnTo>
                  <a:lnTo>
                    <a:pt x="13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4564080" y="269712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5" y="0"/>
                  </a:moveTo>
                  <a:lnTo>
                    <a:pt x="0" y="1"/>
                  </a:lnTo>
                  <a:lnTo>
                    <a:pt x="2" y="6"/>
                  </a:lnTo>
                  <a:lnTo>
                    <a:pt x="7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4540320" y="269892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5" y="0"/>
                  </a:moveTo>
                  <a:lnTo>
                    <a:pt x="0" y="8"/>
                  </a:lnTo>
                  <a:lnTo>
                    <a:pt x="1" y="13"/>
                  </a:lnTo>
                  <a:lnTo>
                    <a:pt x="17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4535640" y="2711520"/>
              <a:ext cx="612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0"/>
                  </a:moveTo>
                  <a:lnTo>
                    <a:pt x="0" y="1"/>
                  </a:lnTo>
                  <a:lnTo>
                    <a:pt x="1" y="6"/>
                  </a:lnTo>
                  <a:lnTo>
                    <a:pt x="4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4446720" y="2757600"/>
              <a:ext cx="20520" cy="1404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8" y="0"/>
                  </a:moveTo>
                  <a:lnTo>
                    <a:pt x="0" y="5"/>
                  </a:lnTo>
                  <a:lnTo>
                    <a:pt x="5" y="9"/>
                  </a:lnTo>
                  <a:lnTo>
                    <a:pt x="13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4427640" y="276552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4" y="0"/>
                  </a:moveTo>
                  <a:lnTo>
                    <a:pt x="0" y="8"/>
                  </a:lnTo>
                  <a:lnTo>
                    <a:pt x="1" y="12"/>
                  </a:lnTo>
                  <a:lnTo>
                    <a:pt x="15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4422600" y="277812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0"/>
                  </a:moveTo>
                  <a:lnTo>
                    <a:pt x="0" y="1"/>
                  </a:lnTo>
                  <a:lnTo>
                    <a:pt x="4" y="6"/>
                  </a:lnTo>
                  <a:lnTo>
                    <a:pt x="6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4334040" y="2820960"/>
              <a:ext cx="20520" cy="176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1" y="0"/>
                  </a:moveTo>
                  <a:lnTo>
                    <a:pt x="0" y="6"/>
                  </a:lnTo>
                  <a:lnTo>
                    <a:pt x="2" y="11"/>
                  </a:lnTo>
                  <a:lnTo>
                    <a:pt x="13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4311720" y="283068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3" y="0"/>
                  </a:moveTo>
                  <a:lnTo>
                    <a:pt x="0" y="8"/>
                  </a:lnTo>
                  <a:lnTo>
                    <a:pt x="5" y="13"/>
                  </a:lnTo>
                  <a:lnTo>
                    <a:pt x="17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4219560" y="2887560"/>
              <a:ext cx="27000" cy="1908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15" y="0"/>
                  </a:moveTo>
                  <a:lnTo>
                    <a:pt x="0" y="8"/>
                  </a:lnTo>
                  <a:lnTo>
                    <a:pt x="1" y="12"/>
                  </a:lnTo>
                  <a:lnTo>
                    <a:pt x="17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4203720" y="2900520"/>
              <a:ext cx="20520" cy="172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0"/>
                  </a:moveTo>
                  <a:lnTo>
                    <a:pt x="0" y="6"/>
                  </a:lnTo>
                  <a:lnTo>
                    <a:pt x="5" y="11"/>
                  </a:lnTo>
                  <a:lnTo>
                    <a:pt x="13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4129200" y="2951280"/>
              <a:ext cx="612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0"/>
                  </a:moveTo>
                  <a:lnTo>
                    <a:pt x="0" y="2"/>
                  </a:lnTo>
                  <a:lnTo>
                    <a:pt x="1" y="6"/>
                  </a:lnTo>
                  <a:lnTo>
                    <a:pt x="4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4103640" y="2954160"/>
              <a:ext cx="27000" cy="1908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16" y="0"/>
                  </a:moveTo>
                  <a:lnTo>
                    <a:pt x="0" y="7"/>
                  </a:lnTo>
                  <a:lnTo>
                    <a:pt x="2" y="12"/>
                  </a:lnTo>
                  <a:lnTo>
                    <a:pt x="17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4094280" y="2965320"/>
              <a:ext cx="1404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lnTo>
                    <a:pt x="0" y="3"/>
                  </a:lnTo>
                  <a:lnTo>
                    <a:pt x="5" y="8"/>
                  </a:lnTo>
                  <a:lnTo>
                    <a:pt x="9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4013280" y="301320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lnTo>
                    <a:pt x="0" y="3"/>
                  </a:lnTo>
                  <a:lnTo>
                    <a:pt x="2" y="7"/>
                  </a:lnTo>
                  <a:lnTo>
                    <a:pt x="8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3989520" y="3017880"/>
              <a:ext cx="27000" cy="1908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15" y="0"/>
                  </a:moveTo>
                  <a:lnTo>
                    <a:pt x="0" y="8"/>
                  </a:lnTo>
                  <a:lnTo>
                    <a:pt x="1" y="12"/>
                  </a:lnTo>
                  <a:lnTo>
                    <a:pt x="17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3983040" y="303048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2" y="0"/>
                  </a:moveTo>
                  <a:lnTo>
                    <a:pt x="0" y="1"/>
                  </a:lnTo>
                  <a:lnTo>
                    <a:pt x="5" y="6"/>
                  </a:lnTo>
                  <a:lnTo>
                    <a:pt x="7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3897360" y="3071880"/>
              <a:ext cx="1728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0" y="0"/>
                  </a:moveTo>
                  <a:lnTo>
                    <a:pt x="0" y="4"/>
                  </a:lnTo>
                  <a:lnTo>
                    <a:pt x="2" y="9"/>
                  </a:lnTo>
                  <a:lnTo>
                    <a:pt x="11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3876840" y="3078000"/>
              <a:ext cx="23760" cy="20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3" y="0"/>
                  </a:moveTo>
                  <a:lnTo>
                    <a:pt x="0" y="8"/>
                  </a:lnTo>
                  <a:lnTo>
                    <a:pt x="1" y="13"/>
                  </a:lnTo>
                  <a:lnTo>
                    <a:pt x="15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3782880" y="3127320"/>
              <a:ext cx="22320" cy="176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2" y="0"/>
                  </a:moveTo>
                  <a:lnTo>
                    <a:pt x="0" y="6"/>
                  </a:lnTo>
                  <a:lnTo>
                    <a:pt x="1" y="11"/>
                  </a:lnTo>
                  <a:lnTo>
                    <a:pt x="14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3763800" y="31370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2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13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3666960" y="318132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lnTo>
                    <a:pt x="0" y="5"/>
                  </a:lnTo>
                  <a:lnTo>
                    <a:pt x="2" y="9"/>
                  </a:lnTo>
                  <a:lnTo>
                    <a:pt x="13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3645000" y="3189240"/>
              <a:ext cx="25200" cy="17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4" y="0"/>
                  </a:moveTo>
                  <a:lnTo>
                    <a:pt x="0" y="6"/>
                  </a:lnTo>
                  <a:lnTo>
                    <a:pt x="2" y="11"/>
                  </a:lnTo>
                  <a:lnTo>
                    <a:pt x="16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3552840" y="3233880"/>
              <a:ext cx="14400" cy="108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9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3530520" y="3238560"/>
              <a:ext cx="23760" cy="144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4" y="0"/>
                  </a:moveTo>
                  <a:lnTo>
                    <a:pt x="0" y="4"/>
                  </a:lnTo>
                  <a:lnTo>
                    <a:pt x="1" y="9"/>
                  </a:lnTo>
                  <a:lnTo>
                    <a:pt x="15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3522600" y="324468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0"/>
                  </a:moveTo>
                  <a:lnTo>
                    <a:pt x="0" y="2"/>
                  </a:lnTo>
                  <a:lnTo>
                    <a:pt x="2" y="6"/>
                  </a:lnTo>
                  <a:lnTo>
                    <a:pt x="6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3436920" y="32796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1"/>
                  </a:lnTo>
                  <a:lnTo>
                    <a:pt x="2" y="6"/>
                  </a:lnTo>
                  <a:lnTo>
                    <a:pt x="5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3414600" y="328140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4" y="0"/>
                  </a:moveTo>
                  <a:lnTo>
                    <a:pt x="0" y="5"/>
                  </a:lnTo>
                  <a:lnTo>
                    <a:pt x="2" y="10"/>
                  </a:lnTo>
                  <a:lnTo>
                    <a:pt x="16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3403440" y="328932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0"/>
                  </a:moveTo>
                  <a:lnTo>
                    <a:pt x="0" y="3"/>
                  </a:lnTo>
                  <a:lnTo>
                    <a:pt x="1" y="8"/>
                  </a:lnTo>
                  <a:lnTo>
                    <a:pt x="9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3300480" y="3321000"/>
              <a:ext cx="23760" cy="144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4" y="0"/>
                  </a:moveTo>
                  <a:lnTo>
                    <a:pt x="0" y="5"/>
                  </a:lnTo>
                  <a:lnTo>
                    <a:pt x="1" y="9"/>
                  </a:lnTo>
                  <a:lnTo>
                    <a:pt x="15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3279600" y="332892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0"/>
                  </a:moveTo>
                  <a:lnTo>
                    <a:pt x="0" y="4"/>
                  </a:lnTo>
                  <a:lnTo>
                    <a:pt x="2" y="9"/>
                  </a:lnTo>
                  <a:lnTo>
                    <a:pt x="14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3184560" y="3357720"/>
              <a:ext cx="17280" cy="126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0" y="0"/>
                  </a:moveTo>
                  <a:lnTo>
                    <a:pt x="0" y="3"/>
                  </a:lnTo>
                  <a:lnTo>
                    <a:pt x="2" y="8"/>
                  </a:lnTo>
                  <a:lnTo>
                    <a:pt x="11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3162240" y="3362400"/>
              <a:ext cx="2556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4" y="0"/>
                  </a:moveTo>
                  <a:lnTo>
                    <a:pt x="0" y="3"/>
                  </a:lnTo>
                  <a:lnTo>
                    <a:pt x="2" y="8"/>
                  </a:lnTo>
                  <a:lnTo>
                    <a:pt x="16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3157560" y="33670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0"/>
                  </a:moveTo>
                  <a:lnTo>
                    <a:pt x="0" y="2"/>
                  </a:lnTo>
                  <a:lnTo>
                    <a:pt x="5" y="7"/>
                  </a:lnTo>
                  <a:lnTo>
                    <a:pt x="6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3071880" y="339264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3048120" y="3392640"/>
              <a:ext cx="23760" cy="126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4" y="0"/>
                  </a:moveTo>
                  <a:lnTo>
                    <a:pt x="0" y="3"/>
                  </a:lnTo>
                  <a:lnTo>
                    <a:pt x="1" y="8"/>
                  </a:lnTo>
                  <a:lnTo>
                    <a:pt x="15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3038400" y="339732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0"/>
                  </a:moveTo>
                  <a:lnTo>
                    <a:pt x="0" y="3"/>
                  </a:lnTo>
                  <a:lnTo>
                    <a:pt x="1" y="8"/>
                  </a:lnTo>
                  <a:lnTo>
                    <a:pt x="7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2957400" y="3419640"/>
              <a:ext cx="18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2932200" y="3419640"/>
              <a:ext cx="2520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4" y="0"/>
                  </a:moveTo>
                  <a:lnTo>
                    <a:pt x="0" y="3"/>
                  </a:lnTo>
                  <a:lnTo>
                    <a:pt x="2" y="8"/>
                  </a:lnTo>
                  <a:lnTo>
                    <a:pt x="16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2917800" y="3424320"/>
              <a:ext cx="17640" cy="126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9" y="0"/>
                  </a:moveTo>
                  <a:lnTo>
                    <a:pt x="0" y="3"/>
                  </a:lnTo>
                  <a:lnTo>
                    <a:pt x="2" y="8"/>
                  </a:lnTo>
                  <a:lnTo>
                    <a:pt x="11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2817720" y="3446640"/>
              <a:ext cx="22320" cy="9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2" y="0"/>
                  </a:moveTo>
                  <a:lnTo>
                    <a:pt x="0" y="1"/>
                  </a:lnTo>
                  <a:lnTo>
                    <a:pt x="1" y="6"/>
                  </a:lnTo>
                  <a:lnTo>
                    <a:pt x="14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2795760" y="3448080"/>
              <a:ext cx="23760" cy="126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4" y="0"/>
                  </a:moveTo>
                  <a:lnTo>
                    <a:pt x="0" y="3"/>
                  </a:lnTo>
                  <a:lnTo>
                    <a:pt x="1" y="8"/>
                  </a:lnTo>
                  <a:lnTo>
                    <a:pt x="15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2705040" y="3468600"/>
              <a:ext cx="11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2679840" y="3468600"/>
              <a:ext cx="25200" cy="111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4" y="0"/>
                  </a:moveTo>
                  <a:lnTo>
                    <a:pt x="0" y="3"/>
                  </a:lnTo>
                  <a:lnTo>
                    <a:pt x="2" y="7"/>
                  </a:lnTo>
                  <a:lnTo>
                    <a:pt x="16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2674800" y="34732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1"/>
                  </a:lnTo>
                  <a:lnTo>
                    <a:pt x="2" y="6"/>
                  </a:lnTo>
                  <a:lnTo>
                    <a:pt x="5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2589120" y="3487680"/>
              <a:ext cx="79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2565360" y="3487680"/>
              <a:ext cx="23760" cy="972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4" y="0"/>
                  </a:moveTo>
                  <a:lnTo>
                    <a:pt x="0" y="2"/>
                  </a:lnTo>
                  <a:lnTo>
                    <a:pt x="1" y="6"/>
                  </a:lnTo>
                  <a:lnTo>
                    <a:pt x="15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2552760" y="3490920"/>
              <a:ext cx="1440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0" y="1"/>
                  </a:lnTo>
                  <a:lnTo>
                    <a:pt x="2" y="6"/>
                  </a:lnTo>
                  <a:lnTo>
                    <a:pt x="9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2449440" y="3502080"/>
              <a:ext cx="2556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4" y="0"/>
                  </a:moveTo>
                  <a:lnTo>
                    <a:pt x="0" y="3"/>
                  </a:lnTo>
                  <a:lnTo>
                    <a:pt x="2" y="8"/>
                  </a:lnTo>
                  <a:lnTo>
                    <a:pt x="16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2432160" y="350676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1" y="0"/>
                  </a:moveTo>
                  <a:lnTo>
                    <a:pt x="0" y="2"/>
                  </a:lnTo>
                  <a:lnTo>
                    <a:pt x="2" y="7"/>
                  </a:lnTo>
                  <a:lnTo>
                    <a:pt x="13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2336760" y="3519360"/>
              <a:ext cx="176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2313000" y="3519360"/>
              <a:ext cx="23760" cy="972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4" y="0"/>
                  </a:moveTo>
                  <a:lnTo>
                    <a:pt x="0" y="2"/>
                  </a:lnTo>
                  <a:lnTo>
                    <a:pt x="1" y="6"/>
                  </a:lnTo>
                  <a:lnTo>
                    <a:pt x="15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2308320" y="35226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0"/>
                  </a:moveTo>
                  <a:lnTo>
                    <a:pt x="0" y="1"/>
                  </a:lnTo>
                  <a:lnTo>
                    <a:pt x="4" y="6"/>
                  </a:lnTo>
                  <a:lnTo>
                    <a:pt x="6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2222640" y="353376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2200320" y="3533760"/>
              <a:ext cx="22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2190600" y="35337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4" y="0"/>
                  </a:moveTo>
                  <a:lnTo>
                    <a:pt x="0" y="2"/>
                  </a:lnTo>
                  <a:lnTo>
                    <a:pt x="1" y="7"/>
                  </a:lnTo>
                  <a:lnTo>
                    <a:pt x="6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2106720" y="3544920"/>
              <a:ext cx="46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2082960" y="3544920"/>
              <a:ext cx="23760" cy="93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4" y="0"/>
                  </a:moveTo>
                  <a:lnTo>
                    <a:pt x="0" y="1"/>
                  </a:lnTo>
                  <a:lnTo>
                    <a:pt x="1" y="6"/>
                  </a:lnTo>
                  <a:lnTo>
                    <a:pt x="15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2066760" y="3546360"/>
              <a:ext cx="17640" cy="9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0" y="0"/>
                  </a:moveTo>
                  <a:lnTo>
                    <a:pt x="0" y="2"/>
                  </a:lnTo>
                  <a:lnTo>
                    <a:pt x="2" y="6"/>
                  </a:lnTo>
                  <a:lnTo>
                    <a:pt x="11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1969920" y="3556080"/>
              <a:ext cx="19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1947960" y="3556080"/>
              <a:ext cx="21960" cy="9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2" y="0"/>
                  </a:moveTo>
                  <a:lnTo>
                    <a:pt x="0" y="2"/>
                  </a:lnTo>
                  <a:lnTo>
                    <a:pt x="1" y="6"/>
                  </a:lnTo>
                  <a:lnTo>
                    <a:pt x="14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1854360" y="3565440"/>
              <a:ext cx="140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1830240" y="3565440"/>
              <a:ext cx="241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1822320" y="356544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0"/>
                  </a:moveTo>
                  <a:lnTo>
                    <a:pt x="0" y="2"/>
                  </a:lnTo>
                  <a:lnTo>
                    <a:pt x="5" y="7"/>
                  </a:lnTo>
                  <a:lnTo>
                    <a:pt x="6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1739880" y="3573360"/>
              <a:ext cx="64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1717560" y="3573360"/>
              <a:ext cx="223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1704960" y="3573360"/>
              <a:ext cx="1260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6" y="0"/>
                  </a:moveTo>
                  <a:lnTo>
                    <a:pt x="0" y="2"/>
                  </a:lnTo>
                  <a:lnTo>
                    <a:pt x="1" y="6"/>
                  </a:lnTo>
                  <a:lnTo>
                    <a:pt x="8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1685880" y="1308240"/>
              <a:ext cx="4522680" cy="2647800"/>
            </a:xfrm>
            <a:custGeom>
              <a:avLst/>
              <a:gdLst/>
              <a:ahLst/>
              <a:rect l="l" t="t" r="r" b="b"/>
              <a:pathLst>
                <a:path w="2849" h="1668">
                  <a:moveTo>
                    <a:pt x="2849" y="0"/>
                  </a:moveTo>
                  <a:lnTo>
                    <a:pt x="2838" y="487"/>
                  </a:lnTo>
                  <a:lnTo>
                    <a:pt x="2824" y="935"/>
                  </a:lnTo>
                  <a:lnTo>
                    <a:pt x="2809" y="1234"/>
                  </a:lnTo>
                  <a:lnTo>
                    <a:pt x="2795" y="1430"/>
                  </a:lnTo>
                  <a:lnTo>
                    <a:pt x="2780" y="1554"/>
                  </a:lnTo>
                  <a:lnTo>
                    <a:pt x="2766" y="1625"/>
                  </a:lnTo>
                  <a:lnTo>
                    <a:pt x="2752" y="1660"/>
                  </a:lnTo>
                  <a:lnTo>
                    <a:pt x="2736" y="1668"/>
                  </a:lnTo>
                  <a:lnTo>
                    <a:pt x="2723" y="1657"/>
                  </a:lnTo>
                  <a:lnTo>
                    <a:pt x="2709" y="1632"/>
                  </a:lnTo>
                  <a:lnTo>
                    <a:pt x="2693" y="1600"/>
                  </a:lnTo>
                  <a:lnTo>
                    <a:pt x="2679" y="1560"/>
                  </a:lnTo>
                  <a:lnTo>
                    <a:pt x="2664" y="1517"/>
                  </a:lnTo>
                  <a:lnTo>
                    <a:pt x="2650" y="1472"/>
                  </a:lnTo>
                  <a:lnTo>
                    <a:pt x="2636" y="1427"/>
                  </a:lnTo>
                  <a:lnTo>
                    <a:pt x="2621" y="1384"/>
                  </a:lnTo>
                  <a:lnTo>
                    <a:pt x="2607" y="1341"/>
                  </a:lnTo>
                  <a:lnTo>
                    <a:pt x="2591" y="1301"/>
                  </a:lnTo>
                  <a:lnTo>
                    <a:pt x="2577" y="1262"/>
                  </a:lnTo>
                  <a:lnTo>
                    <a:pt x="2564" y="1226"/>
                  </a:lnTo>
                  <a:lnTo>
                    <a:pt x="2548" y="1193"/>
                  </a:lnTo>
                  <a:lnTo>
                    <a:pt x="2534" y="1162"/>
                  </a:lnTo>
                  <a:lnTo>
                    <a:pt x="2520" y="1132"/>
                  </a:lnTo>
                  <a:lnTo>
                    <a:pt x="2505" y="1106"/>
                  </a:lnTo>
                  <a:lnTo>
                    <a:pt x="2491" y="1081"/>
                  </a:lnTo>
                  <a:lnTo>
                    <a:pt x="2476" y="1058"/>
                  </a:lnTo>
                  <a:lnTo>
                    <a:pt x="2462" y="1037"/>
                  </a:lnTo>
                  <a:lnTo>
                    <a:pt x="2448" y="1017"/>
                  </a:lnTo>
                  <a:lnTo>
                    <a:pt x="2432" y="998"/>
                  </a:lnTo>
                  <a:lnTo>
                    <a:pt x="2418" y="981"/>
                  </a:lnTo>
                  <a:lnTo>
                    <a:pt x="2405" y="966"/>
                  </a:lnTo>
                  <a:lnTo>
                    <a:pt x="2389" y="950"/>
                  </a:lnTo>
                  <a:lnTo>
                    <a:pt x="2375" y="935"/>
                  </a:lnTo>
                  <a:lnTo>
                    <a:pt x="2360" y="921"/>
                  </a:lnTo>
                  <a:lnTo>
                    <a:pt x="2346" y="909"/>
                  </a:lnTo>
                  <a:lnTo>
                    <a:pt x="2332" y="896"/>
                  </a:lnTo>
                  <a:lnTo>
                    <a:pt x="2317" y="885"/>
                  </a:lnTo>
                  <a:lnTo>
                    <a:pt x="2303" y="873"/>
                  </a:lnTo>
                  <a:lnTo>
                    <a:pt x="2287" y="862"/>
                  </a:lnTo>
                  <a:lnTo>
                    <a:pt x="2273" y="853"/>
                  </a:lnTo>
                  <a:lnTo>
                    <a:pt x="2259" y="844"/>
                  </a:lnTo>
                  <a:lnTo>
                    <a:pt x="2244" y="834"/>
                  </a:lnTo>
                  <a:lnTo>
                    <a:pt x="2230" y="825"/>
                  </a:lnTo>
                  <a:lnTo>
                    <a:pt x="2216" y="818"/>
                  </a:lnTo>
                  <a:lnTo>
                    <a:pt x="2201" y="810"/>
                  </a:lnTo>
                  <a:lnTo>
                    <a:pt x="2187" y="804"/>
                  </a:lnTo>
                  <a:lnTo>
                    <a:pt x="2171" y="797"/>
                  </a:lnTo>
                  <a:lnTo>
                    <a:pt x="2158" y="791"/>
                  </a:lnTo>
                  <a:lnTo>
                    <a:pt x="2144" y="787"/>
                  </a:lnTo>
                  <a:lnTo>
                    <a:pt x="2128" y="782"/>
                  </a:lnTo>
                  <a:lnTo>
                    <a:pt x="2114" y="777"/>
                  </a:lnTo>
                  <a:lnTo>
                    <a:pt x="2099" y="774"/>
                  </a:lnTo>
                  <a:lnTo>
                    <a:pt x="2085" y="771"/>
                  </a:lnTo>
                  <a:lnTo>
                    <a:pt x="2071" y="768"/>
                  </a:lnTo>
                  <a:lnTo>
                    <a:pt x="2056" y="767"/>
                  </a:lnTo>
                  <a:lnTo>
                    <a:pt x="2042" y="765"/>
                  </a:lnTo>
                  <a:lnTo>
                    <a:pt x="2028" y="765"/>
                  </a:lnTo>
                  <a:lnTo>
                    <a:pt x="2012" y="765"/>
                  </a:lnTo>
                  <a:lnTo>
                    <a:pt x="1999" y="765"/>
                  </a:lnTo>
                  <a:lnTo>
                    <a:pt x="1983" y="767"/>
                  </a:lnTo>
                  <a:lnTo>
                    <a:pt x="1969" y="768"/>
                  </a:lnTo>
                  <a:lnTo>
                    <a:pt x="1955" y="771"/>
                  </a:lnTo>
                  <a:lnTo>
                    <a:pt x="1940" y="774"/>
                  </a:lnTo>
                  <a:lnTo>
                    <a:pt x="1926" y="777"/>
                  </a:lnTo>
                  <a:lnTo>
                    <a:pt x="1912" y="780"/>
                  </a:lnTo>
                  <a:lnTo>
                    <a:pt x="1897" y="785"/>
                  </a:lnTo>
                  <a:lnTo>
                    <a:pt x="1883" y="790"/>
                  </a:lnTo>
                  <a:lnTo>
                    <a:pt x="1867" y="794"/>
                  </a:lnTo>
                  <a:lnTo>
                    <a:pt x="1853" y="801"/>
                  </a:lnTo>
                  <a:lnTo>
                    <a:pt x="1840" y="807"/>
                  </a:lnTo>
                  <a:lnTo>
                    <a:pt x="1824" y="813"/>
                  </a:lnTo>
                  <a:lnTo>
                    <a:pt x="1810" y="819"/>
                  </a:lnTo>
                  <a:lnTo>
                    <a:pt x="1795" y="827"/>
                  </a:lnTo>
                  <a:lnTo>
                    <a:pt x="1781" y="834"/>
                  </a:lnTo>
                  <a:lnTo>
                    <a:pt x="1767" y="842"/>
                  </a:lnTo>
                  <a:lnTo>
                    <a:pt x="1752" y="850"/>
                  </a:lnTo>
                  <a:lnTo>
                    <a:pt x="1738" y="858"/>
                  </a:lnTo>
                  <a:lnTo>
                    <a:pt x="1724" y="867"/>
                  </a:lnTo>
                  <a:lnTo>
                    <a:pt x="1708" y="875"/>
                  </a:lnTo>
                  <a:lnTo>
                    <a:pt x="1694" y="884"/>
                  </a:lnTo>
                  <a:lnTo>
                    <a:pt x="1679" y="893"/>
                  </a:lnTo>
                  <a:lnTo>
                    <a:pt x="1665" y="902"/>
                  </a:lnTo>
                  <a:lnTo>
                    <a:pt x="1651" y="912"/>
                  </a:lnTo>
                  <a:lnTo>
                    <a:pt x="1636" y="922"/>
                  </a:lnTo>
                  <a:lnTo>
                    <a:pt x="1622" y="932"/>
                  </a:lnTo>
                  <a:lnTo>
                    <a:pt x="1608" y="941"/>
                  </a:lnTo>
                  <a:lnTo>
                    <a:pt x="1593" y="952"/>
                  </a:lnTo>
                  <a:lnTo>
                    <a:pt x="1579" y="961"/>
                  </a:lnTo>
                  <a:lnTo>
                    <a:pt x="1563" y="972"/>
                  </a:lnTo>
                  <a:lnTo>
                    <a:pt x="1549" y="981"/>
                  </a:lnTo>
                  <a:lnTo>
                    <a:pt x="1535" y="992"/>
                  </a:lnTo>
                  <a:lnTo>
                    <a:pt x="1520" y="1001"/>
                  </a:lnTo>
                  <a:lnTo>
                    <a:pt x="1506" y="1012"/>
                  </a:lnTo>
                  <a:lnTo>
                    <a:pt x="1491" y="1023"/>
                  </a:lnTo>
                  <a:lnTo>
                    <a:pt x="1477" y="1032"/>
                  </a:lnTo>
                  <a:lnTo>
                    <a:pt x="1463" y="1043"/>
                  </a:lnTo>
                  <a:lnTo>
                    <a:pt x="1447" y="1052"/>
                  </a:lnTo>
                  <a:lnTo>
                    <a:pt x="1434" y="1063"/>
                  </a:lnTo>
                  <a:lnTo>
                    <a:pt x="1420" y="1072"/>
                  </a:lnTo>
                  <a:lnTo>
                    <a:pt x="1404" y="1083"/>
                  </a:lnTo>
                  <a:lnTo>
                    <a:pt x="1390" y="1092"/>
                  </a:lnTo>
                  <a:lnTo>
                    <a:pt x="1375" y="1103"/>
                  </a:lnTo>
                  <a:lnTo>
                    <a:pt x="1361" y="1112"/>
                  </a:lnTo>
                  <a:lnTo>
                    <a:pt x="1347" y="1122"/>
                  </a:lnTo>
                  <a:lnTo>
                    <a:pt x="1332" y="1131"/>
                  </a:lnTo>
                  <a:lnTo>
                    <a:pt x="1318" y="1140"/>
                  </a:lnTo>
                  <a:lnTo>
                    <a:pt x="1302" y="1149"/>
                  </a:lnTo>
                  <a:lnTo>
                    <a:pt x="1289" y="1159"/>
                  </a:lnTo>
                  <a:lnTo>
                    <a:pt x="1275" y="1168"/>
                  </a:lnTo>
                  <a:lnTo>
                    <a:pt x="1259" y="1177"/>
                  </a:lnTo>
                  <a:lnTo>
                    <a:pt x="1245" y="1186"/>
                  </a:lnTo>
                  <a:lnTo>
                    <a:pt x="1231" y="1194"/>
                  </a:lnTo>
                  <a:lnTo>
                    <a:pt x="1216" y="1203"/>
                  </a:lnTo>
                  <a:lnTo>
                    <a:pt x="1202" y="1213"/>
                  </a:lnTo>
                  <a:lnTo>
                    <a:pt x="1187" y="1220"/>
                  </a:lnTo>
                  <a:lnTo>
                    <a:pt x="1173" y="1228"/>
                  </a:lnTo>
                  <a:lnTo>
                    <a:pt x="1159" y="1237"/>
                  </a:lnTo>
                  <a:lnTo>
                    <a:pt x="1143" y="1245"/>
                  </a:lnTo>
                  <a:lnTo>
                    <a:pt x="1130" y="1253"/>
                  </a:lnTo>
                  <a:lnTo>
                    <a:pt x="1116" y="1260"/>
                  </a:lnTo>
                  <a:lnTo>
                    <a:pt x="1100" y="1268"/>
                  </a:lnTo>
                  <a:lnTo>
                    <a:pt x="1086" y="1274"/>
                  </a:lnTo>
                  <a:lnTo>
                    <a:pt x="1071" y="1282"/>
                  </a:lnTo>
                  <a:lnTo>
                    <a:pt x="1057" y="1290"/>
                  </a:lnTo>
                  <a:lnTo>
                    <a:pt x="1043" y="1296"/>
                  </a:lnTo>
                  <a:lnTo>
                    <a:pt x="1028" y="1304"/>
                  </a:lnTo>
                  <a:lnTo>
                    <a:pt x="1014" y="1310"/>
                  </a:lnTo>
                  <a:lnTo>
                    <a:pt x="998" y="1316"/>
                  </a:lnTo>
                  <a:lnTo>
                    <a:pt x="984" y="1322"/>
                  </a:lnTo>
                  <a:lnTo>
                    <a:pt x="971" y="1328"/>
                  </a:lnTo>
                  <a:lnTo>
                    <a:pt x="955" y="1335"/>
                  </a:lnTo>
                  <a:lnTo>
                    <a:pt x="941" y="1341"/>
                  </a:lnTo>
                  <a:lnTo>
                    <a:pt x="927" y="1347"/>
                  </a:lnTo>
                  <a:lnTo>
                    <a:pt x="912" y="1353"/>
                  </a:lnTo>
                  <a:lnTo>
                    <a:pt x="898" y="1358"/>
                  </a:lnTo>
                  <a:lnTo>
                    <a:pt x="883" y="1364"/>
                  </a:lnTo>
                  <a:lnTo>
                    <a:pt x="869" y="1368"/>
                  </a:lnTo>
                  <a:lnTo>
                    <a:pt x="855" y="1375"/>
                  </a:lnTo>
                  <a:lnTo>
                    <a:pt x="839" y="1379"/>
                  </a:lnTo>
                  <a:lnTo>
                    <a:pt x="825" y="1384"/>
                  </a:lnTo>
                  <a:lnTo>
                    <a:pt x="812" y="1389"/>
                  </a:lnTo>
                  <a:lnTo>
                    <a:pt x="796" y="1395"/>
                  </a:lnTo>
                  <a:lnTo>
                    <a:pt x="782" y="1399"/>
                  </a:lnTo>
                  <a:lnTo>
                    <a:pt x="767" y="1402"/>
                  </a:lnTo>
                  <a:lnTo>
                    <a:pt x="753" y="1407"/>
                  </a:lnTo>
                  <a:lnTo>
                    <a:pt x="739" y="1412"/>
                  </a:lnTo>
                  <a:lnTo>
                    <a:pt x="724" y="1416"/>
                  </a:lnTo>
                  <a:lnTo>
                    <a:pt x="710" y="1421"/>
                  </a:lnTo>
                  <a:lnTo>
                    <a:pt x="694" y="1424"/>
                  </a:lnTo>
                  <a:lnTo>
                    <a:pt x="680" y="1429"/>
                  </a:lnTo>
                  <a:lnTo>
                    <a:pt x="666" y="1432"/>
                  </a:lnTo>
                  <a:lnTo>
                    <a:pt x="651" y="1436"/>
                  </a:lnTo>
                  <a:lnTo>
                    <a:pt x="637" y="1439"/>
                  </a:lnTo>
                  <a:lnTo>
                    <a:pt x="623" y="1443"/>
                  </a:lnTo>
                  <a:lnTo>
                    <a:pt x="608" y="1446"/>
                  </a:lnTo>
                  <a:lnTo>
                    <a:pt x="594" y="1450"/>
                  </a:lnTo>
                  <a:lnTo>
                    <a:pt x="578" y="1453"/>
                  </a:lnTo>
                  <a:lnTo>
                    <a:pt x="565" y="1456"/>
                  </a:lnTo>
                  <a:lnTo>
                    <a:pt x="551" y="1460"/>
                  </a:lnTo>
                  <a:lnTo>
                    <a:pt x="535" y="1463"/>
                  </a:lnTo>
                  <a:lnTo>
                    <a:pt x="521" y="1466"/>
                  </a:lnTo>
                  <a:lnTo>
                    <a:pt x="507" y="1469"/>
                  </a:lnTo>
                  <a:lnTo>
                    <a:pt x="492" y="1472"/>
                  </a:lnTo>
                  <a:lnTo>
                    <a:pt x="478" y="1473"/>
                  </a:lnTo>
                  <a:lnTo>
                    <a:pt x="463" y="1476"/>
                  </a:lnTo>
                  <a:lnTo>
                    <a:pt x="449" y="1480"/>
                  </a:lnTo>
                  <a:lnTo>
                    <a:pt x="435" y="1481"/>
                  </a:lnTo>
                  <a:lnTo>
                    <a:pt x="419" y="1484"/>
                  </a:lnTo>
                  <a:lnTo>
                    <a:pt x="406" y="1487"/>
                  </a:lnTo>
                  <a:lnTo>
                    <a:pt x="392" y="1489"/>
                  </a:lnTo>
                  <a:lnTo>
                    <a:pt x="376" y="1492"/>
                  </a:lnTo>
                  <a:lnTo>
                    <a:pt x="362" y="1493"/>
                  </a:lnTo>
                  <a:lnTo>
                    <a:pt x="347" y="1497"/>
                  </a:lnTo>
                  <a:lnTo>
                    <a:pt x="333" y="1498"/>
                  </a:lnTo>
                  <a:lnTo>
                    <a:pt x="319" y="1500"/>
                  </a:lnTo>
                  <a:lnTo>
                    <a:pt x="304" y="1503"/>
                  </a:lnTo>
                  <a:lnTo>
                    <a:pt x="290" y="1504"/>
                  </a:lnTo>
                  <a:lnTo>
                    <a:pt x="274" y="1506"/>
                  </a:lnTo>
                  <a:lnTo>
                    <a:pt x="260" y="1507"/>
                  </a:lnTo>
                  <a:lnTo>
                    <a:pt x="247" y="1510"/>
                  </a:lnTo>
                  <a:lnTo>
                    <a:pt x="231" y="1512"/>
                  </a:lnTo>
                  <a:lnTo>
                    <a:pt x="217" y="1514"/>
                  </a:lnTo>
                  <a:lnTo>
                    <a:pt x="203" y="1515"/>
                  </a:lnTo>
                  <a:lnTo>
                    <a:pt x="188" y="1517"/>
                  </a:lnTo>
                  <a:lnTo>
                    <a:pt x="174" y="1518"/>
                  </a:lnTo>
                  <a:lnTo>
                    <a:pt x="159" y="1520"/>
                  </a:lnTo>
                  <a:lnTo>
                    <a:pt x="145" y="1521"/>
                  </a:lnTo>
                  <a:lnTo>
                    <a:pt x="131" y="1523"/>
                  </a:lnTo>
                  <a:lnTo>
                    <a:pt x="115" y="1524"/>
                  </a:lnTo>
                  <a:lnTo>
                    <a:pt x="101" y="1526"/>
                  </a:lnTo>
                  <a:lnTo>
                    <a:pt x="86" y="1527"/>
                  </a:lnTo>
                  <a:lnTo>
                    <a:pt x="72" y="1529"/>
                  </a:lnTo>
                  <a:lnTo>
                    <a:pt x="58" y="1531"/>
                  </a:lnTo>
                  <a:lnTo>
                    <a:pt x="43" y="1532"/>
                  </a:lnTo>
                  <a:lnTo>
                    <a:pt x="29" y="1534"/>
                  </a:lnTo>
                  <a:lnTo>
                    <a:pt x="15" y="1535"/>
                  </a:lnTo>
                  <a:lnTo>
                    <a:pt x="0" y="153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 flipH="1">
              <a:off x="1685880" y="2643120"/>
              <a:ext cx="4603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4929120" y="2260440"/>
              <a:ext cx="1800" cy="20016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4892760" y="2260440"/>
              <a:ext cx="73080" cy="18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4892760" y="2460600"/>
              <a:ext cx="7308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5280120" y="2554200"/>
              <a:ext cx="1440" cy="2286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5243400" y="2554200"/>
              <a:ext cx="73080" cy="18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5243400" y="2782800"/>
              <a:ext cx="73080" cy="18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5280120" y="2608200"/>
              <a:ext cx="1440" cy="18576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5243400" y="2608200"/>
              <a:ext cx="73080" cy="18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5243400" y="2793960"/>
              <a:ext cx="73080" cy="18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5487840" y="2689200"/>
              <a:ext cx="1800" cy="21276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5451480" y="2689200"/>
              <a:ext cx="7308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5451480" y="2901960"/>
              <a:ext cx="7308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5487840" y="2487600"/>
              <a:ext cx="1800" cy="2286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5451480" y="2487600"/>
              <a:ext cx="7308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5451480" y="2716200"/>
              <a:ext cx="7308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5680080" y="2863800"/>
              <a:ext cx="1440" cy="21276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5643720" y="2863800"/>
              <a:ext cx="72720" cy="18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5643720" y="3076560"/>
              <a:ext cx="7272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5680080" y="3014640"/>
              <a:ext cx="1440" cy="1350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5643720" y="3014640"/>
              <a:ext cx="7272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5643720" y="3149640"/>
              <a:ext cx="7272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5680080" y="2982960"/>
              <a:ext cx="1440" cy="19836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5643720" y="2982960"/>
              <a:ext cx="7272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5643720" y="3181320"/>
              <a:ext cx="7272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5829480" y="3181320"/>
              <a:ext cx="1440" cy="1746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5792760" y="3181320"/>
              <a:ext cx="7308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5792760" y="3355920"/>
              <a:ext cx="73080" cy="18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5829480" y="3149640"/>
              <a:ext cx="1440" cy="1476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5792760" y="3149640"/>
              <a:ext cx="7308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5792760" y="3297240"/>
              <a:ext cx="7308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5829480" y="3495600"/>
              <a:ext cx="1440" cy="26676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5792760" y="3495600"/>
              <a:ext cx="73080" cy="18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5792760" y="3762360"/>
              <a:ext cx="7308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5829480" y="3154320"/>
              <a:ext cx="1440" cy="2016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5792760" y="3154320"/>
              <a:ext cx="73080" cy="18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5792760" y="3355920"/>
              <a:ext cx="73080" cy="18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5948280" y="3568680"/>
              <a:ext cx="1800" cy="1206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5911920" y="3568680"/>
              <a:ext cx="7452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5911920" y="3689280"/>
              <a:ext cx="74520" cy="18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5948280" y="3684600"/>
              <a:ext cx="1800" cy="18576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5911920" y="3684600"/>
              <a:ext cx="7452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5911920" y="3870360"/>
              <a:ext cx="7452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5948280" y="3502080"/>
              <a:ext cx="1800" cy="2412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5911920" y="3502080"/>
              <a:ext cx="7452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5911920" y="3743280"/>
              <a:ext cx="74520" cy="18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6051600" y="3716280"/>
              <a:ext cx="1440" cy="11916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6014880" y="3716280"/>
              <a:ext cx="73080" cy="18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6014880" y="3835440"/>
              <a:ext cx="7308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6051600" y="3637080"/>
              <a:ext cx="1440" cy="26676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6014880" y="3637080"/>
              <a:ext cx="7308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6014880" y="3903840"/>
              <a:ext cx="7308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6141960" y="3076560"/>
              <a:ext cx="1800" cy="29376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6105600" y="3076560"/>
              <a:ext cx="7452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6105600" y="3370320"/>
              <a:ext cx="7452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5216400" y="2459160"/>
              <a:ext cx="1800" cy="85680"/>
            </a:xfrm>
            <a:prstGeom prst="line">
              <a:avLst/>
            </a:prstGeom>
            <a:ln w="9360">
              <a:solidFill>
                <a:srgbClr val="99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5180040" y="2459160"/>
              <a:ext cx="73080" cy="1440"/>
            </a:xfrm>
            <a:prstGeom prst="line">
              <a:avLst/>
            </a:prstGeom>
            <a:ln w="9360">
              <a:solidFill>
                <a:srgbClr val="99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5180040" y="2544840"/>
              <a:ext cx="73080" cy="1440"/>
            </a:xfrm>
            <a:prstGeom prst="line">
              <a:avLst/>
            </a:prstGeom>
            <a:ln w="9360">
              <a:solidFill>
                <a:srgbClr val="99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4910040" y="23004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5261040" y="2606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5261040" y="26398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5468760" y="27338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5468760" y="25401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5661000" y="29084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5661000" y="30211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5661000" y="30211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5810040" y="32068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5810040" y="31608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5810040" y="35686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5810040" y="3193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5929200" y="35686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5929200" y="37162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5929200" y="35622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6032520" y="37162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6032520" y="37083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6122880" y="31608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5197320" y="24400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1383480" y="455760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1383480" y="388944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1383480" y="322272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1515240" y="25560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1383480" y="188748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1383480" y="122076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.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1486080" y="4732200"/>
              <a:ext cx="432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3066120" y="4732200"/>
              <a:ext cx="335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4647240" y="473220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6247800" y="47322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1984320" y="1620720"/>
              <a:ext cx="806400" cy="58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2124000" y="17017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2306880" y="167652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E13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2124000" y="19890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2306880" y="196380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E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4308840" y="3759120"/>
              <a:ext cx="375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Au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8" name=""/>
          <p:cNvSpPr/>
          <p:nvPr/>
        </p:nvSpPr>
        <p:spPr>
          <a:xfrm rot="16200000">
            <a:off x="99360" y="264384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A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/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 rot="16200000">
            <a:off x="213480" y="6491520"/>
            <a:ext cx="152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P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/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"/>
          <p:cNvSpPr/>
          <p:nvPr/>
        </p:nvSpPr>
        <p:spPr>
          <a:xfrm>
            <a:off x="1143000" y="1295280"/>
            <a:ext cx="1116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1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3922" name=""/>
          <p:cNvSpPr/>
          <p:nvPr/>
        </p:nvSpPr>
        <p:spPr>
          <a:xfrm>
            <a:off x="1143000" y="127332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1143000" y="127332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1154880" y="1273320"/>
            <a:ext cx="144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DeltaSymbol"/>
                <a:ea typeface="DeltaSymbol"/>
              </a:rPr>
              <a:t>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1143360" y="1263600"/>
            <a:ext cx="11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Chicago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1143000" y="127332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7" name=""/>
          <p:cNvGrpSpPr/>
          <p:nvPr/>
        </p:nvGrpSpPr>
        <p:grpSpPr>
          <a:xfrm>
            <a:off x="1142640" y="1219320"/>
            <a:ext cx="5308200" cy="8384760"/>
            <a:chOff x="1142640" y="1219320"/>
            <a:chExt cx="5308200" cy="8384760"/>
          </a:xfrm>
        </p:grpSpPr>
        <p:grpSp>
          <p:nvGrpSpPr>
            <p:cNvPr id="3928" name=""/>
            <p:cNvGrpSpPr/>
            <p:nvPr/>
          </p:nvGrpSpPr>
          <p:grpSpPr>
            <a:xfrm>
              <a:off x="1424160" y="5294160"/>
              <a:ext cx="4971960" cy="3597480"/>
              <a:chOff x="1424160" y="5294160"/>
              <a:chExt cx="4971960" cy="3597480"/>
            </a:xfrm>
          </p:grpSpPr>
          <p:sp>
            <p:nvSpPr>
              <p:cNvPr id="3929" name=""/>
              <p:cNvSpPr/>
              <p:nvPr/>
            </p:nvSpPr>
            <p:spPr>
              <a:xfrm>
                <a:off x="1490760" y="5299200"/>
                <a:ext cx="4903560" cy="352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1486080" y="8823600"/>
                <a:ext cx="49035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1486080" y="5294520"/>
                <a:ext cx="49035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 flipV="1">
                <a:off x="1486080" y="5294160"/>
                <a:ext cx="1440" cy="3529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 flipV="1">
                <a:off x="6389640" y="5294160"/>
                <a:ext cx="1800" cy="3529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1457280" y="8828280"/>
                <a:ext cx="334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1457280" y="8688600"/>
                <a:ext cx="3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1457280" y="8545680"/>
                <a:ext cx="334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1457280" y="8404560"/>
                <a:ext cx="3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1457280" y="8264880"/>
                <a:ext cx="3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1457280" y="8121960"/>
                <a:ext cx="3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1457280" y="7982280"/>
                <a:ext cx="3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1457280" y="7840800"/>
                <a:ext cx="334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1457280" y="7697880"/>
                <a:ext cx="334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1457280" y="7558200"/>
                <a:ext cx="334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1457280" y="7417080"/>
                <a:ext cx="3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1457280" y="7274160"/>
                <a:ext cx="3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1457280" y="7134480"/>
                <a:ext cx="3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1457280" y="6994800"/>
                <a:ext cx="3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1457280" y="6850440"/>
                <a:ext cx="3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1457280" y="6710760"/>
                <a:ext cx="3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1457280" y="6571080"/>
                <a:ext cx="3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1457280" y="6428160"/>
                <a:ext cx="3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1457280" y="6286680"/>
                <a:ext cx="334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1457280" y="6147000"/>
                <a:ext cx="334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1457280" y="6004080"/>
                <a:ext cx="334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1457280" y="5862960"/>
                <a:ext cx="3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1457280" y="5723280"/>
                <a:ext cx="3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1457280" y="5580360"/>
                <a:ext cx="3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1457280" y="5440680"/>
                <a:ext cx="3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1457280" y="5299200"/>
                <a:ext cx="334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1424160" y="8826840"/>
                <a:ext cx="64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1424160" y="8118720"/>
                <a:ext cx="64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1424160" y="7415280"/>
                <a:ext cx="648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1424160" y="6707520"/>
                <a:ext cx="64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1424160" y="6000840"/>
                <a:ext cx="648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1424160" y="5297760"/>
                <a:ext cx="64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 flipV="1">
                <a:off x="1490760" y="8827920"/>
                <a:ext cx="144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 flipV="1">
                <a:off x="1982880" y="8827920"/>
                <a:ext cx="144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 flipV="1">
                <a:off x="2270160" y="8827920"/>
                <a:ext cx="144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 flipV="1">
                <a:off x="2476440" y="8827920"/>
                <a:ext cx="180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 flipV="1">
                <a:off x="2635200" y="8827920"/>
                <a:ext cx="180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 flipV="1">
                <a:off x="2763720" y="8827920"/>
                <a:ext cx="180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 flipV="1">
                <a:off x="2873520" y="8827920"/>
                <a:ext cx="144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 flipV="1">
                <a:off x="2967120" y="8827920"/>
                <a:ext cx="144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 flipV="1">
                <a:off x="3051000" y="8827920"/>
                <a:ext cx="180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 flipV="1">
                <a:off x="3125880" y="8827920"/>
                <a:ext cx="144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 flipV="1">
                <a:off x="3619440" y="8827920"/>
                <a:ext cx="180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 flipV="1">
                <a:off x="3905280" y="8827920"/>
                <a:ext cx="144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 flipV="1">
                <a:off x="4110120" y="8827920"/>
                <a:ext cx="144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 flipV="1">
                <a:off x="4268880" y="8827920"/>
                <a:ext cx="144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 flipV="1">
                <a:off x="4398840" y="8827920"/>
                <a:ext cx="180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 flipV="1">
                <a:off x="4508640" y="8827920"/>
                <a:ext cx="144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 flipV="1">
                <a:off x="4602240" y="8827920"/>
                <a:ext cx="144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 flipV="1">
                <a:off x="4684680" y="8827920"/>
                <a:ext cx="180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 flipV="1">
                <a:off x="4761000" y="8827920"/>
                <a:ext cx="144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 flipV="1">
                <a:off x="5254560" y="8827920"/>
                <a:ext cx="180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 flipV="1">
                <a:off x="5540400" y="8827920"/>
                <a:ext cx="144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 flipV="1">
                <a:off x="5745240" y="8827920"/>
                <a:ext cx="144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 flipV="1">
                <a:off x="5904000" y="8827920"/>
                <a:ext cx="144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 flipV="1">
                <a:off x="6033960" y="8827920"/>
                <a:ext cx="180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 flipV="1">
                <a:off x="6141960" y="8827920"/>
                <a:ext cx="180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 flipV="1">
                <a:off x="6235560" y="8827920"/>
                <a:ext cx="180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 flipV="1">
                <a:off x="6321600" y="8827920"/>
                <a:ext cx="144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 flipV="1">
                <a:off x="6394320" y="8827920"/>
                <a:ext cx="180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 flipV="1">
                <a:off x="1488960" y="8826480"/>
                <a:ext cx="1800" cy="65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 flipV="1">
                <a:off x="3122640" y="8826480"/>
                <a:ext cx="1440" cy="65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 flipV="1">
                <a:off x="4757760" y="8826480"/>
                <a:ext cx="1440" cy="65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 flipV="1">
                <a:off x="6392880" y="8826480"/>
                <a:ext cx="1440" cy="65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 flipV="1">
                <a:off x="1486080" y="5294160"/>
                <a:ext cx="1440" cy="3529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1486080" y="8823600"/>
                <a:ext cx="49035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1486080" y="6705720"/>
                <a:ext cx="49035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6280200" y="5299200"/>
                <a:ext cx="11160" cy="4788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2" y="0"/>
                    </a:moveTo>
                    <a:lnTo>
                      <a:pt x="0" y="28"/>
                    </a:lnTo>
                    <a:lnTo>
                      <a:pt x="5" y="30"/>
                    </a:lnTo>
                    <a:lnTo>
                      <a:pt x="7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6278400" y="5429520"/>
                <a:ext cx="9720" cy="4428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1" y="0"/>
                    </a:moveTo>
                    <a:lnTo>
                      <a:pt x="0" y="26"/>
                    </a:lnTo>
                    <a:lnTo>
                      <a:pt x="5" y="28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6278400" y="5559840"/>
                <a:ext cx="9720" cy="44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6275520" y="5689800"/>
                <a:ext cx="1116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6272280" y="5816880"/>
                <a:ext cx="11160" cy="44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6270480" y="5946840"/>
                <a:ext cx="972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6267600" y="6073920"/>
                <a:ext cx="10800" cy="44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6264360" y="6201000"/>
                <a:ext cx="11160" cy="446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2" y="0"/>
                    </a:moveTo>
                    <a:lnTo>
                      <a:pt x="0" y="26"/>
                    </a:lnTo>
                    <a:lnTo>
                      <a:pt x="5" y="28"/>
                    </a:lnTo>
                    <a:lnTo>
                      <a:pt x="7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6264360" y="6331320"/>
                <a:ext cx="11160" cy="44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6259680" y="6461280"/>
                <a:ext cx="1080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6254640" y="6588360"/>
                <a:ext cx="9720" cy="44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6249960" y="6715440"/>
                <a:ext cx="9720" cy="4428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1" y="0"/>
                    </a:moveTo>
                    <a:lnTo>
                      <a:pt x="0" y="27"/>
                    </a:lnTo>
                    <a:lnTo>
                      <a:pt x="5" y="28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6243480" y="6843960"/>
                <a:ext cx="11160" cy="46080"/>
              </a:xfrm>
              <a:custGeom>
                <a:avLst/>
                <a:gdLst/>
                <a:ahLst/>
                <a:rect l="l" t="t" r="r" b="b"/>
                <a:pathLst>
                  <a:path w="7" h="29">
                    <a:moveTo>
                      <a:pt x="2" y="0"/>
                    </a:moveTo>
                    <a:lnTo>
                      <a:pt x="0" y="27"/>
                    </a:lnTo>
                    <a:lnTo>
                      <a:pt x="5" y="29"/>
                    </a:lnTo>
                    <a:lnTo>
                      <a:pt x="7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6238800" y="6972480"/>
                <a:ext cx="11160" cy="446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2" y="0"/>
                    </a:moveTo>
                    <a:lnTo>
                      <a:pt x="0" y="27"/>
                    </a:lnTo>
                    <a:lnTo>
                      <a:pt x="5" y="28"/>
                    </a:lnTo>
                    <a:lnTo>
                      <a:pt x="7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6234120" y="7101000"/>
                <a:ext cx="9360" cy="4608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1" y="0"/>
                    </a:moveTo>
                    <a:lnTo>
                      <a:pt x="0" y="27"/>
                    </a:lnTo>
                    <a:lnTo>
                      <a:pt x="5" y="29"/>
                    </a:lnTo>
                    <a:lnTo>
                      <a:pt x="6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6226200" y="7229880"/>
                <a:ext cx="9360" cy="4428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1" y="0"/>
                    </a:moveTo>
                    <a:lnTo>
                      <a:pt x="0" y="27"/>
                    </a:lnTo>
                    <a:lnTo>
                      <a:pt x="5" y="28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6215040" y="7358400"/>
                <a:ext cx="11160" cy="46080"/>
              </a:xfrm>
              <a:custGeom>
                <a:avLst/>
                <a:gdLst/>
                <a:ahLst/>
                <a:rect l="l" t="t" r="r" b="b"/>
                <a:pathLst>
                  <a:path w="7" h="29">
                    <a:moveTo>
                      <a:pt x="2" y="0"/>
                    </a:moveTo>
                    <a:lnTo>
                      <a:pt x="0" y="28"/>
                    </a:lnTo>
                    <a:lnTo>
                      <a:pt x="5" y="29"/>
                    </a:lnTo>
                    <a:lnTo>
                      <a:pt x="7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6199200" y="7488360"/>
                <a:ext cx="14400" cy="4284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4" y="0"/>
                    </a:moveTo>
                    <a:lnTo>
                      <a:pt x="0" y="26"/>
                    </a:lnTo>
                    <a:lnTo>
                      <a:pt x="5" y="27"/>
                    </a:lnTo>
                    <a:lnTo>
                      <a:pt x="9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6170760" y="7615440"/>
                <a:ext cx="21960" cy="446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9" y="0"/>
                    </a:moveTo>
                    <a:lnTo>
                      <a:pt x="0" y="26"/>
                    </a:lnTo>
                    <a:lnTo>
                      <a:pt x="5" y="28"/>
                    </a:lnTo>
                    <a:lnTo>
                      <a:pt x="14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6093000" y="76392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3" y="11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9" y="16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6083280" y="762336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1" y="11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6" y="13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6022800" y="7509240"/>
                <a:ext cx="27000" cy="4104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24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12" y="26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5969160" y="739656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15" y="22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10" y="23"/>
                    </a:lnTo>
                    <a:lnTo>
                      <a:pt x="1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5965920" y="73915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3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5921280" y="72946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10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5" y="12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5908680" y="727272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3" y="14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8" y="16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5850000" y="7155000"/>
                <a:ext cx="28440" cy="41400"/>
              </a:xfrm>
              <a:custGeom>
                <a:avLst/>
                <a:gdLst/>
                <a:ahLst/>
                <a:rect l="l" t="t" r="r" b="b"/>
                <a:pathLst>
                  <a:path w="18" h="26">
                    <a:moveTo>
                      <a:pt x="18" y="25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13" y="26"/>
                    </a:lnTo>
                    <a:lnTo>
                      <a:pt x="1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5799240" y="70646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10" y="8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5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5784840" y="703764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4" y="17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9" y="22"/>
                    </a:lnTo>
                    <a:lnTo>
                      <a:pt x="1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5724360" y="6942240"/>
                <a:ext cx="20880" cy="288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13" y="13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8" y="18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5713560" y="692640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1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7" y="15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5651640" y="683604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3" y="11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8" y="16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5638680" y="6820200"/>
                <a:ext cx="20880" cy="237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1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8" y="15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5578560" y="674388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4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5553000" y="6718680"/>
                <a:ext cx="33480" cy="33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21" y="16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16" y="21"/>
                    </a:lnTo>
                    <a:lnTo>
                      <a:pt x="2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5479920" y="664884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6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7" y="11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5459400" y="66297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2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13" y="17"/>
                    </a:lnTo>
                    <a:lnTo>
                      <a:pt x="1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5383080" y="657576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2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4" y="7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5361120" y="6562800"/>
                <a:ext cx="25200" cy="2088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6" y="8"/>
                    </a:moveTo>
                    <a:lnTo>
                      <a:pt x="1" y="0"/>
                    </a:lnTo>
                    <a:lnTo>
                      <a:pt x="0" y="5"/>
                    </a:lnTo>
                    <a:lnTo>
                      <a:pt x="14" y="13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5349960" y="655668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4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7" y="9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5264280" y="6523200"/>
                <a:ext cx="46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5238720" y="651528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5"/>
                    </a:moveTo>
                    <a:lnTo>
                      <a:pt x="1" y="0"/>
                    </a:lnTo>
                    <a:lnTo>
                      <a:pt x="0" y="5"/>
                    </a:lnTo>
                    <a:lnTo>
                      <a:pt x="15" y="10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5222880" y="6510600"/>
                <a:ext cx="17280" cy="126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3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10" y="8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5119560" y="6505920"/>
                <a:ext cx="20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5097600" y="6505920"/>
                <a:ext cx="219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4994280" y="651528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0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1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4968720" y="6518520"/>
                <a:ext cx="28800" cy="1260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16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8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4962600" y="65232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4869000" y="6550200"/>
                <a:ext cx="14040" cy="97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7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9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4846680" y="6552000"/>
                <a:ext cx="2520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4" y="0"/>
                    </a:moveTo>
                    <a:lnTo>
                      <a:pt x="0" y="7"/>
                    </a:lnTo>
                    <a:lnTo>
                      <a:pt x="1" y="12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4838760" y="6562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6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4749840" y="6600960"/>
                <a:ext cx="46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4724280" y="660096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4" y="0"/>
                    </a:moveTo>
                    <a:lnTo>
                      <a:pt x="0" y="7"/>
                    </a:lnTo>
                    <a:lnTo>
                      <a:pt x="1" y="12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4708440" y="661212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8" y="0"/>
                    </a:moveTo>
                    <a:lnTo>
                      <a:pt x="0" y="5"/>
                    </a:lnTo>
                    <a:lnTo>
                      <a:pt x="5" y="10"/>
                    </a:lnTo>
                    <a:lnTo>
                      <a:pt x="13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4626000" y="665820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3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4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4602240" y="6661440"/>
                <a:ext cx="25200" cy="205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5" y="0"/>
                    </a:moveTo>
                    <a:lnTo>
                      <a:pt x="0" y="8"/>
                    </a:lnTo>
                    <a:lnTo>
                      <a:pt x="1" y="13"/>
                    </a:lnTo>
                    <a:lnTo>
                      <a:pt x="16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4591080" y="667404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8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4500720" y="67186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5" y="0"/>
                    </a:moveTo>
                    <a:lnTo>
                      <a:pt x="0" y="3"/>
                    </a:lnTo>
                    <a:lnTo>
                      <a:pt x="5" y="8"/>
                    </a:lnTo>
                    <a:lnTo>
                      <a:pt x="10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4476600" y="6723360"/>
                <a:ext cx="3204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15" y="0"/>
                    </a:moveTo>
                    <a:lnTo>
                      <a:pt x="0" y="10"/>
                    </a:lnTo>
                    <a:lnTo>
                      <a:pt x="5" y="15"/>
                    </a:lnTo>
                    <a:lnTo>
                      <a:pt x="20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4468680" y="673920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5" y="0"/>
                    </a:moveTo>
                    <a:lnTo>
                      <a:pt x="0" y="3"/>
                    </a:lnTo>
                    <a:lnTo>
                      <a:pt x="5" y="8"/>
                    </a:lnTo>
                    <a:lnTo>
                      <a:pt x="10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4378320" y="6783480"/>
                <a:ext cx="20520" cy="1620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8" y="0"/>
                    </a:moveTo>
                    <a:lnTo>
                      <a:pt x="0" y="5"/>
                    </a:lnTo>
                    <a:lnTo>
                      <a:pt x="5" y="10"/>
                    </a:lnTo>
                    <a:lnTo>
                      <a:pt x="13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4357800" y="6791400"/>
                <a:ext cx="25200" cy="2088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5" y="0"/>
                    </a:moveTo>
                    <a:lnTo>
                      <a:pt x="0" y="8"/>
                    </a:lnTo>
                    <a:lnTo>
                      <a:pt x="2" y="13"/>
                    </a:lnTo>
                    <a:lnTo>
                      <a:pt x="16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4259160" y="684864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3" y="0"/>
                    </a:moveTo>
                    <a:lnTo>
                      <a:pt x="0" y="6"/>
                    </a:lnTo>
                    <a:lnTo>
                      <a:pt x="1" y="11"/>
                    </a:lnTo>
                    <a:lnTo>
                      <a:pt x="14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4240080" y="685836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2" y="0"/>
                    </a:moveTo>
                    <a:lnTo>
                      <a:pt x="0" y="7"/>
                    </a:lnTo>
                    <a:lnTo>
                      <a:pt x="2" y="12"/>
                    </a:lnTo>
                    <a:lnTo>
                      <a:pt x="13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4162320" y="6913800"/>
                <a:ext cx="3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4137120" y="6913800"/>
                <a:ext cx="25200" cy="205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4" y="0"/>
                    </a:moveTo>
                    <a:lnTo>
                      <a:pt x="0" y="8"/>
                    </a:lnTo>
                    <a:lnTo>
                      <a:pt x="1" y="13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4121280" y="692640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8" y="0"/>
                    </a:moveTo>
                    <a:lnTo>
                      <a:pt x="0" y="5"/>
                    </a:lnTo>
                    <a:lnTo>
                      <a:pt x="5" y="10"/>
                    </a:lnTo>
                    <a:lnTo>
                      <a:pt x="13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4038480" y="697248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3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4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4014720" y="6975720"/>
                <a:ext cx="25560" cy="205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5" y="0"/>
                    </a:moveTo>
                    <a:lnTo>
                      <a:pt x="0" y="8"/>
                    </a:lnTo>
                    <a:lnTo>
                      <a:pt x="1" y="13"/>
                    </a:lnTo>
                    <a:lnTo>
                      <a:pt x="16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4003560" y="698832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8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3916440" y="703296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8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3889440" y="703764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7" y="0"/>
                    </a:moveTo>
                    <a:lnTo>
                      <a:pt x="0" y="7"/>
                    </a:lnTo>
                    <a:lnTo>
                      <a:pt x="2" y="12"/>
                    </a:lnTo>
                    <a:lnTo>
                      <a:pt x="18" y="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3884760" y="704880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5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3790800" y="7089840"/>
                <a:ext cx="16200" cy="129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5" y="0"/>
                    </a:moveTo>
                    <a:lnTo>
                      <a:pt x="0" y="3"/>
                    </a:lnTo>
                    <a:lnTo>
                      <a:pt x="5" y="8"/>
                    </a:lnTo>
                    <a:lnTo>
                      <a:pt x="10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3767040" y="70948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7" y="0"/>
                    </a:moveTo>
                    <a:lnTo>
                      <a:pt x="0" y="7"/>
                    </a:lnTo>
                    <a:lnTo>
                      <a:pt x="2" y="12"/>
                    </a:lnTo>
                    <a:lnTo>
                      <a:pt x="18" y="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3757680" y="710604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5" y="0"/>
                    </a:moveTo>
                    <a:lnTo>
                      <a:pt x="0" y="3"/>
                    </a:lnTo>
                    <a:lnTo>
                      <a:pt x="5" y="8"/>
                    </a:lnTo>
                    <a:lnTo>
                      <a:pt x="10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3673440" y="7147080"/>
                <a:ext cx="32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3645000" y="71470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7" y="0"/>
                    </a:moveTo>
                    <a:lnTo>
                      <a:pt x="0" y="7"/>
                    </a:lnTo>
                    <a:lnTo>
                      <a:pt x="2" y="12"/>
                    </a:lnTo>
                    <a:lnTo>
                      <a:pt x="18" y="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3630600" y="715824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8" y="0"/>
                    </a:moveTo>
                    <a:lnTo>
                      <a:pt x="0" y="5"/>
                    </a:lnTo>
                    <a:lnTo>
                      <a:pt x="4" y="9"/>
                    </a:lnTo>
                    <a:lnTo>
                      <a:pt x="13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3522600" y="719964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5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3502080" y="720432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3" y="0"/>
                    </a:moveTo>
                    <a:lnTo>
                      <a:pt x="0" y="7"/>
                    </a:lnTo>
                    <a:lnTo>
                      <a:pt x="2" y="12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3402000" y="724392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1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3378240" y="7248600"/>
                <a:ext cx="25200" cy="1620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0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16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3371760" y="725688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2" y="0"/>
                    </a:moveTo>
                    <a:lnTo>
                      <a:pt x="0" y="1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3279600" y="72853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6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8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3252960" y="7288560"/>
                <a:ext cx="28440" cy="1260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17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3244680" y="729324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7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3159000" y="7321680"/>
                <a:ext cx="32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3130560" y="7321680"/>
                <a:ext cx="28440" cy="1296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17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8" y="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3117960" y="732672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8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0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3008160" y="7355160"/>
                <a:ext cx="27000" cy="1116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5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2987640" y="7358400"/>
                <a:ext cx="23760" cy="1260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2886120" y="738036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0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2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2863800" y="7383600"/>
                <a:ext cx="2556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4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2857680" y="738864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2766960" y="74073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2741760" y="740736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4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2730600" y="741240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7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8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2644920" y="7431480"/>
                <a:ext cx="2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2616120" y="743148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7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2603520" y="743292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8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0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2496960" y="7452000"/>
                <a:ext cx="241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2473200" y="745200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2374920" y="7466400"/>
                <a:ext cx="158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2349360" y="7466400"/>
                <a:ext cx="25560" cy="1404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4" y="0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2343240" y="747252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2" y="0"/>
                    </a:moveTo>
                    <a:lnTo>
                      <a:pt x="0" y="1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2252520" y="7482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2227320" y="748224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4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2216160" y="748548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8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2130480" y="7494840"/>
                <a:ext cx="32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2104920" y="749484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4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2089080" y="749808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0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11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1982880" y="7509240"/>
                <a:ext cx="219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1959120" y="750924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1860480" y="7518600"/>
                <a:ext cx="158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1833480" y="7518600"/>
                <a:ext cx="27000" cy="1116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5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1828800" y="752184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2" y="0"/>
                    </a:moveTo>
                    <a:lnTo>
                      <a:pt x="0" y="1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1738440" y="75297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1714680" y="7529760"/>
                <a:ext cx="237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1701720" y="752976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6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8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1616040" y="7537680"/>
                <a:ext cx="3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1592280" y="7537680"/>
                <a:ext cx="237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1574640" y="753768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0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11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1486080" y="5294520"/>
                <a:ext cx="4813200" cy="2403360"/>
              </a:xfrm>
              <a:custGeom>
                <a:avLst/>
                <a:gdLst/>
                <a:ahLst/>
                <a:rect l="l" t="t" r="r" b="b"/>
                <a:pathLst>
                  <a:path w="3032" h="1514">
                    <a:moveTo>
                      <a:pt x="3032" y="0"/>
                    </a:moveTo>
                    <a:lnTo>
                      <a:pt x="3024" y="347"/>
                    </a:lnTo>
                    <a:lnTo>
                      <a:pt x="3009" y="781"/>
                    </a:lnTo>
                    <a:lnTo>
                      <a:pt x="2992" y="1071"/>
                    </a:lnTo>
                    <a:lnTo>
                      <a:pt x="2978" y="1262"/>
                    </a:lnTo>
                    <a:lnTo>
                      <a:pt x="2961" y="1383"/>
                    </a:lnTo>
                    <a:lnTo>
                      <a:pt x="2947" y="1455"/>
                    </a:lnTo>
                    <a:lnTo>
                      <a:pt x="2930" y="1493"/>
                    </a:lnTo>
                    <a:lnTo>
                      <a:pt x="2915" y="1503"/>
                    </a:lnTo>
                    <a:lnTo>
                      <a:pt x="2901" y="1496"/>
                    </a:lnTo>
                    <a:lnTo>
                      <a:pt x="2884" y="1477"/>
                    </a:lnTo>
                    <a:lnTo>
                      <a:pt x="2870" y="1447"/>
                    </a:lnTo>
                    <a:lnTo>
                      <a:pt x="2853" y="1413"/>
                    </a:lnTo>
                    <a:lnTo>
                      <a:pt x="2839" y="1375"/>
                    </a:lnTo>
                    <a:lnTo>
                      <a:pt x="2822" y="1336"/>
                    </a:lnTo>
                    <a:lnTo>
                      <a:pt x="2807" y="1295"/>
                    </a:lnTo>
                    <a:lnTo>
                      <a:pt x="2793" y="1256"/>
                    </a:lnTo>
                    <a:lnTo>
                      <a:pt x="2776" y="1218"/>
                    </a:lnTo>
                    <a:lnTo>
                      <a:pt x="2762" y="1183"/>
                    </a:lnTo>
                    <a:lnTo>
                      <a:pt x="2745" y="1149"/>
                    </a:lnTo>
                    <a:lnTo>
                      <a:pt x="2730" y="1116"/>
                    </a:lnTo>
                    <a:lnTo>
                      <a:pt x="2716" y="1089"/>
                    </a:lnTo>
                    <a:lnTo>
                      <a:pt x="2699" y="1061"/>
                    </a:lnTo>
                    <a:lnTo>
                      <a:pt x="2685" y="1036"/>
                    </a:lnTo>
                    <a:lnTo>
                      <a:pt x="2668" y="1013"/>
                    </a:lnTo>
                    <a:lnTo>
                      <a:pt x="2654" y="992"/>
                    </a:lnTo>
                    <a:lnTo>
                      <a:pt x="2637" y="972"/>
                    </a:lnTo>
                    <a:lnTo>
                      <a:pt x="2622" y="954"/>
                    </a:lnTo>
                    <a:lnTo>
                      <a:pt x="2608" y="938"/>
                    </a:lnTo>
                    <a:lnTo>
                      <a:pt x="2591" y="923"/>
                    </a:lnTo>
                    <a:lnTo>
                      <a:pt x="2577" y="908"/>
                    </a:lnTo>
                    <a:lnTo>
                      <a:pt x="2560" y="895"/>
                    </a:lnTo>
                    <a:lnTo>
                      <a:pt x="2546" y="884"/>
                    </a:lnTo>
                    <a:lnTo>
                      <a:pt x="2529" y="872"/>
                    </a:lnTo>
                    <a:lnTo>
                      <a:pt x="2514" y="863"/>
                    </a:lnTo>
                    <a:lnTo>
                      <a:pt x="2500" y="853"/>
                    </a:lnTo>
                    <a:lnTo>
                      <a:pt x="2483" y="843"/>
                    </a:lnTo>
                    <a:lnTo>
                      <a:pt x="2469" y="835"/>
                    </a:lnTo>
                    <a:lnTo>
                      <a:pt x="2452" y="827"/>
                    </a:lnTo>
                    <a:lnTo>
                      <a:pt x="2437" y="818"/>
                    </a:lnTo>
                    <a:lnTo>
                      <a:pt x="2421" y="812"/>
                    </a:lnTo>
                    <a:lnTo>
                      <a:pt x="2406" y="805"/>
                    </a:lnTo>
                    <a:lnTo>
                      <a:pt x="2392" y="799"/>
                    </a:lnTo>
                    <a:lnTo>
                      <a:pt x="2375" y="794"/>
                    </a:lnTo>
                    <a:lnTo>
                      <a:pt x="2361" y="787"/>
                    </a:lnTo>
                    <a:lnTo>
                      <a:pt x="2344" y="784"/>
                    </a:lnTo>
                    <a:lnTo>
                      <a:pt x="2329" y="779"/>
                    </a:lnTo>
                    <a:lnTo>
                      <a:pt x="2315" y="776"/>
                    </a:lnTo>
                    <a:lnTo>
                      <a:pt x="2298" y="771"/>
                    </a:lnTo>
                    <a:lnTo>
                      <a:pt x="2284" y="769"/>
                    </a:lnTo>
                    <a:lnTo>
                      <a:pt x="2267" y="766"/>
                    </a:lnTo>
                    <a:lnTo>
                      <a:pt x="2253" y="764"/>
                    </a:lnTo>
                    <a:lnTo>
                      <a:pt x="2236" y="763"/>
                    </a:lnTo>
                    <a:lnTo>
                      <a:pt x="2221" y="763"/>
                    </a:lnTo>
                    <a:lnTo>
                      <a:pt x="2207" y="761"/>
                    </a:lnTo>
                    <a:lnTo>
                      <a:pt x="2190" y="763"/>
                    </a:lnTo>
                    <a:lnTo>
                      <a:pt x="2176" y="763"/>
                    </a:lnTo>
                    <a:lnTo>
                      <a:pt x="2159" y="764"/>
                    </a:lnTo>
                    <a:lnTo>
                      <a:pt x="2144" y="766"/>
                    </a:lnTo>
                    <a:lnTo>
                      <a:pt x="2128" y="768"/>
                    </a:lnTo>
                    <a:lnTo>
                      <a:pt x="2113" y="769"/>
                    </a:lnTo>
                    <a:lnTo>
                      <a:pt x="2099" y="773"/>
                    </a:lnTo>
                    <a:lnTo>
                      <a:pt x="2082" y="776"/>
                    </a:lnTo>
                    <a:lnTo>
                      <a:pt x="2068" y="781"/>
                    </a:lnTo>
                    <a:lnTo>
                      <a:pt x="2051" y="784"/>
                    </a:lnTo>
                    <a:lnTo>
                      <a:pt x="2036" y="789"/>
                    </a:lnTo>
                    <a:lnTo>
                      <a:pt x="2020" y="794"/>
                    </a:lnTo>
                    <a:lnTo>
                      <a:pt x="2005" y="800"/>
                    </a:lnTo>
                    <a:lnTo>
                      <a:pt x="1991" y="805"/>
                    </a:lnTo>
                    <a:lnTo>
                      <a:pt x="1974" y="812"/>
                    </a:lnTo>
                    <a:lnTo>
                      <a:pt x="1959" y="818"/>
                    </a:lnTo>
                    <a:lnTo>
                      <a:pt x="1943" y="825"/>
                    </a:lnTo>
                    <a:lnTo>
                      <a:pt x="1928" y="833"/>
                    </a:lnTo>
                    <a:lnTo>
                      <a:pt x="1912" y="840"/>
                    </a:lnTo>
                    <a:lnTo>
                      <a:pt x="1897" y="848"/>
                    </a:lnTo>
                    <a:lnTo>
                      <a:pt x="1883" y="856"/>
                    </a:lnTo>
                    <a:lnTo>
                      <a:pt x="1866" y="864"/>
                    </a:lnTo>
                    <a:lnTo>
                      <a:pt x="1851" y="872"/>
                    </a:lnTo>
                    <a:lnTo>
                      <a:pt x="1835" y="881"/>
                    </a:lnTo>
                    <a:lnTo>
                      <a:pt x="1820" y="889"/>
                    </a:lnTo>
                    <a:lnTo>
                      <a:pt x="1806" y="899"/>
                    </a:lnTo>
                    <a:lnTo>
                      <a:pt x="1789" y="907"/>
                    </a:lnTo>
                    <a:lnTo>
                      <a:pt x="1775" y="917"/>
                    </a:lnTo>
                    <a:lnTo>
                      <a:pt x="1758" y="926"/>
                    </a:lnTo>
                    <a:lnTo>
                      <a:pt x="1743" y="935"/>
                    </a:lnTo>
                    <a:lnTo>
                      <a:pt x="1727" y="944"/>
                    </a:lnTo>
                    <a:lnTo>
                      <a:pt x="1712" y="954"/>
                    </a:lnTo>
                    <a:lnTo>
                      <a:pt x="1698" y="964"/>
                    </a:lnTo>
                    <a:lnTo>
                      <a:pt x="1681" y="974"/>
                    </a:lnTo>
                    <a:lnTo>
                      <a:pt x="1666" y="984"/>
                    </a:lnTo>
                    <a:lnTo>
                      <a:pt x="1650" y="994"/>
                    </a:lnTo>
                    <a:lnTo>
                      <a:pt x="1635" y="1003"/>
                    </a:lnTo>
                    <a:lnTo>
                      <a:pt x="1619" y="1013"/>
                    </a:lnTo>
                    <a:lnTo>
                      <a:pt x="1604" y="1023"/>
                    </a:lnTo>
                    <a:lnTo>
                      <a:pt x="1590" y="1033"/>
                    </a:lnTo>
                    <a:lnTo>
                      <a:pt x="1573" y="1041"/>
                    </a:lnTo>
                    <a:lnTo>
                      <a:pt x="1558" y="1051"/>
                    </a:lnTo>
                    <a:lnTo>
                      <a:pt x="1542" y="1061"/>
                    </a:lnTo>
                    <a:lnTo>
                      <a:pt x="1527" y="1071"/>
                    </a:lnTo>
                    <a:lnTo>
                      <a:pt x="1511" y="1080"/>
                    </a:lnTo>
                    <a:lnTo>
                      <a:pt x="1496" y="1090"/>
                    </a:lnTo>
                    <a:lnTo>
                      <a:pt x="1482" y="1098"/>
                    </a:lnTo>
                    <a:lnTo>
                      <a:pt x="1465" y="1108"/>
                    </a:lnTo>
                    <a:lnTo>
                      <a:pt x="1450" y="1118"/>
                    </a:lnTo>
                    <a:lnTo>
                      <a:pt x="1434" y="1126"/>
                    </a:lnTo>
                    <a:lnTo>
                      <a:pt x="1419" y="1136"/>
                    </a:lnTo>
                    <a:lnTo>
                      <a:pt x="1405" y="1144"/>
                    </a:lnTo>
                    <a:lnTo>
                      <a:pt x="1388" y="1152"/>
                    </a:lnTo>
                    <a:lnTo>
                      <a:pt x="1373" y="1162"/>
                    </a:lnTo>
                    <a:lnTo>
                      <a:pt x="1357" y="1170"/>
                    </a:lnTo>
                    <a:lnTo>
                      <a:pt x="1342" y="1179"/>
                    </a:lnTo>
                    <a:lnTo>
                      <a:pt x="1326" y="1187"/>
                    </a:lnTo>
                    <a:lnTo>
                      <a:pt x="1311" y="1195"/>
                    </a:lnTo>
                    <a:lnTo>
                      <a:pt x="1297" y="1203"/>
                    </a:lnTo>
                    <a:lnTo>
                      <a:pt x="1280" y="1211"/>
                    </a:lnTo>
                    <a:lnTo>
                      <a:pt x="1265" y="1218"/>
                    </a:lnTo>
                    <a:lnTo>
                      <a:pt x="1249" y="1226"/>
                    </a:lnTo>
                    <a:lnTo>
                      <a:pt x="1234" y="1234"/>
                    </a:lnTo>
                    <a:lnTo>
                      <a:pt x="1218" y="1241"/>
                    </a:lnTo>
                    <a:lnTo>
                      <a:pt x="1203" y="1249"/>
                    </a:lnTo>
                    <a:lnTo>
                      <a:pt x="1188" y="1256"/>
                    </a:lnTo>
                    <a:lnTo>
                      <a:pt x="1172" y="1262"/>
                    </a:lnTo>
                    <a:lnTo>
                      <a:pt x="1157" y="1270"/>
                    </a:lnTo>
                    <a:lnTo>
                      <a:pt x="1141" y="1277"/>
                    </a:lnTo>
                    <a:lnTo>
                      <a:pt x="1126" y="1283"/>
                    </a:lnTo>
                    <a:lnTo>
                      <a:pt x="1110" y="1290"/>
                    </a:lnTo>
                    <a:lnTo>
                      <a:pt x="1095" y="1296"/>
                    </a:lnTo>
                    <a:lnTo>
                      <a:pt x="1080" y="1301"/>
                    </a:lnTo>
                    <a:lnTo>
                      <a:pt x="1064" y="1308"/>
                    </a:lnTo>
                    <a:lnTo>
                      <a:pt x="1049" y="1314"/>
                    </a:lnTo>
                    <a:lnTo>
                      <a:pt x="1033" y="1319"/>
                    </a:lnTo>
                    <a:lnTo>
                      <a:pt x="1018" y="1326"/>
                    </a:lnTo>
                    <a:lnTo>
                      <a:pt x="1004" y="1331"/>
                    </a:lnTo>
                    <a:lnTo>
                      <a:pt x="987" y="1337"/>
                    </a:lnTo>
                    <a:lnTo>
                      <a:pt x="972" y="1342"/>
                    </a:lnTo>
                    <a:lnTo>
                      <a:pt x="956" y="1347"/>
                    </a:lnTo>
                    <a:lnTo>
                      <a:pt x="941" y="1352"/>
                    </a:lnTo>
                    <a:lnTo>
                      <a:pt x="925" y="1357"/>
                    </a:lnTo>
                    <a:lnTo>
                      <a:pt x="910" y="1362"/>
                    </a:lnTo>
                    <a:lnTo>
                      <a:pt x="895" y="1367"/>
                    </a:lnTo>
                    <a:lnTo>
                      <a:pt x="879" y="1372"/>
                    </a:lnTo>
                    <a:lnTo>
                      <a:pt x="864" y="1377"/>
                    </a:lnTo>
                    <a:lnTo>
                      <a:pt x="848" y="1380"/>
                    </a:lnTo>
                    <a:lnTo>
                      <a:pt x="833" y="1385"/>
                    </a:lnTo>
                    <a:lnTo>
                      <a:pt x="817" y="1390"/>
                    </a:lnTo>
                    <a:lnTo>
                      <a:pt x="802" y="1393"/>
                    </a:lnTo>
                    <a:lnTo>
                      <a:pt x="787" y="1398"/>
                    </a:lnTo>
                    <a:lnTo>
                      <a:pt x="771" y="1401"/>
                    </a:lnTo>
                    <a:lnTo>
                      <a:pt x="756" y="1404"/>
                    </a:lnTo>
                    <a:lnTo>
                      <a:pt x="740" y="1409"/>
                    </a:lnTo>
                    <a:lnTo>
                      <a:pt x="725" y="1413"/>
                    </a:lnTo>
                    <a:lnTo>
                      <a:pt x="709" y="1416"/>
                    </a:lnTo>
                    <a:lnTo>
                      <a:pt x="694" y="1419"/>
                    </a:lnTo>
                    <a:lnTo>
                      <a:pt x="679" y="1422"/>
                    </a:lnTo>
                    <a:lnTo>
                      <a:pt x="663" y="1426"/>
                    </a:lnTo>
                    <a:lnTo>
                      <a:pt x="648" y="1429"/>
                    </a:lnTo>
                    <a:lnTo>
                      <a:pt x="632" y="1432"/>
                    </a:lnTo>
                    <a:lnTo>
                      <a:pt x="617" y="1436"/>
                    </a:lnTo>
                    <a:lnTo>
                      <a:pt x="601" y="1439"/>
                    </a:lnTo>
                    <a:lnTo>
                      <a:pt x="586" y="1442"/>
                    </a:lnTo>
                    <a:lnTo>
                      <a:pt x="571" y="1444"/>
                    </a:lnTo>
                    <a:lnTo>
                      <a:pt x="555" y="1447"/>
                    </a:lnTo>
                    <a:lnTo>
                      <a:pt x="540" y="1450"/>
                    </a:lnTo>
                    <a:lnTo>
                      <a:pt x="524" y="1452"/>
                    </a:lnTo>
                    <a:lnTo>
                      <a:pt x="509" y="1455"/>
                    </a:lnTo>
                    <a:lnTo>
                      <a:pt x="494" y="1458"/>
                    </a:lnTo>
                    <a:lnTo>
                      <a:pt x="478" y="1460"/>
                    </a:lnTo>
                    <a:lnTo>
                      <a:pt x="463" y="1463"/>
                    </a:lnTo>
                    <a:lnTo>
                      <a:pt x="447" y="1465"/>
                    </a:lnTo>
                    <a:lnTo>
                      <a:pt x="432" y="1467"/>
                    </a:lnTo>
                    <a:lnTo>
                      <a:pt x="416" y="1470"/>
                    </a:lnTo>
                    <a:lnTo>
                      <a:pt x="401" y="1472"/>
                    </a:lnTo>
                    <a:lnTo>
                      <a:pt x="386" y="1473"/>
                    </a:lnTo>
                    <a:lnTo>
                      <a:pt x="370" y="1477"/>
                    </a:lnTo>
                    <a:lnTo>
                      <a:pt x="355" y="1478"/>
                    </a:lnTo>
                    <a:lnTo>
                      <a:pt x="339" y="1480"/>
                    </a:lnTo>
                    <a:lnTo>
                      <a:pt x="324" y="1481"/>
                    </a:lnTo>
                    <a:lnTo>
                      <a:pt x="308" y="1483"/>
                    </a:lnTo>
                    <a:lnTo>
                      <a:pt x="293" y="1486"/>
                    </a:lnTo>
                    <a:lnTo>
                      <a:pt x="278" y="1488"/>
                    </a:lnTo>
                    <a:lnTo>
                      <a:pt x="262" y="1490"/>
                    </a:lnTo>
                    <a:lnTo>
                      <a:pt x="247" y="1491"/>
                    </a:lnTo>
                    <a:lnTo>
                      <a:pt x="231" y="1493"/>
                    </a:lnTo>
                    <a:lnTo>
                      <a:pt x="216" y="1495"/>
                    </a:lnTo>
                    <a:lnTo>
                      <a:pt x="200" y="1496"/>
                    </a:lnTo>
                    <a:lnTo>
                      <a:pt x="185" y="1498"/>
                    </a:lnTo>
                    <a:lnTo>
                      <a:pt x="170" y="1499"/>
                    </a:lnTo>
                    <a:lnTo>
                      <a:pt x="154" y="1501"/>
                    </a:lnTo>
                    <a:lnTo>
                      <a:pt x="139" y="1503"/>
                    </a:lnTo>
                    <a:lnTo>
                      <a:pt x="123" y="1504"/>
                    </a:lnTo>
                    <a:lnTo>
                      <a:pt x="108" y="1504"/>
                    </a:lnTo>
                    <a:lnTo>
                      <a:pt x="93" y="1506"/>
                    </a:lnTo>
                    <a:lnTo>
                      <a:pt x="77" y="1508"/>
                    </a:lnTo>
                    <a:lnTo>
                      <a:pt x="62" y="1509"/>
                    </a:lnTo>
                    <a:lnTo>
                      <a:pt x="46" y="1511"/>
                    </a:lnTo>
                    <a:lnTo>
                      <a:pt x="31" y="1511"/>
                    </a:lnTo>
                    <a:lnTo>
                      <a:pt x="15" y="1513"/>
                    </a:lnTo>
                    <a:lnTo>
                      <a:pt x="0" y="151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4503600" y="6205680"/>
                <a:ext cx="1800" cy="32076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4464000" y="6205680"/>
                <a:ext cx="77760" cy="180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4464000" y="6526440"/>
                <a:ext cx="77760" cy="144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4754520" y="6199560"/>
                <a:ext cx="1800" cy="20952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9" name=""/>
            <p:cNvGrpSpPr/>
            <p:nvPr/>
          </p:nvGrpSpPr>
          <p:grpSpPr>
            <a:xfrm>
              <a:off x="4459320" y="3760920"/>
              <a:ext cx="1906560" cy="4533840"/>
              <a:chOff x="4459320" y="3760920"/>
              <a:chExt cx="1906560" cy="4533840"/>
            </a:xfrm>
          </p:grpSpPr>
          <p:sp>
            <p:nvSpPr>
              <p:cNvPr id="4130" name=""/>
              <p:cNvSpPr/>
              <p:nvPr/>
            </p:nvSpPr>
            <p:spPr>
              <a:xfrm>
                <a:off x="4716360" y="6199560"/>
                <a:ext cx="77760" cy="144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4716360" y="6409080"/>
                <a:ext cx="77760" cy="144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4994280" y="6282000"/>
                <a:ext cx="1440" cy="20016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4954680" y="6282000"/>
                <a:ext cx="79200" cy="144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4954680" y="6482160"/>
                <a:ext cx="79200" cy="144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5173560" y="6264360"/>
                <a:ext cx="1800" cy="17784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5133960" y="6264360"/>
                <a:ext cx="77760" cy="180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5133960" y="6442200"/>
                <a:ext cx="77760" cy="180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5332320" y="6420240"/>
                <a:ext cx="1800" cy="18864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5292720" y="6420240"/>
                <a:ext cx="77760" cy="144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5292720" y="6608880"/>
                <a:ext cx="77760" cy="180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5475240" y="6600960"/>
                <a:ext cx="1800" cy="21132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5435640" y="6600960"/>
                <a:ext cx="77760" cy="180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5435640" y="6812280"/>
                <a:ext cx="77760" cy="144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5646600" y="6894720"/>
                <a:ext cx="1800" cy="20016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5607000" y="6894720"/>
                <a:ext cx="77760" cy="180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5607000" y="7094880"/>
                <a:ext cx="77760" cy="144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5823000" y="7108920"/>
                <a:ext cx="1440" cy="27972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5784840" y="7108920"/>
                <a:ext cx="77760" cy="180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5784840" y="7388640"/>
                <a:ext cx="77760" cy="144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5965920" y="7093080"/>
                <a:ext cx="1440" cy="40032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5927760" y="7093080"/>
                <a:ext cx="77760" cy="180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5927760" y="7493400"/>
                <a:ext cx="77760" cy="144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6084720" y="7758360"/>
                <a:ext cx="1800" cy="53496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6046920" y="7758360"/>
                <a:ext cx="77760" cy="144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6046920" y="8293320"/>
                <a:ext cx="77760" cy="144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5407200" y="4793040"/>
                <a:ext cx="1440" cy="149688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5369040" y="479304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5369040" y="628992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5533920" y="6607440"/>
                <a:ext cx="1800" cy="8874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5495760" y="6607440"/>
                <a:ext cx="7812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5495760" y="7494840"/>
                <a:ext cx="7812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5646600" y="6664680"/>
                <a:ext cx="1800" cy="23796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5607000" y="666468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5607000" y="690264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5740560" y="6693120"/>
                <a:ext cx="1440" cy="3240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5700600" y="669312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5700600" y="701712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5823000" y="6923160"/>
                <a:ext cx="1440" cy="2430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5784840" y="692316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5784840" y="716616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5899320" y="7045560"/>
                <a:ext cx="1440" cy="2682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5859360" y="704556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5859360" y="731376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5965920" y="7220160"/>
                <a:ext cx="1440" cy="2826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5927760" y="722016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5927760" y="750276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6027840" y="7469280"/>
                <a:ext cx="1440" cy="22392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5989680" y="746928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5989680" y="769320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6084720" y="7502760"/>
                <a:ext cx="1800" cy="23976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6046920" y="750276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6046920" y="774252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6137280" y="7326720"/>
                <a:ext cx="1440" cy="38232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6099120" y="732672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6099120" y="770904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6186600" y="6882120"/>
                <a:ext cx="1440" cy="5792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6148440" y="688212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6148440" y="746136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6230880" y="6775560"/>
                <a:ext cx="1800" cy="76356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6192720" y="677556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6192720" y="753912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6275520" y="5519880"/>
                <a:ext cx="1440" cy="13986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6235560" y="5519880"/>
                <a:ext cx="795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6235560" y="6918480"/>
                <a:ext cx="795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6316560" y="3760920"/>
                <a:ext cx="1800" cy="360216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6278400" y="3760920"/>
                <a:ext cx="7812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6278400" y="7363080"/>
                <a:ext cx="7812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4672080" y="6579000"/>
                <a:ext cx="1440" cy="2664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4632480" y="6579000"/>
                <a:ext cx="7920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4632480" y="6845400"/>
                <a:ext cx="79200" cy="18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4941720" y="6318360"/>
                <a:ext cx="1800" cy="19692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4903920" y="6318360"/>
                <a:ext cx="77760" cy="18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4903920" y="6515280"/>
                <a:ext cx="77760" cy="18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4994280" y="6097680"/>
                <a:ext cx="1440" cy="42408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4954680" y="6097680"/>
                <a:ext cx="79200" cy="18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4954680" y="6521760"/>
                <a:ext cx="7920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5316480" y="6499440"/>
                <a:ext cx="1800" cy="19836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5276880" y="649944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5276880" y="6697800"/>
                <a:ext cx="77760" cy="18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5316480" y="6527880"/>
                <a:ext cx="1800" cy="18576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5276880" y="6527880"/>
                <a:ext cx="77760" cy="18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5276880" y="6713640"/>
                <a:ext cx="77760" cy="18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5533920" y="6615360"/>
                <a:ext cx="1800" cy="18108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5495760" y="6615360"/>
                <a:ext cx="7812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5495760" y="6796440"/>
                <a:ext cx="7812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5533920" y="6556680"/>
                <a:ext cx="1800" cy="19836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5495760" y="6556680"/>
                <a:ext cx="7812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5495760" y="6755040"/>
                <a:ext cx="7812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5533920" y="6967800"/>
                <a:ext cx="1800" cy="2970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5495760" y="6967800"/>
                <a:ext cx="7812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5495760" y="7264800"/>
                <a:ext cx="7812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5533920" y="6734520"/>
                <a:ext cx="1800" cy="20952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5495760" y="6734520"/>
                <a:ext cx="7812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5495760" y="6944040"/>
                <a:ext cx="7812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5740560" y="6988320"/>
                <a:ext cx="1440" cy="18252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5700600" y="6988320"/>
                <a:ext cx="77760" cy="18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5700600" y="7170840"/>
                <a:ext cx="77760" cy="18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5740560" y="6869520"/>
                <a:ext cx="1440" cy="12672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5700600" y="686952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5700600" y="6996240"/>
                <a:ext cx="77760" cy="18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5740560" y="7080480"/>
                <a:ext cx="1440" cy="16812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5700600" y="708048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5700600" y="7248600"/>
                <a:ext cx="77760" cy="18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5899320" y="7297920"/>
                <a:ext cx="1440" cy="15552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5859360" y="7297920"/>
                <a:ext cx="77760" cy="18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5859360" y="7453440"/>
                <a:ext cx="77760" cy="18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5899320" y="7207560"/>
                <a:ext cx="1440" cy="12708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5859360" y="720756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5859360" y="733464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5899320" y="7371000"/>
                <a:ext cx="1440" cy="22392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5859360" y="737100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5859360" y="759492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5899320" y="7269480"/>
                <a:ext cx="1440" cy="17136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5859360" y="726948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5859360" y="744084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6027840" y="7494840"/>
                <a:ext cx="1440" cy="10008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5989680" y="749484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5989680" y="759492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6027840" y="7668000"/>
                <a:ext cx="1440" cy="15228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5989680" y="766800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5989680" y="782028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6027840" y="7552080"/>
                <a:ext cx="1440" cy="18576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5989680" y="755208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5989680" y="773784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6137280" y="7716960"/>
                <a:ext cx="1440" cy="1112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6099120" y="7716960"/>
                <a:ext cx="77760" cy="18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6099120" y="782820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6137280" y="7539120"/>
                <a:ext cx="1440" cy="22716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6099120" y="7539120"/>
                <a:ext cx="77760" cy="18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6099120" y="776628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6137280" y="7668000"/>
                <a:ext cx="1440" cy="19656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6099120" y="766800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6099120" y="7864560"/>
                <a:ext cx="77760" cy="18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6230880" y="6910560"/>
                <a:ext cx="1800" cy="23976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6192720" y="6910560"/>
                <a:ext cx="77760" cy="18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6192720" y="715032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5248440" y="6616800"/>
                <a:ext cx="1440" cy="9072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5210280" y="6616800"/>
                <a:ext cx="77760" cy="180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5210280" y="670752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5248440" y="6505920"/>
                <a:ext cx="1440" cy="9036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5210280" y="650592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5210280" y="659628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5248440" y="6477120"/>
                <a:ext cx="1440" cy="6192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5210280" y="6477120"/>
                <a:ext cx="77760" cy="180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5210280" y="6539040"/>
                <a:ext cx="77760" cy="180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5248440" y="6498000"/>
                <a:ext cx="1440" cy="9036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5210280" y="649800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5210280" y="658836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5646600" y="6666120"/>
                <a:ext cx="1800" cy="7776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5607000" y="6666120"/>
                <a:ext cx="77760" cy="180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5607000" y="6743880"/>
                <a:ext cx="77760" cy="180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5646600" y="6702840"/>
                <a:ext cx="1800" cy="7596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5607000" y="670284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5607000" y="6778800"/>
                <a:ext cx="77760" cy="180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5646600" y="6801120"/>
                <a:ext cx="1800" cy="7632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5607000" y="680112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5607000" y="687744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5899320" y="7175880"/>
                <a:ext cx="1440" cy="14580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5859360" y="717588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5859360" y="7321680"/>
                <a:ext cx="77760" cy="180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5899320" y="7142400"/>
                <a:ext cx="1440" cy="7452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5859360" y="714240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5859360" y="7216920"/>
                <a:ext cx="77760" cy="180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5899320" y="7085160"/>
                <a:ext cx="1440" cy="10152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5859360" y="7085160"/>
                <a:ext cx="77760" cy="180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5859360" y="7186680"/>
                <a:ext cx="77760" cy="180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4459320" y="6323400"/>
                <a:ext cx="101520" cy="10152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4711680" y="6258240"/>
                <a:ext cx="100080" cy="10152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4950000" y="6336000"/>
                <a:ext cx="101520" cy="10152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5129280" y="6307200"/>
                <a:ext cx="101520" cy="10188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5288040" y="6471000"/>
                <a:ext cx="101520" cy="10152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5430960" y="6661440"/>
                <a:ext cx="101520" cy="10152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5602320" y="6950160"/>
                <a:ext cx="101520" cy="10332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5778360" y="7204320"/>
                <a:ext cx="101880" cy="10152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5921280" y="7248600"/>
                <a:ext cx="101520" cy="10188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6041880" y="7982280"/>
                <a:ext cx="100080" cy="10008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5362560" y="5497920"/>
                <a:ext cx="93600" cy="9360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0" y="59"/>
                    </a:moveTo>
                    <a:lnTo>
                      <a:pt x="59" y="59"/>
                    </a:lnTo>
                    <a:lnTo>
                      <a:pt x="3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5491080" y="7007400"/>
                <a:ext cx="95400" cy="93600"/>
              </a:xfrm>
              <a:custGeom>
                <a:avLst/>
                <a:gdLst/>
                <a:ahLst/>
                <a:rect l="l" t="t" r="r" b="b"/>
                <a:pathLst>
                  <a:path w="60" h="59">
                    <a:moveTo>
                      <a:pt x="0" y="59"/>
                    </a:moveTo>
                    <a:lnTo>
                      <a:pt x="60" y="59"/>
                    </a:lnTo>
                    <a:lnTo>
                      <a:pt x="29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5599080" y="6739200"/>
                <a:ext cx="96840" cy="9360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0" y="59"/>
                    </a:moveTo>
                    <a:lnTo>
                      <a:pt x="61" y="59"/>
                    </a:lnTo>
                    <a:lnTo>
                      <a:pt x="31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5695920" y="6809040"/>
                <a:ext cx="93600" cy="9360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0" y="59"/>
                    </a:moveTo>
                    <a:lnTo>
                      <a:pt x="59" y="59"/>
                    </a:lnTo>
                    <a:lnTo>
                      <a:pt x="29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5778360" y="6999480"/>
                <a:ext cx="93960" cy="95400"/>
              </a:xfrm>
              <a:custGeom>
                <a:avLst/>
                <a:gdLst/>
                <a:ahLst/>
                <a:rect l="l" t="t" r="r" b="b"/>
                <a:pathLst>
                  <a:path w="59" h="60">
                    <a:moveTo>
                      <a:pt x="0" y="60"/>
                    </a:moveTo>
                    <a:lnTo>
                      <a:pt x="59" y="60"/>
                    </a:lnTo>
                    <a:lnTo>
                      <a:pt x="3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5854680" y="7134480"/>
                <a:ext cx="93600" cy="9360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0" y="59"/>
                    </a:moveTo>
                    <a:lnTo>
                      <a:pt x="59" y="59"/>
                    </a:lnTo>
                    <a:lnTo>
                      <a:pt x="29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5921280" y="7318440"/>
                <a:ext cx="93600" cy="9396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0" y="59"/>
                    </a:moveTo>
                    <a:lnTo>
                      <a:pt x="59" y="59"/>
                    </a:lnTo>
                    <a:lnTo>
                      <a:pt x="3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5985000" y="7537680"/>
                <a:ext cx="93600" cy="9360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0" y="59"/>
                    </a:moveTo>
                    <a:lnTo>
                      <a:pt x="59" y="59"/>
                    </a:lnTo>
                    <a:lnTo>
                      <a:pt x="29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6041880" y="7579080"/>
                <a:ext cx="93960" cy="9360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0" y="59"/>
                    </a:moveTo>
                    <a:lnTo>
                      <a:pt x="59" y="59"/>
                    </a:lnTo>
                    <a:lnTo>
                      <a:pt x="29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6093000" y="7472520"/>
                <a:ext cx="93600" cy="95400"/>
              </a:xfrm>
              <a:custGeom>
                <a:avLst/>
                <a:gdLst/>
                <a:ahLst/>
                <a:rect l="l" t="t" r="r" b="b"/>
                <a:pathLst>
                  <a:path w="59" h="60">
                    <a:moveTo>
                      <a:pt x="0" y="60"/>
                    </a:moveTo>
                    <a:lnTo>
                      <a:pt x="59" y="60"/>
                    </a:lnTo>
                    <a:lnTo>
                      <a:pt x="3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6141960" y="7126560"/>
                <a:ext cx="93600" cy="96840"/>
              </a:xfrm>
              <a:custGeom>
                <a:avLst/>
                <a:gdLst/>
                <a:ahLst/>
                <a:rect l="l" t="t" r="r" b="b"/>
                <a:pathLst>
                  <a:path w="59" h="61">
                    <a:moveTo>
                      <a:pt x="0" y="61"/>
                    </a:moveTo>
                    <a:lnTo>
                      <a:pt x="59" y="61"/>
                    </a:lnTo>
                    <a:lnTo>
                      <a:pt x="30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6186600" y="7113960"/>
                <a:ext cx="96840" cy="9360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0" y="59"/>
                    </a:moveTo>
                    <a:lnTo>
                      <a:pt x="61" y="59"/>
                    </a:lnTo>
                    <a:lnTo>
                      <a:pt x="3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6230880" y="6175440"/>
                <a:ext cx="93600" cy="9396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0" y="59"/>
                    </a:moveTo>
                    <a:lnTo>
                      <a:pt x="59" y="59"/>
                    </a:lnTo>
                    <a:lnTo>
                      <a:pt x="3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6272280" y="5518440"/>
                <a:ext cx="93600" cy="9360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0" y="59"/>
                    </a:moveTo>
                    <a:lnTo>
                      <a:pt x="59" y="59"/>
                    </a:lnTo>
                    <a:lnTo>
                      <a:pt x="3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4627440" y="6669360"/>
                <a:ext cx="98640" cy="9828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31" y="0"/>
                    </a:moveTo>
                    <a:lnTo>
                      <a:pt x="0" y="62"/>
                    </a:lnTo>
                    <a:lnTo>
                      <a:pt x="62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4897440" y="6372360"/>
                <a:ext cx="100080" cy="9864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31" y="0"/>
                    </a:moveTo>
                    <a:lnTo>
                      <a:pt x="0" y="62"/>
                    </a:lnTo>
                    <a:lnTo>
                      <a:pt x="63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4950000" y="6266160"/>
                <a:ext cx="98280" cy="9828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31" y="0"/>
                    </a:moveTo>
                    <a:lnTo>
                      <a:pt x="0" y="62"/>
                    </a:lnTo>
                    <a:lnTo>
                      <a:pt x="62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5272200" y="6554880"/>
                <a:ext cx="98280" cy="9864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31" y="0"/>
                    </a:moveTo>
                    <a:lnTo>
                      <a:pt x="0" y="62"/>
                    </a:lnTo>
                    <a:lnTo>
                      <a:pt x="62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5272200" y="6579000"/>
                <a:ext cx="98280" cy="9828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31" y="0"/>
                    </a:moveTo>
                    <a:lnTo>
                      <a:pt x="0" y="62"/>
                    </a:lnTo>
                    <a:lnTo>
                      <a:pt x="62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5491080" y="6661440"/>
                <a:ext cx="98640" cy="9828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31" y="0"/>
                    </a:moveTo>
                    <a:lnTo>
                      <a:pt x="0" y="62"/>
                    </a:lnTo>
                    <a:lnTo>
                      <a:pt x="62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5491080" y="6612120"/>
                <a:ext cx="98640" cy="9864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31" y="0"/>
                    </a:moveTo>
                    <a:lnTo>
                      <a:pt x="0" y="62"/>
                    </a:lnTo>
                    <a:lnTo>
                      <a:pt x="62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5491080" y="7072560"/>
                <a:ext cx="98640" cy="9828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31" y="0"/>
                    </a:moveTo>
                    <a:lnTo>
                      <a:pt x="0" y="62"/>
                    </a:lnTo>
                    <a:lnTo>
                      <a:pt x="62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5491080" y="6796440"/>
                <a:ext cx="98640" cy="9828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31" y="0"/>
                    </a:moveTo>
                    <a:lnTo>
                      <a:pt x="0" y="62"/>
                    </a:lnTo>
                    <a:lnTo>
                      <a:pt x="62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0" name=""/>
            <p:cNvGrpSpPr/>
            <p:nvPr/>
          </p:nvGrpSpPr>
          <p:grpSpPr>
            <a:xfrm>
              <a:off x="1166400" y="1309680"/>
              <a:ext cx="5284440" cy="8294400"/>
              <a:chOff x="1166400" y="1309680"/>
              <a:chExt cx="5284440" cy="8294400"/>
            </a:xfrm>
          </p:grpSpPr>
          <p:sp>
            <p:nvSpPr>
              <p:cNvPr id="4331" name=""/>
              <p:cNvSpPr/>
              <p:nvPr/>
            </p:nvSpPr>
            <p:spPr>
              <a:xfrm>
                <a:off x="5695920" y="7036200"/>
                <a:ext cx="98280" cy="9828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31" y="0"/>
                    </a:moveTo>
                    <a:lnTo>
                      <a:pt x="0" y="62"/>
                    </a:lnTo>
                    <a:lnTo>
                      <a:pt x="62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5695920" y="6886800"/>
                <a:ext cx="9828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31" y="0"/>
                    </a:moveTo>
                    <a:lnTo>
                      <a:pt x="0" y="63"/>
                    </a:lnTo>
                    <a:lnTo>
                      <a:pt x="62" y="6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5695920" y="7121880"/>
                <a:ext cx="98280" cy="9828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31" y="0"/>
                    </a:moveTo>
                    <a:lnTo>
                      <a:pt x="0" y="62"/>
                    </a:lnTo>
                    <a:lnTo>
                      <a:pt x="62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5854680" y="7331400"/>
                <a:ext cx="9828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31" y="0"/>
                    </a:moveTo>
                    <a:lnTo>
                      <a:pt x="0" y="63"/>
                    </a:lnTo>
                    <a:lnTo>
                      <a:pt x="62" y="6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5854680" y="7224840"/>
                <a:ext cx="98280" cy="9864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31" y="0"/>
                    </a:moveTo>
                    <a:lnTo>
                      <a:pt x="0" y="62"/>
                    </a:lnTo>
                    <a:lnTo>
                      <a:pt x="62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5854680" y="7437600"/>
                <a:ext cx="9828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31" y="0"/>
                    </a:moveTo>
                    <a:lnTo>
                      <a:pt x="0" y="63"/>
                    </a:lnTo>
                    <a:lnTo>
                      <a:pt x="62" y="6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5854680" y="7310520"/>
                <a:ext cx="98280" cy="9864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31" y="0"/>
                    </a:moveTo>
                    <a:lnTo>
                      <a:pt x="0" y="62"/>
                    </a:lnTo>
                    <a:lnTo>
                      <a:pt x="62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5985000" y="7501320"/>
                <a:ext cx="98280" cy="9828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31" y="0"/>
                    </a:moveTo>
                    <a:lnTo>
                      <a:pt x="0" y="62"/>
                    </a:lnTo>
                    <a:lnTo>
                      <a:pt x="62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5985000" y="7697880"/>
                <a:ext cx="98280" cy="9864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31" y="0"/>
                    </a:moveTo>
                    <a:lnTo>
                      <a:pt x="0" y="62"/>
                    </a:lnTo>
                    <a:lnTo>
                      <a:pt x="62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5985000" y="7599600"/>
                <a:ext cx="98280" cy="9828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31" y="0"/>
                    </a:moveTo>
                    <a:lnTo>
                      <a:pt x="0" y="62"/>
                    </a:lnTo>
                    <a:lnTo>
                      <a:pt x="62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6093000" y="7726680"/>
                <a:ext cx="99720" cy="98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31" y="0"/>
                    </a:moveTo>
                    <a:lnTo>
                      <a:pt x="0" y="62"/>
                    </a:lnTo>
                    <a:lnTo>
                      <a:pt x="63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6093000" y="7607520"/>
                <a:ext cx="99720" cy="98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31" y="0"/>
                    </a:moveTo>
                    <a:lnTo>
                      <a:pt x="0" y="62"/>
                    </a:lnTo>
                    <a:lnTo>
                      <a:pt x="63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6093000" y="7722000"/>
                <a:ext cx="99720" cy="98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31" y="0"/>
                    </a:moveTo>
                    <a:lnTo>
                      <a:pt x="0" y="62"/>
                    </a:lnTo>
                    <a:lnTo>
                      <a:pt x="63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6186600" y="698688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31" y="0"/>
                    </a:moveTo>
                    <a:lnTo>
                      <a:pt x="0" y="62"/>
                    </a:lnTo>
                    <a:lnTo>
                      <a:pt x="63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5205240" y="6620040"/>
                <a:ext cx="98640" cy="9864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5205240" y="6505920"/>
                <a:ext cx="98640" cy="9828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5205240" y="6464520"/>
                <a:ext cx="98640" cy="9828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5205240" y="6498000"/>
                <a:ext cx="98640" cy="10152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5599080" y="6661440"/>
                <a:ext cx="101520" cy="9828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5599080" y="6697800"/>
                <a:ext cx="101520" cy="9864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5599080" y="6796440"/>
                <a:ext cx="101520" cy="9828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5854680" y="7204320"/>
                <a:ext cx="98280" cy="9828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5854680" y="7134480"/>
                <a:ext cx="98280" cy="9828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5854680" y="7093080"/>
                <a:ext cx="98280" cy="9864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1166400" y="8733240"/>
                <a:ext cx="255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1166400" y="8026560"/>
                <a:ext cx="255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>
                <a:off x="1166400" y="7321680"/>
                <a:ext cx="255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1305720" y="661536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1166400" y="5907240"/>
                <a:ext cx="255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1166400" y="5204160"/>
                <a:ext cx="255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1275120" y="8917200"/>
                <a:ext cx="459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2959920" y="8917200"/>
                <a:ext cx="357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4641480" y="8917200"/>
                <a:ext cx="255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>
                <a:off x="6347880" y="891720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3762360" y="9131400"/>
                <a:ext cx="19728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1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x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1616040" y="5331240"/>
                <a:ext cx="1106640" cy="121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1733400" y="5445360"/>
                <a:ext cx="79560" cy="8100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1929600" y="5384880"/>
                <a:ext cx="711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BCDM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1733400" y="5747040"/>
                <a:ext cx="74880" cy="7452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0" y="47"/>
                    </a:moveTo>
                    <a:lnTo>
                      <a:pt x="47" y="47"/>
                    </a:lnTo>
                    <a:lnTo>
                      <a:pt x="23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1929960" y="5689800"/>
                <a:ext cx="32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E8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1733400" y="6050160"/>
                <a:ext cx="77760" cy="7776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24" y="0"/>
                    </a:moveTo>
                    <a:lnTo>
                      <a:pt x="0" y="49"/>
                    </a:lnTo>
                    <a:lnTo>
                      <a:pt x="49" y="49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1929600" y="5994720"/>
                <a:ext cx="430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E13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1733400" y="6351840"/>
                <a:ext cx="79560" cy="8100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1929600" y="6294600"/>
                <a:ext cx="430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E14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3818880" y="8144280"/>
                <a:ext cx="322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F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4152960" y="3467520"/>
                <a:ext cx="2233440" cy="1785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1468440" y="1316160"/>
                <a:ext cx="4913280" cy="351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1461960" y="4824720"/>
                <a:ext cx="491508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1461960" y="1310040"/>
                <a:ext cx="491508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 flipV="1">
                <a:off x="1461960" y="1309680"/>
                <a:ext cx="1800" cy="3514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 flipV="1">
                <a:off x="6377040" y="1309680"/>
                <a:ext cx="1440" cy="3514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1433520" y="4829400"/>
                <a:ext cx="3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1433520" y="4688280"/>
                <a:ext cx="3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1433520" y="4548600"/>
                <a:ext cx="3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1433520" y="4408560"/>
                <a:ext cx="34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1433520" y="4267440"/>
                <a:ext cx="3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1433520" y="4127760"/>
                <a:ext cx="3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1433520" y="3986280"/>
                <a:ext cx="34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1433520" y="3843720"/>
                <a:ext cx="3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1433520" y="3704040"/>
                <a:ext cx="3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1433520" y="3564000"/>
                <a:ext cx="34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1433520" y="3422880"/>
                <a:ext cx="3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1433520" y="3283200"/>
                <a:ext cx="3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1433520" y="3142080"/>
                <a:ext cx="3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1433520" y="3002040"/>
                <a:ext cx="34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1433520" y="2862360"/>
                <a:ext cx="34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1433520" y="2721240"/>
                <a:ext cx="3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1433520" y="2581560"/>
                <a:ext cx="3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1433520" y="2440080"/>
                <a:ext cx="34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1433520" y="2300400"/>
                <a:ext cx="34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1433520" y="2160720"/>
                <a:ext cx="34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1433520" y="2017800"/>
                <a:ext cx="34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1433520" y="1876680"/>
                <a:ext cx="3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1433520" y="1737000"/>
                <a:ext cx="3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1433520" y="1595520"/>
                <a:ext cx="34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1433520" y="1455840"/>
                <a:ext cx="34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1433520" y="1316160"/>
                <a:ext cx="34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1400040" y="4826160"/>
                <a:ext cx="651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1400040" y="4124520"/>
                <a:ext cx="651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1400040" y="3421440"/>
                <a:ext cx="651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1400040" y="2719800"/>
                <a:ext cx="651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1400040" y="2014920"/>
                <a:ext cx="651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1400040" y="1313280"/>
                <a:ext cx="651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 flipV="1">
                <a:off x="146844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 flipV="1">
                <a:off x="195912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 flipV="1">
                <a:off x="2247840" y="482904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 flipV="1">
                <a:off x="245268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 flipV="1">
                <a:off x="261144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 flipV="1">
                <a:off x="274176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 flipV="1">
                <a:off x="2849400" y="482904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 flipV="1">
                <a:off x="2946240" y="482904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 flipV="1">
                <a:off x="302904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 flipV="1">
                <a:off x="3105000" y="482904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 flipV="1">
                <a:off x="359892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 flipV="1">
                <a:off x="3887640" y="482904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 flipV="1">
                <a:off x="4089240" y="482904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 flipV="1">
                <a:off x="4251240" y="482904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 flipV="1">
                <a:off x="437832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 flipV="1">
                <a:off x="448956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 flipV="1">
                <a:off x="458316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 flipV="1">
                <a:off x="466740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 flipV="1">
                <a:off x="474192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 flipV="1">
                <a:off x="5235480" y="482904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 flipV="1">
                <a:off x="552456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 flipV="1">
                <a:off x="572940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 flipV="1">
                <a:off x="588816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 flipV="1">
                <a:off x="6018120" y="482904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 flipV="1">
                <a:off x="612792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 flipV="1">
                <a:off x="6222960" y="482904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 flipV="1">
                <a:off x="630720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 flipV="1">
                <a:off x="638172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 flipV="1">
                <a:off x="1465200" y="4825800"/>
                <a:ext cx="1800" cy="65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 flipV="1">
                <a:off x="3102120" y="4825800"/>
                <a:ext cx="1440" cy="65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 flipV="1">
                <a:off x="4740120" y="4825800"/>
                <a:ext cx="1800" cy="65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 flipV="1">
                <a:off x="6378480" y="4825800"/>
                <a:ext cx="1800" cy="65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 flipV="1">
                <a:off x="146844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 flipV="1">
                <a:off x="195912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 flipV="1">
                <a:off x="2247840" y="268740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 flipV="1">
                <a:off x="245268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 flipV="1">
                <a:off x="261144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 flipV="1">
                <a:off x="274176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 flipV="1">
                <a:off x="2849400" y="268740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 flipV="1">
                <a:off x="2946240" y="268740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 flipV="1">
                <a:off x="302904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 flipV="1">
                <a:off x="3105000" y="268740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 flipV="1">
                <a:off x="359892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 flipV="1">
                <a:off x="3887640" y="268740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 flipV="1">
                <a:off x="4089240" y="268740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 flipV="1">
                <a:off x="4251240" y="268740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 flipV="1">
                <a:off x="437832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 flipV="1">
                <a:off x="448956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 flipV="1">
                <a:off x="458316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 flipV="1">
                <a:off x="466740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 flipV="1">
                <a:off x="474192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 flipV="1">
                <a:off x="5235480" y="268740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 flipV="1">
                <a:off x="552456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 flipV="1">
                <a:off x="572940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 flipV="1">
                <a:off x="588816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 flipV="1">
                <a:off x="6018120" y="268740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 flipV="1">
                <a:off x="612792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 flipV="1">
                <a:off x="6222960" y="268740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 flipV="1">
                <a:off x="630720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 flipV="1">
                <a:off x="638172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 flipV="1">
                <a:off x="1465200" y="2654280"/>
                <a:ext cx="1800" cy="65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 flipV="1">
                <a:off x="3102120" y="2654280"/>
                <a:ext cx="1440" cy="65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 flipV="1">
                <a:off x="4740120" y="2654280"/>
                <a:ext cx="1800" cy="65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 flipV="1">
                <a:off x="6378480" y="2654280"/>
                <a:ext cx="1800" cy="65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 flipV="1">
                <a:off x="1461960" y="1309680"/>
                <a:ext cx="1800" cy="3514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1461960" y="4824720"/>
                <a:ext cx="491508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1461960" y="2716560"/>
                <a:ext cx="491508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6262560" y="1316160"/>
                <a:ext cx="9720" cy="4608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1" y="0"/>
                    </a:moveTo>
                    <a:lnTo>
                      <a:pt x="0" y="27"/>
                    </a:lnTo>
                    <a:lnTo>
                      <a:pt x="5" y="29"/>
                    </a:lnTo>
                    <a:lnTo>
                      <a:pt x="6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6259680" y="1445040"/>
                <a:ext cx="10800" cy="442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2" y="0"/>
                    </a:moveTo>
                    <a:lnTo>
                      <a:pt x="0" y="27"/>
                    </a:lnTo>
                    <a:lnTo>
                      <a:pt x="5" y="28"/>
                    </a:lnTo>
                    <a:lnTo>
                      <a:pt x="7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6257880" y="1573560"/>
                <a:ext cx="9720" cy="4608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1" y="0"/>
                    </a:moveTo>
                    <a:lnTo>
                      <a:pt x="0" y="27"/>
                    </a:lnTo>
                    <a:lnTo>
                      <a:pt x="4" y="29"/>
                    </a:lnTo>
                    <a:lnTo>
                      <a:pt x="6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6257880" y="1705320"/>
                <a:ext cx="9720" cy="41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6254640" y="1832040"/>
                <a:ext cx="9720" cy="44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6251400" y="1962360"/>
                <a:ext cx="1116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6249960" y="2089440"/>
                <a:ext cx="9720" cy="44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6243480" y="22179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2" y="0"/>
                    </a:moveTo>
                    <a:lnTo>
                      <a:pt x="0" y="26"/>
                    </a:lnTo>
                    <a:lnTo>
                      <a:pt x="5" y="27"/>
                    </a:lnTo>
                    <a:lnTo>
                      <a:pt x="7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6238800" y="2345040"/>
                <a:ext cx="11160" cy="46080"/>
              </a:xfrm>
              <a:custGeom>
                <a:avLst/>
                <a:gdLst/>
                <a:ahLst/>
                <a:rect l="l" t="t" r="r" b="b"/>
                <a:pathLst>
                  <a:path w="7" h="29">
                    <a:moveTo>
                      <a:pt x="2" y="0"/>
                    </a:moveTo>
                    <a:lnTo>
                      <a:pt x="0" y="28"/>
                    </a:lnTo>
                    <a:lnTo>
                      <a:pt x="5" y="29"/>
                    </a:lnTo>
                    <a:lnTo>
                      <a:pt x="7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6235560" y="2476800"/>
                <a:ext cx="1116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6230880" y="2605320"/>
                <a:ext cx="1116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6226200" y="2733840"/>
                <a:ext cx="936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6218280" y="2859480"/>
                <a:ext cx="12600" cy="45720"/>
              </a:xfrm>
              <a:custGeom>
                <a:avLst/>
                <a:gdLst/>
                <a:ahLst/>
                <a:rect l="l" t="t" r="r" b="b"/>
                <a:pathLst>
                  <a:path w="8" h="29">
                    <a:moveTo>
                      <a:pt x="3" y="0"/>
                    </a:moveTo>
                    <a:lnTo>
                      <a:pt x="0" y="28"/>
                    </a:lnTo>
                    <a:lnTo>
                      <a:pt x="5" y="29"/>
                    </a:lnTo>
                    <a:lnTo>
                      <a:pt x="8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6210360" y="2989440"/>
                <a:ext cx="11160" cy="446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2" y="0"/>
                    </a:moveTo>
                    <a:lnTo>
                      <a:pt x="0" y="26"/>
                    </a:lnTo>
                    <a:lnTo>
                      <a:pt x="5" y="28"/>
                    </a:lnTo>
                    <a:lnTo>
                      <a:pt x="7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6202440" y="3116520"/>
                <a:ext cx="11160" cy="4752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2" y="0"/>
                    </a:moveTo>
                    <a:lnTo>
                      <a:pt x="0" y="28"/>
                    </a:lnTo>
                    <a:lnTo>
                      <a:pt x="5" y="30"/>
                    </a:lnTo>
                    <a:lnTo>
                      <a:pt x="7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6186600" y="3246840"/>
                <a:ext cx="12600" cy="44280"/>
              </a:xfrm>
              <a:custGeom>
                <a:avLst/>
                <a:gdLst/>
                <a:ahLst/>
                <a:rect l="l" t="t" r="r" b="b"/>
                <a:pathLst>
                  <a:path w="8" h="28">
                    <a:moveTo>
                      <a:pt x="4" y="0"/>
                    </a:moveTo>
                    <a:lnTo>
                      <a:pt x="0" y="26"/>
                    </a:lnTo>
                    <a:lnTo>
                      <a:pt x="5" y="28"/>
                    </a:lnTo>
                    <a:lnTo>
                      <a:pt x="8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6173640" y="3376800"/>
                <a:ext cx="11160" cy="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6161040" y="3378600"/>
                <a:ext cx="20520" cy="42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8" y="0"/>
                    </a:moveTo>
                    <a:lnTo>
                      <a:pt x="0" y="25"/>
                    </a:lnTo>
                    <a:lnTo>
                      <a:pt x="5" y="27"/>
                    </a:lnTo>
                    <a:lnTo>
                      <a:pt x="13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6103800" y="34592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2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5" y="7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6078600" y="3430800"/>
                <a:ext cx="30240" cy="3672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18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14" y="23"/>
                    </a:lnTo>
                    <a:lnTo>
                      <a:pt x="1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6027840" y="334980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6010200" y="331956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6" y="19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11" y="24"/>
                    </a:lnTo>
                    <a:lnTo>
                      <a:pt x="1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5952960" y="321336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6" y="19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11" y="24"/>
                    </a:lnTo>
                    <a:lnTo>
                      <a:pt x="1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5948280" y="320544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5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3" y="10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5904000" y="312444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5884920" y="3090960"/>
                <a:ext cx="27000" cy="3672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21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12" y="23"/>
                    </a:lnTo>
                    <a:lnTo>
                      <a:pt x="1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5830920" y="299736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11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7" y="13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5819760" y="297684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13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7" y="14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5757840" y="28800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3" y="15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8" y="16"/>
                    </a:lnTo>
                    <a:lnTo>
                      <a:pt x="1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5748480" y="286416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1" y="8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6" y="13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5684760" y="27766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9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7" y="14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5670720" y="2754720"/>
                <a:ext cx="21960" cy="298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14" y="14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9" y="19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5586480" y="2662560"/>
                <a:ext cx="31680" cy="3312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20" y="16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15" y="21"/>
                    </a:lnTo>
                    <a:lnTo>
                      <a:pt x="2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5581800" y="265608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5511960" y="259092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4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3" y="9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5487840" y="2573640"/>
                <a:ext cx="3204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20" y="11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15" y="16"/>
                    </a:lnTo>
                    <a:lnTo>
                      <a:pt x="2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5483160" y="256896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5391000" y="2508480"/>
                <a:ext cx="24120" cy="176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7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13" y="11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5373720" y="249732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7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11" y="12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5268960" y="246240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4" y="3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12" y="8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5246640" y="2459160"/>
                <a:ext cx="25560" cy="97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16" y="2"/>
                    </a:moveTo>
                    <a:lnTo>
                      <a:pt x="1" y="0"/>
                    </a:lnTo>
                    <a:lnTo>
                      <a:pt x="0" y="5"/>
                    </a:lnTo>
                    <a:lnTo>
                      <a:pt x="14" y="6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5149800" y="2448000"/>
                <a:ext cx="126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5121360" y="2448000"/>
                <a:ext cx="28440" cy="1116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17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8" y="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5119560" y="2451240"/>
                <a:ext cx="50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5027760" y="2464200"/>
                <a:ext cx="6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4998960" y="2464200"/>
                <a:ext cx="28800" cy="1260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17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8" y="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4989600" y="24688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8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4903920" y="2497320"/>
                <a:ext cx="14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4876920" y="249732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5" y="0"/>
                    </a:moveTo>
                    <a:lnTo>
                      <a:pt x="0" y="5"/>
                    </a:lnTo>
                    <a:lnTo>
                      <a:pt x="2" y="10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4859280" y="250524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1" y="0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13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1" name=""/>
            <p:cNvGrpSpPr/>
            <p:nvPr/>
          </p:nvGrpSpPr>
          <p:grpSpPr>
            <a:xfrm>
              <a:off x="1461600" y="1310040"/>
              <a:ext cx="4915080" cy="2914560"/>
              <a:chOff x="1461600" y="1310040"/>
              <a:chExt cx="4915080" cy="2914560"/>
            </a:xfrm>
          </p:grpSpPr>
          <p:sp>
            <p:nvSpPr>
              <p:cNvPr id="4532" name=""/>
              <p:cNvSpPr/>
              <p:nvPr/>
            </p:nvSpPr>
            <p:spPr>
              <a:xfrm>
                <a:off x="4754520" y="254988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0" y="5"/>
                    </a:lnTo>
                    <a:lnTo>
                      <a:pt x="2" y="10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4734000" y="255780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3" y="0"/>
                    </a:moveTo>
                    <a:lnTo>
                      <a:pt x="0" y="7"/>
                    </a:lnTo>
                    <a:lnTo>
                      <a:pt x="2" y="12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4632480" y="26067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4" y="0"/>
                    </a:moveTo>
                    <a:lnTo>
                      <a:pt x="0" y="7"/>
                    </a:lnTo>
                    <a:lnTo>
                      <a:pt x="2" y="12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4614840" y="261792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1" y="0"/>
                    </a:moveTo>
                    <a:lnTo>
                      <a:pt x="0" y="6"/>
                    </a:lnTo>
                    <a:lnTo>
                      <a:pt x="2" y="11"/>
                    </a:lnTo>
                    <a:lnTo>
                      <a:pt x="13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4537080" y="2668680"/>
                <a:ext cx="14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4508640" y="266868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16" y="0"/>
                    </a:moveTo>
                    <a:lnTo>
                      <a:pt x="0" y="9"/>
                    </a:lnTo>
                    <a:lnTo>
                      <a:pt x="1" y="14"/>
                    </a:lnTo>
                    <a:lnTo>
                      <a:pt x="18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4497480" y="268308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8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4410000" y="273240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5" y="0"/>
                    </a:moveTo>
                    <a:lnTo>
                      <a:pt x="0" y="3"/>
                    </a:lnTo>
                    <a:lnTo>
                      <a:pt x="5" y="8"/>
                    </a:lnTo>
                    <a:lnTo>
                      <a:pt x="9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4386240" y="27370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16" y="0"/>
                    </a:moveTo>
                    <a:lnTo>
                      <a:pt x="0" y="8"/>
                    </a:lnTo>
                    <a:lnTo>
                      <a:pt x="2" y="13"/>
                    </a:lnTo>
                    <a:lnTo>
                      <a:pt x="18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4381560" y="27496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5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4284720" y="279432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0" y="0"/>
                    </a:moveTo>
                    <a:lnTo>
                      <a:pt x="0" y="7"/>
                    </a:lnTo>
                    <a:lnTo>
                      <a:pt x="5" y="12"/>
                    </a:lnTo>
                    <a:lnTo>
                      <a:pt x="15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4264200" y="2805480"/>
                <a:ext cx="25200" cy="205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5" y="0"/>
                    </a:moveTo>
                    <a:lnTo>
                      <a:pt x="0" y="8"/>
                    </a:lnTo>
                    <a:lnTo>
                      <a:pt x="2" y="13"/>
                    </a:lnTo>
                    <a:lnTo>
                      <a:pt x="16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4165560" y="28594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4" y="0"/>
                    </a:moveTo>
                    <a:lnTo>
                      <a:pt x="0" y="7"/>
                    </a:lnTo>
                    <a:lnTo>
                      <a:pt x="1" y="11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4146480" y="2870280"/>
                <a:ext cx="23760" cy="176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0" y="0"/>
                    </a:moveTo>
                    <a:lnTo>
                      <a:pt x="0" y="6"/>
                    </a:lnTo>
                    <a:lnTo>
                      <a:pt x="5" y="11"/>
                    </a:lnTo>
                    <a:lnTo>
                      <a:pt x="15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4067280" y="291960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4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4043520" y="2921400"/>
                <a:ext cx="25200" cy="205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5" y="0"/>
                    </a:moveTo>
                    <a:lnTo>
                      <a:pt x="0" y="8"/>
                    </a:lnTo>
                    <a:lnTo>
                      <a:pt x="1" y="13"/>
                    </a:lnTo>
                    <a:lnTo>
                      <a:pt x="16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4032360" y="293400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0"/>
                    </a:moveTo>
                    <a:lnTo>
                      <a:pt x="0" y="4"/>
                    </a:lnTo>
                    <a:lnTo>
                      <a:pt x="2" y="9"/>
                    </a:lnTo>
                    <a:lnTo>
                      <a:pt x="8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3944880" y="29782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6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3921120" y="2981520"/>
                <a:ext cx="25560" cy="205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5" y="0"/>
                    </a:moveTo>
                    <a:lnTo>
                      <a:pt x="0" y="8"/>
                    </a:lnTo>
                    <a:lnTo>
                      <a:pt x="2" y="13"/>
                    </a:lnTo>
                    <a:lnTo>
                      <a:pt x="16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3909960" y="2994120"/>
                <a:ext cx="14400" cy="129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7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9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3822840" y="30355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5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3798720" y="303876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0"/>
                    </a:moveTo>
                    <a:lnTo>
                      <a:pt x="0" y="6"/>
                    </a:lnTo>
                    <a:lnTo>
                      <a:pt x="2" y="11"/>
                    </a:lnTo>
                    <a:lnTo>
                      <a:pt x="16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3782880" y="304812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8" y="0"/>
                    </a:moveTo>
                    <a:lnTo>
                      <a:pt x="0" y="5"/>
                    </a:lnTo>
                    <a:lnTo>
                      <a:pt x="5" y="10"/>
                    </a:lnTo>
                    <a:lnTo>
                      <a:pt x="13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3701880" y="3092760"/>
                <a:ext cx="32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3673440" y="3092760"/>
                <a:ext cx="28440" cy="1584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7" y="0"/>
                    </a:moveTo>
                    <a:lnTo>
                      <a:pt x="0" y="5"/>
                    </a:lnTo>
                    <a:lnTo>
                      <a:pt x="2" y="10"/>
                    </a:lnTo>
                    <a:lnTo>
                      <a:pt x="18" y="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3659040" y="31006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0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11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3551400" y="314208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0"/>
                    </a:moveTo>
                    <a:lnTo>
                      <a:pt x="0" y="5"/>
                    </a:lnTo>
                    <a:lnTo>
                      <a:pt x="2" y="10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3530520" y="315000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0" y="5"/>
                    </a:lnTo>
                    <a:lnTo>
                      <a:pt x="2" y="10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3430440" y="318636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0"/>
                    </a:moveTo>
                    <a:lnTo>
                      <a:pt x="0" y="4"/>
                    </a:lnTo>
                    <a:lnTo>
                      <a:pt x="1" y="8"/>
                    </a:lnTo>
                    <a:lnTo>
                      <a:pt x="11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3403440" y="3192840"/>
                <a:ext cx="28800" cy="1728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7" y="0"/>
                    </a:moveTo>
                    <a:lnTo>
                      <a:pt x="0" y="6"/>
                    </a:lnTo>
                    <a:lnTo>
                      <a:pt x="2" y="11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3398760" y="32022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2" y="0"/>
                    </a:moveTo>
                    <a:lnTo>
                      <a:pt x="0" y="2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3309840" y="3230640"/>
                <a:ext cx="79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3281400" y="3230640"/>
                <a:ext cx="28440" cy="1620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7" y="0"/>
                    </a:moveTo>
                    <a:lnTo>
                      <a:pt x="0" y="5"/>
                    </a:lnTo>
                    <a:lnTo>
                      <a:pt x="2" y="10"/>
                    </a:lnTo>
                    <a:lnTo>
                      <a:pt x="18" y="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3273480" y="32389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7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3186000" y="3267360"/>
                <a:ext cx="50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3159000" y="326736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5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3143160" y="3272040"/>
                <a:ext cx="19080" cy="126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0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12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3036960" y="330048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3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3016080" y="3303720"/>
                <a:ext cx="2412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2914560" y="332928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0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2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2889360" y="333252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6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8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2884320" y="3335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0"/>
                    </a:moveTo>
                    <a:lnTo>
                      <a:pt x="0" y="1"/>
                    </a:lnTo>
                    <a:lnTo>
                      <a:pt x="5" y="6"/>
                    </a:lnTo>
                    <a:lnTo>
                      <a:pt x="6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2792520" y="33562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2766960" y="335628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5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6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2759040" y="336096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7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2671920" y="3376800"/>
                <a:ext cx="46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2644920" y="337680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5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2629080" y="338148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0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2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2522520" y="339732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2502000" y="339912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3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2400480" y="3414960"/>
                <a:ext cx="187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2374920" y="341496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5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6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2370240" y="34182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0"/>
                    </a:moveTo>
                    <a:lnTo>
                      <a:pt x="0" y="2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2278080" y="343080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2252520" y="343080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5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6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2244600" y="343404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7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2155680" y="3443400"/>
                <a:ext cx="64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2130480" y="344340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5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6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2114640" y="344664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2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2008080" y="3456360"/>
                <a:ext cx="237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1987560" y="345636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1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3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1886040" y="346752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1860480" y="3467520"/>
                <a:ext cx="2556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5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16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1855800" y="34704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0"/>
                    </a:moveTo>
                    <a:lnTo>
                      <a:pt x="0" y="1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1763640" y="347832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1738440" y="3478320"/>
                <a:ext cx="252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1730520" y="34783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5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1641600" y="3486240"/>
                <a:ext cx="61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1612800" y="3486240"/>
                <a:ext cx="28800" cy="972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7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1603440" y="3488040"/>
                <a:ext cx="126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1490760" y="3492720"/>
                <a:ext cx="27000" cy="1116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5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1476360" y="34959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1461960" y="1310040"/>
                <a:ext cx="4818240" cy="2332080"/>
              </a:xfrm>
              <a:custGeom>
                <a:avLst/>
                <a:gdLst/>
                <a:ahLst/>
                <a:rect l="l" t="t" r="r" b="b"/>
                <a:pathLst>
                  <a:path w="3035" h="1469">
                    <a:moveTo>
                      <a:pt x="3035" y="0"/>
                    </a:moveTo>
                    <a:lnTo>
                      <a:pt x="3029" y="231"/>
                    </a:lnTo>
                    <a:lnTo>
                      <a:pt x="3014" y="653"/>
                    </a:lnTo>
                    <a:lnTo>
                      <a:pt x="2998" y="937"/>
                    </a:lnTo>
                    <a:lnTo>
                      <a:pt x="2983" y="1123"/>
                    </a:lnTo>
                    <a:lnTo>
                      <a:pt x="2966" y="1243"/>
                    </a:lnTo>
                    <a:lnTo>
                      <a:pt x="2952" y="1315"/>
                    </a:lnTo>
                    <a:lnTo>
                      <a:pt x="2935" y="1352"/>
                    </a:lnTo>
                    <a:lnTo>
                      <a:pt x="2921" y="1366"/>
                    </a:lnTo>
                    <a:lnTo>
                      <a:pt x="2906" y="1359"/>
                    </a:lnTo>
                    <a:lnTo>
                      <a:pt x="2890" y="1343"/>
                    </a:lnTo>
                    <a:lnTo>
                      <a:pt x="2875" y="1316"/>
                    </a:lnTo>
                    <a:lnTo>
                      <a:pt x="2858" y="1285"/>
                    </a:lnTo>
                    <a:lnTo>
                      <a:pt x="2844" y="1251"/>
                    </a:lnTo>
                    <a:lnTo>
                      <a:pt x="2827" y="1213"/>
                    </a:lnTo>
                    <a:lnTo>
                      <a:pt x="2813" y="1177"/>
                    </a:lnTo>
                    <a:lnTo>
                      <a:pt x="2796" y="1141"/>
                    </a:lnTo>
                    <a:lnTo>
                      <a:pt x="2782" y="1107"/>
                    </a:lnTo>
                    <a:lnTo>
                      <a:pt x="2767" y="1074"/>
                    </a:lnTo>
                    <a:lnTo>
                      <a:pt x="2750" y="1043"/>
                    </a:lnTo>
                    <a:lnTo>
                      <a:pt x="2736" y="1015"/>
                    </a:lnTo>
                    <a:lnTo>
                      <a:pt x="2719" y="987"/>
                    </a:lnTo>
                    <a:lnTo>
                      <a:pt x="2705" y="963"/>
                    </a:lnTo>
                    <a:lnTo>
                      <a:pt x="2688" y="942"/>
                    </a:lnTo>
                    <a:lnTo>
                      <a:pt x="2673" y="920"/>
                    </a:lnTo>
                    <a:lnTo>
                      <a:pt x="2659" y="902"/>
                    </a:lnTo>
                    <a:lnTo>
                      <a:pt x="2642" y="884"/>
                    </a:lnTo>
                    <a:lnTo>
                      <a:pt x="2628" y="870"/>
                    </a:lnTo>
                    <a:lnTo>
                      <a:pt x="2611" y="855"/>
                    </a:lnTo>
                    <a:lnTo>
                      <a:pt x="2597" y="842"/>
                    </a:lnTo>
                    <a:lnTo>
                      <a:pt x="2580" y="830"/>
                    </a:lnTo>
                    <a:lnTo>
                      <a:pt x="2565" y="819"/>
                    </a:lnTo>
                    <a:lnTo>
                      <a:pt x="2549" y="809"/>
                    </a:lnTo>
                    <a:lnTo>
                      <a:pt x="2534" y="801"/>
                    </a:lnTo>
                    <a:lnTo>
                      <a:pt x="2520" y="791"/>
                    </a:lnTo>
                    <a:lnTo>
                      <a:pt x="2503" y="784"/>
                    </a:lnTo>
                    <a:lnTo>
                      <a:pt x="2488" y="776"/>
                    </a:lnTo>
                    <a:lnTo>
                      <a:pt x="2472" y="770"/>
                    </a:lnTo>
                    <a:lnTo>
                      <a:pt x="2457" y="763"/>
                    </a:lnTo>
                    <a:lnTo>
                      <a:pt x="2441" y="758"/>
                    </a:lnTo>
                    <a:lnTo>
                      <a:pt x="2426" y="753"/>
                    </a:lnTo>
                    <a:lnTo>
                      <a:pt x="2410" y="748"/>
                    </a:lnTo>
                    <a:lnTo>
                      <a:pt x="2395" y="744"/>
                    </a:lnTo>
                    <a:lnTo>
                      <a:pt x="2380" y="740"/>
                    </a:lnTo>
                    <a:lnTo>
                      <a:pt x="2364" y="735"/>
                    </a:lnTo>
                    <a:lnTo>
                      <a:pt x="2349" y="734"/>
                    </a:lnTo>
                    <a:lnTo>
                      <a:pt x="2333" y="730"/>
                    </a:lnTo>
                    <a:lnTo>
                      <a:pt x="2318" y="727"/>
                    </a:lnTo>
                    <a:lnTo>
                      <a:pt x="2302" y="726"/>
                    </a:lnTo>
                    <a:lnTo>
                      <a:pt x="2287" y="724"/>
                    </a:lnTo>
                    <a:lnTo>
                      <a:pt x="2271" y="724"/>
                    </a:lnTo>
                    <a:lnTo>
                      <a:pt x="2256" y="724"/>
                    </a:lnTo>
                    <a:lnTo>
                      <a:pt x="2241" y="724"/>
                    </a:lnTo>
                    <a:lnTo>
                      <a:pt x="2225" y="724"/>
                    </a:lnTo>
                    <a:lnTo>
                      <a:pt x="2210" y="724"/>
                    </a:lnTo>
                    <a:lnTo>
                      <a:pt x="2194" y="726"/>
                    </a:lnTo>
                    <a:lnTo>
                      <a:pt x="2179" y="727"/>
                    </a:lnTo>
                    <a:lnTo>
                      <a:pt x="2163" y="729"/>
                    </a:lnTo>
                    <a:lnTo>
                      <a:pt x="2148" y="732"/>
                    </a:lnTo>
                    <a:lnTo>
                      <a:pt x="2132" y="735"/>
                    </a:lnTo>
                    <a:lnTo>
                      <a:pt x="2117" y="739"/>
                    </a:lnTo>
                    <a:lnTo>
                      <a:pt x="2102" y="742"/>
                    </a:lnTo>
                    <a:lnTo>
                      <a:pt x="2086" y="747"/>
                    </a:lnTo>
                    <a:lnTo>
                      <a:pt x="2071" y="750"/>
                    </a:lnTo>
                    <a:lnTo>
                      <a:pt x="2055" y="755"/>
                    </a:lnTo>
                    <a:lnTo>
                      <a:pt x="2040" y="762"/>
                    </a:lnTo>
                    <a:lnTo>
                      <a:pt x="2024" y="766"/>
                    </a:lnTo>
                    <a:lnTo>
                      <a:pt x="2009" y="773"/>
                    </a:lnTo>
                    <a:lnTo>
                      <a:pt x="1994" y="780"/>
                    </a:lnTo>
                    <a:lnTo>
                      <a:pt x="1978" y="786"/>
                    </a:lnTo>
                    <a:lnTo>
                      <a:pt x="1963" y="793"/>
                    </a:lnTo>
                    <a:lnTo>
                      <a:pt x="1947" y="799"/>
                    </a:lnTo>
                    <a:lnTo>
                      <a:pt x="1932" y="807"/>
                    </a:lnTo>
                    <a:lnTo>
                      <a:pt x="1916" y="816"/>
                    </a:lnTo>
                    <a:lnTo>
                      <a:pt x="1901" y="822"/>
                    </a:lnTo>
                    <a:lnTo>
                      <a:pt x="1884" y="830"/>
                    </a:lnTo>
                    <a:lnTo>
                      <a:pt x="1870" y="838"/>
                    </a:lnTo>
                    <a:lnTo>
                      <a:pt x="1855" y="848"/>
                    </a:lnTo>
                    <a:lnTo>
                      <a:pt x="1839" y="856"/>
                    </a:lnTo>
                    <a:lnTo>
                      <a:pt x="1824" y="865"/>
                    </a:lnTo>
                    <a:lnTo>
                      <a:pt x="1808" y="874"/>
                    </a:lnTo>
                    <a:lnTo>
                      <a:pt x="1793" y="883"/>
                    </a:lnTo>
                    <a:lnTo>
                      <a:pt x="1776" y="892"/>
                    </a:lnTo>
                    <a:lnTo>
                      <a:pt x="1762" y="901"/>
                    </a:lnTo>
                    <a:lnTo>
                      <a:pt x="1745" y="910"/>
                    </a:lnTo>
                    <a:lnTo>
                      <a:pt x="1731" y="920"/>
                    </a:lnTo>
                    <a:lnTo>
                      <a:pt x="1716" y="929"/>
                    </a:lnTo>
                    <a:lnTo>
                      <a:pt x="1699" y="938"/>
                    </a:lnTo>
                    <a:lnTo>
                      <a:pt x="1685" y="948"/>
                    </a:lnTo>
                    <a:lnTo>
                      <a:pt x="1668" y="958"/>
                    </a:lnTo>
                    <a:lnTo>
                      <a:pt x="1654" y="968"/>
                    </a:lnTo>
                    <a:lnTo>
                      <a:pt x="1637" y="976"/>
                    </a:lnTo>
                    <a:lnTo>
                      <a:pt x="1623" y="986"/>
                    </a:lnTo>
                    <a:lnTo>
                      <a:pt x="1606" y="996"/>
                    </a:lnTo>
                    <a:lnTo>
                      <a:pt x="1591" y="1005"/>
                    </a:lnTo>
                    <a:lnTo>
                      <a:pt x="1577" y="1014"/>
                    </a:lnTo>
                    <a:lnTo>
                      <a:pt x="1560" y="1023"/>
                    </a:lnTo>
                    <a:lnTo>
                      <a:pt x="1546" y="1033"/>
                    </a:lnTo>
                    <a:lnTo>
                      <a:pt x="1529" y="1041"/>
                    </a:lnTo>
                    <a:lnTo>
                      <a:pt x="1515" y="1051"/>
                    </a:lnTo>
                    <a:lnTo>
                      <a:pt x="1498" y="1061"/>
                    </a:lnTo>
                    <a:lnTo>
                      <a:pt x="1483" y="1069"/>
                    </a:lnTo>
                    <a:lnTo>
                      <a:pt x="1469" y="1079"/>
                    </a:lnTo>
                    <a:lnTo>
                      <a:pt x="1452" y="1087"/>
                    </a:lnTo>
                    <a:lnTo>
                      <a:pt x="1438" y="1095"/>
                    </a:lnTo>
                    <a:lnTo>
                      <a:pt x="1421" y="1105"/>
                    </a:lnTo>
                    <a:lnTo>
                      <a:pt x="1406" y="1113"/>
                    </a:lnTo>
                    <a:lnTo>
                      <a:pt x="1390" y="1122"/>
                    </a:lnTo>
                    <a:lnTo>
                      <a:pt x="1375" y="1130"/>
                    </a:lnTo>
                    <a:lnTo>
                      <a:pt x="1359" y="1138"/>
                    </a:lnTo>
                    <a:lnTo>
                      <a:pt x="1344" y="1146"/>
                    </a:lnTo>
                    <a:lnTo>
                      <a:pt x="1330" y="1154"/>
                    </a:lnTo>
                    <a:lnTo>
                      <a:pt x="1313" y="1163"/>
                    </a:lnTo>
                    <a:lnTo>
                      <a:pt x="1298" y="1169"/>
                    </a:lnTo>
                    <a:lnTo>
                      <a:pt x="1282" y="1177"/>
                    </a:lnTo>
                    <a:lnTo>
                      <a:pt x="1267" y="1186"/>
                    </a:lnTo>
                    <a:lnTo>
                      <a:pt x="1251" y="1192"/>
                    </a:lnTo>
                    <a:lnTo>
                      <a:pt x="1236" y="1199"/>
                    </a:lnTo>
                    <a:lnTo>
                      <a:pt x="1220" y="1207"/>
                    </a:lnTo>
                    <a:lnTo>
                      <a:pt x="1205" y="1213"/>
                    </a:lnTo>
                    <a:lnTo>
                      <a:pt x="1190" y="1220"/>
                    </a:lnTo>
                    <a:lnTo>
                      <a:pt x="1174" y="1226"/>
                    </a:lnTo>
                    <a:lnTo>
                      <a:pt x="1159" y="1233"/>
                    </a:lnTo>
                    <a:lnTo>
                      <a:pt x="1143" y="1240"/>
                    </a:lnTo>
                    <a:lnTo>
                      <a:pt x="1128" y="1246"/>
                    </a:lnTo>
                    <a:lnTo>
                      <a:pt x="1112" y="1253"/>
                    </a:lnTo>
                    <a:lnTo>
                      <a:pt x="1097" y="1259"/>
                    </a:lnTo>
                    <a:lnTo>
                      <a:pt x="1081" y="1264"/>
                    </a:lnTo>
                    <a:lnTo>
                      <a:pt x="1066" y="1271"/>
                    </a:lnTo>
                    <a:lnTo>
                      <a:pt x="1051" y="1276"/>
                    </a:lnTo>
                    <a:lnTo>
                      <a:pt x="1035" y="1282"/>
                    </a:lnTo>
                    <a:lnTo>
                      <a:pt x="1020" y="1287"/>
                    </a:lnTo>
                    <a:lnTo>
                      <a:pt x="1004" y="1292"/>
                    </a:lnTo>
                    <a:lnTo>
                      <a:pt x="989" y="1297"/>
                    </a:lnTo>
                    <a:lnTo>
                      <a:pt x="973" y="1302"/>
                    </a:lnTo>
                    <a:lnTo>
                      <a:pt x="958" y="1308"/>
                    </a:lnTo>
                    <a:lnTo>
                      <a:pt x="942" y="1313"/>
                    </a:lnTo>
                    <a:lnTo>
                      <a:pt x="927" y="1316"/>
                    </a:lnTo>
                    <a:lnTo>
                      <a:pt x="912" y="1321"/>
                    </a:lnTo>
                    <a:lnTo>
                      <a:pt x="896" y="1326"/>
                    </a:lnTo>
                    <a:lnTo>
                      <a:pt x="881" y="1331"/>
                    </a:lnTo>
                    <a:lnTo>
                      <a:pt x="865" y="1334"/>
                    </a:lnTo>
                    <a:lnTo>
                      <a:pt x="850" y="1339"/>
                    </a:lnTo>
                    <a:lnTo>
                      <a:pt x="834" y="1344"/>
                    </a:lnTo>
                    <a:lnTo>
                      <a:pt x="819" y="1348"/>
                    </a:lnTo>
                    <a:lnTo>
                      <a:pt x="804" y="1351"/>
                    </a:lnTo>
                    <a:lnTo>
                      <a:pt x="788" y="1356"/>
                    </a:lnTo>
                    <a:lnTo>
                      <a:pt x="773" y="1359"/>
                    </a:lnTo>
                    <a:lnTo>
                      <a:pt x="757" y="1362"/>
                    </a:lnTo>
                    <a:lnTo>
                      <a:pt x="742" y="1367"/>
                    </a:lnTo>
                    <a:lnTo>
                      <a:pt x="726" y="1371"/>
                    </a:lnTo>
                    <a:lnTo>
                      <a:pt x="711" y="1374"/>
                    </a:lnTo>
                    <a:lnTo>
                      <a:pt x="694" y="1377"/>
                    </a:lnTo>
                    <a:lnTo>
                      <a:pt x="680" y="1380"/>
                    </a:lnTo>
                    <a:lnTo>
                      <a:pt x="665" y="1384"/>
                    </a:lnTo>
                    <a:lnTo>
                      <a:pt x="649" y="1387"/>
                    </a:lnTo>
                    <a:lnTo>
                      <a:pt x="634" y="1390"/>
                    </a:lnTo>
                    <a:lnTo>
                      <a:pt x="617" y="1392"/>
                    </a:lnTo>
                    <a:lnTo>
                      <a:pt x="603" y="1395"/>
                    </a:lnTo>
                    <a:lnTo>
                      <a:pt x="586" y="1398"/>
                    </a:lnTo>
                    <a:lnTo>
                      <a:pt x="572" y="1402"/>
                    </a:lnTo>
                    <a:lnTo>
                      <a:pt x="555" y="1403"/>
                    </a:lnTo>
                    <a:lnTo>
                      <a:pt x="541" y="1407"/>
                    </a:lnTo>
                    <a:lnTo>
                      <a:pt x="526" y="1408"/>
                    </a:lnTo>
                    <a:lnTo>
                      <a:pt x="509" y="1411"/>
                    </a:lnTo>
                    <a:lnTo>
                      <a:pt x="495" y="1413"/>
                    </a:lnTo>
                    <a:lnTo>
                      <a:pt x="478" y="1416"/>
                    </a:lnTo>
                    <a:lnTo>
                      <a:pt x="464" y="1418"/>
                    </a:lnTo>
                    <a:lnTo>
                      <a:pt x="447" y="1421"/>
                    </a:lnTo>
                    <a:lnTo>
                      <a:pt x="432" y="1423"/>
                    </a:lnTo>
                    <a:lnTo>
                      <a:pt x="418" y="1425"/>
                    </a:lnTo>
                    <a:lnTo>
                      <a:pt x="401" y="1428"/>
                    </a:lnTo>
                    <a:lnTo>
                      <a:pt x="387" y="1429"/>
                    </a:lnTo>
                    <a:lnTo>
                      <a:pt x="370" y="1431"/>
                    </a:lnTo>
                    <a:lnTo>
                      <a:pt x="356" y="1433"/>
                    </a:lnTo>
                    <a:lnTo>
                      <a:pt x="339" y="1434"/>
                    </a:lnTo>
                    <a:lnTo>
                      <a:pt x="324" y="1438"/>
                    </a:lnTo>
                    <a:lnTo>
                      <a:pt x="308" y="1439"/>
                    </a:lnTo>
                    <a:lnTo>
                      <a:pt x="293" y="1441"/>
                    </a:lnTo>
                    <a:lnTo>
                      <a:pt x="277" y="1443"/>
                    </a:lnTo>
                    <a:lnTo>
                      <a:pt x="262" y="1444"/>
                    </a:lnTo>
                    <a:lnTo>
                      <a:pt x="248" y="1446"/>
                    </a:lnTo>
                    <a:lnTo>
                      <a:pt x="231" y="1447"/>
                    </a:lnTo>
                    <a:lnTo>
                      <a:pt x="216" y="1449"/>
                    </a:lnTo>
                    <a:lnTo>
                      <a:pt x="200" y="1451"/>
                    </a:lnTo>
                    <a:lnTo>
                      <a:pt x="185" y="1452"/>
                    </a:lnTo>
                    <a:lnTo>
                      <a:pt x="169" y="1454"/>
                    </a:lnTo>
                    <a:lnTo>
                      <a:pt x="154" y="1456"/>
                    </a:lnTo>
                    <a:lnTo>
                      <a:pt x="139" y="1457"/>
                    </a:lnTo>
                    <a:lnTo>
                      <a:pt x="123" y="1457"/>
                    </a:lnTo>
                    <a:lnTo>
                      <a:pt x="108" y="1459"/>
                    </a:lnTo>
                    <a:lnTo>
                      <a:pt x="92" y="1461"/>
                    </a:lnTo>
                    <a:lnTo>
                      <a:pt x="77" y="1462"/>
                    </a:lnTo>
                    <a:lnTo>
                      <a:pt x="61" y="1464"/>
                    </a:lnTo>
                    <a:lnTo>
                      <a:pt x="46" y="1464"/>
                    </a:lnTo>
                    <a:lnTo>
                      <a:pt x="30" y="1465"/>
                    </a:lnTo>
                    <a:lnTo>
                      <a:pt x="15" y="1467"/>
                    </a:lnTo>
                    <a:lnTo>
                      <a:pt x="0" y="14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 flipH="1">
                <a:off x="1461600" y="2716560"/>
                <a:ext cx="491508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3387600" y="3597480"/>
                <a:ext cx="1800" cy="625680"/>
              </a:xfrm>
              <a:prstGeom prst="line">
                <a:avLst/>
              </a:prstGeom>
              <a:ln w="111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3349800" y="3597480"/>
                <a:ext cx="77760" cy="1800"/>
              </a:xfrm>
              <a:prstGeom prst="line">
                <a:avLst/>
              </a:prstGeom>
              <a:ln w="111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3349800" y="4223160"/>
                <a:ext cx="77760" cy="1440"/>
              </a:xfrm>
              <a:prstGeom prst="line">
                <a:avLst/>
              </a:prstGeom>
              <a:ln w="111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3722760" y="3243600"/>
                <a:ext cx="1440" cy="628560"/>
              </a:xfrm>
              <a:prstGeom prst="line">
                <a:avLst/>
              </a:prstGeom>
              <a:ln w="111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3684600" y="3243600"/>
                <a:ext cx="77760" cy="1440"/>
              </a:xfrm>
              <a:prstGeom prst="line">
                <a:avLst/>
              </a:prstGeom>
              <a:ln w="111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3684600" y="3872160"/>
                <a:ext cx="77760" cy="1440"/>
              </a:xfrm>
              <a:prstGeom prst="line">
                <a:avLst/>
              </a:prstGeom>
              <a:ln w="111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4084560" y="2656080"/>
                <a:ext cx="1800" cy="822240"/>
              </a:xfrm>
              <a:prstGeom prst="line">
                <a:avLst/>
              </a:prstGeom>
              <a:ln w="111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4044960" y="2656080"/>
                <a:ext cx="79200" cy="1800"/>
              </a:xfrm>
              <a:prstGeom prst="line">
                <a:avLst/>
              </a:prstGeom>
              <a:ln w="111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4044960" y="3478320"/>
                <a:ext cx="79200" cy="1800"/>
              </a:xfrm>
              <a:prstGeom prst="line">
                <a:avLst/>
              </a:prstGeom>
              <a:ln w="111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4373640" y="1702080"/>
                <a:ext cx="1440" cy="903240"/>
              </a:xfrm>
              <a:prstGeom prst="line">
                <a:avLst/>
              </a:prstGeom>
              <a:ln w="111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4334040" y="1702080"/>
                <a:ext cx="77760" cy="1440"/>
              </a:xfrm>
              <a:prstGeom prst="line">
                <a:avLst/>
              </a:prstGeom>
              <a:ln w="111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4334040" y="2605320"/>
                <a:ext cx="77760" cy="1440"/>
              </a:xfrm>
              <a:prstGeom prst="line">
                <a:avLst/>
              </a:prstGeom>
              <a:ln w="111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4660920" y="2406960"/>
                <a:ext cx="1440" cy="900000"/>
              </a:xfrm>
              <a:prstGeom prst="line">
                <a:avLst/>
              </a:prstGeom>
              <a:ln w="111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4622760" y="2406960"/>
                <a:ext cx="77760" cy="1440"/>
              </a:xfrm>
              <a:prstGeom prst="line">
                <a:avLst/>
              </a:prstGeom>
              <a:ln w="111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4622760" y="3306960"/>
                <a:ext cx="77760" cy="1800"/>
              </a:xfrm>
              <a:prstGeom prst="line">
                <a:avLst/>
              </a:prstGeom>
              <a:ln w="111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2982960" y="3704040"/>
                <a:ext cx="1440" cy="190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2943360" y="3704040"/>
                <a:ext cx="792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2943360" y="3894480"/>
                <a:ext cx="792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3257640" y="3556080"/>
                <a:ext cx="1440" cy="14796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3219480" y="355608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3219480" y="370404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3497400" y="3287880"/>
                <a:ext cx="1440" cy="1476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3459240" y="328788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3459240" y="343548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3751200" y="3035520"/>
                <a:ext cx="1800" cy="1206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3713040" y="303552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3713040" y="315612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3990960" y="2965680"/>
                <a:ext cx="1440" cy="11916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3952800" y="296568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3952800" y="308484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4170240" y="2741760"/>
                <a:ext cx="1800" cy="14616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4130640" y="2741760"/>
                <a:ext cx="795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4130640" y="2887920"/>
                <a:ext cx="795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4313160" y="2827440"/>
                <a:ext cx="1800" cy="15732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4275000" y="282744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4275000" y="298476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4484520" y="2684880"/>
                <a:ext cx="1800" cy="1332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4446720" y="268488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4446720" y="281808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4660920" y="2448000"/>
                <a:ext cx="1440" cy="15732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4622760" y="244800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4622760" y="260532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4896000" y="2446560"/>
                <a:ext cx="1440" cy="13176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4856040" y="244656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4856040" y="257832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5133960" y="2341800"/>
                <a:ext cx="1440" cy="15552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5095800" y="234180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5095800" y="249732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5389560" y="2687760"/>
                <a:ext cx="1440" cy="15552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5349960" y="268776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5349960" y="284328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5627520" y="2638800"/>
                <a:ext cx="1800" cy="253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5589720" y="263880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5589720" y="289260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5807160" y="2957760"/>
                <a:ext cx="1440" cy="38736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5769000" y="295776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5769000" y="334512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5950080" y="3283200"/>
                <a:ext cx="1440" cy="595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5911920" y="328320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5911920" y="387864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6070680" y="2813400"/>
                <a:ext cx="1440" cy="94428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6031080" y="281340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6031080" y="375768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5297400" y="2519640"/>
                <a:ext cx="1800" cy="22536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5259240" y="251964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5259240" y="274500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5519880" y="2448000"/>
                <a:ext cx="1440" cy="21132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5479920" y="2448000"/>
                <a:ext cx="77760" cy="180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5479920" y="265932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5724360" y="2827440"/>
                <a:ext cx="1800" cy="15732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5684760" y="2827440"/>
                <a:ext cx="77760" cy="180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5684760" y="298476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5883120" y="3103920"/>
                <a:ext cx="1800" cy="13968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5843520" y="310392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5843520" y="324360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6013440" y="3327480"/>
                <a:ext cx="1440" cy="12708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5973840" y="3327480"/>
                <a:ext cx="77760" cy="180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5973840" y="3454560"/>
                <a:ext cx="77760" cy="180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6013440" y="3376800"/>
                <a:ext cx="1440" cy="18108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5973840" y="3376800"/>
                <a:ext cx="77760" cy="180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5973840" y="355788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6121440" y="3467520"/>
                <a:ext cx="1440" cy="13968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6083280" y="346752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6083280" y="360720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2757600" y="3075120"/>
                <a:ext cx="1440" cy="574920"/>
              </a:xfrm>
              <a:prstGeom prst="line">
                <a:avLst/>
              </a:prstGeom>
              <a:ln w="111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2717640" y="3075120"/>
                <a:ext cx="78120" cy="1800"/>
              </a:xfrm>
              <a:prstGeom prst="line">
                <a:avLst/>
              </a:prstGeom>
              <a:ln w="111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2717640" y="3650040"/>
                <a:ext cx="78120" cy="1440"/>
              </a:xfrm>
              <a:prstGeom prst="line">
                <a:avLst/>
              </a:prstGeom>
              <a:ln w="111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3200400" y="2814840"/>
                <a:ext cx="1440" cy="476280"/>
              </a:xfrm>
              <a:prstGeom prst="line">
                <a:avLst/>
              </a:prstGeom>
              <a:ln w="111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3162240" y="2814840"/>
                <a:ext cx="77760" cy="1800"/>
              </a:xfrm>
              <a:prstGeom prst="line">
                <a:avLst/>
              </a:prstGeom>
              <a:ln w="111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3162240" y="3291120"/>
                <a:ext cx="77760" cy="1440"/>
              </a:xfrm>
              <a:prstGeom prst="line">
                <a:avLst/>
              </a:prstGeom>
              <a:ln w="111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3602160" y="2397240"/>
                <a:ext cx="1440" cy="568440"/>
              </a:xfrm>
              <a:prstGeom prst="line">
                <a:avLst/>
              </a:prstGeom>
              <a:ln w="111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3562200" y="2397240"/>
                <a:ext cx="77760" cy="1800"/>
              </a:xfrm>
              <a:prstGeom prst="line">
                <a:avLst/>
              </a:prstGeom>
              <a:ln w="111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3562200" y="2965680"/>
                <a:ext cx="77760" cy="1440"/>
              </a:xfrm>
              <a:prstGeom prst="line">
                <a:avLst/>
              </a:prstGeom>
              <a:ln w="111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4084560" y="2154600"/>
                <a:ext cx="1800" cy="981000"/>
              </a:xfrm>
              <a:prstGeom prst="line">
                <a:avLst/>
              </a:prstGeom>
              <a:ln w="111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4044960" y="2154600"/>
                <a:ext cx="79200" cy="1440"/>
              </a:xfrm>
              <a:prstGeom prst="line">
                <a:avLst/>
              </a:prstGeom>
              <a:ln w="111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4044960" y="3135600"/>
                <a:ext cx="79200" cy="1440"/>
              </a:xfrm>
              <a:prstGeom prst="line">
                <a:avLst/>
              </a:prstGeom>
              <a:ln w="111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5540400" y="1414800"/>
                <a:ext cx="1440" cy="1477800"/>
              </a:xfrm>
              <a:prstGeom prst="line">
                <a:avLst/>
              </a:prstGeom>
              <a:ln w="111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5500800" y="1414800"/>
                <a:ext cx="77760" cy="1440"/>
              </a:xfrm>
              <a:prstGeom prst="line">
                <a:avLst/>
              </a:prstGeom>
              <a:ln w="111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5500800" y="2892600"/>
                <a:ext cx="77760" cy="1800"/>
              </a:xfrm>
              <a:prstGeom prst="line">
                <a:avLst/>
              </a:prstGeom>
              <a:ln w="111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3365280" y="38451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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3700440" y="34941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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4062240" y="30038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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4351320" y="20876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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4638600" y="27925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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2960640" y="3733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3235320" y="35640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3475080" y="32976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3728880" y="30322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3968640" y="29610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4147920" y="27482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4290840" y="28418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4462560" y="2686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4638600" y="24624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4873680" y="24465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5111640" y="23562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5367240" y="27021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5605560" y="27021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5784840" y="30862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5927760" y="35150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6048360" y="32212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5275080" y="25671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7f00"/>
                    </a:solidFill>
                    <a:latin typeface="DeltaSymbol"/>
                    <a:ea typeface="DeltaSymbol"/>
                  </a:rPr>
                  <a:t>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5497560" y="24879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7f00"/>
                    </a:solidFill>
                    <a:latin typeface="DeltaSymbol"/>
                    <a:ea typeface="DeltaSymbol"/>
                  </a:rPr>
                  <a:t>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5702400" y="28418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7f00"/>
                    </a:solidFill>
                    <a:latin typeface="DeltaSymbol"/>
                    <a:ea typeface="DeltaSymbol"/>
                  </a:rPr>
                  <a:t>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5861160" y="31068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7f00"/>
                    </a:solidFill>
                    <a:latin typeface="DeltaSymbol"/>
                    <a:ea typeface="DeltaSymbol"/>
                  </a:rPr>
                  <a:t>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5991120" y="33260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7f00"/>
                    </a:solidFill>
                    <a:latin typeface="DeltaSymbol"/>
                    <a:ea typeface="DeltaSymbol"/>
                  </a:rPr>
                  <a:t>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5991120" y="34038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7f00"/>
                    </a:solidFill>
                    <a:latin typeface="DeltaSymbol"/>
                    <a:ea typeface="DeltaSymbol"/>
                  </a:rPr>
                  <a:t>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2" name=""/>
            <p:cNvSpPr/>
            <p:nvPr/>
          </p:nvSpPr>
          <p:spPr>
            <a:xfrm>
              <a:off x="6099120" y="34736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f00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2733480" y="32976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400d4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3178080" y="29880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400d4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3578040" y="26164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400d4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4062240" y="25815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400d4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5518080" y="20876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400d4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1142640" y="473400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1142640" y="402948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1142640" y="332748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1283760" y="26258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1142640" y="192096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1142640" y="121932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1248120" y="4918320"/>
              <a:ext cx="459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2936160" y="491832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4622400" y="491832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6332040" y="4918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1654200" y="1432080"/>
              <a:ext cx="900000" cy="12225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1801800" y="15195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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1995480" y="1492560"/>
              <a:ext cx="43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EM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1801800" y="18212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1995120" y="17942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NM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1801800" y="21243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f00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1994760" y="2098800"/>
              <a:ext cx="43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E13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1801800" y="24292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400d4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1994760" y="2402280"/>
              <a:ext cx="43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E6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4470480" y="4105440"/>
              <a:ext cx="37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8" name=""/>
          <p:cNvSpPr/>
          <p:nvPr/>
        </p:nvSpPr>
        <p:spPr>
          <a:xfrm>
            <a:off x="493200" y="431640"/>
            <a:ext cx="50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Example of 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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  <a:ea typeface="ＭＳ 明朝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contrib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9" name=""/>
          <p:cNvSpPr/>
          <p:nvPr/>
        </p:nvSpPr>
        <p:spPr>
          <a:xfrm>
            <a:off x="2819520" y="3429000"/>
            <a:ext cx="60948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0" name=""/>
          <p:cNvSpPr/>
          <p:nvPr/>
        </p:nvSpPr>
        <p:spPr>
          <a:xfrm>
            <a:off x="5132520" y="2514600"/>
            <a:ext cx="430200" cy="431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1" name=""/>
          <p:cNvSpPr/>
          <p:nvPr/>
        </p:nvSpPr>
        <p:spPr>
          <a:xfrm>
            <a:off x="2556000" y="2184480"/>
            <a:ext cx="1457280" cy="2252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2" name=""/>
          <p:cNvSpPr/>
          <p:nvPr/>
        </p:nvSpPr>
        <p:spPr>
          <a:xfrm>
            <a:off x="5400720" y="2708280"/>
            <a:ext cx="949320" cy="1305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3" name=""/>
          <p:cNvSpPr/>
          <p:nvPr/>
        </p:nvSpPr>
        <p:spPr>
          <a:xfrm>
            <a:off x="5367240" y="6772320"/>
            <a:ext cx="1017720" cy="16095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4" name=""/>
          <p:cNvSpPr/>
          <p:nvPr/>
        </p:nvSpPr>
        <p:spPr>
          <a:xfrm>
            <a:off x="4317840" y="6130800"/>
            <a:ext cx="627120" cy="4906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5" name=""/>
          <p:cNvSpPr/>
          <p:nvPr/>
        </p:nvSpPr>
        <p:spPr>
          <a:xfrm rot="16200000">
            <a:off x="157680" y="2889360"/>
            <a:ext cx="148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C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/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6" name=""/>
          <p:cNvSpPr/>
          <p:nvPr/>
        </p:nvSpPr>
        <p:spPr>
          <a:xfrm rot="16200000">
            <a:off x="228960" y="6611040"/>
            <a:ext cx="134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F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/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"/>
          <p:cNvSpPr/>
          <p:nvPr/>
        </p:nvSpPr>
        <p:spPr>
          <a:xfrm>
            <a:off x="674640" y="474840"/>
            <a:ext cx="5699160" cy="9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Weight function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    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parton distributions for 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8" name="" descr=""/>
          <p:cNvPicPr/>
          <p:nvPr/>
        </p:nvPicPr>
        <p:blipFill>
          <a:blip r:embed="rId1"/>
          <a:stretch/>
        </p:blipFill>
        <p:spPr>
          <a:xfrm>
            <a:off x="1111320" y="1754280"/>
            <a:ext cx="5141880" cy="79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"/>
          <p:cNvSpPr/>
          <p:nvPr/>
        </p:nvSpPr>
        <p:spPr>
          <a:xfrm>
            <a:off x="448560" y="88092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Future possi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0" name=""/>
          <p:cNvSpPr/>
          <p:nvPr/>
        </p:nvSpPr>
        <p:spPr>
          <a:xfrm>
            <a:off x="423720" y="1924200"/>
            <a:ext cx="6177240" cy="54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ff3300"/>
                </a:solidFill>
                <a:latin typeface="Times New Roman"/>
                <a:ea typeface="ＭＳ 明朝"/>
              </a:rPr>
              <a:t>Valence: 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F</a:t>
            </a:r>
            <a:r>
              <a:rPr b="0" lang="ja-JP" sz="2800" spc="-1" strike="noStrike" baseline="-25000">
                <a:solidFill>
                  <a:srgbClr val="0000ff"/>
                </a:solidFill>
                <a:latin typeface="Times New Roman"/>
                <a:ea typeface="ＭＳ 明朝"/>
              </a:rPr>
              <a:t>3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at</a:t>
            </a:r>
            <a:r>
              <a:rPr b="0" lang="ja-JP" sz="2800" spc="-1" strike="noStrike">
                <a:solidFill>
                  <a:srgbClr val="ff3300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0000ff"/>
                </a:solidFill>
                <a:latin typeface="Symbol"/>
                <a:ea typeface="Symbol"/>
              </a:rPr>
              <a:t>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fac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                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F</a:t>
            </a:r>
            <a:r>
              <a:rPr b="0" lang="ja-JP" sz="2800" spc="-1" strike="noStrike" baseline="-25000">
                <a:solidFill>
                  <a:srgbClr val="0000ff"/>
                </a:solidFill>
                <a:latin typeface="Times New Roman"/>
                <a:ea typeface="ＭＳ 明朝"/>
              </a:rPr>
              <a:t>2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at</a:t>
            </a:r>
            <a:r>
              <a:rPr b="0" lang="ja-JP" sz="2800" spc="-1" strike="noStrike">
                <a:solidFill>
                  <a:srgbClr val="ff3300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eRHIC, HERA-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ff3300"/>
                </a:solidFill>
                <a:latin typeface="Times New Roman"/>
                <a:ea typeface="ＭＳ 明朝"/>
              </a:rPr>
              <a:t>Antiquark: 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Drell-Yan at RHIC, LHC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                                        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Fermi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                  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F</a:t>
            </a:r>
            <a:r>
              <a:rPr b="0" lang="ja-JP" sz="2800" spc="-1" strike="noStrike" baseline="-25000">
                <a:solidFill>
                  <a:srgbClr val="0000ff"/>
                </a:solidFill>
                <a:latin typeface="Times New Roman"/>
                <a:ea typeface="ＭＳ 明朝"/>
              </a:rPr>
              <a:t>2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at</a:t>
            </a:r>
            <a:r>
              <a:rPr b="0" lang="ja-JP" sz="2800" spc="-1" strike="noStrike">
                <a:solidFill>
                  <a:srgbClr val="ff3300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eRHIC, HERA-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ff3300"/>
                </a:solidFill>
                <a:latin typeface="Times New Roman"/>
                <a:ea typeface="ＭＳ 明朝"/>
              </a:rPr>
              <a:t>Gluon: 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direct </a:t>
            </a:r>
            <a:r>
              <a:rPr b="0" lang="ja-JP" sz="28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etc. at RHIC, LH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            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dF</a:t>
            </a:r>
            <a:r>
              <a:rPr b="0" lang="ja-JP" sz="2800" spc="-1" strike="noStrike" baseline="-25000">
                <a:solidFill>
                  <a:srgbClr val="0000ff"/>
                </a:solidFill>
                <a:latin typeface="Times New Roman"/>
                <a:ea typeface="ＭＳ 明朝"/>
              </a:rPr>
              <a:t>2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/ln(Q</a:t>
            </a:r>
            <a:r>
              <a:rPr b="0" lang="ja-JP" sz="2800" spc="-1" strike="noStrike" baseline="30000">
                <a:solidFill>
                  <a:srgbClr val="0000ff"/>
                </a:solidFill>
                <a:latin typeface="Times New Roman"/>
                <a:ea typeface="ＭＳ 明朝"/>
              </a:rPr>
              <a:t>2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) at</a:t>
            </a:r>
            <a:r>
              <a:rPr b="0" lang="ja-JP" sz="2800" spc="-1" strike="noStrike">
                <a:solidFill>
                  <a:srgbClr val="ff3300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HERA-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                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1" name=""/>
          <p:cNvSpPr/>
          <p:nvPr/>
        </p:nvSpPr>
        <p:spPr>
          <a:xfrm>
            <a:off x="482760" y="425520"/>
            <a:ext cx="6375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2" name="" descr=""/>
          <p:cNvPicPr/>
          <p:nvPr/>
        </p:nvPicPr>
        <p:blipFill>
          <a:blip r:embed="rId1"/>
          <a:stretch/>
        </p:blipFill>
        <p:spPr>
          <a:xfrm>
            <a:off x="587520" y="1293840"/>
            <a:ext cx="595620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15840" y="501480"/>
            <a:ext cx="542448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Available data for determ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       </a:t>
            </a:r>
            <a:r>
              <a:rPr b="0" lang="ja-JP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parton distrib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(Ref. MRST, hep/ph-980344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29720" y="2478240"/>
            <a:ext cx="5433120" cy="6489720"/>
            <a:chOff x="729720" y="2478240"/>
            <a:chExt cx="5433120" cy="648972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841760" y="2478240"/>
              <a:ext cx="4321080" cy="648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854360" y="7158240"/>
              <a:ext cx="4265640" cy="380880"/>
            </a:xfrm>
            <a:prstGeom prst="rect">
              <a:avLst/>
            </a:prstGeom>
            <a:noFill/>
            <a:ln w="3816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27360" y="4444920"/>
              <a:ext cx="4291200" cy="1208160"/>
            </a:xfrm>
            <a:prstGeom prst="rect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29720" y="478008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  <a:ea typeface="ＭＳ 明朝"/>
                </a:rPr>
                <a:t>H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3" name=""/>
          <p:cNvSpPr/>
          <p:nvPr/>
        </p:nvSpPr>
        <p:spPr>
          <a:xfrm>
            <a:off x="1325520" y="1182600"/>
            <a:ext cx="43153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on selected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4" name="" descr=""/>
          <p:cNvPicPr/>
          <p:nvPr/>
        </p:nvPicPr>
        <p:blipFill>
          <a:blip r:embed="rId1"/>
          <a:stretch/>
        </p:blipFill>
        <p:spPr>
          <a:xfrm>
            <a:off x="838080" y="3886200"/>
            <a:ext cx="5435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5" name=""/>
          <p:cNvSpPr/>
          <p:nvPr/>
        </p:nvSpPr>
        <p:spPr>
          <a:xfrm>
            <a:off x="535320" y="3733920"/>
            <a:ext cx="47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Drell-Yan, semi-inclusive D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6" name=""/>
          <p:cNvSpPr/>
          <p:nvPr/>
        </p:nvSpPr>
        <p:spPr>
          <a:xfrm>
            <a:off x="2430360" y="830592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(from hep-ex/010303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7" name=""/>
          <p:cNvSpPr/>
          <p:nvPr/>
        </p:nvSpPr>
        <p:spPr>
          <a:xfrm>
            <a:off x="762120" y="9144000"/>
            <a:ext cx="456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cd"/>
                </a:solidFill>
                <a:latin typeface="Times New Roman"/>
                <a:ea typeface="ＭＳ 明朝"/>
              </a:rPr>
              <a:t>see SK, Phys. Rep. 303 (1998) 18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8" name=""/>
          <p:cNvGrpSpPr/>
          <p:nvPr/>
        </p:nvGrpSpPr>
        <p:grpSpPr>
          <a:xfrm>
            <a:off x="534240" y="1295280"/>
            <a:ext cx="5276160" cy="2143080"/>
            <a:chOff x="534240" y="1295280"/>
            <a:chExt cx="5276160" cy="2143080"/>
          </a:xfrm>
        </p:grpSpPr>
        <p:grpSp>
          <p:nvGrpSpPr>
            <p:cNvPr id="4779" name=""/>
            <p:cNvGrpSpPr/>
            <p:nvPr/>
          </p:nvGrpSpPr>
          <p:grpSpPr>
            <a:xfrm>
              <a:off x="534240" y="1295280"/>
              <a:ext cx="5276160" cy="520560"/>
              <a:chOff x="534240" y="1295280"/>
              <a:chExt cx="5276160" cy="520560"/>
            </a:xfrm>
          </p:grpSpPr>
          <p:sp>
            <p:nvSpPr>
              <p:cNvPr id="4780" name=""/>
              <p:cNvSpPr/>
              <p:nvPr/>
            </p:nvSpPr>
            <p:spPr>
              <a:xfrm>
                <a:off x="534240" y="1295280"/>
                <a:ext cx="2379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Clr>
                    <a:srgbClr val="008000"/>
                  </a:buClr>
                  <a:buFont typeface="Time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8000"/>
                    </a:solidFill>
                    <a:latin typeface="Times New Roman"/>
                    <a:ea typeface="ＭＳ 明朝"/>
                  </a:rPr>
                  <a:t> </a:t>
                </a:r>
                <a:r>
                  <a:rPr b="0" lang="ja-JP" sz="2800" spc="-1" strike="noStrike">
                    <a:solidFill>
                      <a:srgbClr val="008000"/>
                    </a:solidFill>
                    <a:latin typeface="Times New Roman"/>
                    <a:ea typeface="ＭＳ 明朝"/>
                  </a:rPr>
                  <a:t>Gottfried su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78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952720" y="1417680"/>
                <a:ext cx="2857680" cy="330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782" name="" descr=""/>
            <p:cNvPicPr/>
            <p:nvPr/>
          </p:nvPicPr>
          <p:blipFill>
            <a:blip r:embed="rId2"/>
            <a:stretch/>
          </p:blipFill>
          <p:spPr>
            <a:xfrm>
              <a:off x="1608120" y="1863720"/>
              <a:ext cx="3822840" cy="157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83" name="" descr=""/>
          <p:cNvPicPr/>
          <p:nvPr/>
        </p:nvPicPr>
        <p:blipFill>
          <a:blip r:embed="rId3"/>
          <a:stretch/>
        </p:blipFill>
        <p:spPr>
          <a:xfrm>
            <a:off x="380880" y="51814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4784" name="" descr=""/>
          <p:cNvPicPr/>
          <p:nvPr/>
        </p:nvPicPr>
        <p:blipFill>
          <a:blip r:embed="rId4"/>
          <a:stretch/>
        </p:blipFill>
        <p:spPr>
          <a:xfrm>
            <a:off x="3429000" y="5181480"/>
            <a:ext cx="3083040" cy="3083040"/>
          </a:xfrm>
          <a:prstGeom prst="rect">
            <a:avLst/>
          </a:prstGeom>
          <a:ln w="0">
            <a:noFill/>
          </a:ln>
        </p:spPr>
      </p:pic>
      <p:sp>
        <p:nvSpPr>
          <p:cNvPr id="4785" name=""/>
          <p:cNvSpPr/>
          <p:nvPr/>
        </p:nvSpPr>
        <p:spPr>
          <a:xfrm>
            <a:off x="1371600" y="4419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Fermilab E772/E866, NA51, HER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6" name="" descr=""/>
          <p:cNvPicPr/>
          <p:nvPr/>
        </p:nvPicPr>
        <p:blipFill>
          <a:blip r:embed="rId5"/>
          <a:stretch/>
        </p:blipFill>
        <p:spPr>
          <a:xfrm>
            <a:off x="533520" y="457200"/>
            <a:ext cx="30733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7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2768760" cy="558720"/>
          </a:xfrm>
          <a:prstGeom prst="rect">
            <a:avLst/>
          </a:prstGeom>
          <a:ln w="0">
            <a:noFill/>
          </a:ln>
        </p:spPr>
      </p:pic>
      <p:pic>
        <p:nvPicPr>
          <p:cNvPr id="4788" name="" descr=""/>
          <p:cNvPicPr/>
          <p:nvPr/>
        </p:nvPicPr>
        <p:blipFill>
          <a:blip r:embed="rId2"/>
          <a:stretch/>
        </p:blipFill>
        <p:spPr>
          <a:xfrm>
            <a:off x="762120" y="2057400"/>
            <a:ext cx="56005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Meson-cloud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0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3556080" cy="1041480"/>
          </a:xfrm>
          <a:prstGeom prst="rect">
            <a:avLst/>
          </a:prstGeom>
          <a:ln w="0">
            <a:noFill/>
          </a:ln>
        </p:spPr>
      </p:pic>
      <p:sp>
        <p:nvSpPr>
          <p:cNvPr id="4791" name=""/>
          <p:cNvSpPr/>
          <p:nvPr/>
        </p:nvSpPr>
        <p:spPr>
          <a:xfrm>
            <a:off x="533520" y="43909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2" name=""/>
          <p:cNvSpPr/>
          <p:nvPr/>
        </p:nvSpPr>
        <p:spPr>
          <a:xfrm>
            <a:off x="3200400" y="4781520"/>
            <a:ext cx="184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3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5790960" cy="799920"/>
          </a:xfrm>
          <a:prstGeom prst="rect">
            <a:avLst/>
          </a:prstGeom>
          <a:ln w="0">
            <a:noFill/>
          </a:ln>
        </p:spPr>
      </p:pic>
      <p:pic>
        <p:nvPicPr>
          <p:cNvPr id="4794" name="" descr=""/>
          <p:cNvPicPr/>
          <p:nvPr/>
        </p:nvPicPr>
        <p:blipFill>
          <a:blip r:embed="rId3"/>
          <a:stretch/>
        </p:blipFill>
        <p:spPr>
          <a:xfrm>
            <a:off x="685800" y="3886200"/>
            <a:ext cx="4483080" cy="1041480"/>
          </a:xfrm>
          <a:prstGeom prst="rect">
            <a:avLst/>
          </a:prstGeom>
          <a:ln w="0">
            <a:noFill/>
          </a:ln>
        </p:spPr>
      </p:pic>
      <p:pic>
        <p:nvPicPr>
          <p:cNvPr id="4795" name="" descr=""/>
          <p:cNvPicPr/>
          <p:nvPr/>
        </p:nvPicPr>
        <p:blipFill>
          <a:blip r:embed="rId4"/>
          <a:stretch/>
        </p:blipFill>
        <p:spPr>
          <a:xfrm>
            <a:off x="533520" y="2514600"/>
            <a:ext cx="3924360" cy="431640"/>
          </a:xfrm>
          <a:prstGeom prst="rect">
            <a:avLst/>
          </a:prstGeom>
          <a:ln w="0">
            <a:noFill/>
          </a:ln>
        </p:spPr>
      </p:pic>
      <p:pic>
        <p:nvPicPr>
          <p:cNvPr id="4796" name="" descr=""/>
          <p:cNvPicPr/>
          <p:nvPr/>
        </p:nvPicPr>
        <p:blipFill>
          <a:blip r:embed="rId5"/>
          <a:stretch/>
        </p:blipFill>
        <p:spPr>
          <a:xfrm>
            <a:off x="4191120" y="380880"/>
            <a:ext cx="2501640" cy="2222640"/>
          </a:xfrm>
          <a:prstGeom prst="rect">
            <a:avLst/>
          </a:prstGeom>
          <a:ln w="0">
            <a:noFill/>
          </a:ln>
        </p:spPr>
      </p:pic>
      <p:grpSp>
        <p:nvGrpSpPr>
          <p:cNvPr id="4797" name=""/>
          <p:cNvGrpSpPr/>
          <p:nvPr/>
        </p:nvGrpSpPr>
        <p:grpSpPr>
          <a:xfrm>
            <a:off x="762120" y="5105520"/>
            <a:ext cx="5494680" cy="3795480"/>
            <a:chOff x="762120" y="5105520"/>
            <a:chExt cx="5494680" cy="3795480"/>
          </a:xfrm>
        </p:grpSpPr>
        <p:sp>
          <p:nvSpPr>
            <p:cNvPr id="4798" name=""/>
            <p:cNvSpPr/>
            <p:nvPr/>
          </p:nvSpPr>
          <p:spPr>
            <a:xfrm>
              <a:off x="1908000" y="5171760"/>
              <a:ext cx="4305960" cy="30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1902240" y="8229960"/>
              <a:ext cx="4305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1902240" y="5166360"/>
              <a:ext cx="4305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 flipV="1">
              <a:off x="1902240" y="5166360"/>
              <a:ext cx="1080" cy="30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 flipV="1">
              <a:off x="6208200" y="5166360"/>
              <a:ext cx="1440" cy="30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1872360" y="823536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1872360" y="814824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1872360" y="806580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1872360" y="798048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1872360" y="789336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1872360" y="780840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1872360" y="772416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1872360" y="763884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1872360" y="755352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1872360" y="746928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1872360" y="738396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1872360" y="729864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1872360" y="721440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1872360" y="712908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1872360" y="704232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1872360" y="695700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1872360" y="687420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1872360" y="678744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1872360" y="670212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1872360" y="661824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1872360" y="653256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1872360" y="644724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1872360" y="636048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1872360" y="627768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1872360" y="619236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1872360" y="610560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1872360" y="602280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1872360" y="593640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1872360" y="585072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1872360" y="576828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1872360" y="568152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1872360" y="559584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1872360" y="551052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1872360" y="542664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1872360" y="534096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1872360" y="525456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1872360" y="517176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1837440" y="8232480"/>
              <a:ext cx="676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1837440" y="7891200"/>
              <a:ext cx="676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1837440" y="7550640"/>
              <a:ext cx="676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1837440" y="7211520"/>
              <a:ext cx="676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1837440" y="6871320"/>
              <a:ext cx="676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1837440" y="6529680"/>
              <a:ext cx="676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1837440" y="6189480"/>
              <a:ext cx="676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1837440" y="5848200"/>
              <a:ext cx="676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1837440" y="5507640"/>
              <a:ext cx="676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1837440" y="5168880"/>
              <a:ext cx="676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 flipV="1">
              <a:off x="190800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 flipV="1">
              <a:off x="199260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 flipV="1">
              <a:off x="207864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 flipV="1">
              <a:off x="216468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 flipV="1">
              <a:off x="225252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 flipV="1">
              <a:off x="233568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 flipV="1">
              <a:off x="242316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 flipV="1">
              <a:off x="250920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 flipV="1">
              <a:off x="259668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 flipV="1">
              <a:off x="268308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 flipV="1">
              <a:off x="276732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 flipV="1">
              <a:off x="285336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 flipV="1">
              <a:off x="294120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 flipV="1">
              <a:off x="302724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 flipV="1">
              <a:off x="311328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 flipV="1">
              <a:off x="319788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6" name=""/>
            <p:cNvSpPr/>
            <p:nvPr/>
          </p:nvSpPr>
          <p:spPr>
            <a:xfrm flipV="1">
              <a:off x="328392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 flipV="1">
              <a:off x="337176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 flipV="1">
              <a:off x="345780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 flipV="1">
              <a:off x="354240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 flipV="1">
              <a:off x="362844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1" name=""/>
            <p:cNvSpPr/>
            <p:nvPr/>
          </p:nvSpPr>
          <p:spPr>
            <a:xfrm flipV="1">
              <a:off x="371592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2" name=""/>
            <p:cNvSpPr/>
            <p:nvPr/>
          </p:nvSpPr>
          <p:spPr>
            <a:xfrm flipV="1">
              <a:off x="380196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 flipV="1">
              <a:off x="388944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4" name=""/>
            <p:cNvSpPr/>
            <p:nvPr/>
          </p:nvSpPr>
          <p:spPr>
            <a:xfrm flipV="1">
              <a:off x="397260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 flipV="1">
              <a:off x="406008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 flipV="1">
              <a:off x="414612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7" name=""/>
            <p:cNvSpPr/>
            <p:nvPr/>
          </p:nvSpPr>
          <p:spPr>
            <a:xfrm flipV="1">
              <a:off x="423216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8" name=""/>
            <p:cNvSpPr/>
            <p:nvPr/>
          </p:nvSpPr>
          <p:spPr>
            <a:xfrm flipV="1">
              <a:off x="431712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 flipV="1">
              <a:off x="440316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 flipV="1">
              <a:off x="449064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 flipV="1">
              <a:off x="457668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2" name=""/>
            <p:cNvSpPr/>
            <p:nvPr/>
          </p:nvSpPr>
          <p:spPr>
            <a:xfrm flipV="1">
              <a:off x="466452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3" name=""/>
            <p:cNvSpPr/>
            <p:nvPr/>
          </p:nvSpPr>
          <p:spPr>
            <a:xfrm flipV="1">
              <a:off x="474768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4" name=""/>
            <p:cNvSpPr/>
            <p:nvPr/>
          </p:nvSpPr>
          <p:spPr>
            <a:xfrm flipV="1">
              <a:off x="483480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5" name=""/>
            <p:cNvSpPr/>
            <p:nvPr/>
          </p:nvSpPr>
          <p:spPr>
            <a:xfrm flipV="1">
              <a:off x="492120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6" name=""/>
            <p:cNvSpPr/>
            <p:nvPr/>
          </p:nvSpPr>
          <p:spPr>
            <a:xfrm flipV="1">
              <a:off x="500868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7" name=""/>
            <p:cNvSpPr/>
            <p:nvPr/>
          </p:nvSpPr>
          <p:spPr>
            <a:xfrm flipV="1">
              <a:off x="509184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 flipV="1">
              <a:off x="517932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9" name=""/>
            <p:cNvSpPr/>
            <p:nvPr/>
          </p:nvSpPr>
          <p:spPr>
            <a:xfrm flipV="1">
              <a:off x="526536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0" name=""/>
            <p:cNvSpPr/>
            <p:nvPr/>
          </p:nvSpPr>
          <p:spPr>
            <a:xfrm flipV="1">
              <a:off x="535140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 flipV="1">
              <a:off x="543924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2" name=""/>
            <p:cNvSpPr/>
            <p:nvPr/>
          </p:nvSpPr>
          <p:spPr>
            <a:xfrm flipV="1">
              <a:off x="552240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3" name=""/>
            <p:cNvSpPr/>
            <p:nvPr/>
          </p:nvSpPr>
          <p:spPr>
            <a:xfrm flipV="1">
              <a:off x="560988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 flipV="1">
              <a:off x="569592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5" name=""/>
            <p:cNvSpPr/>
            <p:nvPr/>
          </p:nvSpPr>
          <p:spPr>
            <a:xfrm flipV="1">
              <a:off x="578376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6" name=""/>
            <p:cNvSpPr/>
            <p:nvPr/>
          </p:nvSpPr>
          <p:spPr>
            <a:xfrm flipV="1">
              <a:off x="586692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7" name=""/>
            <p:cNvSpPr/>
            <p:nvPr/>
          </p:nvSpPr>
          <p:spPr>
            <a:xfrm flipV="1">
              <a:off x="595404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 flipV="1">
              <a:off x="604044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9" name=""/>
            <p:cNvSpPr/>
            <p:nvPr/>
          </p:nvSpPr>
          <p:spPr>
            <a:xfrm flipV="1">
              <a:off x="612792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0" name=""/>
            <p:cNvSpPr/>
            <p:nvPr/>
          </p:nvSpPr>
          <p:spPr>
            <a:xfrm flipV="1">
              <a:off x="621396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 flipV="1">
              <a:off x="1905120" y="8232480"/>
              <a:ext cx="1080" cy="64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2" name=""/>
            <p:cNvSpPr/>
            <p:nvPr/>
          </p:nvSpPr>
          <p:spPr>
            <a:xfrm flipV="1">
              <a:off x="2332800" y="8232480"/>
              <a:ext cx="1080" cy="64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3" name=""/>
            <p:cNvSpPr/>
            <p:nvPr/>
          </p:nvSpPr>
          <p:spPr>
            <a:xfrm flipV="1">
              <a:off x="2764440" y="8232480"/>
              <a:ext cx="1440" cy="64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 flipV="1">
              <a:off x="3195000" y="8232480"/>
              <a:ext cx="1440" cy="64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 flipV="1">
              <a:off x="3625560" y="8232480"/>
              <a:ext cx="1440" cy="64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 flipV="1">
              <a:off x="4057560" y="8232480"/>
              <a:ext cx="1080" cy="64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7" name=""/>
            <p:cNvSpPr/>
            <p:nvPr/>
          </p:nvSpPr>
          <p:spPr>
            <a:xfrm flipV="1">
              <a:off x="4488120" y="8232480"/>
              <a:ext cx="1080" cy="64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8" name=""/>
            <p:cNvSpPr/>
            <p:nvPr/>
          </p:nvSpPr>
          <p:spPr>
            <a:xfrm flipV="1">
              <a:off x="4918320" y="8232480"/>
              <a:ext cx="1080" cy="64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 flipV="1">
              <a:off x="5350320" y="8232480"/>
              <a:ext cx="1080" cy="64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 flipV="1">
              <a:off x="5780880" y="8232480"/>
              <a:ext cx="1080" cy="64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1" name=""/>
            <p:cNvSpPr/>
            <p:nvPr/>
          </p:nvSpPr>
          <p:spPr>
            <a:xfrm flipV="1">
              <a:off x="6211080" y="8232480"/>
              <a:ext cx="1080" cy="64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2" name=""/>
            <p:cNvSpPr/>
            <p:nvPr/>
          </p:nvSpPr>
          <p:spPr>
            <a:xfrm flipV="1">
              <a:off x="1902240" y="5166360"/>
              <a:ext cx="1080" cy="30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1902240" y="8229960"/>
              <a:ext cx="4305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1902240" y="5505120"/>
              <a:ext cx="4305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1902240" y="5505120"/>
              <a:ext cx="4305960" cy="2229840"/>
            </a:xfrm>
            <a:custGeom>
              <a:avLst/>
              <a:gdLst/>
              <a:ahLst/>
              <a:rect l="l" t="t" r="r" b="b"/>
              <a:pathLst>
                <a:path w="3051" h="1645">
                  <a:moveTo>
                    <a:pt x="3051" y="0"/>
                  </a:moveTo>
                  <a:lnTo>
                    <a:pt x="3044" y="0"/>
                  </a:lnTo>
                  <a:lnTo>
                    <a:pt x="3036" y="0"/>
                  </a:lnTo>
                  <a:lnTo>
                    <a:pt x="3028" y="0"/>
                  </a:lnTo>
                  <a:lnTo>
                    <a:pt x="3020" y="0"/>
                  </a:lnTo>
                  <a:lnTo>
                    <a:pt x="3013" y="0"/>
                  </a:lnTo>
                  <a:lnTo>
                    <a:pt x="3005" y="0"/>
                  </a:lnTo>
                  <a:lnTo>
                    <a:pt x="2997" y="0"/>
                  </a:lnTo>
                  <a:lnTo>
                    <a:pt x="2990" y="0"/>
                  </a:lnTo>
                  <a:lnTo>
                    <a:pt x="2982" y="0"/>
                  </a:lnTo>
                  <a:lnTo>
                    <a:pt x="2974" y="0"/>
                  </a:lnTo>
                  <a:lnTo>
                    <a:pt x="2967" y="0"/>
                  </a:lnTo>
                  <a:lnTo>
                    <a:pt x="2959" y="0"/>
                  </a:lnTo>
                  <a:lnTo>
                    <a:pt x="2951" y="0"/>
                  </a:lnTo>
                  <a:lnTo>
                    <a:pt x="2944" y="0"/>
                  </a:lnTo>
                  <a:lnTo>
                    <a:pt x="2936" y="0"/>
                  </a:lnTo>
                  <a:lnTo>
                    <a:pt x="2928" y="0"/>
                  </a:lnTo>
                  <a:lnTo>
                    <a:pt x="2921" y="0"/>
                  </a:lnTo>
                  <a:lnTo>
                    <a:pt x="2913" y="0"/>
                  </a:lnTo>
                  <a:lnTo>
                    <a:pt x="2905" y="0"/>
                  </a:lnTo>
                  <a:lnTo>
                    <a:pt x="2898" y="0"/>
                  </a:lnTo>
                  <a:lnTo>
                    <a:pt x="2890" y="0"/>
                  </a:lnTo>
                  <a:lnTo>
                    <a:pt x="2882" y="0"/>
                  </a:lnTo>
                  <a:lnTo>
                    <a:pt x="2875" y="0"/>
                  </a:lnTo>
                  <a:lnTo>
                    <a:pt x="2867" y="0"/>
                  </a:lnTo>
                  <a:lnTo>
                    <a:pt x="2859" y="0"/>
                  </a:lnTo>
                  <a:lnTo>
                    <a:pt x="2852" y="0"/>
                  </a:lnTo>
                  <a:lnTo>
                    <a:pt x="2844" y="0"/>
                  </a:lnTo>
                  <a:lnTo>
                    <a:pt x="2836" y="0"/>
                  </a:lnTo>
                  <a:lnTo>
                    <a:pt x="2828" y="0"/>
                  </a:lnTo>
                  <a:lnTo>
                    <a:pt x="2821" y="0"/>
                  </a:lnTo>
                  <a:lnTo>
                    <a:pt x="2813" y="0"/>
                  </a:lnTo>
                  <a:lnTo>
                    <a:pt x="2805" y="0"/>
                  </a:lnTo>
                  <a:lnTo>
                    <a:pt x="2798" y="0"/>
                  </a:lnTo>
                  <a:lnTo>
                    <a:pt x="2792" y="0"/>
                  </a:lnTo>
                  <a:lnTo>
                    <a:pt x="2784" y="0"/>
                  </a:lnTo>
                  <a:lnTo>
                    <a:pt x="2777" y="0"/>
                  </a:lnTo>
                  <a:lnTo>
                    <a:pt x="2769" y="0"/>
                  </a:lnTo>
                  <a:lnTo>
                    <a:pt x="2761" y="0"/>
                  </a:lnTo>
                  <a:lnTo>
                    <a:pt x="2754" y="0"/>
                  </a:lnTo>
                  <a:lnTo>
                    <a:pt x="2746" y="0"/>
                  </a:lnTo>
                  <a:lnTo>
                    <a:pt x="2738" y="0"/>
                  </a:lnTo>
                  <a:lnTo>
                    <a:pt x="2731" y="0"/>
                  </a:lnTo>
                  <a:lnTo>
                    <a:pt x="2723" y="0"/>
                  </a:lnTo>
                  <a:lnTo>
                    <a:pt x="2715" y="0"/>
                  </a:lnTo>
                  <a:lnTo>
                    <a:pt x="2708" y="0"/>
                  </a:lnTo>
                  <a:lnTo>
                    <a:pt x="2700" y="0"/>
                  </a:lnTo>
                  <a:lnTo>
                    <a:pt x="2692" y="0"/>
                  </a:lnTo>
                  <a:lnTo>
                    <a:pt x="2684" y="0"/>
                  </a:lnTo>
                  <a:lnTo>
                    <a:pt x="2677" y="0"/>
                  </a:lnTo>
                  <a:lnTo>
                    <a:pt x="2669" y="0"/>
                  </a:lnTo>
                  <a:lnTo>
                    <a:pt x="2661" y="0"/>
                  </a:lnTo>
                  <a:lnTo>
                    <a:pt x="2654" y="0"/>
                  </a:lnTo>
                  <a:lnTo>
                    <a:pt x="2646" y="0"/>
                  </a:lnTo>
                  <a:lnTo>
                    <a:pt x="2638" y="0"/>
                  </a:lnTo>
                  <a:lnTo>
                    <a:pt x="2631" y="0"/>
                  </a:lnTo>
                  <a:lnTo>
                    <a:pt x="2623" y="2"/>
                  </a:lnTo>
                  <a:lnTo>
                    <a:pt x="2615" y="2"/>
                  </a:lnTo>
                  <a:lnTo>
                    <a:pt x="2608" y="2"/>
                  </a:lnTo>
                  <a:lnTo>
                    <a:pt x="2600" y="2"/>
                  </a:lnTo>
                  <a:lnTo>
                    <a:pt x="2592" y="2"/>
                  </a:lnTo>
                  <a:lnTo>
                    <a:pt x="2585" y="2"/>
                  </a:lnTo>
                  <a:lnTo>
                    <a:pt x="2577" y="2"/>
                  </a:lnTo>
                  <a:lnTo>
                    <a:pt x="2569" y="2"/>
                  </a:lnTo>
                  <a:lnTo>
                    <a:pt x="2562" y="2"/>
                  </a:lnTo>
                  <a:lnTo>
                    <a:pt x="2554" y="2"/>
                  </a:lnTo>
                  <a:lnTo>
                    <a:pt x="2546" y="2"/>
                  </a:lnTo>
                  <a:lnTo>
                    <a:pt x="2539" y="2"/>
                  </a:lnTo>
                  <a:lnTo>
                    <a:pt x="2531" y="2"/>
                  </a:lnTo>
                  <a:lnTo>
                    <a:pt x="2523" y="2"/>
                  </a:lnTo>
                  <a:lnTo>
                    <a:pt x="2517" y="2"/>
                  </a:lnTo>
                  <a:lnTo>
                    <a:pt x="2510" y="2"/>
                  </a:lnTo>
                  <a:lnTo>
                    <a:pt x="2502" y="2"/>
                  </a:lnTo>
                  <a:lnTo>
                    <a:pt x="2494" y="2"/>
                  </a:lnTo>
                  <a:lnTo>
                    <a:pt x="2487" y="2"/>
                  </a:lnTo>
                  <a:lnTo>
                    <a:pt x="2479" y="2"/>
                  </a:lnTo>
                  <a:lnTo>
                    <a:pt x="2471" y="2"/>
                  </a:lnTo>
                  <a:lnTo>
                    <a:pt x="2464" y="2"/>
                  </a:lnTo>
                  <a:lnTo>
                    <a:pt x="2456" y="2"/>
                  </a:lnTo>
                  <a:lnTo>
                    <a:pt x="2448" y="2"/>
                  </a:lnTo>
                  <a:lnTo>
                    <a:pt x="2441" y="2"/>
                  </a:lnTo>
                  <a:lnTo>
                    <a:pt x="2433" y="2"/>
                  </a:lnTo>
                  <a:lnTo>
                    <a:pt x="2425" y="2"/>
                  </a:lnTo>
                  <a:lnTo>
                    <a:pt x="2418" y="2"/>
                  </a:lnTo>
                  <a:lnTo>
                    <a:pt x="2410" y="2"/>
                  </a:lnTo>
                  <a:lnTo>
                    <a:pt x="2402" y="2"/>
                  </a:lnTo>
                  <a:lnTo>
                    <a:pt x="2395" y="2"/>
                  </a:lnTo>
                  <a:lnTo>
                    <a:pt x="2387" y="2"/>
                  </a:lnTo>
                  <a:lnTo>
                    <a:pt x="2379" y="4"/>
                  </a:lnTo>
                  <a:lnTo>
                    <a:pt x="2371" y="4"/>
                  </a:lnTo>
                  <a:lnTo>
                    <a:pt x="2364" y="4"/>
                  </a:lnTo>
                  <a:lnTo>
                    <a:pt x="2356" y="4"/>
                  </a:lnTo>
                  <a:lnTo>
                    <a:pt x="2348" y="4"/>
                  </a:lnTo>
                  <a:lnTo>
                    <a:pt x="2341" y="4"/>
                  </a:lnTo>
                  <a:lnTo>
                    <a:pt x="2333" y="4"/>
                  </a:lnTo>
                  <a:lnTo>
                    <a:pt x="2325" y="4"/>
                  </a:lnTo>
                  <a:lnTo>
                    <a:pt x="2318" y="4"/>
                  </a:lnTo>
                  <a:lnTo>
                    <a:pt x="2310" y="4"/>
                  </a:lnTo>
                  <a:lnTo>
                    <a:pt x="2302" y="4"/>
                  </a:lnTo>
                  <a:lnTo>
                    <a:pt x="2295" y="6"/>
                  </a:lnTo>
                  <a:lnTo>
                    <a:pt x="2287" y="6"/>
                  </a:lnTo>
                  <a:lnTo>
                    <a:pt x="2279" y="6"/>
                  </a:lnTo>
                  <a:lnTo>
                    <a:pt x="2272" y="6"/>
                  </a:lnTo>
                  <a:lnTo>
                    <a:pt x="2264" y="6"/>
                  </a:lnTo>
                  <a:lnTo>
                    <a:pt x="2256" y="6"/>
                  </a:lnTo>
                  <a:lnTo>
                    <a:pt x="2249" y="6"/>
                  </a:lnTo>
                  <a:lnTo>
                    <a:pt x="2243" y="7"/>
                  </a:lnTo>
                  <a:lnTo>
                    <a:pt x="2235" y="7"/>
                  </a:lnTo>
                  <a:lnTo>
                    <a:pt x="2227" y="7"/>
                  </a:lnTo>
                  <a:lnTo>
                    <a:pt x="2220" y="7"/>
                  </a:lnTo>
                  <a:lnTo>
                    <a:pt x="2212" y="7"/>
                  </a:lnTo>
                  <a:lnTo>
                    <a:pt x="2204" y="9"/>
                  </a:lnTo>
                  <a:lnTo>
                    <a:pt x="2197" y="9"/>
                  </a:lnTo>
                  <a:lnTo>
                    <a:pt x="2189" y="9"/>
                  </a:lnTo>
                  <a:lnTo>
                    <a:pt x="2181" y="9"/>
                  </a:lnTo>
                  <a:lnTo>
                    <a:pt x="2174" y="9"/>
                  </a:lnTo>
                  <a:lnTo>
                    <a:pt x="2166" y="11"/>
                  </a:lnTo>
                  <a:lnTo>
                    <a:pt x="2158" y="11"/>
                  </a:lnTo>
                  <a:lnTo>
                    <a:pt x="2151" y="11"/>
                  </a:lnTo>
                  <a:lnTo>
                    <a:pt x="2143" y="13"/>
                  </a:lnTo>
                  <a:lnTo>
                    <a:pt x="2135" y="13"/>
                  </a:lnTo>
                  <a:lnTo>
                    <a:pt x="2128" y="13"/>
                  </a:lnTo>
                  <a:lnTo>
                    <a:pt x="2120" y="15"/>
                  </a:lnTo>
                  <a:lnTo>
                    <a:pt x="2112" y="15"/>
                  </a:lnTo>
                  <a:lnTo>
                    <a:pt x="2105" y="15"/>
                  </a:lnTo>
                  <a:lnTo>
                    <a:pt x="2097" y="17"/>
                  </a:lnTo>
                  <a:lnTo>
                    <a:pt x="2089" y="17"/>
                  </a:lnTo>
                  <a:lnTo>
                    <a:pt x="2082" y="17"/>
                  </a:lnTo>
                  <a:lnTo>
                    <a:pt x="2074" y="19"/>
                  </a:lnTo>
                  <a:lnTo>
                    <a:pt x="2066" y="19"/>
                  </a:lnTo>
                  <a:lnTo>
                    <a:pt x="2059" y="21"/>
                  </a:lnTo>
                  <a:lnTo>
                    <a:pt x="2051" y="21"/>
                  </a:lnTo>
                  <a:lnTo>
                    <a:pt x="2043" y="23"/>
                  </a:lnTo>
                  <a:lnTo>
                    <a:pt x="2035" y="23"/>
                  </a:lnTo>
                  <a:lnTo>
                    <a:pt x="2028" y="25"/>
                  </a:lnTo>
                  <a:lnTo>
                    <a:pt x="2020" y="25"/>
                  </a:lnTo>
                  <a:lnTo>
                    <a:pt x="2012" y="27"/>
                  </a:lnTo>
                  <a:lnTo>
                    <a:pt x="2005" y="29"/>
                  </a:lnTo>
                  <a:lnTo>
                    <a:pt x="1997" y="29"/>
                  </a:lnTo>
                  <a:lnTo>
                    <a:pt x="1989" y="30"/>
                  </a:lnTo>
                  <a:lnTo>
                    <a:pt x="1982" y="32"/>
                  </a:lnTo>
                  <a:lnTo>
                    <a:pt x="1974" y="32"/>
                  </a:lnTo>
                  <a:lnTo>
                    <a:pt x="1968" y="34"/>
                  </a:lnTo>
                  <a:lnTo>
                    <a:pt x="1961" y="36"/>
                  </a:lnTo>
                  <a:lnTo>
                    <a:pt x="1953" y="38"/>
                  </a:lnTo>
                  <a:lnTo>
                    <a:pt x="1945" y="38"/>
                  </a:lnTo>
                  <a:lnTo>
                    <a:pt x="1938" y="40"/>
                  </a:lnTo>
                  <a:lnTo>
                    <a:pt x="1930" y="42"/>
                  </a:lnTo>
                  <a:lnTo>
                    <a:pt x="1922" y="44"/>
                  </a:lnTo>
                  <a:lnTo>
                    <a:pt x="1915" y="46"/>
                  </a:lnTo>
                  <a:lnTo>
                    <a:pt x="1907" y="48"/>
                  </a:lnTo>
                  <a:lnTo>
                    <a:pt x="1899" y="50"/>
                  </a:lnTo>
                  <a:lnTo>
                    <a:pt x="1891" y="52"/>
                  </a:lnTo>
                  <a:lnTo>
                    <a:pt x="1884" y="54"/>
                  </a:lnTo>
                  <a:lnTo>
                    <a:pt x="1876" y="55"/>
                  </a:lnTo>
                  <a:lnTo>
                    <a:pt x="1868" y="57"/>
                  </a:lnTo>
                  <a:lnTo>
                    <a:pt x="1861" y="59"/>
                  </a:lnTo>
                  <a:lnTo>
                    <a:pt x="1853" y="63"/>
                  </a:lnTo>
                  <a:lnTo>
                    <a:pt x="1845" y="65"/>
                  </a:lnTo>
                  <a:lnTo>
                    <a:pt x="1838" y="67"/>
                  </a:lnTo>
                  <a:lnTo>
                    <a:pt x="1830" y="71"/>
                  </a:lnTo>
                  <a:lnTo>
                    <a:pt x="1822" y="73"/>
                  </a:lnTo>
                  <a:lnTo>
                    <a:pt x="1815" y="75"/>
                  </a:lnTo>
                  <a:lnTo>
                    <a:pt x="1807" y="78"/>
                  </a:lnTo>
                  <a:lnTo>
                    <a:pt x="1799" y="80"/>
                  </a:lnTo>
                  <a:lnTo>
                    <a:pt x="1792" y="84"/>
                  </a:lnTo>
                  <a:lnTo>
                    <a:pt x="1784" y="88"/>
                  </a:lnTo>
                  <a:lnTo>
                    <a:pt x="1776" y="90"/>
                  </a:lnTo>
                  <a:lnTo>
                    <a:pt x="1769" y="94"/>
                  </a:lnTo>
                  <a:lnTo>
                    <a:pt x="1761" y="98"/>
                  </a:lnTo>
                  <a:lnTo>
                    <a:pt x="1753" y="100"/>
                  </a:lnTo>
                  <a:lnTo>
                    <a:pt x="1746" y="103"/>
                  </a:lnTo>
                  <a:lnTo>
                    <a:pt x="1738" y="107"/>
                  </a:lnTo>
                  <a:lnTo>
                    <a:pt x="1730" y="111"/>
                  </a:lnTo>
                  <a:lnTo>
                    <a:pt x="1723" y="115"/>
                  </a:lnTo>
                  <a:lnTo>
                    <a:pt x="1715" y="119"/>
                  </a:lnTo>
                  <a:lnTo>
                    <a:pt x="1707" y="123"/>
                  </a:lnTo>
                  <a:lnTo>
                    <a:pt x="1699" y="128"/>
                  </a:lnTo>
                  <a:lnTo>
                    <a:pt x="1692" y="132"/>
                  </a:lnTo>
                  <a:lnTo>
                    <a:pt x="1686" y="136"/>
                  </a:lnTo>
                  <a:lnTo>
                    <a:pt x="1678" y="142"/>
                  </a:lnTo>
                  <a:lnTo>
                    <a:pt x="1671" y="146"/>
                  </a:lnTo>
                  <a:lnTo>
                    <a:pt x="1663" y="150"/>
                  </a:lnTo>
                  <a:lnTo>
                    <a:pt x="1655" y="155"/>
                  </a:lnTo>
                  <a:lnTo>
                    <a:pt x="1648" y="161"/>
                  </a:lnTo>
                  <a:lnTo>
                    <a:pt x="1640" y="165"/>
                  </a:lnTo>
                  <a:lnTo>
                    <a:pt x="1632" y="171"/>
                  </a:lnTo>
                  <a:lnTo>
                    <a:pt x="1625" y="176"/>
                  </a:lnTo>
                  <a:lnTo>
                    <a:pt x="1617" y="182"/>
                  </a:lnTo>
                  <a:lnTo>
                    <a:pt x="1609" y="188"/>
                  </a:lnTo>
                  <a:lnTo>
                    <a:pt x="1602" y="194"/>
                  </a:lnTo>
                  <a:lnTo>
                    <a:pt x="1594" y="199"/>
                  </a:lnTo>
                  <a:lnTo>
                    <a:pt x="1586" y="205"/>
                  </a:lnTo>
                  <a:lnTo>
                    <a:pt x="1578" y="211"/>
                  </a:lnTo>
                  <a:lnTo>
                    <a:pt x="1571" y="219"/>
                  </a:lnTo>
                  <a:lnTo>
                    <a:pt x="1563" y="224"/>
                  </a:lnTo>
                  <a:lnTo>
                    <a:pt x="1555" y="232"/>
                  </a:lnTo>
                  <a:lnTo>
                    <a:pt x="1548" y="238"/>
                  </a:lnTo>
                  <a:lnTo>
                    <a:pt x="1540" y="245"/>
                  </a:lnTo>
                  <a:lnTo>
                    <a:pt x="1532" y="253"/>
                  </a:lnTo>
                  <a:lnTo>
                    <a:pt x="1525" y="261"/>
                  </a:lnTo>
                  <a:lnTo>
                    <a:pt x="1517" y="267"/>
                  </a:lnTo>
                  <a:lnTo>
                    <a:pt x="1509" y="274"/>
                  </a:lnTo>
                  <a:lnTo>
                    <a:pt x="1502" y="282"/>
                  </a:lnTo>
                  <a:lnTo>
                    <a:pt x="1494" y="292"/>
                  </a:lnTo>
                  <a:lnTo>
                    <a:pt x="1486" y="299"/>
                  </a:lnTo>
                  <a:lnTo>
                    <a:pt x="1479" y="307"/>
                  </a:lnTo>
                  <a:lnTo>
                    <a:pt x="1471" y="317"/>
                  </a:lnTo>
                  <a:lnTo>
                    <a:pt x="1463" y="324"/>
                  </a:lnTo>
                  <a:lnTo>
                    <a:pt x="1456" y="334"/>
                  </a:lnTo>
                  <a:lnTo>
                    <a:pt x="1448" y="341"/>
                  </a:lnTo>
                  <a:lnTo>
                    <a:pt x="1440" y="351"/>
                  </a:lnTo>
                  <a:lnTo>
                    <a:pt x="1433" y="361"/>
                  </a:lnTo>
                  <a:lnTo>
                    <a:pt x="1425" y="370"/>
                  </a:lnTo>
                  <a:lnTo>
                    <a:pt x="1417" y="380"/>
                  </a:lnTo>
                  <a:lnTo>
                    <a:pt x="1410" y="389"/>
                  </a:lnTo>
                  <a:lnTo>
                    <a:pt x="1404" y="399"/>
                  </a:lnTo>
                  <a:lnTo>
                    <a:pt x="1396" y="409"/>
                  </a:lnTo>
                  <a:lnTo>
                    <a:pt x="1388" y="420"/>
                  </a:lnTo>
                  <a:lnTo>
                    <a:pt x="1381" y="430"/>
                  </a:lnTo>
                  <a:lnTo>
                    <a:pt x="1373" y="441"/>
                  </a:lnTo>
                  <a:lnTo>
                    <a:pt x="1365" y="453"/>
                  </a:lnTo>
                  <a:lnTo>
                    <a:pt x="1358" y="462"/>
                  </a:lnTo>
                  <a:lnTo>
                    <a:pt x="1350" y="474"/>
                  </a:lnTo>
                  <a:lnTo>
                    <a:pt x="1342" y="485"/>
                  </a:lnTo>
                  <a:lnTo>
                    <a:pt x="1335" y="497"/>
                  </a:lnTo>
                  <a:lnTo>
                    <a:pt x="1327" y="509"/>
                  </a:lnTo>
                  <a:lnTo>
                    <a:pt x="1319" y="520"/>
                  </a:lnTo>
                  <a:lnTo>
                    <a:pt x="1312" y="532"/>
                  </a:lnTo>
                  <a:lnTo>
                    <a:pt x="1304" y="545"/>
                  </a:lnTo>
                  <a:lnTo>
                    <a:pt x="1296" y="557"/>
                  </a:lnTo>
                  <a:lnTo>
                    <a:pt x="1289" y="570"/>
                  </a:lnTo>
                  <a:lnTo>
                    <a:pt x="1281" y="581"/>
                  </a:lnTo>
                  <a:lnTo>
                    <a:pt x="1273" y="595"/>
                  </a:lnTo>
                  <a:lnTo>
                    <a:pt x="1266" y="608"/>
                  </a:lnTo>
                  <a:lnTo>
                    <a:pt x="1258" y="622"/>
                  </a:lnTo>
                  <a:lnTo>
                    <a:pt x="1250" y="633"/>
                  </a:lnTo>
                  <a:lnTo>
                    <a:pt x="1242" y="647"/>
                  </a:lnTo>
                  <a:lnTo>
                    <a:pt x="1235" y="662"/>
                  </a:lnTo>
                  <a:lnTo>
                    <a:pt x="1227" y="676"/>
                  </a:lnTo>
                  <a:lnTo>
                    <a:pt x="1219" y="689"/>
                  </a:lnTo>
                  <a:lnTo>
                    <a:pt x="1212" y="702"/>
                  </a:lnTo>
                  <a:lnTo>
                    <a:pt x="1204" y="716"/>
                  </a:lnTo>
                  <a:lnTo>
                    <a:pt x="1196" y="731"/>
                  </a:lnTo>
                  <a:lnTo>
                    <a:pt x="1189" y="745"/>
                  </a:lnTo>
                  <a:lnTo>
                    <a:pt x="1181" y="760"/>
                  </a:lnTo>
                  <a:lnTo>
                    <a:pt x="1173" y="773"/>
                  </a:lnTo>
                  <a:lnTo>
                    <a:pt x="1166" y="789"/>
                  </a:lnTo>
                  <a:lnTo>
                    <a:pt x="1158" y="804"/>
                  </a:lnTo>
                  <a:lnTo>
                    <a:pt x="1150" y="820"/>
                  </a:lnTo>
                  <a:lnTo>
                    <a:pt x="1143" y="833"/>
                  </a:lnTo>
                  <a:lnTo>
                    <a:pt x="1135" y="848"/>
                  </a:lnTo>
                  <a:lnTo>
                    <a:pt x="1129" y="864"/>
                  </a:lnTo>
                  <a:lnTo>
                    <a:pt x="1122" y="879"/>
                  </a:lnTo>
                  <a:lnTo>
                    <a:pt x="1114" y="894"/>
                  </a:lnTo>
                  <a:lnTo>
                    <a:pt x="1106" y="910"/>
                  </a:lnTo>
                  <a:lnTo>
                    <a:pt x="1098" y="925"/>
                  </a:lnTo>
                  <a:lnTo>
                    <a:pt x="1091" y="941"/>
                  </a:lnTo>
                  <a:lnTo>
                    <a:pt x="1083" y="956"/>
                  </a:lnTo>
                  <a:lnTo>
                    <a:pt x="1075" y="971"/>
                  </a:lnTo>
                  <a:lnTo>
                    <a:pt x="1068" y="987"/>
                  </a:lnTo>
                  <a:lnTo>
                    <a:pt x="1060" y="1002"/>
                  </a:lnTo>
                  <a:lnTo>
                    <a:pt x="1052" y="1019"/>
                  </a:lnTo>
                  <a:lnTo>
                    <a:pt x="1045" y="1035"/>
                  </a:lnTo>
                  <a:lnTo>
                    <a:pt x="1037" y="1050"/>
                  </a:lnTo>
                  <a:lnTo>
                    <a:pt x="1029" y="1065"/>
                  </a:lnTo>
                  <a:lnTo>
                    <a:pt x="1022" y="1081"/>
                  </a:lnTo>
                  <a:lnTo>
                    <a:pt x="1014" y="1096"/>
                  </a:lnTo>
                  <a:lnTo>
                    <a:pt x="1006" y="1111"/>
                  </a:lnTo>
                  <a:lnTo>
                    <a:pt x="999" y="1127"/>
                  </a:lnTo>
                  <a:lnTo>
                    <a:pt x="991" y="1142"/>
                  </a:lnTo>
                  <a:lnTo>
                    <a:pt x="983" y="1157"/>
                  </a:lnTo>
                  <a:lnTo>
                    <a:pt x="976" y="1173"/>
                  </a:lnTo>
                  <a:lnTo>
                    <a:pt x="968" y="1188"/>
                  </a:lnTo>
                  <a:lnTo>
                    <a:pt x="960" y="1204"/>
                  </a:lnTo>
                  <a:lnTo>
                    <a:pt x="953" y="1219"/>
                  </a:lnTo>
                  <a:lnTo>
                    <a:pt x="945" y="1234"/>
                  </a:lnTo>
                  <a:lnTo>
                    <a:pt x="937" y="1248"/>
                  </a:lnTo>
                  <a:lnTo>
                    <a:pt x="930" y="1263"/>
                  </a:lnTo>
                  <a:lnTo>
                    <a:pt x="922" y="1278"/>
                  </a:lnTo>
                  <a:lnTo>
                    <a:pt x="914" y="1292"/>
                  </a:lnTo>
                  <a:lnTo>
                    <a:pt x="906" y="1305"/>
                  </a:lnTo>
                  <a:lnTo>
                    <a:pt x="899" y="1321"/>
                  </a:lnTo>
                  <a:lnTo>
                    <a:pt x="891" y="1334"/>
                  </a:lnTo>
                  <a:lnTo>
                    <a:pt x="883" y="1348"/>
                  </a:lnTo>
                  <a:lnTo>
                    <a:pt x="876" y="1361"/>
                  </a:lnTo>
                  <a:lnTo>
                    <a:pt x="868" y="1374"/>
                  </a:lnTo>
                  <a:lnTo>
                    <a:pt x="860" y="1388"/>
                  </a:lnTo>
                  <a:lnTo>
                    <a:pt x="855" y="1401"/>
                  </a:lnTo>
                  <a:lnTo>
                    <a:pt x="847" y="1413"/>
                  </a:lnTo>
                  <a:lnTo>
                    <a:pt x="839" y="1426"/>
                  </a:lnTo>
                  <a:lnTo>
                    <a:pt x="832" y="1438"/>
                  </a:lnTo>
                  <a:lnTo>
                    <a:pt x="824" y="1449"/>
                  </a:lnTo>
                  <a:lnTo>
                    <a:pt x="816" y="1461"/>
                  </a:lnTo>
                  <a:lnTo>
                    <a:pt x="809" y="1472"/>
                  </a:lnTo>
                  <a:lnTo>
                    <a:pt x="801" y="1484"/>
                  </a:lnTo>
                  <a:lnTo>
                    <a:pt x="793" y="1493"/>
                  </a:lnTo>
                  <a:lnTo>
                    <a:pt x="786" y="1505"/>
                  </a:lnTo>
                  <a:lnTo>
                    <a:pt x="778" y="1515"/>
                  </a:lnTo>
                  <a:lnTo>
                    <a:pt x="770" y="1524"/>
                  </a:lnTo>
                  <a:lnTo>
                    <a:pt x="762" y="1534"/>
                  </a:lnTo>
                  <a:lnTo>
                    <a:pt x="755" y="1543"/>
                  </a:lnTo>
                  <a:lnTo>
                    <a:pt x="747" y="1551"/>
                  </a:lnTo>
                  <a:lnTo>
                    <a:pt x="739" y="1561"/>
                  </a:lnTo>
                  <a:lnTo>
                    <a:pt x="732" y="1568"/>
                  </a:lnTo>
                  <a:lnTo>
                    <a:pt x="724" y="1576"/>
                  </a:lnTo>
                  <a:lnTo>
                    <a:pt x="716" y="1584"/>
                  </a:lnTo>
                  <a:lnTo>
                    <a:pt x="709" y="1589"/>
                  </a:lnTo>
                  <a:lnTo>
                    <a:pt x="701" y="1597"/>
                  </a:lnTo>
                  <a:lnTo>
                    <a:pt x="693" y="1603"/>
                  </a:lnTo>
                  <a:lnTo>
                    <a:pt x="686" y="1609"/>
                  </a:lnTo>
                  <a:lnTo>
                    <a:pt x="678" y="1614"/>
                  </a:lnTo>
                  <a:lnTo>
                    <a:pt x="670" y="1618"/>
                  </a:lnTo>
                  <a:lnTo>
                    <a:pt x="663" y="1624"/>
                  </a:lnTo>
                  <a:lnTo>
                    <a:pt x="655" y="1628"/>
                  </a:lnTo>
                  <a:lnTo>
                    <a:pt x="647" y="1632"/>
                  </a:lnTo>
                  <a:lnTo>
                    <a:pt x="640" y="1636"/>
                  </a:lnTo>
                  <a:lnTo>
                    <a:pt x="632" y="1637"/>
                  </a:lnTo>
                  <a:lnTo>
                    <a:pt x="624" y="1639"/>
                  </a:lnTo>
                  <a:lnTo>
                    <a:pt x="617" y="1641"/>
                  </a:lnTo>
                  <a:lnTo>
                    <a:pt x="609" y="1643"/>
                  </a:lnTo>
                  <a:lnTo>
                    <a:pt x="601" y="1645"/>
                  </a:lnTo>
                  <a:lnTo>
                    <a:pt x="593" y="1645"/>
                  </a:lnTo>
                  <a:lnTo>
                    <a:pt x="586" y="1645"/>
                  </a:lnTo>
                  <a:lnTo>
                    <a:pt x="580" y="1645"/>
                  </a:lnTo>
                  <a:lnTo>
                    <a:pt x="572" y="1645"/>
                  </a:lnTo>
                  <a:lnTo>
                    <a:pt x="565" y="1643"/>
                  </a:lnTo>
                  <a:lnTo>
                    <a:pt x="557" y="1643"/>
                  </a:lnTo>
                  <a:lnTo>
                    <a:pt x="549" y="1641"/>
                  </a:lnTo>
                  <a:lnTo>
                    <a:pt x="542" y="1639"/>
                  </a:lnTo>
                  <a:lnTo>
                    <a:pt x="534" y="1636"/>
                  </a:lnTo>
                  <a:lnTo>
                    <a:pt x="526" y="1634"/>
                  </a:lnTo>
                  <a:lnTo>
                    <a:pt x="519" y="1630"/>
                  </a:lnTo>
                  <a:lnTo>
                    <a:pt x="511" y="1626"/>
                  </a:lnTo>
                  <a:lnTo>
                    <a:pt x="503" y="1622"/>
                  </a:lnTo>
                  <a:lnTo>
                    <a:pt x="496" y="1616"/>
                  </a:lnTo>
                  <a:lnTo>
                    <a:pt x="488" y="1612"/>
                  </a:lnTo>
                  <a:lnTo>
                    <a:pt x="480" y="1607"/>
                  </a:lnTo>
                  <a:lnTo>
                    <a:pt x="473" y="1601"/>
                  </a:lnTo>
                  <a:lnTo>
                    <a:pt x="465" y="1595"/>
                  </a:lnTo>
                  <a:lnTo>
                    <a:pt x="457" y="1588"/>
                  </a:lnTo>
                  <a:lnTo>
                    <a:pt x="449" y="1582"/>
                  </a:lnTo>
                  <a:lnTo>
                    <a:pt x="442" y="1574"/>
                  </a:lnTo>
                  <a:lnTo>
                    <a:pt x="434" y="1566"/>
                  </a:lnTo>
                  <a:lnTo>
                    <a:pt x="426" y="1559"/>
                  </a:lnTo>
                  <a:lnTo>
                    <a:pt x="419" y="1551"/>
                  </a:lnTo>
                  <a:lnTo>
                    <a:pt x="411" y="1541"/>
                  </a:lnTo>
                  <a:lnTo>
                    <a:pt x="403" y="1534"/>
                  </a:lnTo>
                  <a:lnTo>
                    <a:pt x="396" y="1524"/>
                  </a:lnTo>
                  <a:lnTo>
                    <a:pt x="388" y="1515"/>
                  </a:lnTo>
                  <a:lnTo>
                    <a:pt x="380" y="1505"/>
                  </a:lnTo>
                  <a:lnTo>
                    <a:pt x="373" y="1495"/>
                  </a:lnTo>
                  <a:lnTo>
                    <a:pt x="365" y="1484"/>
                  </a:lnTo>
                  <a:lnTo>
                    <a:pt x="357" y="1474"/>
                  </a:lnTo>
                  <a:lnTo>
                    <a:pt x="350" y="1463"/>
                  </a:lnTo>
                  <a:lnTo>
                    <a:pt x="342" y="1451"/>
                  </a:lnTo>
                  <a:lnTo>
                    <a:pt x="334" y="1440"/>
                  </a:lnTo>
                  <a:lnTo>
                    <a:pt x="327" y="1428"/>
                  </a:lnTo>
                  <a:lnTo>
                    <a:pt x="319" y="1415"/>
                  </a:lnTo>
                  <a:lnTo>
                    <a:pt x="311" y="1403"/>
                  </a:lnTo>
                  <a:lnTo>
                    <a:pt x="304" y="1390"/>
                  </a:lnTo>
                  <a:lnTo>
                    <a:pt x="298" y="1378"/>
                  </a:lnTo>
                  <a:lnTo>
                    <a:pt x="290" y="1365"/>
                  </a:lnTo>
                  <a:lnTo>
                    <a:pt x="282" y="1351"/>
                  </a:lnTo>
                  <a:lnTo>
                    <a:pt x="275" y="1336"/>
                  </a:lnTo>
                  <a:lnTo>
                    <a:pt x="267" y="1323"/>
                  </a:lnTo>
                  <a:lnTo>
                    <a:pt x="259" y="1309"/>
                  </a:lnTo>
                  <a:lnTo>
                    <a:pt x="252" y="1294"/>
                  </a:lnTo>
                  <a:lnTo>
                    <a:pt x="244" y="1278"/>
                  </a:lnTo>
                  <a:lnTo>
                    <a:pt x="236" y="1263"/>
                  </a:lnTo>
                  <a:lnTo>
                    <a:pt x="229" y="1246"/>
                  </a:lnTo>
                  <a:lnTo>
                    <a:pt x="221" y="1230"/>
                  </a:lnTo>
                  <a:lnTo>
                    <a:pt x="213" y="1213"/>
                  </a:lnTo>
                  <a:lnTo>
                    <a:pt x="206" y="1196"/>
                  </a:lnTo>
                  <a:lnTo>
                    <a:pt x="198" y="1179"/>
                  </a:lnTo>
                  <a:lnTo>
                    <a:pt x="190" y="1159"/>
                  </a:lnTo>
                  <a:lnTo>
                    <a:pt x="183" y="1142"/>
                  </a:lnTo>
                  <a:lnTo>
                    <a:pt x="175" y="1123"/>
                  </a:lnTo>
                  <a:lnTo>
                    <a:pt x="167" y="1102"/>
                  </a:lnTo>
                  <a:lnTo>
                    <a:pt x="160" y="1081"/>
                  </a:lnTo>
                  <a:lnTo>
                    <a:pt x="152" y="1060"/>
                  </a:lnTo>
                  <a:lnTo>
                    <a:pt x="144" y="1037"/>
                  </a:lnTo>
                  <a:lnTo>
                    <a:pt x="137" y="1013"/>
                  </a:lnTo>
                  <a:lnTo>
                    <a:pt x="129" y="990"/>
                  </a:lnTo>
                  <a:lnTo>
                    <a:pt x="121" y="965"/>
                  </a:lnTo>
                  <a:lnTo>
                    <a:pt x="113" y="939"/>
                  </a:lnTo>
                  <a:lnTo>
                    <a:pt x="106" y="910"/>
                  </a:lnTo>
                  <a:lnTo>
                    <a:pt x="98" y="881"/>
                  </a:lnTo>
                  <a:lnTo>
                    <a:pt x="90" y="850"/>
                  </a:lnTo>
                  <a:lnTo>
                    <a:pt x="83" y="818"/>
                  </a:lnTo>
                  <a:lnTo>
                    <a:pt x="75" y="783"/>
                  </a:lnTo>
                  <a:lnTo>
                    <a:pt x="67" y="747"/>
                  </a:lnTo>
                  <a:lnTo>
                    <a:pt x="60" y="706"/>
                  </a:lnTo>
                  <a:lnTo>
                    <a:pt x="52" y="664"/>
                  </a:lnTo>
                  <a:lnTo>
                    <a:pt x="44" y="616"/>
                  </a:lnTo>
                  <a:lnTo>
                    <a:pt x="37" y="564"/>
                  </a:lnTo>
                  <a:lnTo>
                    <a:pt x="29" y="507"/>
                  </a:lnTo>
                  <a:lnTo>
                    <a:pt x="23" y="439"/>
                  </a:lnTo>
                  <a:lnTo>
                    <a:pt x="16" y="357"/>
                  </a:lnTo>
                  <a:lnTo>
                    <a:pt x="8" y="249"/>
                  </a:lnTo>
                  <a:lnTo>
                    <a:pt x="0" y="2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1902240" y="5499720"/>
              <a:ext cx="4305960" cy="176040"/>
            </a:xfrm>
            <a:custGeom>
              <a:avLst/>
              <a:gdLst/>
              <a:ahLst/>
              <a:rect l="l" t="t" r="r" b="b"/>
              <a:pathLst>
                <a:path w="3051" h="130">
                  <a:moveTo>
                    <a:pt x="3051" y="4"/>
                  </a:moveTo>
                  <a:lnTo>
                    <a:pt x="3044" y="4"/>
                  </a:lnTo>
                  <a:lnTo>
                    <a:pt x="3036" y="4"/>
                  </a:lnTo>
                  <a:lnTo>
                    <a:pt x="3028" y="4"/>
                  </a:lnTo>
                  <a:lnTo>
                    <a:pt x="3020" y="4"/>
                  </a:lnTo>
                  <a:lnTo>
                    <a:pt x="3013" y="4"/>
                  </a:lnTo>
                  <a:lnTo>
                    <a:pt x="3005" y="4"/>
                  </a:lnTo>
                  <a:lnTo>
                    <a:pt x="2997" y="4"/>
                  </a:lnTo>
                  <a:lnTo>
                    <a:pt x="2990" y="4"/>
                  </a:lnTo>
                  <a:lnTo>
                    <a:pt x="2982" y="4"/>
                  </a:lnTo>
                  <a:lnTo>
                    <a:pt x="2974" y="4"/>
                  </a:lnTo>
                  <a:lnTo>
                    <a:pt x="2967" y="4"/>
                  </a:lnTo>
                  <a:lnTo>
                    <a:pt x="2959" y="4"/>
                  </a:lnTo>
                  <a:lnTo>
                    <a:pt x="2951" y="4"/>
                  </a:lnTo>
                  <a:lnTo>
                    <a:pt x="2944" y="4"/>
                  </a:lnTo>
                  <a:lnTo>
                    <a:pt x="2936" y="4"/>
                  </a:lnTo>
                  <a:lnTo>
                    <a:pt x="2928" y="4"/>
                  </a:lnTo>
                  <a:lnTo>
                    <a:pt x="2921" y="4"/>
                  </a:lnTo>
                  <a:lnTo>
                    <a:pt x="2913" y="4"/>
                  </a:lnTo>
                  <a:lnTo>
                    <a:pt x="2905" y="4"/>
                  </a:lnTo>
                  <a:lnTo>
                    <a:pt x="2898" y="4"/>
                  </a:lnTo>
                  <a:lnTo>
                    <a:pt x="2890" y="4"/>
                  </a:lnTo>
                  <a:lnTo>
                    <a:pt x="2882" y="4"/>
                  </a:lnTo>
                  <a:lnTo>
                    <a:pt x="2875" y="4"/>
                  </a:lnTo>
                  <a:lnTo>
                    <a:pt x="2867" y="4"/>
                  </a:lnTo>
                  <a:lnTo>
                    <a:pt x="2859" y="4"/>
                  </a:lnTo>
                  <a:lnTo>
                    <a:pt x="2852" y="4"/>
                  </a:lnTo>
                  <a:lnTo>
                    <a:pt x="2844" y="4"/>
                  </a:lnTo>
                  <a:lnTo>
                    <a:pt x="2836" y="4"/>
                  </a:lnTo>
                  <a:lnTo>
                    <a:pt x="2828" y="4"/>
                  </a:lnTo>
                  <a:lnTo>
                    <a:pt x="2821" y="4"/>
                  </a:lnTo>
                  <a:lnTo>
                    <a:pt x="2813" y="4"/>
                  </a:lnTo>
                  <a:lnTo>
                    <a:pt x="2805" y="4"/>
                  </a:lnTo>
                  <a:lnTo>
                    <a:pt x="2798" y="4"/>
                  </a:lnTo>
                  <a:lnTo>
                    <a:pt x="2792" y="4"/>
                  </a:lnTo>
                  <a:lnTo>
                    <a:pt x="2784" y="4"/>
                  </a:lnTo>
                  <a:lnTo>
                    <a:pt x="2777" y="4"/>
                  </a:lnTo>
                  <a:lnTo>
                    <a:pt x="2769" y="4"/>
                  </a:lnTo>
                  <a:lnTo>
                    <a:pt x="2761" y="4"/>
                  </a:lnTo>
                  <a:lnTo>
                    <a:pt x="2754" y="4"/>
                  </a:lnTo>
                  <a:lnTo>
                    <a:pt x="2746" y="4"/>
                  </a:lnTo>
                  <a:lnTo>
                    <a:pt x="2738" y="4"/>
                  </a:lnTo>
                  <a:lnTo>
                    <a:pt x="2731" y="4"/>
                  </a:lnTo>
                  <a:lnTo>
                    <a:pt x="2723" y="4"/>
                  </a:lnTo>
                  <a:lnTo>
                    <a:pt x="2715" y="4"/>
                  </a:lnTo>
                  <a:lnTo>
                    <a:pt x="2708" y="4"/>
                  </a:lnTo>
                  <a:lnTo>
                    <a:pt x="2700" y="4"/>
                  </a:lnTo>
                  <a:lnTo>
                    <a:pt x="2692" y="4"/>
                  </a:lnTo>
                  <a:lnTo>
                    <a:pt x="2684" y="4"/>
                  </a:lnTo>
                  <a:lnTo>
                    <a:pt x="2677" y="4"/>
                  </a:lnTo>
                  <a:lnTo>
                    <a:pt x="2669" y="4"/>
                  </a:lnTo>
                  <a:lnTo>
                    <a:pt x="2661" y="4"/>
                  </a:lnTo>
                  <a:lnTo>
                    <a:pt x="2654" y="4"/>
                  </a:lnTo>
                  <a:lnTo>
                    <a:pt x="2646" y="4"/>
                  </a:lnTo>
                  <a:lnTo>
                    <a:pt x="2638" y="4"/>
                  </a:lnTo>
                  <a:lnTo>
                    <a:pt x="2631" y="4"/>
                  </a:lnTo>
                  <a:lnTo>
                    <a:pt x="2623" y="4"/>
                  </a:lnTo>
                  <a:lnTo>
                    <a:pt x="2615" y="4"/>
                  </a:lnTo>
                  <a:lnTo>
                    <a:pt x="2608" y="4"/>
                  </a:lnTo>
                  <a:lnTo>
                    <a:pt x="2600" y="4"/>
                  </a:lnTo>
                  <a:lnTo>
                    <a:pt x="2592" y="4"/>
                  </a:lnTo>
                  <a:lnTo>
                    <a:pt x="2585" y="4"/>
                  </a:lnTo>
                  <a:lnTo>
                    <a:pt x="2577" y="4"/>
                  </a:lnTo>
                  <a:lnTo>
                    <a:pt x="2569" y="4"/>
                  </a:lnTo>
                  <a:lnTo>
                    <a:pt x="2562" y="4"/>
                  </a:lnTo>
                  <a:lnTo>
                    <a:pt x="2554" y="4"/>
                  </a:lnTo>
                  <a:lnTo>
                    <a:pt x="2546" y="4"/>
                  </a:lnTo>
                  <a:lnTo>
                    <a:pt x="2539" y="4"/>
                  </a:lnTo>
                  <a:lnTo>
                    <a:pt x="2531" y="4"/>
                  </a:lnTo>
                  <a:lnTo>
                    <a:pt x="2523" y="4"/>
                  </a:lnTo>
                  <a:lnTo>
                    <a:pt x="2517" y="4"/>
                  </a:lnTo>
                  <a:lnTo>
                    <a:pt x="2510" y="4"/>
                  </a:lnTo>
                  <a:lnTo>
                    <a:pt x="2502" y="4"/>
                  </a:lnTo>
                  <a:lnTo>
                    <a:pt x="2494" y="4"/>
                  </a:lnTo>
                  <a:lnTo>
                    <a:pt x="2487" y="4"/>
                  </a:lnTo>
                  <a:lnTo>
                    <a:pt x="2479" y="4"/>
                  </a:lnTo>
                  <a:lnTo>
                    <a:pt x="2471" y="4"/>
                  </a:lnTo>
                  <a:lnTo>
                    <a:pt x="2464" y="4"/>
                  </a:lnTo>
                  <a:lnTo>
                    <a:pt x="2456" y="4"/>
                  </a:lnTo>
                  <a:lnTo>
                    <a:pt x="2448" y="4"/>
                  </a:lnTo>
                  <a:lnTo>
                    <a:pt x="2441" y="4"/>
                  </a:lnTo>
                  <a:lnTo>
                    <a:pt x="2433" y="4"/>
                  </a:lnTo>
                  <a:lnTo>
                    <a:pt x="2425" y="4"/>
                  </a:lnTo>
                  <a:lnTo>
                    <a:pt x="2418" y="4"/>
                  </a:lnTo>
                  <a:lnTo>
                    <a:pt x="2410" y="4"/>
                  </a:lnTo>
                  <a:lnTo>
                    <a:pt x="2402" y="4"/>
                  </a:lnTo>
                  <a:lnTo>
                    <a:pt x="2395" y="4"/>
                  </a:lnTo>
                  <a:lnTo>
                    <a:pt x="2387" y="4"/>
                  </a:lnTo>
                  <a:lnTo>
                    <a:pt x="2379" y="4"/>
                  </a:lnTo>
                  <a:lnTo>
                    <a:pt x="2371" y="4"/>
                  </a:lnTo>
                  <a:lnTo>
                    <a:pt x="2364" y="4"/>
                  </a:lnTo>
                  <a:lnTo>
                    <a:pt x="2356" y="4"/>
                  </a:lnTo>
                  <a:lnTo>
                    <a:pt x="2348" y="4"/>
                  </a:lnTo>
                  <a:lnTo>
                    <a:pt x="2341" y="4"/>
                  </a:lnTo>
                  <a:lnTo>
                    <a:pt x="2333" y="4"/>
                  </a:lnTo>
                  <a:lnTo>
                    <a:pt x="2325" y="4"/>
                  </a:lnTo>
                  <a:lnTo>
                    <a:pt x="2318" y="4"/>
                  </a:lnTo>
                  <a:lnTo>
                    <a:pt x="2310" y="4"/>
                  </a:lnTo>
                  <a:lnTo>
                    <a:pt x="2302" y="4"/>
                  </a:lnTo>
                  <a:lnTo>
                    <a:pt x="2295" y="4"/>
                  </a:lnTo>
                  <a:lnTo>
                    <a:pt x="2287" y="4"/>
                  </a:lnTo>
                  <a:lnTo>
                    <a:pt x="2279" y="4"/>
                  </a:lnTo>
                  <a:lnTo>
                    <a:pt x="2272" y="4"/>
                  </a:lnTo>
                  <a:lnTo>
                    <a:pt x="2264" y="4"/>
                  </a:lnTo>
                  <a:lnTo>
                    <a:pt x="2256" y="4"/>
                  </a:lnTo>
                  <a:lnTo>
                    <a:pt x="2249" y="4"/>
                  </a:lnTo>
                  <a:lnTo>
                    <a:pt x="2243" y="4"/>
                  </a:lnTo>
                  <a:lnTo>
                    <a:pt x="2235" y="4"/>
                  </a:lnTo>
                  <a:lnTo>
                    <a:pt x="2227" y="4"/>
                  </a:lnTo>
                  <a:lnTo>
                    <a:pt x="2220" y="4"/>
                  </a:lnTo>
                  <a:lnTo>
                    <a:pt x="2212" y="4"/>
                  </a:lnTo>
                  <a:lnTo>
                    <a:pt x="2204" y="4"/>
                  </a:lnTo>
                  <a:lnTo>
                    <a:pt x="2197" y="4"/>
                  </a:lnTo>
                  <a:lnTo>
                    <a:pt x="2189" y="4"/>
                  </a:lnTo>
                  <a:lnTo>
                    <a:pt x="2181" y="4"/>
                  </a:lnTo>
                  <a:lnTo>
                    <a:pt x="2174" y="4"/>
                  </a:lnTo>
                  <a:lnTo>
                    <a:pt x="2166" y="4"/>
                  </a:lnTo>
                  <a:lnTo>
                    <a:pt x="2158" y="4"/>
                  </a:lnTo>
                  <a:lnTo>
                    <a:pt x="2151" y="4"/>
                  </a:lnTo>
                  <a:lnTo>
                    <a:pt x="2143" y="4"/>
                  </a:lnTo>
                  <a:lnTo>
                    <a:pt x="2135" y="4"/>
                  </a:lnTo>
                  <a:lnTo>
                    <a:pt x="2128" y="4"/>
                  </a:lnTo>
                  <a:lnTo>
                    <a:pt x="2120" y="4"/>
                  </a:lnTo>
                  <a:lnTo>
                    <a:pt x="2112" y="4"/>
                  </a:lnTo>
                  <a:lnTo>
                    <a:pt x="2105" y="4"/>
                  </a:lnTo>
                  <a:lnTo>
                    <a:pt x="2097" y="4"/>
                  </a:lnTo>
                  <a:lnTo>
                    <a:pt x="2089" y="4"/>
                  </a:lnTo>
                  <a:lnTo>
                    <a:pt x="2082" y="4"/>
                  </a:lnTo>
                  <a:lnTo>
                    <a:pt x="2074" y="4"/>
                  </a:lnTo>
                  <a:lnTo>
                    <a:pt x="2066" y="4"/>
                  </a:lnTo>
                  <a:lnTo>
                    <a:pt x="2059" y="4"/>
                  </a:lnTo>
                  <a:lnTo>
                    <a:pt x="2051" y="4"/>
                  </a:lnTo>
                  <a:lnTo>
                    <a:pt x="2043" y="4"/>
                  </a:lnTo>
                  <a:lnTo>
                    <a:pt x="2035" y="4"/>
                  </a:lnTo>
                  <a:lnTo>
                    <a:pt x="2028" y="4"/>
                  </a:lnTo>
                  <a:lnTo>
                    <a:pt x="2020" y="4"/>
                  </a:lnTo>
                  <a:lnTo>
                    <a:pt x="2012" y="4"/>
                  </a:lnTo>
                  <a:lnTo>
                    <a:pt x="2005" y="4"/>
                  </a:lnTo>
                  <a:lnTo>
                    <a:pt x="1997" y="4"/>
                  </a:lnTo>
                  <a:lnTo>
                    <a:pt x="1989" y="4"/>
                  </a:lnTo>
                  <a:lnTo>
                    <a:pt x="1982" y="4"/>
                  </a:lnTo>
                  <a:lnTo>
                    <a:pt x="1974" y="4"/>
                  </a:lnTo>
                  <a:lnTo>
                    <a:pt x="1968" y="4"/>
                  </a:lnTo>
                  <a:lnTo>
                    <a:pt x="1961" y="4"/>
                  </a:lnTo>
                  <a:lnTo>
                    <a:pt x="1953" y="4"/>
                  </a:lnTo>
                  <a:lnTo>
                    <a:pt x="1945" y="4"/>
                  </a:lnTo>
                  <a:lnTo>
                    <a:pt x="1938" y="4"/>
                  </a:lnTo>
                  <a:lnTo>
                    <a:pt x="1930" y="4"/>
                  </a:lnTo>
                  <a:lnTo>
                    <a:pt x="1922" y="4"/>
                  </a:lnTo>
                  <a:lnTo>
                    <a:pt x="1915" y="4"/>
                  </a:lnTo>
                  <a:lnTo>
                    <a:pt x="1907" y="4"/>
                  </a:lnTo>
                  <a:lnTo>
                    <a:pt x="1899" y="4"/>
                  </a:lnTo>
                  <a:lnTo>
                    <a:pt x="1891" y="4"/>
                  </a:lnTo>
                  <a:lnTo>
                    <a:pt x="1884" y="4"/>
                  </a:lnTo>
                  <a:lnTo>
                    <a:pt x="1876" y="4"/>
                  </a:lnTo>
                  <a:lnTo>
                    <a:pt x="1868" y="4"/>
                  </a:lnTo>
                  <a:lnTo>
                    <a:pt x="1861" y="2"/>
                  </a:lnTo>
                  <a:lnTo>
                    <a:pt x="1853" y="2"/>
                  </a:lnTo>
                  <a:lnTo>
                    <a:pt x="1845" y="2"/>
                  </a:lnTo>
                  <a:lnTo>
                    <a:pt x="1838" y="2"/>
                  </a:lnTo>
                  <a:lnTo>
                    <a:pt x="1830" y="2"/>
                  </a:lnTo>
                  <a:lnTo>
                    <a:pt x="1822" y="2"/>
                  </a:lnTo>
                  <a:lnTo>
                    <a:pt x="1815" y="2"/>
                  </a:lnTo>
                  <a:lnTo>
                    <a:pt x="1807" y="2"/>
                  </a:lnTo>
                  <a:lnTo>
                    <a:pt x="1799" y="2"/>
                  </a:lnTo>
                  <a:lnTo>
                    <a:pt x="1792" y="2"/>
                  </a:lnTo>
                  <a:lnTo>
                    <a:pt x="1784" y="2"/>
                  </a:lnTo>
                  <a:lnTo>
                    <a:pt x="1776" y="2"/>
                  </a:lnTo>
                  <a:lnTo>
                    <a:pt x="1769" y="2"/>
                  </a:lnTo>
                  <a:lnTo>
                    <a:pt x="1761" y="2"/>
                  </a:lnTo>
                  <a:lnTo>
                    <a:pt x="1753" y="2"/>
                  </a:lnTo>
                  <a:lnTo>
                    <a:pt x="1746" y="2"/>
                  </a:lnTo>
                  <a:lnTo>
                    <a:pt x="1738" y="2"/>
                  </a:lnTo>
                  <a:lnTo>
                    <a:pt x="1730" y="2"/>
                  </a:lnTo>
                  <a:lnTo>
                    <a:pt x="1723" y="2"/>
                  </a:lnTo>
                  <a:lnTo>
                    <a:pt x="1715" y="2"/>
                  </a:lnTo>
                  <a:lnTo>
                    <a:pt x="1707" y="2"/>
                  </a:lnTo>
                  <a:lnTo>
                    <a:pt x="1699" y="2"/>
                  </a:lnTo>
                  <a:lnTo>
                    <a:pt x="1692" y="2"/>
                  </a:lnTo>
                  <a:lnTo>
                    <a:pt x="1686" y="2"/>
                  </a:lnTo>
                  <a:lnTo>
                    <a:pt x="1678" y="2"/>
                  </a:lnTo>
                  <a:lnTo>
                    <a:pt x="1671" y="2"/>
                  </a:lnTo>
                  <a:lnTo>
                    <a:pt x="1663" y="0"/>
                  </a:lnTo>
                  <a:lnTo>
                    <a:pt x="1655" y="0"/>
                  </a:lnTo>
                  <a:lnTo>
                    <a:pt x="1648" y="0"/>
                  </a:lnTo>
                  <a:lnTo>
                    <a:pt x="1640" y="0"/>
                  </a:lnTo>
                  <a:lnTo>
                    <a:pt x="1632" y="0"/>
                  </a:lnTo>
                  <a:lnTo>
                    <a:pt x="1625" y="0"/>
                  </a:lnTo>
                  <a:lnTo>
                    <a:pt x="1617" y="0"/>
                  </a:lnTo>
                  <a:lnTo>
                    <a:pt x="1609" y="0"/>
                  </a:lnTo>
                  <a:lnTo>
                    <a:pt x="1602" y="0"/>
                  </a:lnTo>
                  <a:lnTo>
                    <a:pt x="1594" y="0"/>
                  </a:lnTo>
                  <a:lnTo>
                    <a:pt x="1586" y="0"/>
                  </a:lnTo>
                  <a:lnTo>
                    <a:pt x="1578" y="0"/>
                  </a:lnTo>
                  <a:lnTo>
                    <a:pt x="1571" y="0"/>
                  </a:lnTo>
                  <a:lnTo>
                    <a:pt x="1563" y="0"/>
                  </a:lnTo>
                  <a:lnTo>
                    <a:pt x="1555" y="0"/>
                  </a:lnTo>
                  <a:lnTo>
                    <a:pt x="1548" y="0"/>
                  </a:lnTo>
                  <a:lnTo>
                    <a:pt x="1540" y="0"/>
                  </a:lnTo>
                  <a:lnTo>
                    <a:pt x="1532" y="0"/>
                  </a:lnTo>
                  <a:lnTo>
                    <a:pt x="1525" y="0"/>
                  </a:lnTo>
                  <a:lnTo>
                    <a:pt x="1517" y="0"/>
                  </a:lnTo>
                  <a:lnTo>
                    <a:pt x="1509" y="0"/>
                  </a:lnTo>
                  <a:lnTo>
                    <a:pt x="1502" y="0"/>
                  </a:lnTo>
                  <a:lnTo>
                    <a:pt x="1494" y="0"/>
                  </a:lnTo>
                  <a:lnTo>
                    <a:pt x="1486" y="0"/>
                  </a:lnTo>
                  <a:lnTo>
                    <a:pt x="1479" y="0"/>
                  </a:lnTo>
                  <a:lnTo>
                    <a:pt x="1471" y="0"/>
                  </a:lnTo>
                  <a:lnTo>
                    <a:pt x="1463" y="0"/>
                  </a:lnTo>
                  <a:lnTo>
                    <a:pt x="1456" y="0"/>
                  </a:lnTo>
                  <a:lnTo>
                    <a:pt x="1448" y="0"/>
                  </a:lnTo>
                  <a:lnTo>
                    <a:pt x="1440" y="0"/>
                  </a:lnTo>
                  <a:lnTo>
                    <a:pt x="1433" y="0"/>
                  </a:lnTo>
                  <a:lnTo>
                    <a:pt x="1425" y="0"/>
                  </a:lnTo>
                  <a:lnTo>
                    <a:pt x="1417" y="0"/>
                  </a:lnTo>
                  <a:lnTo>
                    <a:pt x="1410" y="0"/>
                  </a:lnTo>
                  <a:lnTo>
                    <a:pt x="1404" y="0"/>
                  </a:lnTo>
                  <a:lnTo>
                    <a:pt x="1396" y="0"/>
                  </a:lnTo>
                  <a:lnTo>
                    <a:pt x="1388" y="0"/>
                  </a:lnTo>
                  <a:lnTo>
                    <a:pt x="1381" y="0"/>
                  </a:lnTo>
                  <a:lnTo>
                    <a:pt x="1373" y="0"/>
                  </a:lnTo>
                  <a:lnTo>
                    <a:pt x="1365" y="0"/>
                  </a:lnTo>
                  <a:lnTo>
                    <a:pt x="1358" y="0"/>
                  </a:lnTo>
                  <a:lnTo>
                    <a:pt x="1350" y="0"/>
                  </a:lnTo>
                  <a:lnTo>
                    <a:pt x="1342" y="0"/>
                  </a:lnTo>
                  <a:lnTo>
                    <a:pt x="1335" y="0"/>
                  </a:lnTo>
                  <a:lnTo>
                    <a:pt x="1327" y="0"/>
                  </a:lnTo>
                  <a:lnTo>
                    <a:pt x="1319" y="0"/>
                  </a:lnTo>
                  <a:lnTo>
                    <a:pt x="1312" y="0"/>
                  </a:lnTo>
                  <a:lnTo>
                    <a:pt x="1304" y="2"/>
                  </a:lnTo>
                  <a:lnTo>
                    <a:pt x="1296" y="2"/>
                  </a:lnTo>
                  <a:lnTo>
                    <a:pt x="1289" y="2"/>
                  </a:lnTo>
                  <a:lnTo>
                    <a:pt x="1281" y="2"/>
                  </a:lnTo>
                  <a:lnTo>
                    <a:pt x="1273" y="2"/>
                  </a:lnTo>
                  <a:lnTo>
                    <a:pt x="1266" y="2"/>
                  </a:lnTo>
                  <a:lnTo>
                    <a:pt x="1258" y="2"/>
                  </a:lnTo>
                  <a:lnTo>
                    <a:pt x="1250" y="4"/>
                  </a:lnTo>
                  <a:lnTo>
                    <a:pt x="1242" y="4"/>
                  </a:lnTo>
                  <a:lnTo>
                    <a:pt x="1235" y="4"/>
                  </a:lnTo>
                  <a:lnTo>
                    <a:pt x="1227" y="4"/>
                  </a:lnTo>
                  <a:lnTo>
                    <a:pt x="1219" y="4"/>
                  </a:lnTo>
                  <a:lnTo>
                    <a:pt x="1212" y="6"/>
                  </a:lnTo>
                  <a:lnTo>
                    <a:pt x="1204" y="6"/>
                  </a:lnTo>
                  <a:lnTo>
                    <a:pt x="1196" y="6"/>
                  </a:lnTo>
                  <a:lnTo>
                    <a:pt x="1189" y="6"/>
                  </a:lnTo>
                  <a:lnTo>
                    <a:pt x="1181" y="8"/>
                  </a:lnTo>
                  <a:lnTo>
                    <a:pt x="1173" y="8"/>
                  </a:lnTo>
                  <a:lnTo>
                    <a:pt x="1166" y="8"/>
                  </a:lnTo>
                  <a:lnTo>
                    <a:pt x="1158" y="10"/>
                  </a:lnTo>
                  <a:lnTo>
                    <a:pt x="1150" y="10"/>
                  </a:lnTo>
                  <a:lnTo>
                    <a:pt x="1143" y="10"/>
                  </a:lnTo>
                  <a:lnTo>
                    <a:pt x="1135" y="11"/>
                  </a:lnTo>
                  <a:lnTo>
                    <a:pt x="1129" y="11"/>
                  </a:lnTo>
                  <a:lnTo>
                    <a:pt x="1122" y="11"/>
                  </a:lnTo>
                  <a:lnTo>
                    <a:pt x="1114" y="13"/>
                  </a:lnTo>
                  <a:lnTo>
                    <a:pt x="1106" y="13"/>
                  </a:lnTo>
                  <a:lnTo>
                    <a:pt x="1098" y="15"/>
                  </a:lnTo>
                  <a:lnTo>
                    <a:pt x="1091" y="15"/>
                  </a:lnTo>
                  <a:lnTo>
                    <a:pt x="1083" y="17"/>
                  </a:lnTo>
                  <a:lnTo>
                    <a:pt x="1075" y="17"/>
                  </a:lnTo>
                  <a:lnTo>
                    <a:pt x="1068" y="19"/>
                  </a:lnTo>
                  <a:lnTo>
                    <a:pt x="1060" y="19"/>
                  </a:lnTo>
                  <a:lnTo>
                    <a:pt x="1052" y="21"/>
                  </a:lnTo>
                  <a:lnTo>
                    <a:pt x="1045" y="21"/>
                  </a:lnTo>
                  <a:lnTo>
                    <a:pt x="1037" y="23"/>
                  </a:lnTo>
                  <a:lnTo>
                    <a:pt x="1029" y="23"/>
                  </a:lnTo>
                  <a:lnTo>
                    <a:pt x="1022" y="25"/>
                  </a:lnTo>
                  <a:lnTo>
                    <a:pt x="1014" y="27"/>
                  </a:lnTo>
                  <a:lnTo>
                    <a:pt x="1006" y="27"/>
                  </a:lnTo>
                  <a:lnTo>
                    <a:pt x="999" y="29"/>
                  </a:lnTo>
                  <a:lnTo>
                    <a:pt x="991" y="31"/>
                  </a:lnTo>
                  <a:lnTo>
                    <a:pt x="983" y="31"/>
                  </a:lnTo>
                  <a:lnTo>
                    <a:pt x="976" y="33"/>
                  </a:lnTo>
                  <a:lnTo>
                    <a:pt x="968" y="34"/>
                  </a:lnTo>
                  <a:lnTo>
                    <a:pt x="960" y="34"/>
                  </a:lnTo>
                  <a:lnTo>
                    <a:pt x="953" y="36"/>
                  </a:lnTo>
                  <a:lnTo>
                    <a:pt x="945" y="38"/>
                  </a:lnTo>
                  <a:lnTo>
                    <a:pt x="937" y="40"/>
                  </a:lnTo>
                  <a:lnTo>
                    <a:pt x="930" y="40"/>
                  </a:lnTo>
                  <a:lnTo>
                    <a:pt x="922" y="42"/>
                  </a:lnTo>
                  <a:lnTo>
                    <a:pt x="914" y="44"/>
                  </a:lnTo>
                  <a:lnTo>
                    <a:pt x="906" y="46"/>
                  </a:lnTo>
                  <a:lnTo>
                    <a:pt x="899" y="48"/>
                  </a:lnTo>
                  <a:lnTo>
                    <a:pt x="891" y="50"/>
                  </a:lnTo>
                  <a:lnTo>
                    <a:pt x="883" y="50"/>
                  </a:lnTo>
                  <a:lnTo>
                    <a:pt x="876" y="52"/>
                  </a:lnTo>
                  <a:lnTo>
                    <a:pt x="868" y="54"/>
                  </a:lnTo>
                  <a:lnTo>
                    <a:pt x="860" y="56"/>
                  </a:lnTo>
                  <a:lnTo>
                    <a:pt x="855" y="58"/>
                  </a:lnTo>
                  <a:lnTo>
                    <a:pt x="847" y="59"/>
                  </a:lnTo>
                  <a:lnTo>
                    <a:pt x="839" y="61"/>
                  </a:lnTo>
                  <a:lnTo>
                    <a:pt x="832" y="63"/>
                  </a:lnTo>
                  <a:lnTo>
                    <a:pt x="824" y="65"/>
                  </a:lnTo>
                  <a:lnTo>
                    <a:pt x="816" y="67"/>
                  </a:lnTo>
                  <a:lnTo>
                    <a:pt x="809" y="69"/>
                  </a:lnTo>
                  <a:lnTo>
                    <a:pt x="801" y="71"/>
                  </a:lnTo>
                  <a:lnTo>
                    <a:pt x="793" y="73"/>
                  </a:lnTo>
                  <a:lnTo>
                    <a:pt x="786" y="75"/>
                  </a:lnTo>
                  <a:lnTo>
                    <a:pt x="778" y="77"/>
                  </a:lnTo>
                  <a:lnTo>
                    <a:pt x="770" y="79"/>
                  </a:lnTo>
                  <a:lnTo>
                    <a:pt x="762" y="79"/>
                  </a:lnTo>
                  <a:lnTo>
                    <a:pt x="755" y="81"/>
                  </a:lnTo>
                  <a:lnTo>
                    <a:pt x="747" y="82"/>
                  </a:lnTo>
                  <a:lnTo>
                    <a:pt x="739" y="84"/>
                  </a:lnTo>
                  <a:lnTo>
                    <a:pt x="732" y="86"/>
                  </a:lnTo>
                  <a:lnTo>
                    <a:pt x="724" y="88"/>
                  </a:lnTo>
                  <a:lnTo>
                    <a:pt x="716" y="90"/>
                  </a:lnTo>
                  <a:lnTo>
                    <a:pt x="709" y="92"/>
                  </a:lnTo>
                  <a:lnTo>
                    <a:pt x="701" y="94"/>
                  </a:lnTo>
                  <a:lnTo>
                    <a:pt x="693" y="96"/>
                  </a:lnTo>
                  <a:lnTo>
                    <a:pt x="686" y="98"/>
                  </a:lnTo>
                  <a:lnTo>
                    <a:pt x="678" y="100"/>
                  </a:lnTo>
                  <a:lnTo>
                    <a:pt x="670" y="102"/>
                  </a:lnTo>
                  <a:lnTo>
                    <a:pt x="663" y="104"/>
                  </a:lnTo>
                  <a:lnTo>
                    <a:pt x="655" y="106"/>
                  </a:lnTo>
                  <a:lnTo>
                    <a:pt x="647" y="106"/>
                  </a:lnTo>
                  <a:lnTo>
                    <a:pt x="640" y="107"/>
                  </a:lnTo>
                  <a:lnTo>
                    <a:pt x="632" y="109"/>
                  </a:lnTo>
                  <a:lnTo>
                    <a:pt x="624" y="111"/>
                  </a:lnTo>
                  <a:lnTo>
                    <a:pt x="617" y="113"/>
                  </a:lnTo>
                  <a:lnTo>
                    <a:pt x="609" y="113"/>
                  </a:lnTo>
                  <a:lnTo>
                    <a:pt x="601" y="115"/>
                  </a:lnTo>
                  <a:lnTo>
                    <a:pt x="593" y="117"/>
                  </a:lnTo>
                  <a:lnTo>
                    <a:pt x="586" y="117"/>
                  </a:lnTo>
                  <a:lnTo>
                    <a:pt x="580" y="119"/>
                  </a:lnTo>
                  <a:lnTo>
                    <a:pt x="572" y="121"/>
                  </a:lnTo>
                  <a:lnTo>
                    <a:pt x="565" y="121"/>
                  </a:lnTo>
                  <a:lnTo>
                    <a:pt x="557" y="123"/>
                  </a:lnTo>
                  <a:lnTo>
                    <a:pt x="549" y="123"/>
                  </a:lnTo>
                  <a:lnTo>
                    <a:pt x="542" y="125"/>
                  </a:lnTo>
                  <a:lnTo>
                    <a:pt x="534" y="125"/>
                  </a:lnTo>
                  <a:lnTo>
                    <a:pt x="526" y="127"/>
                  </a:lnTo>
                  <a:lnTo>
                    <a:pt x="519" y="127"/>
                  </a:lnTo>
                  <a:lnTo>
                    <a:pt x="511" y="129"/>
                  </a:lnTo>
                  <a:lnTo>
                    <a:pt x="503" y="129"/>
                  </a:lnTo>
                  <a:lnTo>
                    <a:pt x="496" y="129"/>
                  </a:lnTo>
                  <a:lnTo>
                    <a:pt x="488" y="129"/>
                  </a:lnTo>
                  <a:lnTo>
                    <a:pt x="480" y="130"/>
                  </a:lnTo>
                  <a:lnTo>
                    <a:pt x="473" y="130"/>
                  </a:lnTo>
                  <a:lnTo>
                    <a:pt x="465" y="130"/>
                  </a:lnTo>
                  <a:lnTo>
                    <a:pt x="457" y="130"/>
                  </a:lnTo>
                  <a:lnTo>
                    <a:pt x="449" y="130"/>
                  </a:lnTo>
                  <a:lnTo>
                    <a:pt x="442" y="130"/>
                  </a:lnTo>
                  <a:lnTo>
                    <a:pt x="434" y="130"/>
                  </a:lnTo>
                  <a:lnTo>
                    <a:pt x="426" y="130"/>
                  </a:lnTo>
                  <a:lnTo>
                    <a:pt x="419" y="130"/>
                  </a:lnTo>
                  <a:lnTo>
                    <a:pt x="411" y="130"/>
                  </a:lnTo>
                  <a:lnTo>
                    <a:pt x="403" y="130"/>
                  </a:lnTo>
                  <a:lnTo>
                    <a:pt x="396" y="130"/>
                  </a:lnTo>
                  <a:lnTo>
                    <a:pt x="388" y="130"/>
                  </a:lnTo>
                  <a:lnTo>
                    <a:pt x="380" y="130"/>
                  </a:lnTo>
                  <a:lnTo>
                    <a:pt x="373" y="129"/>
                  </a:lnTo>
                  <a:lnTo>
                    <a:pt x="365" y="129"/>
                  </a:lnTo>
                  <a:lnTo>
                    <a:pt x="357" y="129"/>
                  </a:lnTo>
                  <a:lnTo>
                    <a:pt x="350" y="127"/>
                  </a:lnTo>
                  <a:lnTo>
                    <a:pt x="342" y="127"/>
                  </a:lnTo>
                  <a:lnTo>
                    <a:pt x="334" y="127"/>
                  </a:lnTo>
                  <a:lnTo>
                    <a:pt x="327" y="125"/>
                  </a:lnTo>
                  <a:lnTo>
                    <a:pt x="319" y="125"/>
                  </a:lnTo>
                  <a:lnTo>
                    <a:pt x="311" y="123"/>
                  </a:lnTo>
                  <a:lnTo>
                    <a:pt x="304" y="123"/>
                  </a:lnTo>
                  <a:lnTo>
                    <a:pt x="298" y="121"/>
                  </a:lnTo>
                  <a:lnTo>
                    <a:pt x="290" y="121"/>
                  </a:lnTo>
                  <a:lnTo>
                    <a:pt x="282" y="119"/>
                  </a:lnTo>
                  <a:lnTo>
                    <a:pt x="275" y="119"/>
                  </a:lnTo>
                  <a:lnTo>
                    <a:pt x="267" y="117"/>
                  </a:lnTo>
                  <a:lnTo>
                    <a:pt x="259" y="117"/>
                  </a:lnTo>
                  <a:lnTo>
                    <a:pt x="252" y="115"/>
                  </a:lnTo>
                  <a:lnTo>
                    <a:pt x="244" y="113"/>
                  </a:lnTo>
                  <a:lnTo>
                    <a:pt x="236" y="113"/>
                  </a:lnTo>
                  <a:lnTo>
                    <a:pt x="229" y="111"/>
                  </a:lnTo>
                  <a:lnTo>
                    <a:pt x="221" y="109"/>
                  </a:lnTo>
                  <a:lnTo>
                    <a:pt x="213" y="109"/>
                  </a:lnTo>
                  <a:lnTo>
                    <a:pt x="206" y="107"/>
                  </a:lnTo>
                  <a:lnTo>
                    <a:pt x="198" y="106"/>
                  </a:lnTo>
                  <a:lnTo>
                    <a:pt x="190" y="104"/>
                  </a:lnTo>
                  <a:lnTo>
                    <a:pt x="183" y="104"/>
                  </a:lnTo>
                  <a:lnTo>
                    <a:pt x="175" y="102"/>
                  </a:lnTo>
                  <a:lnTo>
                    <a:pt x="167" y="100"/>
                  </a:lnTo>
                  <a:lnTo>
                    <a:pt x="160" y="98"/>
                  </a:lnTo>
                  <a:lnTo>
                    <a:pt x="152" y="96"/>
                  </a:lnTo>
                  <a:lnTo>
                    <a:pt x="144" y="94"/>
                  </a:lnTo>
                  <a:lnTo>
                    <a:pt x="137" y="92"/>
                  </a:lnTo>
                  <a:lnTo>
                    <a:pt x="129" y="90"/>
                  </a:lnTo>
                  <a:lnTo>
                    <a:pt x="121" y="88"/>
                  </a:lnTo>
                  <a:lnTo>
                    <a:pt x="113" y="86"/>
                  </a:lnTo>
                  <a:lnTo>
                    <a:pt x="106" y="84"/>
                  </a:lnTo>
                  <a:lnTo>
                    <a:pt x="98" y="81"/>
                  </a:lnTo>
                  <a:lnTo>
                    <a:pt x="90" y="79"/>
                  </a:lnTo>
                  <a:lnTo>
                    <a:pt x="83" y="77"/>
                  </a:lnTo>
                  <a:lnTo>
                    <a:pt x="75" y="73"/>
                  </a:lnTo>
                  <a:lnTo>
                    <a:pt x="67" y="71"/>
                  </a:lnTo>
                  <a:lnTo>
                    <a:pt x="60" y="67"/>
                  </a:lnTo>
                  <a:lnTo>
                    <a:pt x="52" y="63"/>
                  </a:lnTo>
                  <a:lnTo>
                    <a:pt x="44" y="59"/>
                  </a:lnTo>
                  <a:lnTo>
                    <a:pt x="37" y="54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6" y="36"/>
                  </a:lnTo>
                  <a:lnTo>
                    <a:pt x="8" y="27"/>
                  </a:lnTo>
                  <a:lnTo>
                    <a:pt x="0" y="4"/>
                  </a:lnTo>
                </a:path>
              </a:pathLst>
            </a:custGeom>
            <a:noFill/>
            <a:ln w="12600">
              <a:solidFill>
                <a:srgbClr val="00d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1902240" y="5505120"/>
              <a:ext cx="4305960" cy="2385720"/>
            </a:xfrm>
            <a:custGeom>
              <a:avLst/>
              <a:gdLst/>
              <a:ahLst/>
              <a:rect l="l" t="t" r="r" b="b"/>
              <a:pathLst>
                <a:path w="3051" h="1760">
                  <a:moveTo>
                    <a:pt x="3051" y="0"/>
                  </a:moveTo>
                  <a:lnTo>
                    <a:pt x="3044" y="0"/>
                  </a:lnTo>
                  <a:lnTo>
                    <a:pt x="3036" y="0"/>
                  </a:lnTo>
                  <a:lnTo>
                    <a:pt x="3028" y="0"/>
                  </a:lnTo>
                  <a:lnTo>
                    <a:pt x="3020" y="0"/>
                  </a:lnTo>
                  <a:lnTo>
                    <a:pt x="3013" y="0"/>
                  </a:lnTo>
                  <a:lnTo>
                    <a:pt x="3005" y="0"/>
                  </a:lnTo>
                  <a:lnTo>
                    <a:pt x="2997" y="0"/>
                  </a:lnTo>
                  <a:lnTo>
                    <a:pt x="2990" y="0"/>
                  </a:lnTo>
                  <a:lnTo>
                    <a:pt x="2982" y="0"/>
                  </a:lnTo>
                  <a:lnTo>
                    <a:pt x="2974" y="0"/>
                  </a:lnTo>
                  <a:lnTo>
                    <a:pt x="2967" y="0"/>
                  </a:lnTo>
                  <a:lnTo>
                    <a:pt x="2959" y="0"/>
                  </a:lnTo>
                  <a:lnTo>
                    <a:pt x="2951" y="0"/>
                  </a:lnTo>
                  <a:lnTo>
                    <a:pt x="2944" y="0"/>
                  </a:lnTo>
                  <a:lnTo>
                    <a:pt x="2936" y="0"/>
                  </a:lnTo>
                  <a:lnTo>
                    <a:pt x="2928" y="0"/>
                  </a:lnTo>
                  <a:lnTo>
                    <a:pt x="2921" y="0"/>
                  </a:lnTo>
                  <a:lnTo>
                    <a:pt x="2913" y="0"/>
                  </a:lnTo>
                  <a:lnTo>
                    <a:pt x="2905" y="0"/>
                  </a:lnTo>
                  <a:lnTo>
                    <a:pt x="2898" y="0"/>
                  </a:lnTo>
                  <a:lnTo>
                    <a:pt x="2890" y="0"/>
                  </a:lnTo>
                  <a:lnTo>
                    <a:pt x="2882" y="0"/>
                  </a:lnTo>
                  <a:lnTo>
                    <a:pt x="2875" y="0"/>
                  </a:lnTo>
                  <a:lnTo>
                    <a:pt x="2867" y="0"/>
                  </a:lnTo>
                  <a:lnTo>
                    <a:pt x="2859" y="0"/>
                  </a:lnTo>
                  <a:lnTo>
                    <a:pt x="2852" y="0"/>
                  </a:lnTo>
                  <a:lnTo>
                    <a:pt x="2844" y="0"/>
                  </a:lnTo>
                  <a:lnTo>
                    <a:pt x="2836" y="0"/>
                  </a:lnTo>
                  <a:lnTo>
                    <a:pt x="2828" y="0"/>
                  </a:lnTo>
                  <a:lnTo>
                    <a:pt x="2821" y="0"/>
                  </a:lnTo>
                  <a:lnTo>
                    <a:pt x="2813" y="0"/>
                  </a:lnTo>
                  <a:lnTo>
                    <a:pt x="2805" y="0"/>
                  </a:lnTo>
                  <a:lnTo>
                    <a:pt x="2798" y="0"/>
                  </a:lnTo>
                  <a:lnTo>
                    <a:pt x="2792" y="0"/>
                  </a:lnTo>
                  <a:lnTo>
                    <a:pt x="2784" y="0"/>
                  </a:lnTo>
                  <a:lnTo>
                    <a:pt x="2777" y="0"/>
                  </a:lnTo>
                  <a:lnTo>
                    <a:pt x="2769" y="0"/>
                  </a:lnTo>
                  <a:lnTo>
                    <a:pt x="2761" y="0"/>
                  </a:lnTo>
                  <a:lnTo>
                    <a:pt x="2754" y="0"/>
                  </a:lnTo>
                  <a:lnTo>
                    <a:pt x="2746" y="0"/>
                  </a:lnTo>
                  <a:lnTo>
                    <a:pt x="2738" y="0"/>
                  </a:lnTo>
                  <a:lnTo>
                    <a:pt x="2731" y="0"/>
                  </a:lnTo>
                  <a:lnTo>
                    <a:pt x="2723" y="0"/>
                  </a:lnTo>
                  <a:lnTo>
                    <a:pt x="2715" y="0"/>
                  </a:lnTo>
                  <a:lnTo>
                    <a:pt x="2708" y="0"/>
                  </a:lnTo>
                  <a:lnTo>
                    <a:pt x="2700" y="0"/>
                  </a:lnTo>
                  <a:lnTo>
                    <a:pt x="2692" y="0"/>
                  </a:lnTo>
                  <a:lnTo>
                    <a:pt x="2684" y="0"/>
                  </a:lnTo>
                  <a:lnTo>
                    <a:pt x="2677" y="0"/>
                  </a:lnTo>
                  <a:lnTo>
                    <a:pt x="2669" y="0"/>
                  </a:lnTo>
                  <a:lnTo>
                    <a:pt x="2661" y="0"/>
                  </a:lnTo>
                  <a:lnTo>
                    <a:pt x="2654" y="0"/>
                  </a:lnTo>
                  <a:lnTo>
                    <a:pt x="2646" y="0"/>
                  </a:lnTo>
                  <a:lnTo>
                    <a:pt x="2638" y="0"/>
                  </a:lnTo>
                  <a:lnTo>
                    <a:pt x="2631" y="0"/>
                  </a:lnTo>
                  <a:lnTo>
                    <a:pt x="2623" y="0"/>
                  </a:lnTo>
                  <a:lnTo>
                    <a:pt x="2615" y="2"/>
                  </a:lnTo>
                  <a:lnTo>
                    <a:pt x="2608" y="2"/>
                  </a:lnTo>
                  <a:lnTo>
                    <a:pt x="2600" y="2"/>
                  </a:lnTo>
                  <a:lnTo>
                    <a:pt x="2592" y="2"/>
                  </a:lnTo>
                  <a:lnTo>
                    <a:pt x="2585" y="2"/>
                  </a:lnTo>
                  <a:lnTo>
                    <a:pt x="2577" y="2"/>
                  </a:lnTo>
                  <a:lnTo>
                    <a:pt x="2569" y="2"/>
                  </a:lnTo>
                  <a:lnTo>
                    <a:pt x="2562" y="2"/>
                  </a:lnTo>
                  <a:lnTo>
                    <a:pt x="2554" y="2"/>
                  </a:lnTo>
                  <a:lnTo>
                    <a:pt x="2546" y="2"/>
                  </a:lnTo>
                  <a:lnTo>
                    <a:pt x="2539" y="2"/>
                  </a:lnTo>
                  <a:lnTo>
                    <a:pt x="2531" y="2"/>
                  </a:lnTo>
                  <a:lnTo>
                    <a:pt x="2523" y="2"/>
                  </a:lnTo>
                  <a:lnTo>
                    <a:pt x="2517" y="2"/>
                  </a:lnTo>
                  <a:lnTo>
                    <a:pt x="2510" y="2"/>
                  </a:lnTo>
                  <a:lnTo>
                    <a:pt x="2502" y="2"/>
                  </a:lnTo>
                  <a:lnTo>
                    <a:pt x="2494" y="2"/>
                  </a:lnTo>
                  <a:lnTo>
                    <a:pt x="2487" y="2"/>
                  </a:lnTo>
                  <a:lnTo>
                    <a:pt x="2479" y="2"/>
                  </a:lnTo>
                  <a:lnTo>
                    <a:pt x="2471" y="2"/>
                  </a:lnTo>
                  <a:lnTo>
                    <a:pt x="2464" y="2"/>
                  </a:lnTo>
                  <a:lnTo>
                    <a:pt x="2456" y="2"/>
                  </a:lnTo>
                  <a:lnTo>
                    <a:pt x="2448" y="2"/>
                  </a:lnTo>
                  <a:lnTo>
                    <a:pt x="2441" y="2"/>
                  </a:lnTo>
                  <a:lnTo>
                    <a:pt x="2433" y="2"/>
                  </a:lnTo>
                  <a:lnTo>
                    <a:pt x="2425" y="2"/>
                  </a:lnTo>
                  <a:lnTo>
                    <a:pt x="2418" y="2"/>
                  </a:lnTo>
                  <a:lnTo>
                    <a:pt x="2410" y="2"/>
                  </a:lnTo>
                  <a:lnTo>
                    <a:pt x="2402" y="2"/>
                  </a:lnTo>
                  <a:lnTo>
                    <a:pt x="2395" y="2"/>
                  </a:lnTo>
                  <a:lnTo>
                    <a:pt x="2387" y="2"/>
                  </a:lnTo>
                  <a:lnTo>
                    <a:pt x="2379" y="2"/>
                  </a:lnTo>
                  <a:lnTo>
                    <a:pt x="2371" y="4"/>
                  </a:lnTo>
                  <a:lnTo>
                    <a:pt x="2364" y="4"/>
                  </a:lnTo>
                  <a:lnTo>
                    <a:pt x="2356" y="4"/>
                  </a:lnTo>
                  <a:lnTo>
                    <a:pt x="2348" y="4"/>
                  </a:lnTo>
                  <a:lnTo>
                    <a:pt x="2341" y="4"/>
                  </a:lnTo>
                  <a:lnTo>
                    <a:pt x="2333" y="4"/>
                  </a:lnTo>
                  <a:lnTo>
                    <a:pt x="2325" y="4"/>
                  </a:lnTo>
                  <a:lnTo>
                    <a:pt x="2318" y="4"/>
                  </a:lnTo>
                  <a:lnTo>
                    <a:pt x="2310" y="4"/>
                  </a:lnTo>
                  <a:lnTo>
                    <a:pt x="2302" y="4"/>
                  </a:lnTo>
                  <a:lnTo>
                    <a:pt x="2295" y="4"/>
                  </a:lnTo>
                  <a:lnTo>
                    <a:pt x="2287" y="6"/>
                  </a:lnTo>
                  <a:lnTo>
                    <a:pt x="2279" y="6"/>
                  </a:lnTo>
                  <a:lnTo>
                    <a:pt x="2272" y="6"/>
                  </a:lnTo>
                  <a:lnTo>
                    <a:pt x="2264" y="6"/>
                  </a:lnTo>
                  <a:lnTo>
                    <a:pt x="2256" y="6"/>
                  </a:lnTo>
                  <a:lnTo>
                    <a:pt x="2249" y="6"/>
                  </a:lnTo>
                  <a:lnTo>
                    <a:pt x="2243" y="6"/>
                  </a:lnTo>
                  <a:lnTo>
                    <a:pt x="2235" y="7"/>
                  </a:lnTo>
                  <a:lnTo>
                    <a:pt x="2227" y="7"/>
                  </a:lnTo>
                  <a:lnTo>
                    <a:pt x="2220" y="7"/>
                  </a:lnTo>
                  <a:lnTo>
                    <a:pt x="2212" y="7"/>
                  </a:lnTo>
                  <a:lnTo>
                    <a:pt x="2204" y="7"/>
                  </a:lnTo>
                  <a:lnTo>
                    <a:pt x="2197" y="9"/>
                  </a:lnTo>
                  <a:lnTo>
                    <a:pt x="2189" y="9"/>
                  </a:lnTo>
                  <a:lnTo>
                    <a:pt x="2181" y="9"/>
                  </a:lnTo>
                  <a:lnTo>
                    <a:pt x="2174" y="9"/>
                  </a:lnTo>
                  <a:lnTo>
                    <a:pt x="2166" y="11"/>
                  </a:lnTo>
                  <a:lnTo>
                    <a:pt x="2158" y="11"/>
                  </a:lnTo>
                  <a:lnTo>
                    <a:pt x="2151" y="11"/>
                  </a:lnTo>
                  <a:lnTo>
                    <a:pt x="2143" y="11"/>
                  </a:lnTo>
                  <a:lnTo>
                    <a:pt x="2135" y="13"/>
                  </a:lnTo>
                  <a:lnTo>
                    <a:pt x="2128" y="13"/>
                  </a:lnTo>
                  <a:lnTo>
                    <a:pt x="2120" y="13"/>
                  </a:lnTo>
                  <a:lnTo>
                    <a:pt x="2112" y="15"/>
                  </a:lnTo>
                  <a:lnTo>
                    <a:pt x="2105" y="15"/>
                  </a:lnTo>
                  <a:lnTo>
                    <a:pt x="2097" y="15"/>
                  </a:lnTo>
                  <a:lnTo>
                    <a:pt x="2089" y="17"/>
                  </a:lnTo>
                  <a:lnTo>
                    <a:pt x="2082" y="17"/>
                  </a:lnTo>
                  <a:lnTo>
                    <a:pt x="2074" y="19"/>
                  </a:lnTo>
                  <a:lnTo>
                    <a:pt x="2066" y="19"/>
                  </a:lnTo>
                  <a:lnTo>
                    <a:pt x="2059" y="21"/>
                  </a:lnTo>
                  <a:lnTo>
                    <a:pt x="2051" y="21"/>
                  </a:lnTo>
                  <a:lnTo>
                    <a:pt x="2043" y="23"/>
                  </a:lnTo>
                  <a:lnTo>
                    <a:pt x="2035" y="23"/>
                  </a:lnTo>
                  <a:lnTo>
                    <a:pt x="2028" y="25"/>
                  </a:lnTo>
                  <a:lnTo>
                    <a:pt x="2020" y="25"/>
                  </a:lnTo>
                  <a:lnTo>
                    <a:pt x="2012" y="27"/>
                  </a:lnTo>
                  <a:lnTo>
                    <a:pt x="2005" y="27"/>
                  </a:lnTo>
                  <a:lnTo>
                    <a:pt x="1997" y="29"/>
                  </a:lnTo>
                  <a:lnTo>
                    <a:pt x="1989" y="30"/>
                  </a:lnTo>
                  <a:lnTo>
                    <a:pt x="1982" y="30"/>
                  </a:lnTo>
                  <a:lnTo>
                    <a:pt x="1974" y="32"/>
                  </a:lnTo>
                  <a:lnTo>
                    <a:pt x="1968" y="34"/>
                  </a:lnTo>
                  <a:lnTo>
                    <a:pt x="1961" y="34"/>
                  </a:lnTo>
                  <a:lnTo>
                    <a:pt x="1953" y="36"/>
                  </a:lnTo>
                  <a:lnTo>
                    <a:pt x="1945" y="38"/>
                  </a:lnTo>
                  <a:lnTo>
                    <a:pt x="1938" y="40"/>
                  </a:lnTo>
                  <a:lnTo>
                    <a:pt x="1930" y="42"/>
                  </a:lnTo>
                  <a:lnTo>
                    <a:pt x="1922" y="42"/>
                  </a:lnTo>
                  <a:lnTo>
                    <a:pt x="1915" y="44"/>
                  </a:lnTo>
                  <a:lnTo>
                    <a:pt x="1907" y="46"/>
                  </a:lnTo>
                  <a:lnTo>
                    <a:pt x="1899" y="48"/>
                  </a:lnTo>
                  <a:lnTo>
                    <a:pt x="1891" y="50"/>
                  </a:lnTo>
                  <a:lnTo>
                    <a:pt x="1884" y="52"/>
                  </a:lnTo>
                  <a:lnTo>
                    <a:pt x="1876" y="54"/>
                  </a:lnTo>
                  <a:lnTo>
                    <a:pt x="1868" y="55"/>
                  </a:lnTo>
                  <a:lnTo>
                    <a:pt x="1861" y="59"/>
                  </a:lnTo>
                  <a:lnTo>
                    <a:pt x="1853" y="61"/>
                  </a:lnTo>
                  <a:lnTo>
                    <a:pt x="1845" y="63"/>
                  </a:lnTo>
                  <a:lnTo>
                    <a:pt x="1838" y="65"/>
                  </a:lnTo>
                  <a:lnTo>
                    <a:pt x="1830" y="69"/>
                  </a:lnTo>
                  <a:lnTo>
                    <a:pt x="1822" y="71"/>
                  </a:lnTo>
                  <a:lnTo>
                    <a:pt x="1815" y="73"/>
                  </a:lnTo>
                  <a:lnTo>
                    <a:pt x="1807" y="77"/>
                  </a:lnTo>
                  <a:lnTo>
                    <a:pt x="1799" y="78"/>
                  </a:lnTo>
                  <a:lnTo>
                    <a:pt x="1792" y="82"/>
                  </a:lnTo>
                  <a:lnTo>
                    <a:pt x="1784" y="84"/>
                  </a:lnTo>
                  <a:lnTo>
                    <a:pt x="1776" y="88"/>
                  </a:lnTo>
                  <a:lnTo>
                    <a:pt x="1769" y="92"/>
                  </a:lnTo>
                  <a:lnTo>
                    <a:pt x="1761" y="94"/>
                  </a:lnTo>
                  <a:lnTo>
                    <a:pt x="1753" y="98"/>
                  </a:lnTo>
                  <a:lnTo>
                    <a:pt x="1746" y="102"/>
                  </a:lnTo>
                  <a:lnTo>
                    <a:pt x="1738" y="105"/>
                  </a:lnTo>
                  <a:lnTo>
                    <a:pt x="1730" y="109"/>
                  </a:lnTo>
                  <a:lnTo>
                    <a:pt x="1723" y="113"/>
                  </a:lnTo>
                  <a:lnTo>
                    <a:pt x="1715" y="117"/>
                  </a:lnTo>
                  <a:lnTo>
                    <a:pt x="1707" y="121"/>
                  </a:lnTo>
                  <a:lnTo>
                    <a:pt x="1699" y="125"/>
                  </a:lnTo>
                  <a:lnTo>
                    <a:pt x="1692" y="128"/>
                  </a:lnTo>
                  <a:lnTo>
                    <a:pt x="1686" y="132"/>
                  </a:lnTo>
                  <a:lnTo>
                    <a:pt x="1678" y="138"/>
                  </a:lnTo>
                  <a:lnTo>
                    <a:pt x="1671" y="142"/>
                  </a:lnTo>
                  <a:lnTo>
                    <a:pt x="1663" y="148"/>
                  </a:lnTo>
                  <a:lnTo>
                    <a:pt x="1655" y="151"/>
                  </a:lnTo>
                  <a:lnTo>
                    <a:pt x="1648" y="157"/>
                  </a:lnTo>
                  <a:lnTo>
                    <a:pt x="1640" y="161"/>
                  </a:lnTo>
                  <a:lnTo>
                    <a:pt x="1632" y="167"/>
                  </a:lnTo>
                  <a:lnTo>
                    <a:pt x="1625" y="173"/>
                  </a:lnTo>
                  <a:lnTo>
                    <a:pt x="1617" y="178"/>
                  </a:lnTo>
                  <a:lnTo>
                    <a:pt x="1609" y="184"/>
                  </a:lnTo>
                  <a:lnTo>
                    <a:pt x="1602" y="190"/>
                  </a:lnTo>
                  <a:lnTo>
                    <a:pt x="1594" y="196"/>
                  </a:lnTo>
                  <a:lnTo>
                    <a:pt x="1586" y="201"/>
                  </a:lnTo>
                  <a:lnTo>
                    <a:pt x="1578" y="207"/>
                  </a:lnTo>
                  <a:lnTo>
                    <a:pt x="1571" y="213"/>
                  </a:lnTo>
                  <a:lnTo>
                    <a:pt x="1563" y="221"/>
                  </a:lnTo>
                  <a:lnTo>
                    <a:pt x="1555" y="226"/>
                  </a:lnTo>
                  <a:lnTo>
                    <a:pt x="1548" y="234"/>
                  </a:lnTo>
                  <a:lnTo>
                    <a:pt x="1540" y="240"/>
                  </a:lnTo>
                  <a:lnTo>
                    <a:pt x="1532" y="247"/>
                  </a:lnTo>
                  <a:lnTo>
                    <a:pt x="1525" y="255"/>
                  </a:lnTo>
                  <a:lnTo>
                    <a:pt x="1517" y="263"/>
                  </a:lnTo>
                  <a:lnTo>
                    <a:pt x="1509" y="270"/>
                  </a:lnTo>
                  <a:lnTo>
                    <a:pt x="1502" y="278"/>
                  </a:lnTo>
                  <a:lnTo>
                    <a:pt x="1494" y="286"/>
                  </a:lnTo>
                  <a:lnTo>
                    <a:pt x="1486" y="293"/>
                  </a:lnTo>
                  <a:lnTo>
                    <a:pt x="1479" y="301"/>
                  </a:lnTo>
                  <a:lnTo>
                    <a:pt x="1471" y="311"/>
                  </a:lnTo>
                  <a:lnTo>
                    <a:pt x="1463" y="318"/>
                  </a:lnTo>
                  <a:lnTo>
                    <a:pt x="1456" y="328"/>
                  </a:lnTo>
                  <a:lnTo>
                    <a:pt x="1448" y="338"/>
                  </a:lnTo>
                  <a:lnTo>
                    <a:pt x="1440" y="345"/>
                  </a:lnTo>
                  <a:lnTo>
                    <a:pt x="1433" y="355"/>
                  </a:lnTo>
                  <a:lnTo>
                    <a:pt x="1425" y="365"/>
                  </a:lnTo>
                  <a:lnTo>
                    <a:pt x="1417" y="374"/>
                  </a:lnTo>
                  <a:lnTo>
                    <a:pt x="1410" y="384"/>
                  </a:lnTo>
                  <a:lnTo>
                    <a:pt x="1404" y="395"/>
                  </a:lnTo>
                  <a:lnTo>
                    <a:pt x="1396" y="405"/>
                  </a:lnTo>
                  <a:lnTo>
                    <a:pt x="1388" y="414"/>
                  </a:lnTo>
                  <a:lnTo>
                    <a:pt x="1381" y="426"/>
                  </a:lnTo>
                  <a:lnTo>
                    <a:pt x="1373" y="436"/>
                  </a:lnTo>
                  <a:lnTo>
                    <a:pt x="1365" y="447"/>
                  </a:lnTo>
                  <a:lnTo>
                    <a:pt x="1358" y="459"/>
                  </a:lnTo>
                  <a:lnTo>
                    <a:pt x="1350" y="470"/>
                  </a:lnTo>
                  <a:lnTo>
                    <a:pt x="1342" y="482"/>
                  </a:lnTo>
                  <a:lnTo>
                    <a:pt x="1335" y="493"/>
                  </a:lnTo>
                  <a:lnTo>
                    <a:pt x="1327" y="505"/>
                  </a:lnTo>
                  <a:lnTo>
                    <a:pt x="1319" y="516"/>
                  </a:lnTo>
                  <a:lnTo>
                    <a:pt x="1312" y="530"/>
                  </a:lnTo>
                  <a:lnTo>
                    <a:pt x="1304" y="541"/>
                  </a:lnTo>
                  <a:lnTo>
                    <a:pt x="1296" y="555"/>
                  </a:lnTo>
                  <a:lnTo>
                    <a:pt x="1289" y="566"/>
                  </a:lnTo>
                  <a:lnTo>
                    <a:pt x="1281" y="580"/>
                  </a:lnTo>
                  <a:lnTo>
                    <a:pt x="1273" y="593"/>
                  </a:lnTo>
                  <a:lnTo>
                    <a:pt x="1266" y="606"/>
                  </a:lnTo>
                  <a:lnTo>
                    <a:pt x="1258" y="620"/>
                  </a:lnTo>
                  <a:lnTo>
                    <a:pt x="1250" y="633"/>
                  </a:lnTo>
                  <a:lnTo>
                    <a:pt x="1242" y="647"/>
                  </a:lnTo>
                  <a:lnTo>
                    <a:pt x="1235" y="660"/>
                  </a:lnTo>
                  <a:lnTo>
                    <a:pt x="1227" y="674"/>
                  </a:lnTo>
                  <a:lnTo>
                    <a:pt x="1219" y="689"/>
                  </a:lnTo>
                  <a:lnTo>
                    <a:pt x="1212" y="702"/>
                  </a:lnTo>
                  <a:lnTo>
                    <a:pt x="1204" y="718"/>
                  </a:lnTo>
                  <a:lnTo>
                    <a:pt x="1196" y="733"/>
                  </a:lnTo>
                  <a:lnTo>
                    <a:pt x="1189" y="747"/>
                  </a:lnTo>
                  <a:lnTo>
                    <a:pt x="1181" y="762"/>
                  </a:lnTo>
                  <a:lnTo>
                    <a:pt x="1173" y="777"/>
                  </a:lnTo>
                  <a:lnTo>
                    <a:pt x="1166" y="793"/>
                  </a:lnTo>
                  <a:lnTo>
                    <a:pt x="1158" y="808"/>
                  </a:lnTo>
                  <a:lnTo>
                    <a:pt x="1150" y="823"/>
                  </a:lnTo>
                  <a:lnTo>
                    <a:pt x="1143" y="839"/>
                  </a:lnTo>
                  <a:lnTo>
                    <a:pt x="1135" y="854"/>
                  </a:lnTo>
                  <a:lnTo>
                    <a:pt x="1129" y="871"/>
                  </a:lnTo>
                  <a:lnTo>
                    <a:pt x="1122" y="887"/>
                  </a:lnTo>
                  <a:lnTo>
                    <a:pt x="1114" y="902"/>
                  </a:lnTo>
                  <a:lnTo>
                    <a:pt x="1106" y="919"/>
                  </a:lnTo>
                  <a:lnTo>
                    <a:pt x="1098" y="935"/>
                  </a:lnTo>
                  <a:lnTo>
                    <a:pt x="1091" y="952"/>
                  </a:lnTo>
                  <a:lnTo>
                    <a:pt x="1083" y="967"/>
                  </a:lnTo>
                  <a:lnTo>
                    <a:pt x="1075" y="985"/>
                  </a:lnTo>
                  <a:lnTo>
                    <a:pt x="1068" y="1000"/>
                  </a:lnTo>
                  <a:lnTo>
                    <a:pt x="1060" y="1017"/>
                  </a:lnTo>
                  <a:lnTo>
                    <a:pt x="1052" y="1035"/>
                  </a:lnTo>
                  <a:lnTo>
                    <a:pt x="1045" y="1050"/>
                  </a:lnTo>
                  <a:lnTo>
                    <a:pt x="1037" y="1067"/>
                  </a:lnTo>
                  <a:lnTo>
                    <a:pt x="1029" y="1084"/>
                  </a:lnTo>
                  <a:lnTo>
                    <a:pt x="1022" y="1102"/>
                  </a:lnTo>
                  <a:lnTo>
                    <a:pt x="1014" y="1117"/>
                  </a:lnTo>
                  <a:lnTo>
                    <a:pt x="1006" y="1134"/>
                  </a:lnTo>
                  <a:lnTo>
                    <a:pt x="999" y="1152"/>
                  </a:lnTo>
                  <a:lnTo>
                    <a:pt x="991" y="1167"/>
                  </a:lnTo>
                  <a:lnTo>
                    <a:pt x="983" y="1184"/>
                  </a:lnTo>
                  <a:lnTo>
                    <a:pt x="976" y="1202"/>
                  </a:lnTo>
                  <a:lnTo>
                    <a:pt x="968" y="1217"/>
                  </a:lnTo>
                  <a:lnTo>
                    <a:pt x="960" y="1234"/>
                  </a:lnTo>
                  <a:lnTo>
                    <a:pt x="953" y="1252"/>
                  </a:lnTo>
                  <a:lnTo>
                    <a:pt x="945" y="1267"/>
                  </a:lnTo>
                  <a:lnTo>
                    <a:pt x="937" y="1284"/>
                  </a:lnTo>
                  <a:lnTo>
                    <a:pt x="930" y="1300"/>
                  </a:lnTo>
                  <a:lnTo>
                    <a:pt x="922" y="1315"/>
                  </a:lnTo>
                  <a:lnTo>
                    <a:pt x="914" y="1332"/>
                  </a:lnTo>
                  <a:lnTo>
                    <a:pt x="906" y="1348"/>
                  </a:lnTo>
                  <a:lnTo>
                    <a:pt x="899" y="1363"/>
                  </a:lnTo>
                  <a:lnTo>
                    <a:pt x="891" y="1378"/>
                  </a:lnTo>
                  <a:lnTo>
                    <a:pt x="883" y="1394"/>
                  </a:lnTo>
                  <a:lnTo>
                    <a:pt x="876" y="1409"/>
                  </a:lnTo>
                  <a:lnTo>
                    <a:pt x="868" y="1424"/>
                  </a:lnTo>
                  <a:lnTo>
                    <a:pt x="860" y="1440"/>
                  </a:lnTo>
                  <a:lnTo>
                    <a:pt x="855" y="1453"/>
                  </a:lnTo>
                  <a:lnTo>
                    <a:pt x="847" y="1468"/>
                  </a:lnTo>
                  <a:lnTo>
                    <a:pt x="839" y="1482"/>
                  </a:lnTo>
                  <a:lnTo>
                    <a:pt x="832" y="1495"/>
                  </a:lnTo>
                  <a:lnTo>
                    <a:pt x="824" y="1511"/>
                  </a:lnTo>
                  <a:lnTo>
                    <a:pt x="816" y="1524"/>
                  </a:lnTo>
                  <a:lnTo>
                    <a:pt x="809" y="1536"/>
                  </a:lnTo>
                  <a:lnTo>
                    <a:pt x="801" y="1549"/>
                  </a:lnTo>
                  <a:lnTo>
                    <a:pt x="793" y="1563"/>
                  </a:lnTo>
                  <a:lnTo>
                    <a:pt x="786" y="1574"/>
                  </a:lnTo>
                  <a:lnTo>
                    <a:pt x="778" y="1586"/>
                  </a:lnTo>
                  <a:lnTo>
                    <a:pt x="770" y="1597"/>
                  </a:lnTo>
                  <a:lnTo>
                    <a:pt x="762" y="1609"/>
                  </a:lnTo>
                  <a:lnTo>
                    <a:pt x="755" y="1620"/>
                  </a:lnTo>
                  <a:lnTo>
                    <a:pt x="747" y="1630"/>
                  </a:lnTo>
                  <a:lnTo>
                    <a:pt x="739" y="1641"/>
                  </a:lnTo>
                  <a:lnTo>
                    <a:pt x="732" y="1651"/>
                  </a:lnTo>
                  <a:lnTo>
                    <a:pt x="724" y="1660"/>
                  </a:lnTo>
                  <a:lnTo>
                    <a:pt x="716" y="1670"/>
                  </a:lnTo>
                  <a:lnTo>
                    <a:pt x="709" y="1678"/>
                  </a:lnTo>
                  <a:lnTo>
                    <a:pt x="701" y="1687"/>
                  </a:lnTo>
                  <a:lnTo>
                    <a:pt x="693" y="1695"/>
                  </a:lnTo>
                  <a:lnTo>
                    <a:pt x="686" y="1703"/>
                  </a:lnTo>
                  <a:lnTo>
                    <a:pt x="678" y="1708"/>
                  </a:lnTo>
                  <a:lnTo>
                    <a:pt x="670" y="1716"/>
                  </a:lnTo>
                  <a:lnTo>
                    <a:pt x="663" y="1722"/>
                  </a:lnTo>
                  <a:lnTo>
                    <a:pt x="655" y="1728"/>
                  </a:lnTo>
                  <a:lnTo>
                    <a:pt x="647" y="1733"/>
                  </a:lnTo>
                  <a:lnTo>
                    <a:pt x="640" y="1737"/>
                  </a:lnTo>
                  <a:lnTo>
                    <a:pt x="632" y="1743"/>
                  </a:lnTo>
                  <a:lnTo>
                    <a:pt x="624" y="1747"/>
                  </a:lnTo>
                  <a:lnTo>
                    <a:pt x="617" y="1751"/>
                  </a:lnTo>
                  <a:lnTo>
                    <a:pt x="609" y="1753"/>
                  </a:lnTo>
                  <a:lnTo>
                    <a:pt x="601" y="1755"/>
                  </a:lnTo>
                  <a:lnTo>
                    <a:pt x="593" y="1758"/>
                  </a:lnTo>
                  <a:lnTo>
                    <a:pt x="586" y="1758"/>
                  </a:lnTo>
                  <a:lnTo>
                    <a:pt x="580" y="1760"/>
                  </a:lnTo>
                  <a:lnTo>
                    <a:pt x="572" y="1760"/>
                  </a:lnTo>
                  <a:lnTo>
                    <a:pt x="565" y="1760"/>
                  </a:lnTo>
                  <a:lnTo>
                    <a:pt x="557" y="1760"/>
                  </a:lnTo>
                  <a:lnTo>
                    <a:pt x="549" y="1760"/>
                  </a:lnTo>
                  <a:lnTo>
                    <a:pt x="542" y="1758"/>
                  </a:lnTo>
                  <a:lnTo>
                    <a:pt x="534" y="1756"/>
                  </a:lnTo>
                  <a:lnTo>
                    <a:pt x="526" y="1755"/>
                  </a:lnTo>
                  <a:lnTo>
                    <a:pt x="519" y="1753"/>
                  </a:lnTo>
                  <a:lnTo>
                    <a:pt x="511" y="1749"/>
                  </a:lnTo>
                  <a:lnTo>
                    <a:pt x="503" y="1745"/>
                  </a:lnTo>
                  <a:lnTo>
                    <a:pt x="496" y="1741"/>
                  </a:lnTo>
                  <a:lnTo>
                    <a:pt x="488" y="1737"/>
                  </a:lnTo>
                  <a:lnTo>
                    <a:pt x="480" y="1732"/>
                  </a:lnTo>
                  <a:lnTo>
                    <a:pt x="473" y="1726"/>
                  </a:lnTo>
                  <a:lnTo>
                    <a:pt x="465" y="1720"/>
                  </a:lnTo>
                  <a:lnTo>
                    <a:pt x="457" y="1714"/>
                  </a:lnTo>
                  <a:lnTo>
                    <a:pt x="449" y="1708"/>
                  </a:lnTo>
                  <a:lnTo>
                    <a:pt x="442" y="1701"/>
                  </a:lnTo>
                  <a:lnTo>
                    <a:pt x="434" y="1693"/>
                  </a:lnTo>
                  <a:lnTo>
                    <a:pt x="426" y="1685"/>
                  </a:lnTo>
                  <a:lnTo>
                    <a:pt x="419" y="1678"/>
                  </a:lnTo>
                  <a:lnTo>
                    <a:pt x="411" y="1668"/>
                  </a:lnTo>
                  <a:lnTo>
                    <a:pt x="403" y="1659"/>
                  </a:lnTo>
                  <a:lnTo>
                    <a:pt x="396" y="1649"/>
                  </a:lnTo>
                  <a:lnTo>
                    <a:pt x="388" y="1639"/>
                  </a:lnTo>
                  <a:lnTo>
                    <a:pt x="380" y="1630"/>
                  </a:lnTo>
                  <a:lnTo>
                    <a:pt x="373" y="1618"/>
                  </a:lnTo>
                  <a:lnTo>
                    <a:pt x="365" y="1609"/>
                  </a:lnTo>
                  <a:lnTo>
                    <a:pt x="357" y="1597"/>
                  </a:lnTo>
                  <a:lnTo>
                    <a:pt x="350" y="1586"/>
                  </a:lnTo>
                  <a:lnTo>
                    <a:pt x="342" y="1574"/>
                  </a:lnTo>
                  <a:lnTo>
                    <a:pt x="334" y="1561"/>
                  </a:lnTo>
                  <a:lnTo>
                    <a:pt x="327" y="1549"/>
                  </a:lnTo>
                  <a:lnTo>
                    <a:pt x="319" y="1536"/>
                  </a:lnTo>
                  <a:lnTo>
                    <a:pt x="311" y="1522"/>
                  </a:lnTo>
                  <a:lnTo>
                    <a:pt x="304" y="1509"/>
                  </a:lnTo>
                  <a:lnTo>
                    <a:pt x="298" y="1495"/>
                  </a:lnTo>
                  <a:lnTo>
                    <a:pt x="290" y="1480"/>
                  </a:lnTo>
                  <a:lnTo>
                    <a:pt x="282" y="1467"/>
                  </a:lnTo>
                  <a:lnTo>
                    <a:pt x="275" y="1451"/>
                  </a:lnTo>
                  <a:lnTo>
                    <a:pt x="267" y="1436"/>
                  </a:lnTo>
                  <a:lnTo>
                    <a:pt x="259" y="1420"/>
                  </a:lnTo>
                  <a:lnTo>
                    <a:pt x="252" y="1403"/>
                  </a:lnTo>
                  <a:lnTo>
                    <a:pt x="244" y="1388"/>
                  </a:lnTo>
                  <a:lnTo>
                    <a:pt x="236" y="1371"/>
                  </a:lnTo>
                  <a:lnTo>
                    <a:pt x="229" y="1353"/>
                  </a:lnTo>
                  <a:lnTo>
                    <a:pt x="221" y="1336"/>
                  </a:lnTo>
                  <a:lnTo>
                    <a:pt x="213" y="1317"/>
                  </a:lnTo>
                  <a:lnTo>
                    <a:pt x="206" y="1300"/>
                  </a:lnTo>
                  <a:lnTo>
                    <a:pt x="198" y="1280"/>
                  </a:lnTo>
                  <a:lnTo>
                    <a:pt x="190" y="1259"/>
                  </a:lnTo>
                  <a:lnTo>
                    <a:pt x="183" y="1240"/>
                  </a:lnTo>
                  <a:lnTo>
                    <a:pt x="175" y="1219"/>
                  </a:lnTo>
                  <a:lnTo>
                    <a:pt x="167" y="1198"/>
                  </a:lnTo>
                  <a:lnTo>
                    <a:pt x="160" y="1175"/>
                  </a:lnTo>
                  <a:lnTo>
                    <a:pt x="152" y="1152"/>
                  </a:lnTo>
                  <a:lnTo>
                    <a:pt x="144" y="1127"/>
                  </a:lnTo>
                  <a:lnTo>
                    <a:pt x="137" y="1102"/>
                  </a:lnTo>
                  <a:lnTo>
                    <a:pt x="129" y="1077"/>
                  </a:lnTo>
                  <a:lnTo>
                    <a:pt x="121" y="1048"/>
                  </a:lnTo>
                  <a:lnTo>
                    <a:pt x="113" y="1019"/>
                  </a:lnTo>
                  <a:lnTo>
                    <a:pt x="106" y="990"/>
                  </a:lnTo>
                  <a:lnTo>
                    <a:pt x="98" y="958"/>
                  </a:lnTo>
                  <a:lnTo>
                    <a:pt x="90" y="925"/>
                  </a:lnTo>
                  <a:lnTo>
                    <a:pt x="83" y="891"/>
                  </a:lnTo>
                  <a:lnTo>
                    <a:pt x="75" y="852"/>
                  </a:lnTo>
                  <a:lnTo>
                    <a:pt x="67" y="812"/>
                  </a:lnTo>
                  <a:lnTo>
                    <a:pt x="60" y="770"/>
                  </a:lnTo>
                  <a:lnTo>
                    <a:pt x="52" y="722"/>
                  </a:lnTo>
                  <a:lnTo>
                    <a:pt x="44" y="672"/>
                  </a:lnTo>
                  <a:lnTo>
                    <a:pt x="37" y="614"/>
                  </a:lnTo>
                  <a:lnTo>
                    <a:pt x="29" y="551"/>
                  </a:lnTo>
                  <a:lnTo>
                    <a:pt x="23" y="478"/>
                  </a:lnTo>
                  <a:lnTo>
                    <a:pt x="16" y="389"/>
                  </a:lnTo>
                  <a:lnTo>
                    <a:pt x="8" y="272"/>
                  </a:lnTo>
                  <a:lnTo>
                    <a:pt x="0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1477440" y="8169120"/>
              <a:ext cx="39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-0.0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1477440" y="7831440"/>
              <a:ext cx="39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-0.0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1477440" y="7489440"/>
              <a:ext cx="39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-0.0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1544400" y="7149240"/>
              <a:ext cx="317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-0.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1477440" y="6809400"/>
              <a:ext cx="39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-0.0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1477440" y="6467400"/>
              <a:ext cx="39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-0.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1477440" y="6128640"/>
              <a:ext cx="39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-0.0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1477440" y="5788440"/>
              <a:ext cx="39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-0.0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1748160" y="5446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1512360" y="510552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1873800" y="8323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2252160" y="832320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2683800" y="832320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3114360" y="832320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3544920" y="832320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3976560" y="832320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4407120" y="832320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4839120" y="832320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5267880" y="832320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5697000" y="832320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6179760" y="8323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3980520" y="847404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40" name="" descr=""/>
            <p:cNvPicPr/>
            <p:nvPr/>
          </p:nvPicPr>
          <p:blipFill>
            <a:blip r:embed="rId6"/>
            <a:stretch/>
          </p:blipFill>
          <p:spPr>
            <a:xfrm>
              <a:off x="762120" y="5650200"/>
              <a:ext cx="485280" cy="200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1" name=""/>
            <p:cNvSpPr/>
            <p:nvPr/>
          </p:nvSpPr>
          <p:spPr>
            <a:xfrm flipV="1">
              <a:off x="794160" y="6217920"/>
              <a:ext cx="144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2" name=""/>
            <p:cNvSpPr/>
            <p:nvPr/>
          </p:nvSpPr>
          <p:spPr>
            <a:xfrm flipV="1">
              <a:off x="807120" y="7039080"/>
              <a:ext cx="1080" cy="14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3025080" y="7702560"/>
              <a:ext cx="168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3175560" y="7754040"/>
              <a:ext cx="61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NN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3719160" y="7702560"/>
              <a:ext cx="168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3865320" y="775404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4061520" y="770256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4664520" y="65271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4810320" y="64202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4888080" y="6527160"/>
              <a:ext cx="1021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 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= 1.0 G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5794200" y="64202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2451600" y="7141320"/>
              <a:ext cx="168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d4"/>
                  </a:solidFill>
                  <a:latin typeface="Symbol"/>
                  <a:ea typeface="Symbol"/>
                </a:rPr>
                <a:t>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2602440" y="7196760"/>
              <a:ext cx="439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d4"/>
                  </a:solidFill>
                  <a:latin typeface="Times New Roman"/>
                  <a:ea typeface="ＭＳ 明朝"/>
                </a:rPr>
                <a:t>N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2330280" y="5679720"/>
              <a:ext cx="168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d400"/>
                  </a:solidFill>
                  <a:latin typeface="Symbol"/>
                  <a:ea typeface="Symbol"/>
                </a:rPr>
                <a:t>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2478240" y="573444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d400"/>
                  </a:solidFill>
                  <a:latin typeface="Times New Roman"/>
                  <a:ea typeface="ＭＳ 明朝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2675880" y="567972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d4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7" name=""/>
          <p:cNvSpPr/>
          <p:nvPr/>
        </p:nvSpPr>
        <p:spPr>
          <a:xfrm>
            <a:off x="3200400" y="9067680"/>
            <a:ext cx="335268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Ref. SK and M. Miyam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hep-ph/0110097, Phys. Rev. D in pres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8" name=""/>
          <p:cNvSpPr/>
          <p:nvPr/>
        </p:nvSpPr>
        <p:spPr>
          <a:xfrm>
            <a:off x="573840" y="846000"/>
            <a:ext cx="373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Status: spin-1 phy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9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854680" cy="4521240"/>
          </a:xfrm>
          <a:prstGeom prst="rect">
            <a:avLst/>
          </a:prstGeom>
          <a:ln w="0">
            <a:noFill/>
          </a:ln>
        </p:spPr>
      </p:pic>
      <p:sp>
        <p:nvSpPr>
          <p:cNvPr id="4960" name=""/>
          <p:cNvSpPr/>
          <p:nvPr/>
        </p:nvSpPr>
        <p:spPr>
          <a:xfrm>
            <a:off x="762120" y="7467480"/>
            <a:ext cx="539100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.E.Close and SK,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Phys. Rev. D42, 2377 (1990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S. Hino and SK,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Phys. Rev. D59 (1999) 094026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D60 (1999) 054018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59640" cy="1068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2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5981760" cy="1028880"/>
          </a:xfrm>
          <a:prstGeom prst="rect">
            <a:avLst/>
          </a:prstGeom>
          <a:ln w="0">
            <a:noFill/>
          </a:ln>
        </p:spPr>
      </p:pic>
      <p:pic>
        <p:nvPicPr>
          <p:cNvPr id="4963" name="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6045120" cy="1397160"/>
          </a:xfrm>
          <a:prstGeom prst="rect">
            <a:avLst/>
          </a:prstGeom>
          <a:ln w="0">
            <a:noFill/>
          </a:ln>
        </p:spPr>
      </p:pic>
      <p:sp>
        <p:nvSpPr>
          <p:cNvPr id="4964" name=""/>
          <p:cNvSpPr/>
          <p:nvPr/>
        </p:nvSpPr>
        <p:spPr>
          <a:xfrm>
            <a:off x="456480" y="190512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ensor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5" name=""/>
          <p:cNvSpPr/>
          <p:nvPr/>
        </p:nvSpPr>
        <p:spPr>
          <a:xfrm>
            <a:off x="762840" y="426708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unpo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6" name=""/>
          <p:cNvSpPr/>
          <p:nvPr/>
        </p:nvSpPr>
        <p:spPr>
          <a:xfrm flipV="1">
            <a:off x="1676520" y="3733560"/>
            <a:ext cx="53316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7" name=""/>
          <p:cNvSpPr/>
          <p:nvPr/>
        </p:nvSpPr>
        <p:spPr>
          <a:xfrm flipV="1">
            <a:off x="4191120" y="3809880"/>
            <a:ext cx="53316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8" name=""/>
          <p:cNvSpPr/>
          <p:nvPr/>
        </p:nvSpPr>
        <p:spPr>
          <a:xfrm>
            <a:off x="2895480" y="4267080"/>
            <a:ext cx="358164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longitudinally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ransversely po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9" name="" descr=""/>
          <p:cNvPicPr/>
          <p:nvPr/>
        </p:nvPicPr>
        <p:blipFill>
          <a:blip r:embed="rId3"/>
          <a:stretch/>
        </p:blipFill>
        <p:spPr>
          <a:xfrm>
            <a:off x="457200" y="5334120"/>
            <a:ext cx="5943600" cy="1765080"/>
          </a:xfrm>
          <a:prstGeom prst="rect">
            <a:avLst/>
          </a:prstGeom>
          <a:ln w="0">
            <a:noFill/>
          </a:ln>
        </p:spPr>
      </p:pic>
      <p:sp>
        <p:nvSpPr>
          <p:cNvPr id="4970" name=""/>
          <p:cNvSpPr/>
          <p:nvPr/>
        </p:nvSpPr>
        <p:spPr>
          <a:xfrm flipH="1" flipV="1">
            <a:off x="3276360" y="6934320"/>
            <a:ext cx="5331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1" name=""/>
          <p:cNvSpPr/>
          <p:nvPr/>
        </p:nvSpPr>
        <p:spPr>
          <a:xfrm flipV="1">
            <a:off x="4572000" y="6934320"/>
            <a:ext cx="6094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2" name=""/>
          <p:cNvSpPr/>
          <p:nvPr/>
        </p:nvSpPr>
        <p:spPr>
          <a:xfrm>
            <a:off x="2286000" y="7467480"/>
            <a:ext cx="388620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ensor polarized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could be measur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3" name=""/>
          <p:cNvSpPr/>
          <p:nvPr/>
        </p:nvSpPr>
        <p:spPr>
          <a:xfrm>
            <a:off x="469080" y="371520"/>
            <a:ext cx="4141440" cy="58140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Role of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measu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4" name="" descr=""/>
          <p:cNvPicPr/>
          <p:nvPr/>
        </p:nvPicPr>
        <p:blipFill>
          <a:blip r:embed="rId1"/>
          <a:stretch/>
        </p:blipFill>
        <p:spPr>
          <a:xfrm>
            <a:off x="565200" y="1292400"/>
            <a:ext cx="6292800" cy="1414440"/>
          </a:xfrm>
          <a:prstGeom prst="rect">
            <a:avLst/>
          </a:prstGeom>
          <a:ln w="0">
            <a:noFill/>
          </a:ln>
        </p:spPr>
      </p:pic>
      <p:sp>
        <p:nvSpPr>
          <p:cNvPr id="4975" name=""/>
          <p:cNvSpPr/>
          <p:nvPr/>
        </p:nvSpPr>
        <p:spPr>
          <a:xfrm>
            <a:off x="3309840" y="2482920"/>
            <a:ext cx="346320" cy="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6" name=""/>
          <p:cNvSpPr/>
          <p:nvPr/>
        </p:nvSpPr>
        <p:spPr>
          <a:xfrm>
            <a:off x="5753160" y="2557440"/>
            <a:ext cx="345960" cy="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7" name=""/>
          <p:cNvSpPr/>
          <p:nvPr/>
        </p:nvSpPr>
        <p:spPr>
          <a:xfrm>
            <a:off x="6251400" y="2554200"/>
            <a:ext cx="346320" cy="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8" name=""/>
          <p:cNvSpPr/>
          <p:nvPr/>
        </p:nvSpPr>
        <p:spPr>
          <a:xfrm>
            <a:off x="2495520" y="2540160"/>
            <a:ext cx="436248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  <a:ea typeface="ＭＳ 明朝"/>
              </a:rPr>
              <a:t>new parity-viol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  <a:ea typeface="ＭＳ 明朝"/>
              </a:rPr>
              <a:t>polarized structure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9" name=""/>
          <p:cNvSpPr/>
          <p:nvPr/>
        </p:nvSpPr>
        <p:spPr>
          <a:xfrm>
            <a:off x="2963880" y="507996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0" name=""/>
          <p:cNvSpPr/>
          <p:nvPr/>
        </p:nvSpPr>
        <p:spPr>
          <a:xfrm>
            <a:off x="846000" y="7159680"/>
            <a:ext cx="569736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ＭＳ 明朝"/>
              </a:rPr>
              <a:t>Polarized 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Times New Roman"/>
                <a:ea typeface="ＭＳ 明朝"/>
              </a:rPr>
              <a:t>valence-quark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ＭＳ 明朝"/>
              </a:rPr>
              <a:t> and sea-qu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ＭＳ 明朝"/>
              </a:rPr>
              <a:t>(strange, charm) distributions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ＭＳ 明朝"/>
              </a:rPr>
              <a:t>investigated in det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1" name="" descr=""/>
          <p:cNvPicPr/>
          <p:nvPr/>
        </p:nvPicPr>
        <p:blipFill>
          <a:blip r:embed="rId2"/>
          <a:stretch/>
        </p:blipFill>
        <p:spPr>
          <a:xfrm>
            <a:off x="1063800" y="3746520"/>
            <a:ext cx="4800600" cy="1244520"/>
          </a:xfrm>
          <a:prstGeom prst="rect">
            <a:avLst/>
          </a:prstGeom>
          <a:ln w="0">
            <a:noFill/>
          </a:ln>
        </p:spPr>
      </p:pic>
      <p:pic>
        <p:nvPicPr>
          <p:cNvPr id="4982" name="" descr=""/>
          <p:cNvPicPr/>
          <p:nvPr/>
        </p:nvPicPr>
        <p:blipFill>
          <a:blip r:embed="rId3"/>
          <a:stretch/>
        </p:blipFill>
        <p:spPr>
          <a:xfrm>
            <a:off x="1030320" y="6545160"/>
            <a:ext cx="5562720" cy="381240"/>
          </a:xfrm>
          <a:prstGeom prst="rect">
            <a:avLst/>
          </a:prstGeom>
          <a:ln w="0">
            <a:noFill/>
          </a:ln>
        </p:spPr>
      </p:pic>
      <p:pic>
        <p:nvPicPr>
          <p:cNvPr id="4983" name="" descr=""/>
          <p:cNvPicPr/>
          <p:nvPr/>
        </p:nvPicPr>
        <p:blipFill>
          <a:blip r:embed="rId4"/>
          <a:stretch/>
        </p:blipFill>
        <p:spPr>
          <a:xfrm>
            <a:off x="1657440" y="8589960"/>
            <a:ext cx="4533840" cy="965160"/>
          </a:xfrm>
          <a:prstGeom prst="rect">
            <a:avLst/>
          </a:prstGeom>
          <a:ln w="0">
            <a:noFill/>
          </a:ln>
        </p:spPr>
      </p:pic>
      <p:pic>
        <p:nvPicPr>
          <p:cNvPr id="4984" name="" descr=""/>
          <p:cNvPicPr/>
          <p:nvPr/>
        </p:nvPicPr>
        <p:blipFill>
          <a:blip r:embed="rId5"/>
          <a:stretch/>
        </p:blipFill>
        <p:spPr>
          <a:xfrm>
            <a:off x="1022400" y="5587920"/>
            <a:ext cx="44575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5" name=""/>
          <p:cNvSpPr/>
          <p:nvPr/>
        </p:nvSpPr>
        <p:spPr>
          <a:xfrm>
            <a:off x="492840" y="576360"/>
            <a:ext cx="553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Quark spin content at a </a:t>
            </a:r>
            <a:r>
              <a:rPr b="0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fa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6" name="" descr=""/>
          <p:cNvPicPr/>
          <p:nvPr/>
        </p:nvPicPr>
        <p:blipFill>
          <a:blip r:embed="rId1"/>
          <a:stretch/>
        </p:blipFill>
        <p:spPr>
          <a:xfrm>
            <a:off x="1133640" y="1620720"/>
            <a:ext cx="5003640" cy="2070360"/>
          </a:xfrm>
          <a:prstGeom prst="rect">
            <a:avLst/>
          </a:prstGeom>
          <a:ln w="0">
            <a:noFill/>
          </a:ln>
        </p:spPr>
      </p:pic>
      <p:pic>
        <p:nvPicPr>
          <p:cNvPr id="4987" name="" descr=""/>
          <p:cNvPicPr/>
          <p:nvPr/>
        </p:nvPicPr>
        <p:blipFill>
          <a:blip r:embed="rId2"/>
          <a:stretch/>
        </p:blipFill>
        <p:spPr>
          <a:xfrm>
            <a:off x="1128600" y="5522760"/>
            <a:ext cx="5016600" cy="965520"/>
          </a:xfrm>
          <a:prstGeom prst="rect">
            <a:avLst/>
          </a:prstGeom>
          <a:ln w="0">
            <a:noFill/>
          </a:ln>
        </p:spPr>
      </p:pic>
      <p:pic>
        <p:nvPicPr>
          <p:cNvPr id="4988" name="" descr=""/>
          <p:cNvPicPr/>
          <p:nvPr/>
        </p:nvPicPr>
        <p:blipFill>
          <a:blip r:embed="rId3"/>
          <a:stretch/>
        </p:blipFill>
        <p:spPr>
          <a:xfrm>
            <a:off x="779400" y="6702480"/>
            <a:ext cx="5715000" cy="1257120"/>
          </a:xfrm>
          <a:prstGeom prst="rect">
            <a:avLst/>
          </a:prstGeom>
          <a:ln w="0">
            <a:noFill/>
          </a:ln>
        </p:spPr>
      </p:pic>
      <p:pic>
        <p:nvPicPr>
          <p:cNvPr id="4989" name="" descr=""/>
          <p:cNvPicPr/>
          <p:nvPr/>
        </p:nvPicPr>
        <p:blipFill>
          <a:blip r:embed="rId4"/>
          <a:stretch/>
        </p:blipFill>
        <p:spPr>
          <a:xfrm>
            <a:off x="1279440" y="8307360"/>
            <a:ext cx="4559400" cy="1028880"/>
          </a:xfrm>
          <a:prstGeom prst="rect">
            <a:avLst/>
          </a:prstGeom>
          <a:ln w="0">
            <a:noFill/>
          </a:ln>
        </p:spPr>
      </p:pic>
      <p:pic>
        <p:nvPicPr>
          <p:cNvPr id="4990" name="" descr=""/>
          <p:cNvPicPr/>
          <p:nvPr/>
        </p:nvPicPr>
        <p:blipFill>
          <a:blip r:embed="rId5"/>
          <a:stretch/>
        </p:blipFill>
        <p:spPr>
          <a:xfrm>
            <a:off x="687240" y="3865680"/>
            <a:ext cx="5473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1" name=""/>
          <p:cNvSpPr/>
          <p:nvPr/>
        </p:nvSpPr>
        <p:spPr>
          <a:xfrm>
            <a:off x="373320" y="457200"/>
            <a:ext cx="624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Valence-quark distributions in nucl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2" name=""/>
          <p:cNvSpPr/>
          <p:nvPr/>
        </p:nvSpPr>
        <p:spPr>
          <a:xfrm>
            <a:off x="380880" y="1295280"/>
            <a:ext cx="61772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Nuclear modification of F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cannot be investigated at this stage due to lack of accurate deuteron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accurate F</a:t>
            </a:r>
            <a:r>
              <a:rPr b="0" lang="ja-JP" sz="2800" spc="-1" strike="noStrike" baseline="-25000">
                <a:solidFill>
                  <a:srgbClr val="ff0000"/>
                </a:solidFill>
                <a:latin typeface="Times New Roman"/>
                <a:ea typeface="ＭＳ 明朝"/>
              </a:rPr>
              <a:t>3</a:t>
            </a:r>
            <a:r>
              <a:rPr b="0" lang="ja-JP" sz="2800" spc="-1" strike="noStrike" baseline="30000">
                <a:solidFill>
                  <a:srgbClr val="ff0000"/>
                </a:solidFill>
                <a:latin typeface="Times New Roman"/>
                <a:ea typeface="ＭＳ 明朝"/>
              </a:rPr>
              <a:t>A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/F</a:t>
            </a:r>
            <a:r>
              <a:rPr b="0" lang="ja-JP" sz="2800" spc="-1" strike="noStrike" baseline="-25000">
                <a:solidFill>
                  <a:srgbClr val="ff0000"/>
                </a:solidFill>
                <a:latin typeface="Times New Roman"/>
                <a:ea typeface="ＭＳ 明朝"/>
              </a:rPr>
              <a:t>3</a:t>
            </a:r>
            <a:r>
              <a:rPr b="0" lang="ja-JP" sz="2800" spc="-1" strike="noStrike" baseline="30000">
                <a:solidFill>
                  <a:srgbClr val="ff0000"/>
                </a:solidFill>
                <a:latin typeface="Times New Roman"/>
                <a:ea typeface="ＭＳ 明朝"/>
              </a:rPr>
              <a:t>D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data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are valu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ff3300"/>
                </a:solidFill>
                <a:latin typeface="Times New Roman"/>
                <a:ea typeface="ＭＳ 明朝"/>
              </a:rPr>
              <a:t>for determining the shadowing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ff3300"/>
                </a:solidFill>
                <a:latin typeface="Times New Roman"/>
                <a:ea typeface="ＭＳ 明朝"/>
              </a:rPr>
              <a:t>for determining accurate nuclear par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Times New Roman"/>
                <a:ea typeface="ＭＳ 明朝"/>
              </a:rPr>
              <a:t>  </a:t>
            </a:r>
            <a:r>
              <a:rPr b="0" lang="ja-JP" sz="2800" spc="-1" strike="noStrike">
                <a:solidFill>
                  <a:srgbClr val="ff3300"/>
                </a:solidFill>
                <a:latin typeface="Times New Roman"/>
                <a:ea typeface="ＭＳ 明朝"/>
              </a:rPr>
              <a:t>distributions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application to heavy-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 </a:t>
            </a:r>
            <a:r>
              <a:rPr b="0" lang="ja-JP" sz="2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phy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3" name=""/>
          <p:cNvSpPr/>
          <p:nvPr/>
        </p:nvSpPr>
        <p:spPr>
          <a:xfrm>
            <a:off x="1295280" y="5943600"/>
            <a:ext cx="1116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4" name="" descr=""/>
          <p:cNvPicPr/>
          <p:nvPr/>
        </p:nvPicPr>
        <p:blipFill>
          <a:blip r:embed="rId1"/>
          <a:stretch/>
        </p:blipFill>
        <p:spPr>
          <a:xfrm>
            <a:off x="1295280" y="594360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4995" name=""/>
          <p:cNvSpPr/>
          <p:nvPr/>
        </p:nvSpPr>
        <p:spPr>
          <a:xfrm>
            <a:off x="1295280" y="592128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6" name=""/>
          <p:cNvSpPr/>
          <p:nvPr/>
        </p:nvSpPr>
        <p:spPr>
          <a:xfrm>
            <a:off x="1295280" y="592128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7" name=""/>
          <p:cNvSpPr/>
          <p:nvPr/>
        </p:nvSpPr>
        <p:spPr>
          <a:xfrm>
            <a:off x="1295280" y="592128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8" name=""/>
          <p:cNvSpPr/>
          <p:nvPr/>
        </p:nvSpPr>
        <p:spPr>
          <a:xfrm>
            <a:off x="1752480" y="6019920"/>
            <a:ext cx="1116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9" name="" descr=""/>
          <p:cNvPicPr/>
          <p:nvPr/>
        </p:nvPicPr>
        <p:blipFill>
          <a:blip r:embed="rId2"/>
          <a:stretch/>
        </p:blipFill>
        <p:spPr>
          <a:xfrm>
            <a:off x="1752480" y="601992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5000" name=""/>
          <p:cNvSpPr/>
          <p:nvPr/>
        </p:nvSpPr>
        <p:spPr>
          <a:xfrm>
            <a:off x="1752480" y="599760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1" name=""/>
          <p:cNvSpPr/>
          <p:nvPr/>
        </p:nvSpPr>
        <p:spPr>
          <a:xfrm>
            <a:off x="1752480" y="599760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2" name=""/>
          <p:cNvSpPr/>
          <p:nvPr/>
        </p:nvSpPr>
        <p:spPr>
          <a:xfrm>
            <a:off x="1752480" y="599760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3" name=""/>
          <p:cNvSpPr/>
          <p:nvPr/>
        </p:nvSpPr>
        <p:spPr>
          <a:xfrm>
            <a:off x="3811320" y="8991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4" name=""/>
          <p:cNvSpPr/>
          <p:nvPr/>
        </p:nvSpPr>
        <p:spPr>
          <a:xfrm rot="16200000">
            <a:off x="762480" y="7196040"/>
            <a:ext cx="12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C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/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5" name=""/>
          <p:cNvSpPr/>
          <p:nvPr/>
        </p:nvSpPr>
        <p:spPr>
          <a:xfrm>
            <a:off x="1905120" y="5867280"/>
            <a:ext cx="7452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6" name="" descr=""/>
          <p:cNvPicPr/>
          <p:nvPr/>
        </p:nvPicPr>
        <p:blipFill>
          <a:blip r:embed="rId3"/>
          <a:stretch/>
        </p:blipFill>
        <p:spPr>
          <a:xfrm>
            <a:off x="1905120" y="5867280"/>
            <a:ext cx="74520" cy="74880"/>
          </a:xfrm>
          <a:prstGeom prst="rect">
            <a:avLst/>
          </a:prstGeom>
          <a:ln w="0">
            <a:noFill/>
          </a:ln>
        </p:spPr>
      </p:pic>
      <p:sp>
        <p:nvSpPr>
          <p:cNvPr id="5007" name=""/>
          <p:cNvSpPr/>
          <p:nvPr/>
        </p:nvSpPr>
        <p:spPr>
          <a:xfrm>
            <a:off x="1905120" y="584208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8" name=""/>
          <p:cNvSpPr/>
          <p:nvPr/>
        </p:nvSpPr>
        <p:spPr>
          <a:xfrm>
            <a:off x="1905120" y="584208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9" name=""/>
          <p:cNvSpPr/>
          <p:nvPr/>
        </p:nvSpPr>
        <p:spPr>
          <a:xfrm>
            <a:off x="1905120" y="584208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0" name=""/>
          <p:cNvGrpSpPr/>
          <p:nvPr/>
        </p:nvGrpSpPr>
        <p:grpSpPr>
          <a:xfrm>
            <a:off x="1675440" y="5867280"/>
            <a:ext cx="4277160" cy="3223800"/>
            <a:chOff x="1675440" y="5867280"/>
            <a:chExt cx="4277160" cy="3223800"/>
          </a:xfrm>
        </p:grpSpPr>
        <p:grpSp>
          <p:nvGrpSpPr>
            <p:cNvPr id="5011" name=""/>
            <p:cNvGrpSpPr/>
            <p:nvPr/>
          </p:nvGrpSpPr>
          <p:grpSpPr>
            <a:xfrm>
              <a:off x="1893240" y="5940720"/>
              <a:ext cx="4008600" cy="2909160"/>
              <a:chOff x="1893240" y="5940720"/>
              <a:chExt cx="4008600" cy="2909160"/>
            </a:xfrm>
          </p:grpSpPr>
          <p:sp>
            <p:nvSpPr>
              <p:cNvPr id="5012" name=""/>
              <p:cNvSpPr/>
              <p:nvPr/>
            </p:nvSpPr>
            <p:spPr>
              <a:xfrm>
                <a:off x="1965240" y="5952240"/>
                <a:ext cx="3935160" cy="283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1953720" y="8773920"/>
                <a:ext cx="393660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1953720" y="5941080"/>
                <a:ext cx="393660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 flipV="1">
                <a:off x="1953720" y="5940720"/>
                <a:ext cx="1440" cy="28328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 flipV="1">
                <a:off x="5890680" y="5940720"/>
                <a:ext cx="1080" cy="28328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1932120" y="8785080"/>
                <a:ext cx="327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1932120" y="8673480"/>
                <a:ext cx="32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1932120" y="8558640"/>
                <a:ext cx="32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1932120" y="8445240"/>
                <a:ext cx="32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1932120" y="8333640"/>
                <a:ext cx="32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1932120" y="8220240"/>
                <a:ext cx="32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1932120" y="8105400"/>
                <a:ext cx="32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1932120" y="7993440"/>
                <a:ext cx="327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1932120" y="7880040"/>
                <a:ext cx="327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1932120" y="7765200"/>
                <a:ext cx="327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1932120" y="7650720"/>
                <a:ext cx="32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1932120" y="7540200"/>
                <a:ext cx="327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1932120" y="7425360"/>
                <a:ext cx="32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1932120" y="7310880"/>
                <a:ext cx="32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1932120" y="7200360"/>
                <a:ext cx="32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1932120" y="7085520"/>
                <a:ext cx="32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1932120" y="6970680"/>
                <a:ext cx="327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1932120" y="6860160"/>
                <a:ext cx="327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1932120" y="6745320"/>
                <a:ext cx="327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1932120" y="6630480"/>
                <a:ext cx="32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1932120" y="6519960"/>
                <a:ext cx="327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1932120" y="6405480"/>
                <a:ext cx="32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1932120" y="6290640"/>
                <a:ext cx="32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1932120" y="6177240"/>
                <a:ext cx="32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1932120" y="6065640"/>
                <a:ext cx="32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1932120" y="5952240"/>
                <a:ext cx="32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1893240" y="8782200"/>
                <a:ext cx="69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1893240" y="8217360"/>
                <a:ext cx="691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1893240" y="7647840"/>
                <a:ext cx="69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1893240" y="7082640"/>
                <a:ext cx="691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1893240" y="6517080"/>
                <a:ext cx="69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1893240" y="5949360"/>
                <a:ext cx="691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 flipV="1">
                <a:off x="1965240" y="8785080"/>
                <a:ext cx="144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 flipV="1">
                <a:off x="2361240" y="8785080"/>
                <a:ext cx="108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 flipV="1">
                <a:off x="2592360" y="8785080"/>
                <a:ext cx="144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 flipV="1">
                <a:off x="2755440" y="8785080"/>
                <a:ext cx="144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 flipV="1">
                <a:off x="2882880" y="8785080"/>
                <a:ext cx="108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 flipV="1">
                <a:off x="2985480" y="8785080"/>
                <a:ext cx="108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 flipV="1">
                <a:off x="3074760" y="8785080"/>
                <a:ext cx="108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 flipV="1">
                <a:off x="3149640" y="8785080"/>
                <a:ext cx="144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 flipV="1">
                <a:off x="3219120" y="8785080"/>
                <a:ext cx="108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 flipV="1">
                <a:off x="3276720" y="8785080"/>
                <a:ext cx="144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 flipV="1">
                <a:off x="3673080" y="8785080"/>
                <a:ext cx="108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 flipV="1">
                <a:off x="3903840" y="8785080"/>
                <a:ext cx="144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 flipV="1">
                <a:off x="4067280" y="8785080"/>
                <a:ext cx="108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 flipV="1">
                <a:off x="4194360" y="8785080"/>
                <a:ext cx="108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 flipV="1">
                <a:off x="4296960" y="8785080"/>
                <a:ext cx="108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 flipV="1">
                <a:off x="4386600" y="8785080"/>
                <a:ext cx="108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 flipV="1">
                <a:off x="4461480" y="8785080"/>
                <a:ext cx="144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 flipV="1">
                <a:off x="4530960" y="8785080"/>
                <a:ext cx="108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 flipV="1">
                <a:off x="4588560" y="8785080"/>
                <a:ext cx="144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 flipV="1">
                <a:off x="4986000" y="8785080"/>
                <a:ext cx="144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 flipV="1">
                <a:off x="5215680" y="8785080"/>
                <a:ext cx="144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 flipV="1">
                <a:off x="5379120" y="8785080"/>
                <a:ext cx="108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 flipV="1">
                <a:off x="5507640" y="8785080"/>
                <a:ext cx="108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 flipV="1">
                <a:off x="5610240" y="8785080"/>
                <a:ext cx="144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 flipV="1">
                <a:off x="5698440" y="8785080"/>
                <a:ext cx="144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 flipV="1">
                <a:off x="5773320" y="8785080"/>
                <a:ext cx="144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 flipV="1">
                <a:off x="5842800" y="8785080"/>
                <a:ext cx="108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 flipV="1">
                <a:off x="5900400" y="8785080"/>
                <a:ext cx="144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 flipV="1">
                <a:off x="1962360" y="8781840"/>
                <a:ext cx="1080" cy="68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 flipV="1">
                <a:off x="3274200" y="8781840"/>
                <a:ext cx="1080" cy="68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 flipV="1">
                <a:off x="4586040" y="8781840"/>
                <a:ext cx="1080" cy="68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 flipV="1">
                <a:off x="5897880" y="8781840"/>
                <a:ext cx="1080" cy="68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 flipV="1">
                <a:off x="1959480" y="5946480"/>
                <a:ext cx="1080" cy="283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1959480" y="8779680"/>
                <a:ext cx="3935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1959480" y="5946480"/>
                <a:ext cx="3852720" cy="2109240"/>
              </a:xfrm>
              <a:custGeom>
                <a:avLst/>
                <a:gdLst/>
                <a:ahLst/>
                <a:rect l="l" t="t" r="r" b="b"/>
                <a:pathLst>
                  <a:path w="2667" h="1489">
                    <a:moveTo>
                      <a:pt x="2667" y="0"/>
                    </a:moveTo>
                    <a:lnTo>
                      <a:pt x="2667" y="101"/>
                    </a:lnTo>
                    <a:lnTo>
                      <a:pt x="2653" y="662"/>
                    </a:lnTo>
                    <a:lnTo>
                      <a:pt x="2640" y="1007"/>
                    </a:lnTo>
                    <a:lnTo>
                      <a:pt x="2627" y="1222"/>
                    </a:lnTo>
                    <a:lnTo>
                      <a:pt x="2611" y="1355"/>
                    </a:lnTo>
                    <a:lnTo>
                      <a:pt x="2598" y="1434"/>
                    </a:lnTo>
                    <a:lnTo>
                      <a:pt x="2584" y="1474"/>
                    </a:lnTo>
                    <a:lnTo>
                      <a:pt x="2571" y="1489"/>
                    </a:lnTo>
                    <a:lnTo>
                      <a:pt x="2557" y="1485"/>
                    </a:lnTo>
                    <a:lnTo>
                      <a:pt x="2544" y="1468"/>
                    </a:lnTo>
                    <a:lnTo>
                      <a:pt x="2531" y="1443"/>
                    </a:lnTo>
                    <a:lnTo>
                      <a:pt x="2517" y="1411"/>
                    </a:lnTo>
                    <a:lnTo>
                      <a:pt x="2504" y="1376"/>
                    </a:lnTo>
                    <a:lnTo>
                      <a:pt x="2490" y="1338"/>
                    </a:lnTo>
                    <a:lnTo>
                      <a:pt x="2477" y="1297"/>
                    </a:lnTo>
                    <a:lnTo>
                      <a:pt x="2461" y="1259"/>
                    </a:lnTo>
                    <a:lnTo>
                      <a:pt x="2448" y="1219"/>
                    </a:lnTo>
                    <a:lnTo>
                      <a:pt x="2435" y="1180"/>
                    </a:lnTo>
                    <a:lnTo>
                      <a:pt x="2421" y="1144"/>
                    </a:lnTo>
                    <a:lnTo>
                      <a:pt x="2408" y="1107"/>
                    </a:lnTo>
                    <a:lnTo>
                      <a:pt x="2394" y="1073"/>
                    </a:lnTo>
                    <a:lnTo>
                      <a:pt x="2381" y="1040"/>
                    </a:lnTo>
                    <a:lnTo>
                      <a:pt x="2367" y="1009"/>
                    </a:lnTo>
                    <a:lnTo>
                      <a:pt x="2354" y="981"/>
                    </a:lnTo>
                    <a:lnTo>
                      <a:pt x="2340" y="954"/>
                    </a:lnTo>
                    <a:lnTo>
                      <a:pt x="2327" y="927"/>
                    </a:lnTo>
                    <a:lnTo>
                      <a:pt x="2314" y="904"/>
                    </a:lnTo>
                    <a:lnTo>
                      <a:pt x="2298" y="881"/>
                    </a:lnTo>
                    <a:lnTo>
                      <a:pt x="2285" y="862"/>
                    </a:lnTo>
                    <a:lnTo>
                      <a:pt x="2271" y="842"/>
                    </a:lnTo>
                    <a:lnTo>
                      <a:pt x="2258" y="825"/>
                    </a:lnTo>
                    <a:lnTo>
                      <a:pt x="2244" y="808"/>
                    </a:lnTo>
                    <a:lnTo>
                      <a:pt x="2231" y="792"/>
                    </a:lnTo>
                    <a:lnTo>
                      <a:pt x="2218" y="779"/>
                    </a:lnTo>
                    <a:lnTo>
                      <a:pt x="2204" y="768"/>
                    </a:lnTo>
                    <a:lnTo>
                      <a:pt x="2191" y="756"/>
                    </a:lnTo>
                    <a:lnTo>
                      <a:pt x="2177" y="746"/>
                    </a:lnTo>
                    <a:lnTo>
                      <a:pt x="2164" y="737"/>
                    </a:lnTo>
                    <a:lnTo>
                      <a:pt x="2150" y="729"/>
                    </a:lnTo>
                    <a:lnTo>
                      <a:pt x="2135" y="721"/>
                    </a:lnTo>
                    <a:lnTo>
                      <a:pt x="2122" y="716"/>
                    </a:lnTo>
                    <a:lnTo>
                      <a:pt x="2108" y="710"/>
                    </a:lnTo>
                    <a:lnTo>
                      <a:pt x="2095" y="706"/>
                    </a:lnTo>
                    <a:lnTo>
                      <a:pt x="2081" y="700"/>
                    </a:lnTo>
                    <a:lnTo>
                      <a:pt x="2068" y="698"/>
                    </a:lnTo>
                    <a:lnTo>
                      <a:pt x="2054" y="695"/>
                    </a:lnTo>
                    <a:lnTo>
                      <a:pt x="2041" y="693"/>
                    </a:lnTo>
                    <a:lnTo>
                      <a:pt x="2027" y="691"/>
                    </a:lnTo>
                    <a:lnTo>
                      <a:pt x="2014" y="689"/>
                    </a:lnTo>
                    <a:lnTo>
                      <a:pt x="2001" y="687"/>
                    </a:lnTo>
                    <a:lnTo>
                      <a:pt x="1987" y="687"/>
                    </a:lnTo>
                    <a:lnTo>
                      <a:pt x="1972" y="685"/>
                    </a:lnTo>
                    <a:lnTo>
                      <a:pt x="1958" y="685"/>
                    </a:lnTo>
                    <a:lnTo>
                      <a:pt x="1945" y="685"/>
                    </a:lnTo>
                    <a:lnTo>
                      <a:pt x="1931" y="685"/>
                    </a:lnTo>
                    <a:lnTo>
                      <a:pt x="1918" y="687"/>
                    </a:lnTo>
                    <a:lnTo>
                      <a:pt x="1905" y="687"/>
                    </a:lnTo>
                    <a:lnTo>
                      <a:pt x="1891" y="687"/>
                    </a:lnTo>
                    <a:lnTo>
                      <a:pt x="1878" y="689"/>
                    </a:lnTo>
                    <a:lnTo>
                      <a:pt x="1864" y="691"/>
                    </a:lnTo>
                    <a:lnTo>
                      <a:pt x="1851" y="691"/>
                    </a:lnTo>
                    <a:lnTo>
                      <a:pt x="1837" y="693"/>
                    </a:lnTo>
                    <a:lnTo>
                      <a:pt x="1824" y="695"/>
                    </a:lnTo>
                    <a:lnTo>
                      <a:pt x="1809" y="697"/>
                    </a:lnTo>
                    <a:lnTo>
                      <a:pt x="1795" y="698"/>
                    </a:lnTo>
                    <a:lnTo>
                      <a:pt x="1782" y="700"/>
                    </a:lnTo>
                    <a:lnTo>
                      <a:pt x="1768" y="702"/>
                    </a:lnTo>
                    <a:lnTo>
                      <a:pt x="1755" y="704"/>
                    </a:lnTo>
                    <a:lnTo>
                      <a:pt x="1741" y="706"/>
                    </a:lnTo>
                    <a:lnTo>
                      <a:pt x="1728" y="708"/>
                    </a:lnTo>
                    <a:lnTo>
                      <a:pt x="1714" y="710"/>
                    </a:lnTo>
                    <a:lnTo>
                      <a:pt x="1701" y="712"/>
                    </a:lnTo>
                    <a:lnTo>
                      <a:pt x="1688" y="714"/>
                    </a:lnTo>
                    <a:lnTo>
                      <a:pt x="1674" y="716"/>
                    </a:lnTo>
                    <a:lnTo>
                      <a:pt x="1661" y="718"/>
                    </a:lnTo>
                    <a:lnTo>
                      <a:pt x="1645" y="720"/>
                    </a:lnTo>
                    <a:lnTo>
                      <a:pt x="1632" y="721"/>
                    </a:lnTo>
                    <a:lnTo>
                      <a:pt x="1618" y="723"/>
                    </a:lnTo>
                    <a:lnTo>
                      <a:pt x="1605" y="725"/>
                    </a:lnTo>
                    <a:lnTo>
                      <a:pt x="1592" y="727"/>
                    </a:lnTo>
                    <a:lnTo>
                      <a:pt x="1578" y="729"/>
                    </a:lnTo>
                    <a:lnTo>
                      <a:pt x="1565" y="731"/>
                    </a:lnTo>
                    <a:lnTo>
                      <a:pt x="1551" y="733"/>
                    </a:lnTo>
                    <a:lnTo>
                      <a:pt x="1538" y="735"/>
                    </a:lnTo>
                    <a:lnTo>
                      <a:pt x="1524" y="737"/>
                    </a:lnTo>
                    <a:lnTo>
                      <a:pt x="1511" y="739"/>
                    </a:lnTo>
                    <a:lnTo>
                      <a:pt x="1496" y="741"/>
                    </a:lnTo>
                    <a:lnTo>
                      <a:pt x="1482" y="743"/>
                    </a:lnTo>
                    <a:lnTo>
                      <a:pt x="1469" y="744"/>
                    </a:lnTo>
                    <a:lnTo>
                      <a:pt x="1455" y="746"/>
                    </a:lnTo>
                    <a:lnTo>
                      <a:pt x="1442" y="748"/>
                    </a:lnTo>
                    <a:lnTo>
                      <a:pt x="1428" y="750"/>
                    </a:lnTo>
                    <a:lnTo>
                      <a:pt x="1415" y="752"/>
                    </a:lnTo>
                    <a:lnTo>
                      <a:pt x="1402" y="752"/>
                    </a:lnTo>
                    <a:lnTo>
                      <a:pt x="1388" y="754"/>
                    </a:lnTo>
                    <a:lnTo>
                      <a:pt x="1375" y="756"/>
                    </a:lnTo>
                    <a:lnTo>
                      <a:pt x="1361" y="758"/>
                    </a:lnTo>
                    <a:lnTo>
                      <a:pt x="1348" y="760"/>
                    </a:lnTo>
                    <a:lnTo>
                      <a:pt x="1332" y="760"/>
                    </a:lnTo>
                    <a:lnTo>
                      <a:pt x="1319" y="762"/>
                    </a:lnTo>
                    <a:lnTo>
                      <a:pt x="1306" y="764"/>
                    </a:lnTo>
                    <a:lnTo>
                      <a:pt x="1292" y="764"/>
                    </a:lnTo>
                    <a:lnTo>
                      <a:pt x="1279" y="766"/>
                    </a:lnTo>
                    <a:lnTo>
                      <a:pt x="1265" y="768"/>
                    </a:lnTo>
                    <a:lnTo>
                      <a:pt x="1252" y="768"/>
                    </a:lnTo>
                    <a:lnTo>
                      <a:pt x="1238" y="769"/>
                    </a:lnTo>
                    <a:lnTo>
                      <a:pt x="1225" y="771"/>
                    </a:lnTo>
                    <a:lnTo>
                      <a:pt x="1211" y="771"/>
                    </a:lnTo>
                    <a:lnTo>
                      <a:pt x="1198" y="773"/>
                    </a:lnTo>
                    <a:lnTo>
                      <a:pt x="1185" y="773"/>
                    </a:lnTo>
                    <a:lnTo>
                      <a:pt x="1169" y="775"/>
                    </a:lnTo>
                    <a:lnTo>
                      <a:pt x="1156" y="775"/>
                    </a:lnTo>
                    <a:lnTo>
                      <a:pt x="1142" y="777"/>
                    </a:lnTo>
                    <a:lnTo>
                      <a:pt x="1129" y="777"/>
                    </a:lnTo>
                    <a:lnTo>
                      <a:pt x="1115" y="779"/>
                    </a:lnTo>
                    <a:lnTo>
                      <a:pt x="1102" y="779"/>
                    </a:lnTo>
                    <a:lnTo>
                      <a:pt x="1089" y="781"/>
                    </a:lnTo>
                    <a:lnTo>
                      <a:pt x="1075" y="781"/>
                    </a:lnTo>
                    <a:lnTo>
                      <a:pt x="1062" y="781"/>
                    </a:lnTo>
                    <a:lnTo>
                      <a:pt x="1048" y="783"/>
                    </a:lnTo>
                    <a:lnTo>
                      <a:pt x="1035" y="783"/>
                    </a:lnTo>
                    <a:lnTo>
                      <a:pt x="1021" y="785"/>
                    </a:lnTo>
                    <a:lnTo>
                      <a:pt x="1006" y="785"/>
                    </a:lnTo>
                    <a:lnTo>
                      <a:pt x="993" y="785"/>
                    </a:lnTo>
                    <a:lnTo>
                      <a:pt x="979" y="787"/>
                    </a:lnTo>
                    <a:lnTo>
                      <a:pt x="966" y="787"/>
                    </a:lnTo>
                    <a:lnTo>
                      <a:pt x="952" y="787"/>
                    </a:lnTo>
                    <a:lnTo>
                      <a:pt x="939" y="789"/>
                    </a:lnTo>
                    <a:lnTo>
                      <a:pt x="925" y="789"/>
                    </a:lnTo>
                    <a:lnTo>
                      <a:pt x="912" y="789"/>
                    </a:lnTo>
                    <a:lnTo>
                      <a:pt x="898" y="791"/>
                    </a:lnTo>
                    <a:lnTo>
                      <a:pt x="885" y="791"/>
                    </a:lnTo>
                    <a:lnTo>
                      <a:pt x="872" y="791"/>
                    </a:lnTo>
                    <a:lnTo>
                      <a:pt x="858" y="791"/>
                    </a:lnTo>
                    <a:lnTo>
                      <a:pt x="843" y="792"/>
                    </a:lnTo>
                    <a:lnTo>
                      <a:pt x="829" y="792"/>
                    </a:lnTo>
                    <a:lnTo>
                      <a:pt x="816" y="792"/>
                    </a:lnTo>
                    <a:lnTo>
                      <a:pt x="802" y="792"/>
                    </a:lnTo>
                    <a:lnTo>
                      <a:pt x="789" y="794"/>
                    </a:lnTo>
                    <a:lnTo>
                      <a:pt x="776" y="794"/>
                    </a:lnTo>
                    <a:lnTo>
                      <a:pt x="762" y="794"/>
                    </a:lnTo>
                    <a:lnTo>
                      <a:pt x="749" y="794"/>
                    </a:lnTo>
                    <a:lnTo>
                      <a:pt x="735" y="794"/>
                    </a:lnTo>
                    <a:lnTo>
                      <a:pt x="722" y="796"/>
                    </a:lnTo>
                    <a:lnTo>
                      <a:pt x="708" y="796"/>
                    </a:lnTo>
                    <a:lnTo>
                      <a:pt x="693" y="796"/>
                    </a:lnTo>
                    <a:lnTo>
                      <a:pt x="680" y="796"/>
                    </a:lnTo>
                    <a:lnTo>
                      <a:pt x="666" y="796"/>
                    </a:lnTo>
                    <a:lnTo>
                      <a:pt x="653" y="798"/>
                    </a:lnTo>
                    <a:lnTo>
                      <a:pt x="639" y="798"/>
                    </a:lnTo>
                    <a:lnTo>
                      <a:pt x="626" y="798"/>
                    </a:lnTo>
                    <a:lnTo>
                      <a:pt x="612" y="798"/>
                    </a:lnTo>
                    <a:lnTo>
                      <a:pt x="599" y="798"/>
                    </a:lnTo>
                    <a:lnTo>
                      <a:pt x="585" y="798"/>
                    </a:lnTo>
                    <a:lnTo>
                      <a:pt x="572" y="798"/>
                    </a:lnTo>
                    <a:lnTo>
                      <a:pt x="559" y="800"/>
                    </a:lnTo>
                    <a:lnTo>
                      <a:pt x="545" y="800"/>
                    </a:lnTo>
                    <a:lnTo>
                      <a:pt x="530" y="800"/>
                    </a:lnTo>
                    <a:lnTo>
                      <a:pt x="516" y="800"/>
                    </a:lnTo>
                    <a:lnTo>
                      <a:pt x="503" y="800"/>
                    </a:lnTo>
                    <a:lnTo>
                      <a:pt x="489" y="800"/>
                    </a:lnTo>
                    <a:lnTo>
                      <a:pt x="476" y="800"/>
                    </a:lnTo>
                    <a:lnTo>
                      <a:pt x="463" y="800"/>
                    </a:lnTo>
                    <a:lnTo>
                      <a:pt x="449" y="800"/>
                    </a:lnTo>
                    <a:lnTo>
                      <a:pt x="436" y="802"/>
                    </a:lnTo>
                    <a:lnTo>
                      <a:pt x="422" y="802"/>
                    </a:lnTo>
                    <a:lnTo>
                      <a:pt x="409" y="802"/>
                    </a:lnTo>
                    <a:lnTo>
                      <a:pt x="395" y="802"/>
                    </a:lnTo>
                    <a:lnTo>
                      <a:pt x="382" y="802"/>
                    </a:lnTo>
                    <a:lnTo>
                      <a:pt x="369" y="802"/>
                    </a:lnTo>
                    <a:lnTo>
                      <a:pt x="353" y="802"/>
                    </a:lnTo>
                    <a:lnTo>
                      <a:pt x="340" y="802"/>
                    </a:lnTo>
                    <a:lnTo>
                      <a:pt x="326" y="802"/>
                    </a:lnTo>
                    <a:lnTo>
                      <a:pt x="313" y="802"/>
                    </a:lnTo>
                    <a:lnTo>
                      <a:pt x="299" y="802"/>
                    </a:lnTo>
                    <a:lnTo>
                      <a:pt x="286" y="802"/>
                    </a:lnTo>
                    <a:lnTo>
                      <a:pt x="272" y="802"/>
                    </a:lnTo>
                    <a:lnTo>
                      <a:pt x="259" y="802"/>
                    </a:lnTo>
                    <a:lnTo>
                      <a:pt x="246" y="804"/>
                    </a:lnTo>
                    <a:lnTo>
                      <a:pt x="232" y="804"/>
                    </a:lnTo>
                    <a:lnTo>
                      <a:pt x="217" y="804"/>
                    </a:lnTo>
                    <a:lnTo>
                      <a:pt x="205" y="804"/>
                    </a:lnTo>
                    <a:lnTo>
                      <a:pt x="190" y="804"/>
                    </a:lnTo>
                    <a:lnTo>
                      <a:pt x="176" y="804"/>
                    </a:lnTo>
                    <a:lnTo>
                      <a:pt x="163" y="804"/>
                    </a:lnTo>
                    <a:lnTo>
                      <a:pt x="150" y="804"/>
                    </a:lnTo>
                    <a:lnTo>
                      <a:pt x="136" y="804"/>
                    </a:lnTo>
                    <a:lnTo>
                      <a:pt x="123" y="804"/>
                    </a:lnTo>
                    <a:lnTo>
                      <a:pt x="109" y="804"/>
                    </a:lnTo>
                    <a:lnTo>
                      <a:pt x="96" y="804"/>
                    </a:lnTo>
                    <a:lnTo>
                      <a:pt x="82" y="804"/>
                    </a:lnTo>
                    <a:lnTo>
                      <a:pt x="69" y="804"/>
                    </a:lnTo>
                    <a:lnTo>
                      <a:pt x="56" y="804"/>
                    </a:lnTo>
                    <a:lnTo>
                      <a:pt x="40" y="804"/>
                    </a:lnTo>
                    <a:lnTo>
                      <a:pt x="27" y="804"/>
                    </a:lnTo>
                    <a:lnTo>
                      <a:pt x="13" y="804"/>
                    </a:lnTo>
                    <a:lnTo>
                      <a:pt x="0" y="80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5776200" y="5953320"/>
                <a:ext cx="1152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5776200" y="6089760"/>
                <a:ext cx="11520" cy="43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5776200" y="6222600"/>
                <a:ext cx="1152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5776200" y="6358680"/>
                <a:ext cx="11520" cy="43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5776200" y="6492960"/>
                <a:ext cx="11520" cy="45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5776200" y="6629400"/>
                <a:ext cx="11520" cy="42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5776200" y="6762240"/>
                <a:ext cx="11520" cy="45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5776200" y="6898320"/>
                <a:ext cx="1152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5773320" y="6898320"/>
                <a:ext cx="11520" cy="42480"/>
              </a:xfrm>
              <a:custGeom>
                <a:avLst/>
                <a:gdLst/>
                <a:ahLst/>
                <a:rect l="l" t="t" r="r" b="b"/>
                <a:pathLst>
                  <a:path w="8" h="30">
                    <a:moveTo>
                      <a:pt x="2" y="0"/>
                    </a:moveTo>
                    <a:lnTo>
                      <a:pt x="0" y="28"/>
                    </a:lnTo>
                    <a:lnTo>
                      <a:pt x="6" y="30"/>
                    </a:lnTo>
                    <a:lnTo>
                      <a:pt x="8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5770800" y="7031520"/>
                <a:ext cx="11160" cy="45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5767560" y="7167600"/>
                <a:ext cx="11160" cy="42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5764680" y="7300800"/>
                <a:ext cx="11160" cy="45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5761800" y="7436520"/>
                <a:ext cx="11160" cy="42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5758920" y="7570080"/>
                <a:ext cx="11520" cy="45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5756040" y="7705800"/>
                <a:ext cx="11520" cy="42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5743080" y="7836120"/>
                <a:ext cx="12600" cy="47880"/>
              </a:xfrm>
              <a:custGeom>
                <a:avLst/>
                <a:gdLst/>
                <a:ahLst/>
                <a:rect l="l" t="t" r="r" b="b"/>
                <a:pathLst>
                  <a:path w="9" h="34">
                    <a:moveTo>
                      <a:pt x="4" y="0"/>
                    </a:moveTo>
                    <a:lnTo>
                      <a:pt x="0" y="32"/>
                    </a:lnTo>
                    <a:lnTo>
                      <a:pt x="6" y="34"/>
                    </a:lnTo>
                    <a:lnTo>
                      <a:pt x="9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5715720" y="7969320"/>
                <a:ext cx="10080" cy="11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6"/>
                    </a:lnTo>
                    <a:lnTo>
                      <a:pt x="5" y="8"/>
                    </a:lnTo>
                    <a:lnTo>
                      <a:pt x="7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5698440" y="7963920"/>
                <a:ext cx="21600" cy="1800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8"/>
                    </a:moveTo>
                    <a:lnTo>
                      <a:pt x="2" y="0"/>
                    </a:lnTo>
                    <a:lnTo>
                      <a:pt x="0" y="6"/>
                    </a:lnTo>
                    <a:lnTo>
                      <a:pt x="14" y="13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5686920" y="794952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10"/>
                    </a:moveTo>
                    <a:lnTo>
                      <a:pt x="6" y="0"/>
                    </a:lnTo>
                    <a:lnTo>
                      <a:pt x="0" y="6"/>
                    </a:lnTo>
                    <a:lnTo>
                      <a:pt x="6" y="16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5637600" y="784872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16"/>
                    </a:moveTo>
                    <a:lnTo>
                      <a:pt x="6" y="0"/>
                    </a:lnTo>
                    <a:lnTo>
                      <a:pt x="0" y="2"/>
                    </a:lnTo>
                    <a:lnTo>
                      <a:pt x="6" y="18"/>
                    </a:lnTo>
                    <a:lnTo>
                      <a:pt x="1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5628960" y="7827480"/>
                <a:ext cx="17280" cy="2376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15"/>
                    </a:moveTo>
                    <a:lnTo>
                      <a:pt x="6" y="0"/>
                    </a:lnTo>
                    <a:lnTo>
                      <a:pt x="0" y="2"/>
                    </a:lnTo>
                    <a:lnTo>
                      <a:pt x="6" y="17"/>
                    </a:lnTo>
                    <a:lnTo>
                      <a:pt x="1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5580000" y="7711560"/>
                <a:ext cx="21600" cy="3384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5" y="23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9" y="24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5574240" y="7700040"/>
                <a:ext cx="12960" cy="154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6"/>
                    </a:moveTo>
                    <a:lnTo>
                      <a:pt x="5" y="0"/>
                    </a:lnTo>
                    <a:lnTo>
                      <a:pt x="0" y="6"/>
                    </a:lnTo>
                    <a:lnTo>
                      <a:pt x="4" y="11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5517720" y="7588440"/>
                <a:ext cx="25560" cy="35280"/>
              </a:xfrm>
              <a:custGeom>
                <a:avLst/>
                <a:gdLst/>
                <a:ahLst/>
                <a:rect l="l" t="t" r="r" b="b"/>
                <a:pathLst>
                  <a:path w="18" h="25">
                    <a:moveTo>
                      <a:pt x="18" y="19"/>
                    </a:moveTo>
                    <a:lnTo>
                      <a:pt x="6" y="0"/>
                    </a:lnTo>
                    <a:lnTo>
                      <a:pt x="0" y="6"/>
                    </a:lnTo>
                    <a:lnTo>
                      <a:pt x="12" y="25"/>
                    </a:lnTo>
                    <a:lnTo>
                      <a:pt x="1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5510520" y="7575480"/>
                <a:ext cx="15480" cy="2088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11" y="9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5" y="15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5459760" y="7490520"/>
                <a:ext cx="1152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4"/>
                    </a:moveTo>
                    <a:lnTo>
                      <a:pt x="6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5441040" y="7457760"/>
                <a:ext cx="27360" cy="3816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9" y="21"/>
                    </a:moveTo>
                    <a:lnTo>
                      <a:pt x="5" y="0"/>
                    </a:lnTo>
                    <a:lnTo>
                      <a:pt x="0" y="6"/>
                    </a:lnTo>
                    <a:lnTo>
                      <a:pt x="13" y="27"/>
                    </a:lnTo>
                    <a:lnTo>
                      <a:pt x="1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5438160" y="745524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2"/>
                    </a:moveTo>
                    <a:lnTo>
                      <a:pt x="5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5363280" y="7360200"/>
                <a:ext cx="27360" cy="295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9" y="15"/>
                    </a:moveTo>
                    <a:lnTo>
                      <a:pt x="6" y="0"/>
                    </a:lnTo>
                    <a:lnTo>
                      <a:pt x="0" y="6"/>
                    </a:lnTo>
                    <a:lnTo>
                      <a:pt x="13" y="21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5348880" y="7343280"/>
                <a:ext cx="23040" cy="2556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16" y="12"/>
                    </a:moveTo>
                    <a:lnTo>
                      <a:pt x="6" y="0"/>
                    </a:lnTo>
                    <a:lnTo>
                      <a:pt x="0" y="6"/>
                    </a:lnTo>
                    <a:lnTo>
                      <a:pt x="10" y="18"/>
                    </a:lnTo>
                    <a:lnTo>
                      <a:pt x="1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5263560" y="7268040"/>
                <a:ext cx="21600" cy="212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9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9" y="15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5243400" y="7251120"/>
                <a:ext cx="27360" cy="2376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12"/>
                    </a:moveTo>
                    <a:lnTo>
                      <a:pt x="6" y="0"/>
                    </a:lnTo>
                    <a:lnTo>
                      <a:pt x="0" y="6"/>
                    </a:lnTo>
                    <a:lnTo>
                      <a:pt x="14" y="17"/>
                    </a:lnTo>
                    <a:lnTo>
                      <a:pt x="1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5149080" y="7185960"/>
                <a:ext cx="21600" cy="1800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8"/>
                    </a:moveTo>
                    <a:lnTo>
                      <a:pt x="2" y="0"/>
                    </a:lnTo>
                    <a:lnTo>
                      <a:pt x="0" y="6"/>
                    </a:lnTo>
                    <a:lnTo>
                      <a:pt x="13" y="13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5129280" y="7174440"/>
                <a:ext cx="22680" cy="1980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6" y="8"/>
                    </a:moveTo>
                    <a:lnTo>
                      <a:pt x="2" y="0"/>
                    </a:lnTo>
                    <a:lnTo>
                      <a:pt x="0" y="6"/>
                    </a:lnTo>
                    <a:lnTo>
                      <a:pt x="14" y="14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5124600" y="717192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2"/>
                    </a:moveTo>
                    <a:lnTo>
                      <a:pt x="5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5029200" y="712620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4"/>
                    </a:moveTo>
                    <a:lnTo>
                      <a:pt x="2" y="0"/>
                    </a:lnTo>
                    <a:lnTo>
                      <a:pt x="0" y="6"/>
                    </a:lnTo>
                    <a:lnTo>
                      <a:pt x="8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5010480" y="7117920"/>
                <a:ext cx="21600" cy="169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5" y="6"/>
                    </a:moveTo>
                    <a:lnTo>
                      <a:pt x="2" y="0"/>
                    </a:lnTo>
                    <a:lnTo>
                      <a:pt x="0" y="6"/>
                    </a:lnTo>
                    <a:lnTo>
                      <a:pt x="13" y="12"/>
                    </a:lnTo>
                    <a:lnTo>
                      <a:pt x="1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4999320" y="711216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4"/>
                    </a:moveTo>
                    <a:lnTo>
                      <a:pt x="2" y="0"/>
                    </a:lnTo>
                    <a:lnTo>
                      <a:pt x="0" y="6"/>
                    </a:lnTo>
                    <a:lnTo>
                      <a:pt x="8" y="10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4893840" y="7076880"/>
                <a:ext cx="17280" cy="140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4"/>
                    </a:moveTo>
                    <a:lnTo>
                      <a:pt x="2" y="0"/>
                    </a:lnTo>
                    <a:lnTo>
                      <a:pt x="0" y="6"/>
                    </a:lnTo>
                    <a:lnTo>
                      <a:pt x="10" y="10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4875120" y="7071120"/>
                <a:ext cx="21600" cy="1440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2" y="0"/>
                    </a:lnTo>
                    <a:lnTo>
                      <a:pt x="0" y="6"/>
                    </a:lnTo>
                    <a:lnTo>
                      <a:pt x="13" y="10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4860360" y="7066800"/>
                <a:ext cx="17280" cy="126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3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10" y="9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4755240" y="7041600"/>
                <a:ext cx="16920" cy="111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2"/>
                    </a:moveTo>
                    <a:lnTo>
                      <a:pt x="2" y="0"/>
                    </a:lnTo>
                    <a:lnTo>
                      <a:pt x="0" y="6"/>
                    </a:lnTo>
                    <a:lnTo>
                      <a:pt x="10" y="8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4736160" y="7038720"/>
                <a:ext cx="21600" cy="111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5" y="2"/>
                    </a:moveTo>
                    <a:lnTo>
                      <a:pt x="2" y="0"/>
                    </a:lnTo>
                    <a:lnTo>
                      <a:pt x="0" y="6"/>
                    </a:lnTo>
                    <a:lnTo>
                      <a:pt x="13" y="8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4724640" y="703440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3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8" y="9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4622040" y="7017480"/>
                <a:ext cx="144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4600440" y="7014600"/>
                <a:ext cx="21600" cy="111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5" y="2"/>
                    </a:moveTo>
                    <a:lnTo>
                      <a:pt x="2" y="0"/>
                    </a:lnTo>
                    <a:lnTo>
                      <a:pt x="0" y="6"/>
                    </a:lnTo>
                    <a:lnTo>
                      <a:pt x="13" y="8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4586040" y="7008840"/>
                <a:ext cx="17280" cy="144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4"/>
                    </a:moveTo>
                    <a:lnTo>
                      <a:pt x="2" y="0"/>
                    </a:lnTo>
                    <a:lnTo>
                      <a:pt x="0" y="6"/>
                    </a:lnTo>
                    <a:lnTo>
                      <a:pt x="10" y="10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4483440" y="699912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4461480" y="6996240"/>
                <a:ext cx="21600" cy="972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5" y="2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13" y="7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4449960" y="699336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10" y="2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8" y="7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4344480" y="698220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4322880" y="6979320"/>
                <a:ext cx="21600" cy="111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5" y="2"/>
                    </a:moveTo>
                    <a:lnTo>
                      <a:pt x="2" y="0"/>
                    </a:lnTo>
                    <a:lnTo>
                      <a:pt x="0" y="6"/>
                    </a:lnTo>
                    <a:lnTo>
                      <a:pt x="13" y="8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4314600" y="6979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4209120" y="6970680"/>
                <a:ext cx="14400" cy="1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4187160" y="6967800"/>
                <a:ext cx="21600" cy="111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5" y="2"/>
                    </a:moveTo>
                    <a:lnTo>
                      <a:pt x="2" y="0"/>
                    </a:lnTo>
                    <a:lnTo>
                      <a:pt x="0" y="6"/>
                    </a:lnTo>
                    <a:lnTo>
                      <a:pt x="13" y="8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4178520" y="696780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4070160" y="69634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4048560" y="6960960"/>
                <a:ext cx="21600" cy="936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5" y="2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13" y="7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4039920" y="69609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3934440" y="6955200"/>
                <a:ext cx="144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3915720" y="6955200"/>
                <a:ext cx="18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3903840" y="6955200"/>
                <a:ext cx="115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3795480" y="6949440"/>
                <a:ext cx="15840" cy="1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3775680" y="6949440"/>
                <a:ext cx="19800" cy="1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3765240" y="6949440"/>
                <a:ext cx="10080" cy="1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3656880" y="6946560"/>
                <a:ext cx="15840" cy="1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3636720" y="6946560"/>
                <a:ext cx="20160" cy="1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3629520" y="6946560"/>
                <a:ext cx="7200" cy="1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3521160" y="6943680"/>
                <a:ext cx="154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3501000" y="6943680"/>
                <a:ext cx="20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3490920" y="6943680"/>
                <a:ext cx="10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3382560" y="6940800"/>
                <a:ext cx="158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3362400" y="6940800"/>
                <a:ext cx="198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3355200" y="6940800"/>
                <a:ext cx="72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3246840" y="6937920"/>
                <a:ext cx="154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3226320" y="6937920"/>
                <a:ext cx="20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3216240" y="6937920"/>
                <a:ext cx="10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3107880" y="6937920"/>
                <a:ext cx="158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3087720" y="6937920"/>
                <a:ext cx="198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3080520" y="6937920"/>
                <a:ext cx="72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2969280" y="6935040"/>
                <a:ext cx="18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2949120" y="6935040"/>
                <a:ext cx="20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2941920" y="6935040"/>
                <a:ext cx="72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2833560" y="6935040"/>
                <a:ext cx="154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2813400" y="6935040"/>
                <a:ext cx="20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2804400" y="6935040"/>
                <a:ext cx="8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2694600" y="6935040"/>
                <a:ext cx="187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2674800" y="6935040"/>
                <a:ext cx="198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2665800" y="6935040"/>
                <a:ext cx="8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2559240" y="6935040"/>
                <a:ext cx="154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2535840" y="6933960"/>
                <a:ext cx="23040" cy="972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6" y="1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14" y="7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2530440" y="6933960"/>
                <a:ext cx="8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2420280" y="693396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2400120" y="6933960"/>
                <a:ext cx="19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2391480" y="6933960"/>
                <a:ext cx="8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2281680" y="6933960"/>
                <a:ext cx="18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2264400" y="69339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2255760" y="6933960"/>
                <a:ext cx="8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2144160" y="6933960"/>
                <a:ext cx="20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2125800" y="6933960"/>
                <a:ext cx="18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2116800" y="6933960"/>
                <a:ext cx="8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2005920" y="6933960"/>
                <a:ext cx="20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1987200" y="6933960"/>
                <a:ext cx="18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1981080" y="6933960"/>
                <a:ext cx="57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5490360" y="768600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9" y="8"/>
                    </a:moveTo>
                    <a:lnTo>
                      <a:pt x="14" y="0"/>
                    </a:lnTo>
                    <a:lnTo>
                      <a:pt x="0" y="10"/>
                    </a:lnTo>
                    <a:lnTo>
                      <a:pt x="6" y="18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5474520" y="7659360"/>
                <a:ext cx="24480" cy="1800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7" y="8"/>
                    </a:moveTo>
                    <a:lnTo>
                      <a:pt x="13" y="0"/>
                    </a:lnTo>
                    <a:lnTo>
                      <a:pt x="0" y="6"/>
                    </a:lnTo>
                    <a:lnTo>
                      <a:pt x="3" y="13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5457240" y="7629480"/>
                <a:ext cx="24480" cy="1800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7" y="8"/>
                    </a:moveTo>
                    <a:lnTo>
                      <a:pt x="14" y="0"/>
                    </a:lnTo>
                    <a:lnTo>
                      <a:pt x="0" y="6"/>
                    </a:lnTo>
                    <a:lnTo>
                      <a:pt x="4" y="13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5441040" y="7599600"/>
                <a:ext cx="24480" cy="208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7" y="6"/>
                    </a:moveTo>
                    <a:lnTo>
                      <a:pt x="13" y="0"/>
                    </a:lnTo>
                    <a:lnTo>
                      <a:pt x="0" y="9"/>
                    </a:lnTo>
                    <a:lnTo>
                      <a:pt x="3" y="15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5423760" y="7570080"/>
                <a:ext cx="24480" cy="208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7" y="5"/>
                    </a:moveTo>
                    <a:lnTo>
                      <a:pt x="13" y="0"/>
                    </a:lnTo>
                    <a:lnTo>
                      <a:pt x="0" y="9"/>
                    </a:lnTo>
                    <a:lnTo>
                      <a:pt x="4" y="15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5407920" y="7543080"/>
                <a:ext cx="24480" cy="1800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7" y="7"/>
                    </a:moveTo>
                    <a:lnTo>
                      <a:pt x="13" y="0"/>
                    </a:lnTo>
                    <a:lnTo>
                      <a:pt x="0" y="5"/>
                    </a:lnTo>
                    <a:lnTo>
                      <a:pt x="3" y="13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5390640" y="751176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17" y="8"/>
                    </a:moveTo>
                    <a:lnTo>
                      <a:pt x="13" y="0"/>
                    </a:lnTo>
                    <a:lnTo>
                      <a:pt x="0" y="6"/>
                    </a:lnTo>
                    <a:lnTo>
                      <a:pt x="4" y="14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5373360" y="7481880"/>
                <a:ext cx="25560" cy="1980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18" y="8"/>
                    </a:moveTo>
                    <a:lnTo>
                      <a:pt x="14" y="0"/>
                    </a:lnTo>
                    <a:lnTo>
                      <a:pt x="0" y="6"/>
                    </a:lnTo>
                    <a:lnTo>
                      <a:pt x="4" y="14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5357160" y="7452360"/>
                <a:ext cx="24480" cy="1944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17" y="8"/>
                    </a:moveTo>
                    <a:lnTo>
                      <a:pt x="13" y="0"/>
                    </a:lnTo>
                    <a:lnTo>
                      <a:pt x="0" y="6"/>
                    </a:lnTo>
                    <a:lnTo>
                      <a:pt x="4" y="14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5342760" y="7425360"/>
                <a:ext cx="23040" cy="140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8"/>
                    </a:moveTo>
                    <a:lnTo>
                      <a:pt x="14" y="0"/>
                    </a:lnTo>
                    <a:lnTo>
                      <a:pt x="0" y="2"/>
                    </a:lnTo>
                    <a:lnTo>
                      <a:pt x="2" y="10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5326920" y="7392600"/>
                <a:ext cx="24480" cy="1836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7" y="8"/>
                    </a:moveTo>
                    <a:lnTo>
                      <a:pt x="13" y="0"/>
                    </a:lnTo>
                    <a:lnTo>
                      <a:pt x="0" y="6"/>
                    </a:lnTo>
                    <a:lnTo>
                      <a:pt x="4" y="13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5309640" y="7363080"/>
                <a:ext cx="25560" cy="1800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18" y="7"/>
                    </a:moveTo>
                    <a:lnTo>
                      <a:pt x="14" y="0"/>
                    </a:lnTo>
                    <a:lnTo>
                      <a:pt x="0" y="6"/>
                    </a:lnTo>
                    <a:lnTo>
                      <a:pt x="4" y="13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5293800" y="7333200"/>
                <a:ext cx="24480" cy="1836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7" y="7"/>
                    </a:moveTo>
                    <a:lnTo>
                      <a:pt x="13" y="0"/>
                    </a:lnTo>
                    <a:lnTo>
                      <a:pt x="0" y="5"/>
                    </a:lnTo>
                    <a:lnTo>
                      <a:pt x="4" y="13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5279400" y="7304760"/>
                <a:ext cx="23040" cy="140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8"/>
                    </a:moveTo>
                    <a:lnTo>
                      <a:pt x="14" y="0"/>
                    </a:lnTo>
                    <a:lnTo>
                      <a:pt x="0" y="2"/>
                    </a:lnTo>
                    <a:lnTo>
                      <a:pt x="2" y="10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5263560" y="7272360"/>
                <a:ext cx="24480" cy="1944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17" y="8"/>
                    </a:moveTo>
                    <a:lnTo>
                      <a:pt x="13" y="0"/>
                    </a:lnTo>
                    <a:lnTo>
                      <a:pt x="0" y="6"/>
                    </a:lnTo>
                    <a:lnTo>
                      <a:pt x="4" y="14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5246280" y="724248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17" y="8"/>
                    </a:moveTo>
                    <a:lnTo>
                      <a:pt x="14" y="0"/>
                    </a:lnTo>
                    <a:lnTo>
                      <a:pt x="0" y="6"/>
                    </a:lnTo>
                    <a:lnTo>
                      <a:pt x="4" y="14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5230080" y="721260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17" y="8"/>
                    </a:moveTo>
                    <a:lnTo>
                      <a:pt x="13" y="0"/>
                    </a:lnTo>
                    <a:lnTo>
                      <a:pt x="0" y="6"/>
                    </a:lnTo>
                    <a:lnTo>
                      <a:pt x="3" y="14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5215680" y="7185960"/>
                <a:ext cx="21600" cy="140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8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2" y="10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5196960" y="7150320"/>
                <a:ext cx="27360" cy="2376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8"/>
                    </a:moveTo>
                    <a:lnTo>
                      <a:pt x="13" y="0"/>
                    </a:lnTo>
                    <a:lnTo>
                      <a:pt x="0" y="10"/>
                    </a:lnTo>
                    <a:lnTo>
                      <a:pt x="5" y="17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5179680" y="7123680"/>
                <a:ext cx="24480" cy="208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7" y="6"/>
                    </a:moveTo>
                    <a:lnTo>
                      <a:pt x="13" y="0"/>
                    </a:lnTo>
                    <a:lnTo>
                      <a:pt x="0" y="9"/>
                    </a:lnTo>
                    <a:lnTo>
                      <a:pt x="4" y="15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5160960" y="7096680"/>
                <a:ext cx="24480" cy="1800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7" y="7"/>
                    </a:moveTo>
                    <a:lnTo>
                      <a:pt x="13" y="0"/>
                    </a:lnTo>
                    <a:lnTo>
                      <a:pt x="0" y="5"/>
                    </a:lnTo>
                    <a:lnTo>
                      <a:pt x="3" y="13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5143680" y="7066800"/>
                <a:ext cx="24480" cy="208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7" y="5"/>
                    </a:moveTo>
                    <a:lnTo>
                      <a:pt x="14" y="0"/>
                    </a:lnTo>
                    <a:lnTo>
                      <a:pt x="0" y="9"/>
                    </a:lnTo>
                    <a:lnTo>
                      <a:pt x="4" y="15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5124600" y="70387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17" y="8"/>
                    </a:moveTo>
                    <a:lnTo>
                      <a:pt x="13" y="0"/>
                    </a:lnTo>
                    <a:lnTo>
                      <a:pt x="0" y="6"/>
                    </a:lnTo>
                    <a:lnTo>
                      <a:pt x="3" y="14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5107680" y="7008840"/>
                <a:ext cx="24120" cy="2268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7" y="6"/>
                    </a:moveTo>
                    <a:lnTo>
                      <a:pt x="14" y="0"/>
                    </a:lnTo>
                    <a:lnTo>
                      <a:pt x="0" y="10"/>
                    </a:lnTo>
                    <a:lnTo>
                      <a:pt x="4" y="16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2" name=""/>
            <p:cNvSpPr/>
            <p:nvPr/>
          </p:nvSpPr>
          <p:spPr>
            <a:xfrm>
              <a:off x="5088600" y="6982200"/>
              <a:ext cx="24480" cy="180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8"/>
                  </a:moveTo>
                  <a:lnTo>
                    <a:pt x="13" y="0"/>
                  </a:lnTo>
                  <a:lnTo>
                    <a:pt x="0" y="6"/>
                  </a:lnTo>
                  <a:lnTo>
                    <a:pt x="4" y="13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5071320" y="6952320"/>
              <a:ext cx="24480" cy="208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7" y="6"/>
                  </a:moveTo>
                  <a:lnTo>
                    <a:pt x="14" y="0"/>
                  </a:lnTo>
                  <a:lnTo>
                    <a:pt x="0" y="10"/>
                  </a:lnTo>
                  <a:lnTo>
                    <a:pt x="4" y="15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5052600" y="6925320"/>
              <a:ext cx="24480" cy="1836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7"/>
                  </a:moveTo>
                  <a:lnTo>
                    <a:pt x="13" y="0"/>
                  </a:lnTo>
                  <a:lnTo>
                    <a:pt x="0" y="6"/>
                  </a:lnTo>
                  <a:lnTo>
                    <a:pt x="4" y="13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5035320" y="6895800"/>
              <a:ext cx="23040" cy="208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6" y="5"/>
                  </a:moveTo>
                  <a:lnTo>
                    <a:pt x="10" y="0"/>
                  </a:lnTo>
                  <a:lnTo>
                    <a:pt x="0" y="9"/>
                  </a:lnTo>
                  <a:lnTo>
                    <a:pt x="6" y="15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5013720" y="6865920"/>
              <a:ext cx="27360" cy="237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9" y="7"/>
                  </a:moveTo>
                  <a:lnTo>
                    <a:pt x="13" y="0"/>
                  </a:lnTo>
                  <a:lnTo>
                    <a:pt x="0" y="9"/>
                  </a:lnTo>
                  <a:lnTo>
                    <a:pt x="6" y="17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4993560" y="6837480"/>
              <a:ext cx="25920" cy="2232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6"/>
                  </a:moveTo>
                  <a:lnTo>
                    <a:pt x="14" y="0"/>
                  </a:lnTo>
                  <a:lnTo>
                    <a:pt x="0" y="10"/>
                  </a:lnTo>
                  <a:lnTo>
                    <a:pt x="4" y="1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4977720" y="6816240"/>
              <a:ext cx="21600" cy="140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4"/>
                  </a:moveTo>
                  <a:lnTo>
                    <a:pt x="13" y="0"/>
                  </a:lnTo>
                  <a:lnTo>
                    <a:pt x="0" y="6"/>
                  </a:lnTo>
                  <a:lnTo>
                    <a:pt x="2" y="10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4974840" y="6810480"/>
              <a:ext cx="21600" cy="140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4"/>
                  </a:moveTo>
                  <a:lnTo>
                    <a:pt x="13" y="0"/>
                  </a:lnTo>
                  <a:lnTo>
                    <a:pt x="0" y="6"/>
                  </a:lnTo>
                  <a:lnTo>
                    <a:pt x="2" y="10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4953240" y="6783480"/>
              <a:ext cx="24480" cy="208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7" y="6"/>
                  </a:moveTo>
                  <a:lnTo>
                    <a:pt x="13" y="0"/>
                  </a:lnTo>
                  <a:lnTo>
                    <a:pt x="0" y="10"/>
                  </a:lnTo>
                  <a:lnTo>
                    <a:pt x="3" y="15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4929840" y="6759360"/>
              <a:ext cx="25920" cy="2088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5"/>
                  </a:moveTo>
                  <a:lnTo>
                    <a:pt x="14" y="0"/>
                  </a:lnTo>
                  <a:lnTo>
                    <a:pt x="0" y="9"/>
                  </a:lnTo>
                  <a:lnTo>
                    <a:pt x="4" y="15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4908240" y="6731280"/>
              <a:ext cx="21600" cy="226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6"/>
                  </a:moveTo>
                  <a:lnTo>
                    <a:pt x="9" y="0"/>
                  </a:lnTo>
                  <a:lnTo>
                    <a:pt x="0" y="10"/>
                  </a:lnTo>
                  <a:lnTo>
                    <a:pt x="6" y="1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4886640" y="6710040"/>
              <a:ext cx="18360" cy="1980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4"/>
                  </a:moveTo>
                  <a:lnTo>
                    <a:pt x="9" y="0"/>
                  </a:lnTo>
                  <a:lnTo>
                    <a:pt x="0" y="10"/>
                  </a:lnTo>
                  <a:lnTo>
                    <a:pt x="3" y="1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4883760" y="6707160"/>
              <a:ext cx="15840" cy="169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2"/>
                  </a:moveTo>
                  <a:lnTo>
                    <a:pt x="9" y="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4854960" y="6683040"/>
              <a:ext cx="22680" cy="2376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4"/>
                  </a:moveTo>
                  <a:lnTo>
                    <a:pt x="10" y="0"/>
                  </a:lnTo>
                  <a:lnTo>
                    <a:pt x="0" y="13"/>
                  </a:lnTo>
                  <a:lnTo>
                    <a:pt x="6" y="17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4827240" y="6663240"/>
              <a:ext cx="23040" cy="226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6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6" y="1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4799880" y="6644880"/>
              <a:ext cx="18720" cy="2376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4"/>
                  </a:moveTo>
                  <a:lnTo>
                    <a:pt x="6" y="0"/>
                  </a:lnTo>
                  <a:lnTo>
                    <a:pt x="0" y="13"/>
                  </a:lnTo>
                  <a:lnTo>
                    <a:pt x="8" y="17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4766760" y="6629400"/>
              <a:ext cx="18360" cy="2376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3"/>
                  </a:moveTo>
                  <a:lnTo>
                    <a:pt x="6" y="0"/>
                  </a:lnTo>
                  <a:lnTo>
                    <a:pt x="0" y="13"/>
                  </a:lnTo>
                  <a:lnTo>
                    <a:pt x="8" y="17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4736160" y="6620760"/>
              <a:ext cx="15840" cy="2088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1" y="2"/>
                  </a:moveTo>
                  <a:lnTo>
                    <a:pt x="6" y="0"/>
                  </a:lnTo>
                  <a:lnTo>
                    <a:pt x="0" y="13"/>
                  </a:lnTo>
                  <a:lnTo>
                    <a:pt x="6" y="15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4730760" y="6620760"/>
              <a:ext cx="17280" cy="154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2"/>
                  </a:moveTo>
                  <a:lnTo>
                    <a:pt x="10" y="0"/>
                  </a:lnTo>
                  <a:lnTo>
                    <a:pt x="0" y="9"/>
                  </a:lnTo>
                  <a:lnTo>
                    <a:pt x="2" y="1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4700160" y="6612480"/>
              <a:ext cx="15480" cy="2088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1" y="2"/>
                  </a:moveTo>
                  <a:lnTo>
                    <a:pt x="2" y="0"/>
                  </a:lnTo>
                  <a:lnTo>
                    <a:pt x="0" y="13"/>
                  </a:lnTo>
                  <a:lnTo>
                    <a:pt x="9" y="15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4667040" y="6615360"/>
              <a:ext cx="12600" cy="2088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8" y="0"/>
                  </a:moveTo>
                  <a:lnTo>
                    <a:pt x="0" y="2"/>
                  </a:lnTo>
                  <a:lnTo>
                    <a:pt x="2" y="15"/>
                  </a:lnTo>
                  <a:lnTo>
                    <a:pt x="9" y="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4633560" y="6617880"/>
              <a:ext cx="12960" cy="2124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7" y="0"/>
                  </a:moveTo>
                  <a:lnTo>
                    <a:pt x="0" y="2"/>
                  </a:lnTo>
                  <a:lnTo>
                    <a:pt x="2" y="15"/>
                  </a:lnTo>
                  <a:lnTo>
                    <a:pt x="9" y="1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4597560" y="6626520"/>
              <a:ext cx="12960" cy="2088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8" y="0"/>
                  </a:moveTo>
                  <a:lnTo>
                    <a:pt x="0" y="2"/>
                  </a:lnTo>
                  <a:lnTo>
                    <a:pt x="2" y="15"/>
                  </a:lnTo>
                  <a:lnTo>
                    <a:pt x="9" y="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4574520" y="6633720"/>
              <a:ext cx="28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4564080" y="6633720"/>
              <a:ext cx="12960" cy="2232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4" y="0"/>
                  </a:moveTo>
                  <a:lnTo>
                    <a:pt x="0" y="2"/>
                  </a:lnTo>
                  <a:lnTo>
                    <a:pt x="6" y="16"/>
                  </a:lnTo>
                  <a:lnTo>
                    <a:pt x="9" y="1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4558680" y="6639480"/>
              <a:ext cx="15480" cy="165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2" y="0"/>
                  </a:moveTo>
                  <a:lnTo>
                    <a:pt x="0" y="2"/>
                  </a:lnTo>
                  <a:lnTo>
                    <a:pt x="10" y="12"/>
                  </a:lnTo>
                  <a:lnTo>
                    <a:pt x="11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4534200" y="6650640"/>
              <a:ext cx="12960" cy="2088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4" y="0"/>
                  </a:moveTo>
                  <a:lnTo>
                    <a:pt x="0" y="2"/>
                  </a:lnTo>
                  <a:lnTo>
                    <a:pt x="5" y="15"/>
                  </a:lnTo>
                  <a:lnTo>
                    <a:pt x="9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4528080" y="6653520"/>
              <a:ext cx="12960" cy="2088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4" y="0"/>
                  </a:moveTo>
                  <a:lnTo>
                    <a:pt x="0" y="2"/>
                  </a:lnTo>
                  <a:lnTo>
                    <a:pt x="6" y="15"/>
                  </a:lnTo>
                  <a:lnTo>
                    <a:pt x="9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4505400" y="6671880"/>
              <a:ext cx="2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4492080" y="6674760"/>
              <a:ext cx="18360" cy="194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4" y="0"/>
                  </a:moveTo>
                  <a:lnTo>
                    <a:pt x="0" y="4"/>
                  </a:lnTo>
                  <a:lnTo>
                    <a:pt x="9" y="14"/>
                  </a:lnTo>
                  <a:lnTo>
                    <a:pt x="13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4489200" y="6680160"/>
              <a:ext cx="15840" cy="154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0"/>
                  </a:moveTo>
                  <a:lnTo>
                    <a:pt x="0" y="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4464720" y="6696000"/>
              <a:ext cx="15840" cy="169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2" y="0"/>
                  </a:moveTo>
                  <a:lnTo>
                    <a:pt x="0" y="2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4456080" y="6696000"/>
              <a:ext cx="21600" cy="2520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0"/>
                  </a:moveTo>
                  <a:lnTo>
                    <a:pt x="0" y="4"/>
                  </a:lnTo>
                  <a:lnTo>
                    <a:pt x="10" y="18"/>
                  </a:lnTo>
                  <a:lnTo>
                    <a:pt x="15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4428720" y="6724080"/>
              <a:ext cx="18360" cy="180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4" y="0"/>
                  </a:moveTo>
                  <a:lnTo>
                    <a:pt x="0" y="4"/>
                  </a:lnTo>
                  <a:lnTo>
                    <a:pt x="9" y="13"/>
                  </a:lnTo>
                  <a:lnTo>
                    <a:pt x="13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4425840" y="6729840"/>
              <a:ext cx="15840" cy="151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0"/>
                  </a:moveTo>
                  <a:lnTo>
                    <a:pt x="0" y="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4398120" y="6748200"/>
              <a:ext cx="21600" cy="2376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5" y="0"/>
                  </a:moveTo>
                  <a:lnTo>
                    <a:pt x="0" y="4"/>
                  </a:lnTo>
                  <a:lnTo>
                    <a:pt x="9" y="17"/>
                  </a:lnTo>
                  <a:lnTo>
                    <a:pt x="15" y="1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4395600" y="6756840"/>
              <a:ext cx="15480" cy="151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0"/>
                  </a:moveTo>
                  <a:lnTo>
                    <a:pt x="0" y="2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4372200" y="6775200"/>
              <a:ext cx="20160" cy="198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4" y="0"/>
                  </a:moveTo>
                  <a:lnTo>
                    <a:pt x="0" y="4"/>
                  </a:lnTo>
                  <a:lnTo>
                    <a:pt x="10" y="14"/>
                  </a:lnTo>
                  <a:lnTo>
                    <a:pt x="14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4369320" y="6780600"/>
              <a:ext cx="17280" cy="16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0"/>
                  </a:moveTo>
                  <a:lnTo>
                    <a:pt x="0" y="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4344840" y="6799320"/>
              <a:ext cx="24480" cy="2232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4" y="0"/>
                  </a:moveTo>
                  <a:lnTo>
                    <a:pt x="0" y="6"/>
                  </a:lnTo>
                  <a:lnTo>
                    <a:pt x="14" y="16"/>
                  </a:lnTo>
                  <a:lnTo>
                    <a:pt x="17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4344840" y="6807600"/>
              <a:ext cx="17280" cy="16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0"/>
                  </a:moveTo>
                  <a:lnTo>
                    <a:pt x="0" y="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4320360" y="6824880"/>
              <a:ext cx="21600" cy="208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6" y="0"/>
                  </a:moveTo>
                  <a:lnTo>
                    <a:pt x="0" y="5"/>
                  </a:lnTo>
                  <a:lnTo>
                    <a:pt x="9" y="15"/>
                  </a:lnTo>
                  <a:lnTo>
                    <a:pt x="1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4302720" y="6851880"/>
              <a:ext cx="17280" cy="151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2" y="0"/>
                  </a:moveTo>
                  <a:lnTo>
                    <a:pt x="0" y="2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4297320" y="6854760"/>
              <a:ext cx="19800" cy="1800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4" y="0"/>
                  </a:moveTo>
                  <a:lnTo>
                    <a:pt x="0" y="4"/>
                  </a:lnTo>
                  <a:lnTo>
                    <a:pt x="10" y="13"/>
                  </a:lnTo>
                  <a:lnTo>
                    <a:pt x="14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4272840" y="6878880"/>
              <a:ext cx="22680" cy="208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6" y="0"/>
                  </a:moveTo>
                  <a:lnTo>
                    <a:pt x="0" y="6"/>
                  </a:lnTo>
                  <a:lnTo>
                    <a:pt x="10" y="15"/>
                  </a:lnTo>
                  <a:lnTo>
                    <a:pt x="16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4250880" y="6902640"/>
              <a:ext cx="21600" cy="223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6" y="0"/>
                  </a:moveTo>
                  <a:lnTo>
                    <a:pt x="0" y="6"/>
                  </a:lnTo>
                  <a:lnTo>
                    <a:pt x="9" y="16"/>
                  </a:lnTo>
                  <a:lnTo>
                    <a:pt x="1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4227840" y="6931080"/>
              <a:ext cx="23040" cy="208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6" y="0"/>
                  </a:moveTo>
                  <a:lnTo>
                    <a:pt x="0" y="5"/>
                  </a:lnTo>
                  <a:lnTo>
                    <a:pt x="10" y="15"/>
                  </a:lnTo>
                  <a:lnTo>
                    <a:pt x="1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4206240" y="6955200"/>
              <a:ext cx="21600" cy="208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6" y="0"/>
                  </a:moveTo>
                  <a:lnTo>
                    <a:pt x="0" y="6"/>
                  </a:lnTo>
                  <a:lnTo>
                    <a:pt x="10" y="15"/>
                  </a:lnTo>
                  <a:lnTo>
                    <a:pt x="1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4181760" y="6982200"/>
              <a:ext cx="24480" cy="208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0"/>
                  </a:moveTo>
                  <a:lnTo>
                    <a:pt x="0" y="6"/>
                  </a:lnTo>
                  <a:lnTo>
                    <a:pt x="13" y="15"/>
                  </a:lnTo>
                  <a:lnTo>
                    <a:pt x="17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4161240" y="7008840"/>
              <a:ext cx="25920" cy="2268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4" y="0"/>
                  </a:moveTo>
                  <a:lnTo>
                    <a:pt x="0" y="6"/>
                  </a:lnTo>
                  <a:lnTo>
                    <a:pt x="14" y="16"/>
                  </a:lnTo>
                  <a:lnTo>
                    <a:pt x="18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4142520" y="7035840"/>
              <a:ext cx="27360" cy="2556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6" y="0"/>
                  </a:moveTo>
                  <a:lnTo>
                    <a:pt x="0" y="8"/>
                  </a:lnTo>
                  <a:lnTo>
                    <a:pt x="13" y="18"/>
                  </a:lnTo>
                  <a:lnTo>
                    <a:pt x="19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4125240" y="7066800"/>
              <a:ext cx="25560" cy="2088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4" y="0"/>
                  </a:moveTo>
                  <a:lnTo>
                    <a:pt x="0" y="5"/>
                  </a:lnTo>
                  <a:lnTo>
                    <a:pt x="14" y="15"/>
                  </a:lnTo>
                  <a:lnTo>
                    <a:pt x="18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4106520" y="7096680"/>
              <a:ext cx="24480" cy="180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4" y="0"/>
                  </a:moveTo>
                  <a:lnTo>
                    <a:pt x="0" y="7"/>
                  </a:lnTo>
                  <a:lnTo>
                    <a:pt x="13" y="13"/>
                  </a:lnTo>
                  <a:lnTo>
                    <a:pt x="17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4087440" y="7123680"/>
              <a:ext cx="24480" cy="208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3" y="0"/>
                  </a:moveTo>
                  <a:lnTo>
                    <a:pt x="0" y="6"/>
                  </a:lnTo>
                  <a:lnTo>
                    <a:pt x="13" y="15"/>
                  </a:lnTo>
                  <a:lnTo>
                    <a:pt x="17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4067640" y="7150320"/>
              <a:ext cx="27000" cy="237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6" y="0"/>
                  </a:moveTo>
                  <a:lnTo>
                    <a:pt x="0" y="8"/>
                  </a:lnTo>
                  <a:lnTo>
                    <a:pt x="14" y="17"/>
                  </a:lnTo>
                  <a:lnTo>
                    <a:pt x="19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4051440" y="7180200"/>
              <a:ext cx="21600" cy="226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5" y="0"/>
                  </a:moveTo>
                  <a:lnTo>
                    <a:pt x="0" y="6"/>
                  </a:lnTo>
                  <a:lnTo>
                    <a:pt x="9" y="16"/>
                  </a:lnTo>
                  <a:lnTo>
                    <a:pt x="15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4028400" y="7207200"/>
              <a:ext cx="27360" cy="252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6" y="0"/>
                  </a:moveTo>
                  <a:lnTo>
                    <a:pt x="0" y="8"/>
                  </a:lnTo>
                  <a:lnTo>
                    <a:pt x="14" y="18"/>
                  </a:lnTo>
                  <a:lnTo>
                    <a:pt x="19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4012560" y="7238520"/>
              <a:ext cx="24480" cy="180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4" y="0"/>
                  </a:moveTo>
                  <a:lnTo>
                    <a:pt x="0" y="7"/>
                  </a:lnTo>
                  <a:lnTo>
                    <a:pt x="13" y="13"/>
                  </a:lnTo>
                  <a:lnTo>
                    <a:pt x="17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3992400" y="7265520"/>
              <a:ext cx="25920" cy="2088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4" y="0"/>
                  </a:moveTo>
                  <a:lnTo>
                    <a:pt x="0" y="5"/>
                  </a:lnTo>
                  <a:lnTo>
                    <a:pt x="14" y="15"/>
                  </a:lnTo>
                  <a:lnTo>
                    <a:pt x="18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3973680" y="7295040"/>
              <a:ext cx="24480" cy="1836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4" y="0"/>
                  </a:moveTo>
                  <a:lnTo>
                    <a:pt x="0" y="7"/>
                  </a:lnTo>
                  <a:lnTo>
                    <a:pt x="13" y="13"/>
                  </a:lnTo>
                  <a:lnTo>
                    <a:pt x="17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3953160" y="7322040"/>
              <a:ext cx="25920" cy="2088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4" y="0"/>
                  </a:moveTo>
                  <a:lnTo>
                    <a:pt x="0" y="6"/>
                  </a:lnTo>
                  <a:lnTo>
                    <a:pt x="14" y="15"/>
                  </a:lnTo>
                  <a:lnTo>
                    <a:pt x="18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3934440" y="7351920"/>
              <a:ext cx="24480" cy="194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4" y="0"/>
                  </a:moveTo>
                  <a:lnTo>
                    <a:pt x="0" y="8"/>
                  </a:lnTo>
                  <a:lnTo>
                    <a:pt x="13" y="14"/>
                  </a:lnTo>
                  <a:lnTo>
                    <a:pt x="17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3912840" y="7376040"/>
              <a:ext cx="27000" cy="252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5" y="0"/>
                  </a:moveTo>
                  <a:lnTo>
                    <a:pt x="0" y="8"/>
                  </a:lnTo>
                  <a:lnTo>
                    <a:pt x="13" y="18"/>
                  </a:lnTo>
                  <a:lnTo>
                    <a:pt x="19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3892680" y="7404120"/>
              <a:ext cx="24480" cy="208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0"/>
                  </a:moveTo>
                  <a:lnTo>
                    <a:pt x="0" y="5"/>
                  </a:lnTo>
                  <a:lnTo>
                    <a:pt x="14" y="15"/>
                  </a:lnTo>
                  <a:lnTo>
                    <a:pt x="17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3873960" y="7431120"/>
              <a:ext cx="21600" cy="208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5" y="0"/>
                  </a:moveTo>
                  <a:lnTo>
                    <a:pt x="0" y="6"/>
                  </a:lnTo>
                  <a:lnTo>
                    <a:pt x="9" y="15"/>
                  </a:lnTo>
                  <a:lnTo>
                    <a:pt x="15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3850560" y="7457760"/>
              <a:ext cx="25560" cy="2088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4" y="0"/>
                  </a:moveTo>
                  <a:lnTo>
                    <a:pt x="0" y="6"/>
                  </a:lnTo>
                  <a:lnTo>
                    <a:pt x="14" y="15"/>
                  </a:lnTo>
                  <a:lnTo>
                    <a:pt x="18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3832200" y="7484760"/>
              <a:ext cx="21600" cy="226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6" y="0"/>
                  </a:moveTo>
                  <a:lnTo>
                    <a:pt x="0" y="6"/>
                  </a:lnTo>
                  <a:lnTo>
                    <a:pt x="10" y="16"/>
                  </a:lnTo>
                  <a:lnTo>
                    <a:pt x="1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3810240" y="7511760"/>
              <a:ext cx="24480" cy="1980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3" y="0"/>
                  </a:moveTo>
                  <a:lnTo>
                    <a:pt x="0" y="8"/>
                  </a:lnTo>
                  <a:lnTo>
                    <a:pt x="13" y="14"/>
                  </a:lnTo>
                  <a:lnTo>
                    <a:pt x="17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3787200" y="7537320"/>
              <a:ext cx="24480" cy="208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0"/>
                  </a:moveTo>
                  <a:lnTo>
                    <a:pt x="0" y="5"/>
                  </a:lnTo>
                  <a:lnTo>
                    <a:pt x="14" y="15"/>
                  </a:lnTo>
                  <a:lnTo>
                    <a:pt x="17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3768480" y="7564320"/>
              <a:ext cx="21600" cy="208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5" y="0"/>
                  </a:moveTo>
                  <a:lnTo>
                    <a:pt x="0" y="6"/>
                  </a:lnTo>
                  <a:lnTo>
                    <a:pt x="9" y="15"/>
                  </a:lnTo>
                  <a:lnTo>
                    <a:pt x="15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3745080" y="7591320"/>
              <a:ext cx="25920" cy="2088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4" y="0"/>
                  </a:moveTo>
                  <a:lnTo>
                    <a:pt x="0" y="6"/>
                  </a:lnTo>
                  <a:lnTo>
                    <a:pt x="14" y="15"/>
                  </a:lnTo>
                  <a:lnTo>
                    <a:pt x="18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3726720" y="7618320"/>
              <a:ext cx="21600" cy="223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6" y="0"/>
                  </a:moveTo>
                  <a:lnTo>
                    <a:pt x="0" y="6"/>
                  </a:lnTo>
                  <a:lnTo>
                    <a:pt x="10" y="16"/>
                  </a:lnTo>
                  <a:lnTo>
                    <a:pt x="1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3704760" y="7644960"/>
              <a:ext cx="21600" cy="226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5" y="0"/>
                  </a:moveTo>
                  <a:lnTo>
                    <a:pt x="0" y="6"/>
                  </a:lnTo>
                  <a:lnTo>
                    <a:pt x="9" y="16"/>
                  </a:lnTo>
                  <a:lnTo>
                    <a:pt x="15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3681720" y="7667640"/>
              <a:ext cx="23040" cy="208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6" y="0"/>
                  </a:moveTo>
                  <a:lnTo>
                    <a:pt x="0" y="6"/>
                  </a:lnTo>
                  <a:lnTo>
                    <a:pt x="10" y="15"/>
                  </a:lnTo>
                  <a:lnTo>
                    <a:pt x="1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3657240" y="7691760"/>
              <a:ext cx="21600" cy="208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6" y="0"/>
                  </a:moveTo>
                  <a:lnTo>
                    <a:pt x="0" y="6"/>
                  </a:lnTo>
                  <a:lnTo>
                    <a:pt x="10" y="15"/>
                  </a:lnTo>
                  <a:lnTo>
                    <a:pt x="1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3632400" y="7715880"/>
              <a:ext cx="21600" cy="223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5" y="0"/>
                  </a:moveTo>
                  <a:lnTo>
                    <a:pt x="0" y="6"/>
                  </a:lnTo>
                  <a:lnTo>
                    <a:pt x="9" y="16"/>
                  </a:lnTo>
                  <a:lnTo>
                    <a:pt x="15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3606480" y="7741440"/>
              <a:ext cx="22680" cy="208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6" y="0"/>
                  </a:moveTo>
                  <a:lnTo>
                    <a:pt x="0" y="5"/>
                  </a:lnTo>
                  <a:lnTo>
                    <a:pt x="10" y="15"/>
                  </a:lnTo>
                  <a:lnTo>
                    <a:pt x="1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3582000" y="7762320"/>
              <a:ext cx="21600" cy="2376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6" y="0"/>
                  </a:moveTo>
                  <a:lnTo>
                    <a:pt x="0" y="4"/>
                  </a:lnTo>
                  <a:lnTo>
                    <a:pt x="10" y="17"/>
                  </a:lnTo>
                  <a:lnTo>
                    <a:pt x="15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3557520" y="7786440"/>
              <a:ext cx="21600" cy="226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6" y="0"/>
                  </a:moveTo>
                  <a:lnTo>
                    <a:pt x="0" y="6"/>
                  </a:lnTo>
                  <a:lnTo>
                    <a:pt x="9" y="16"/>
                  </a:lnTo>
                  <a:lnTo>
                    <a:pt x="1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3529800" y="7809480"/>
              <a:ext cx="21600" cy="208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5" y="0"/>
                  </a:moveTo>
                  <a:lnTo>
                    <a:pt x="0" y="5"/>
                  </a:lnTo>
                  <a:lnTo>
                    <a:pt x="9" y="15"/>
                  </a:lnTo>
                  <a:lnTo>
                    <a:pt x="15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3504240" y="7830720"/>
              <a:ext cx="22680" cy="208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6" y="0"/>
                  </a:moveTo>
                  <a:lnTo>
                    <a:pt x="0" y="6"/>
                  </a:lnTo>
                  <a:lnTo>
                    <a:pt x="10" y="15"/>
                  </a:lnTo>
                  <a:lnTo>
                    <a:pt x="16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3476520" y="7851600"/>
              <a:ext cx="21600" cy="2556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0"/>
                  </a:moveTo>
                  <a:lnTo>
                    <a:pt x="0" y="4"/>
                  </a:lnTo>
                  <a:lnTo>
                    <a:pt x="10" y="18"/>
                  </a:lnTo>
                  <a:lnTo>
                    <a:pt x="15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3449160" y="7868880"/>
              <a:ext cx="18360" cy="2376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8" y="0"/>
                  </a:moveTo>
                  <a:lnTo>
                    <a:pt x="0" y="4"/>
                  </a:lnTo>
                  <a:lnTo>
                    <a:pt x="6" y="17"/>
                  </a:lnTo>
                  <a:lnTo>
                    <a:pt x="13" y="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3418920" y="7887240"/>
              <a:ext cx="21600" cy="2556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0"/>
                  </a:moveTo>
                  <a:lnTo>
                    <a:pt x="0" y="4"/>
                  </a:lnTo>
                  <a:lnTo>
                    <a:pt x="9" y="18"/>
                  </a:lnTo>
                  <a:lnTo>
                    <a:pt x="15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3391560" y="7904160"/>
              <a:ext cx="18360" cy="2376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7" y="0"/>
                  </a:moveTo>
                  <a:lnTo>
                    <a:pt x="0" y="4"/>
                  </a:lnTo>
                  <a:lnTo>
                    <a:pt x="5" y="17"/>
                  </a:lnTo>
                  <a:lnTo>
                    <a:pt x="13" y="1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3359520" y="7922880"/>
              <a:ext cx="22680" cy="252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0"/>
                  </a:moveTo>
                  <a:lnTo>
                    <a:pt x="0" y="4"/>
                  </a:lnTo>
                  <a:lnTo>
                    <a:pt x="10" y="18"/>
                  </a:lnTo>
                  <a:lnTo>
                    <a:pt x="16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3329280" y="7939800"/>
              <a:ext cx="20160" cy="237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8" y="0"/>
                  </a:moveTo>
                  <a:lnTo>
                    <a:pt x="0" y="4"/>
                  </a:lnTo>
                  <a:lnTo>
                    <a:pt x="6" y="17"/>
                  </a:lnTo>
                  <a:lnTo>
                    <a:pt x="14" y="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3299040" y="7955280"/>
              <a:ext cx="19800" cy="2556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8" y="0"/>
                  </a:moveTo>
                  <a:lnTo>
                    <a:pt x="0" y="4"/>
                  </a:lnTo>
                  <a:lnTo>
                    <a:pt x="6" y="18"/>
                  </a:lnTo>
                  <a:lnTo>
                    <a:pt x="14" y="1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3274560" y="7969320"/>
              <a:ext cx="14400" cy="2088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4" y="0"/>
                  </a:moveTo>
                  <a:lnTo>
                    <a:pt x="0" y="2"/>
                  </a:lnTo>
                  <a:lnTo>
                    <a:pt x="6" y="15"/>
                  </a:lnTo>
                  <a:lnTo>
                    <a:pt x="10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3268440" y="7972200"/>
              <a:ext cx="14400" cy="2088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4" y="0"/>
                  </a:moveTo>
                  <a:lnTo>
                    <a:pt x="0" y="2"/>
                  </a:lnTo>
                  <a:lnTo>
                    <a:pt x="6" y="15"/>
                  </a:lnTo>
                  <a:lnTo>
                    <a:pt x="10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3235320" y="7985160"/>
              <a:ext cx="21600" cy="2520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0"/>
                  </a:moveTo>
                  <a:lnTo>
                    <a:pt x="0" y="4"/>
                  </a:lnTo>
                  <a:lnTo>
                    <a:pt x="10" y="18"/>
                  </a:lnTo>
                  <a:lnTo>
                    <a:pt x="15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3205080" y="7999200"/>
              <a:ext cx="18360" cy="2376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8" y="0"/>
                  </a:moveTo>
                  <a:lnTo>
                    <a:pt x="0" y="4"/>
                  </a:lnTo>
                  <a:lnTo>
                    <a:pt x="6" y="17"/>
                  </a:lnTo>
                  <a:lnTo>
                    <a:pt x="13" y="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3177360" y="8016120"/>
              <a:ext cx="12960" cy="2088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7" y="0"/>
                  </a:moveTo>
                  <a:lnTo>
                    <a:pt x="0" y="1"/>
                  </a:lnTo>
                  <a:lnTo>
                    <a:pt x="2" y="15"/>
                  </a:lnTo>
                  <a:lnTo>
                    <a:pt x="9" y="1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3144240" y="8028720"/>
              <a:ext cx="18360" cy="2376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7" y="0"/>
                  </a:moveTo>
                  <a:lnTo>
                    <a:pt x="0" y="4"/>
                  </a:lnTo>
                  <a:lnTo>
                    <a:pt x="5" y="17"/>
                  </a:lnTo>
                  <a:lnTo>
                    <a:pt x="13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3114000" y="8043120"/>
              <a:ext cx="18360" cy="2376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7" y="0"/>
                  </a:moveTo>
                  <a:lnTo>
                    <a:pt x="0" y="4"/>
                  </a:lnTo>
                  <a:lnTo>
                    <a:pt x="5" y="17"/>
                  </a:lnTo>
                  <a:lnTo>
                    <a:pt x="13" y="1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3085200" y="8058600"/>
              <a:ext cx="14400" cy="2268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8" y="0"/>
                  </a:moveTo>
                  <a:lnTo>
                    <a:pt x="0" y="2"/>
                  </a:lnTo>
                  <a:lnTo>
                    <a:pt x="2" y="16"/>
                  </a:lnTo>
                  <a:lnTo>
                    <a:pt x="10" y="1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3049200" y="8072640"/>
              <a:ext cx="22680" cy="2376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6" y="0"/>
                  </a:moveTo>
                  <a:lnTo>
                    <a:pt x="0" y="4"/>
                  </a:lnTo>
                  <a:lnTo>
                    <a:pt x="10" y="17"/>
                  </a:lnTo>
                  <a:lnTo>
                    <a:pt x="16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3018600" y="8085600"/>
              <a:ext cx="23040" cy="252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0"/>
                  </a:moveTo>
                  <a:lnTo>
                    <a:pt x="0" y="4"/>
                  </a:lnTo>
                  <a:lnTo>
                    <a:pt x="10" y="18"/>
                  </a:lnTo>
                  <a:lnTo>
                    <a:pt x="16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2988000" y="8102520"/>
              <a:ext cx="20160" cy="237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8" y="0"/>
                  </a:moveTo>
                  <a:lnTo>
                    <a:pt x="0" y="4"/>
                  </a:lnTo>
                  <a:lnTo>
                    <a:pt x="6" y="17"/>
                  </a:lnTo>
                  <a:lnTo>
                    <a:pt x="14" y="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2958120" y="8116920"/>
              <a:ext cx="20160" cy="237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8" y="0"/>
                  </a:moveTo>
                  <a:lnTo>
                    <a:pt x="0" y="3"/>
                  </a:lnTo>
                  <a:lnTo>
                    <a:pt x="6" y="17"/>
                  </a:lnTo>
                  <a:lnTo>
                    <a:pt x="14" y="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2930400" y="8132040"/>
              <a:ext cx="12960" cy="2124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8" y="0"/>
                  </a:moveTo>
                  <a:lnTo>
                    <a:pt x="0" y="2"/>
                  </a:lnTo>
                  <a:lnTo>
                    <a:pt x="2" y="15"/>
                  </a:lnTo>
                  <a:lnTo>
                    <a:pt x="9" y="1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2897280" y="8146440"/>
              <a:ext cx="18360" cy="2376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8" y="0"/>
                  </a:moveTo>
                  <a:lnTo>
                    <a:pt x="0" y="4"/>
                  </a:lnTo>
                  <a:lnTo>
                    <a:pt x="6" y="17"/>
                  </a:lnTo>
                  <a:lnTo>
                    <a:pt x="13" y="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2867040" y="8159040"/>
              <a:ext cx="18360" cy="2556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7" y="0"/>
                  </a:moveTo>
                  <a:lnTo>
                    <a:pt x="0" y="4"/>
                  </a:lnTo>
                  <a:lnTo>
                    <a:pt x="5" y="18"/>
                  </a:lnTo>
                  <a:lnTo>
                    <a:pt x="13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2836440" y="8176320"/>
              <a:ext cx="15840" cy="2088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5" y="0"/>
                  </a:moveTo>
                  <a:lnTo>
                    <a:pt x="0" y="2"/>
                  </a:lnTo>
                  <a:lnTo>
                    <a:pt x="5" y="15"/>
                  </a:lnTo>
                  <a:lnTo>
                    <a:pt x="11" y="1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2803320" y="8188920"/>
              <a:ext cx="18360" cy="252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7" y="0"/>
                  </a:moveTo>
                  <a:lnTo>
                    <a:pt x="0" y="4"/>
                  </a:lnTo>
                  <a:lnTo>
                    <a:pt x="5" y="18"/>
                  </a:lnTo>
                  <a:lnTo>
                    <a:pt x="13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2771640" y="8203320"/>
              <a:ext cx="20160" cy="237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8" y="0"/>
                  </a:moveTo>
                  <a:lnTo>
                    <a:pt x="0" y="4"/>
                  </a:lnTo>
                  <a:lnTo>
                    <a:pt x="6" y="17"/>
                  </a:lnTo>
                  <a:lnTo>
                    <a:pt x="14" y="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2741040" y="8217360"/>
              <a:ext cx="20160" cy="237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8" y="0"/>
                  </a:moveTo>
                  <a:lnTo>
                    <a:pt x="0" y="3"/>
                  </a:lnTo>
                  <a:lnTo>
                    <a:pt x="6" y="17"/>
                  </a:lnTo>
                  <a:lnTo>
                    <a:pt x="14" y="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2710800" y="8230320"/>
              <a:ext cx="14400" cy="2232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8" y="0"/>
                  </a:moveTo>
                  <a:lnTo>
                    <a:pt x="0" y="2"/>
                  </a:lnTo>
                  <a:lnTo>
                    <a:pt x="2" y="16"/>
                  </a:lnTo>
                  <a:lnTo>
                    <a:pt x="10" y="1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2677680" y="8241480"/>
              <a:ext cx="20160" cy="237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8" y="0"/>
                  </a:moveTo>
                  <a:lnTo>
                    <a:pt x="0" y="4"/>
                  </a:lnTo>
                  <a:lnTo>
                    <a:pt x="6" y="17"/>
                  </a:lnTo>
                  <a:lnTo>
                    <a:pt x="14" y="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2647440" y="8254440"/>
              <a:ext cx="14400" cy="2232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8" y="0"/>
                  </a:moveTo>
                  <a:lnTo>
                    <a:pt x="0" y="2"/>
                  </a:lnTo>
                  <a:lnTo>
                    <a:pt x="2" y="16"/>
                  </a:lnTo>
                  <a:lnTo>
                    <a:pt x="10" y="1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2613960" y="8265600"/>
              <a:ext cx="14400" cy="2088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8" y="0"/>
                  </a:moveTo>
                  <a:lnTo>
                    <a:pt x="0" y="2"/>
                  </a:lnTo>
                  <a:lnTo>
                    <a:pt x="2" y="15"/>
                  </a:lnTo>
                  <a:lnTo>
                    <a:pt x="10" y="1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2580840" y="8276760"/>
              <a:ext cx="18360" cy="2376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8" y="0"/>
                  </a:moveTo>
                  <a:lnTo>
                    <a:pt x="0" y="4"/>
                  </a:lnTo>
                  <a:lnTo>
                    <a:pt x="6" y="17"/>
                  </a:lnTo>
                  <a:lnTo>
                    <a:pt x="13" y="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2550240" y="8289720"/>
              <a:ext cx="12960" cy="2232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8" y="0"/>
                  </a:moveTo>
                  <a:lnTo>
                    <a:pt x="0" y="2"/>
                  </a:lnTo>
                  <a:lnTo>
                    <a:pt x="2" y="16"/>
                  </a:lnTo>
                  <a:lnTo>
                    <a:pt x="9" y="1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2517480" y="8300880"/>
              <a:ext cx="18360" cy="2376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7" y="0"/>
                  </a:moveTo>
                  <a:lnTo>
                    <a:pt x="0" y="4"/>
                  </a:lnTo>
                  <a:lnTo>
                    <a:pt x="6" y="17"/>
                  </a:lnTo>
                  <a:lnTo>
                    <a:pt x="13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2486880" y="8314920"/>
              <a:ext cx="12960" cy="2088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7" y="0"/>
                  </a:moveTo>
                  <a:lnTo>
                    <a:pt x="0" y="2"/>
                  </a:lnTo>
                  <a:lnTo>
                    <a:pt x="2" y="15"/>
                  </a:lnTo>
                  <a:lnTo>
                    <a:pt x="9" y="1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2450880" y="8325000"/>
              <a:ext cx="21600" cy="2520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5" y="0"/>
                  </a:moveTo>
                  <a:lnTo>
                    <a:pt x="0" y="4"/>
                  </a:lnTo>
                  <a:lnTo>
                    <a:pt x="9" y="18"/>
                  </a:lnTo>
                  <a:lnTo>
                    <a:pt x="15" y="1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2420280" y="8336160"/>
              <a:ext cx="18720" cy="2376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7" y="0"/>
                  </a:moveTo>
                  <a:lnTo>
                    <a:pt x="0" y="4"/>
                  </a:lnTo>
                  <a:lnTo>
                    <a:pt x="5" y="17"/>
                  </a:lnTo>
                  <a:lnTo>
                    <a:pt x="13" y="1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2388600" y="8350200"/>
              <a:ext cx="14400" cy="2124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8" y="0"/>
                  </a:moveTo>
                  <a:lnTo>
                    <a:pt x="0" y="2"/>
                  </a:lnTo>
                  <a:lnTo>
                    <a:pt x="2" y="15"/>
                  </a:lnTo>
                  <a:lnTo>
                    <a:pt x="10" y="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2358360" y="8360280"/>
              <a:ext cx="17280" cy="2268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6" y="0"/>
                  </a:moveTo>
                  <a:lnTo>
                    <a:pt x="0" y="2"/>
                  </a:lnTo>
                  <a:lnTo>
                    <a:pt x="6" y="16"/>
                  </a:lnTo>
                  <a:lnTo>
                    <a:pt x="12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1959840" y="7079760"/>
              <a:ext cx="3935160" cy="1080"/>
            </a:xfrm>
            <a:custGeom>
              <a:avLst/>
              <a:gdLst/>
              <a:ahLst/>
              <a:rect l="l" t="t" r="r" b="b"/>
              <a:pathLst>
                <a:path w="2724" h="0">
                  <a:moveTo>
                    <a:pt x="2724" y="0"/>
                  </a:moveTo>
                  <a:lnTo>
                    <a:pt x="2721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1675440" y="870300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1675440" y="813528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1675440" y="756720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1792800" y="7001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1675440" y="643392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1675440" y="586728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1785600" y="887760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3136320" y="887760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4491000" y="887760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5861880" y="88776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4875480" y="8105400"/>
              <a:ext cx="933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val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2037600" y="6490440"/>
              <a:ext cx="2210400" cy="2180160"/>
            </a:xfrm>
            <a:prstGeom prst="ellipse">
              <a:avLst/>
            </a:pr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4" name=""/>
          <p:cNvSpPr/>
          <p:nvPr/>
        </p:nvSpPr>
        <p:spPr>
          <a:xfrm flipH="1">
            <a:off x="3048120" y="6324480"/>
            <a:ext cx="9144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5" name=""/>
          <p:cNvSpPr/>
          <p:nvPr/>
        </p:nvSpPr>
        <p:spPr>
          <a:xfrm>
            <a:off x="3883320" y="5943600"/>
            <a:ext cx="1930320" cy="8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shadowing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anti-shadowing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6" name=""/>
          <p:cNvSpPr/>
          <p:nvPr/>
        </p:nvSpPr>
        <p:spPr>
          <a:xfrm>
            <a:off x="4419720" y="93726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hys. Lett. B354, 465 (199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15840" y="501480"/>
            <a:ext cx="54244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Used data for MRST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(Ref. MRST, hep/ph-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0110215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849240" y="2062080"/>
            <a:ext cx="5641920" cy="6465960"/>
            <a:chOff x="849240" y="2062080"/>
            <a:chExt cx="5641920" cy="6465960"/>
          </a:xfrm>
        </p:grpSpPr>
        <p:sp>
          <p:nvSpPr>
            <p:cNvPr id="70" name=""/>
            <p:cNvSpPr/>
            <p:nvPr/>
          </p:nvSpPr>
          <p:spPr>
            <a:xfrm>
              <a:off x="869040" y="206208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  <a:ea typeface="ＭＳ 明朝"/>
                </a:rPr>
                <a:t>H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950760" y="2622600"/>
              <a:ext cx="5540400" cy="59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849240" y="2641680"/>
              <a:ext cx="2500200" cy="1360440"/>
            </a:xfrm>
            <a:prstGeom prst="rect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7" name=""/>
          <p:cNvSpPr/>
          <p:nvPr/>
        </p:nvSpPr>
        <p:spPr>
          <a:xfrm>
            <a:off x="533520" y="685800"/>
            <a:ext cx="19810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8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558792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7440" y="442800"/>
            <a:ext cx="5808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Determination of each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66"/>
                </a:solidFill>
                <a:latin typeface="Times New Roman"/>
                <a:ea typeface="ＭＳ 明朝"/>
              </a:rPr>
              <a:t>Valence quark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319560" y="1325520"/>
            <a:ext cx="2057400" cy="368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11920" y="190656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neutrino deep inelastic scat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021200" y="2119320"/>
            <a:ext cx="2502000" cy="1866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150920" y="8996400"/>
            <a:ext cx="4394160" cy="596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93760" y="5657760"/>
            <a:ext cx="2192400" cy="5587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1600" y="8062920"/>
            <a:ext cx="153828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9639360"/>
            <a:ext cx="2732040" cy="612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743040" y="3867120"/>
            <a:ext cx="5092560" cy="1117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137120" y="4867200"/>
            <a:ext cx="11160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94240" y="7502400"/>
            <a:ext cx="12682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644400" y="5207040"/>
            <a:ext cx="5791320" cy="977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851040" y="7667640"/>
            <a:ext cx="5029200" cy="368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73200" y="8124840"/>
            <a:ext cx="5232240" cy="762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709560" y="6346800"/>
            <a:ext cx="4508640" cy="1219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1811160" y="2914560"/>
            <a:ext cx="20703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73760" y="639720"/>
            <a:ext cx="18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ＭＳ 明朝"/>
              </a:rPr>
              <a:t>Sea qu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1880" y="1386000"/>
            <a:ext cx="24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e/</a:t>
            </a:r>
            <a:r>
              <a:rPr b="0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scat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366920" y="2178000"/>
            <a:ext cx="4114800" cy="1092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90640" y="3360600"/>
            <a:ext cx="4952880" cy="533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249200" y="3924360"/>
            <a:ext cx="4927680" cy="482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1720" y="4805280"/>
            <a:ext cx="58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Drell-Yan (lepton-pair produ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52720" y="5411880"/>
            <a:ext cx="2565720" cy="1396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492200" y="6945480"/>
            <a:ext cx="3556080" cy="368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H="1" flipV="1">
            <a:off x="3289320" y="7810200"/>
            <a:ext cx="13320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558880" y="7808400"/>
            <a:ext cx="135000" cy="40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65160" y="8140680"/>
            <a:ext cx="13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projec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12640" y="817704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3854520" y="7753320"/>
            <a:ext cx="2679480" cy="432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882720" y="8861400"/>
            <a:ext cx="4851360" cy="368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4444920" y="8216640"/>
            <a:ext cx="346320" cy="500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05040" y="9333000"/>
            <a:ext cx="469584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22360" y="4521240"/>
            <a:ext cx="8478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41520" y="4519440"/>
            <a:ext cx="8478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1158840" y="5850000"/>
            <a:ext cx="2451240" cy="368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9"/>
          <a:stretch/>
        </p:blipFill>
        <p:spPr>
          <a:xfrm>
            <a:off x="987480" y="7483320"/>
            <a:ext cx="25653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74840" y="639720"/>
            <a:ext cx="12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ＭＳ 明朝"/>
              </a:rPr>
              <a:t>Glu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1880" y="1386000"/>
            <a:ext cx="3998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scaling violation of F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  <a:ea typeface="ＭＳ 明朝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58880" y="2165400"/>
            <a:ext cx="5524560" cy="1270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55480" y="4635360"/>
            <a:ext cx="25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direct pho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17600" y="5483160"/>
            <a:ext cx="1790640" cy="368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513240" y="4997520"/>
            <a:ext cx="2476440" cy="1066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684440" y="3822840"/>
            <a:ext cx="35179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68720" y="639720"/>
            <a:ext cx="54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66"/>
                </a:solidFill>
                <a:latin typeface="Times New Roman"/>
                <a:ea typeface="ＭＳ 明朝"/>
              </a:rPr>
              <a:t>Recent unpolarized distrib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53920" y="1452600"/>
            <a:ext cx="41562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CTEQ5,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Eur. Phys. J. C12 (2000) 3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GRV98, Eur. Phys. J. C5 (1998) 4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MRST99, Eur. Phys. J. C14 (2000) 1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(MRST01, hep-ph/01102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0480" y="8069400"/>
            <a:ext cx="5730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HERA 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are important for deter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small-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distributions in the nucle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12880" y="3200400"/>
            <a:ext cx="5245200" cy="4589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736720" y="3854520"/>
            <a:ext cx="1206720" cy="291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111640" y="3987720"/>
            <a:ext cx="546120" cy="432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5060880" y="5372280"/>
            <a:ext cx="546120" cy="431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133880" y="6553080"/>
            <a:ext cx="393840" cy="432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1930320" y="5702400"/>
            <a:ext cx="355680" cy="431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3111480" y="4762440"/>
            <a:ext cx="635040" cy="381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4032360" y="5753160"/>
            <a:ext cx="39348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11:17:36Z</dcterms:created>
  <dc:creator>平井正紀</dc:creator>
  <dc:description/>
  <dc:language>en-US</dc:language>
  <cp:lastModifiedBy>S. Kumano</cp:lastModifiedBy>
  <cp:lastPrinted>2001-11-07T03:25:06Z</cp:lastPrinted>
  <dcterms:modified xsi:type="dcterms:W3CDTF">2001-11-12T04:09:08Z</dcterms:modified>
  <cp:revision>406</cp:revision>
  <dc:subject/>
  <dc:title>Determination of polarized parton distribution functions</dc:title>
</cp:coreProperties>
</file>