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jpeg" ContentType="image/jpeg"/>
  <Override PartName="/ppt/media/image2.pct" ContentType="image/x-pict"/>
  <Override PartName="/ppt/media/image25.pct" ContentType="image/x-pict"/>
  <Override PartName="/ppt/media/image26.pct" ContentType="image/x-pict"/>
  <Override PartName="/ppt/media/image1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.pct" ContentType="image/x-pict"/>
  <Override PartName="/ppt/media/image2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907588"/>
  <p:notesSz cx="9831388" cy="6721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A36-50D1-4DC3-8BD8-49A96A69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13B-3BA9-4847-959E-E0C7DEF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AF6-5055-42E3-AE68-02B21AB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66B-9875-4116-A0F6-ACFFF0A3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8BC-A353-42BC-A8AA-62241CC9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C82-1017-4076-8F13-B66104BF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FB6-5E11-4473-92CD-0B357D6F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412-3696-40BB-93DC-B789C92A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19D-37E0-4498-AE98-C266E54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E6E-192C-4A6D-9427-55A960B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CCE-0DBF-4459-8C86-401640A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646-0531-42D6-AD84-2AA443AD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2B09-CF80-4B6B-A987-60AC76495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image" Target="../media/image17.pct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393480"/>
            <a:ext cx="583704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Parton distribution functions </a:t>
            </a:r>
            <a:br>
              <a:rPr sz="3200"/>
            </a:b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9440" y="2349000"/>
            <a:ext cx="61340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8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8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Collaborators: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M. Hirai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(Rike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                             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M. Miyama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(Toky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8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008080"/>
                </a:solidFill>
                <a:latin typeface="Times New Roman"/>
              </a:rPr>
              <a:t>Ref. hep-ph/0103208, to be published in Phys. Rev.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kumanos@cc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www-hs.phys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9th International 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on Deep Inelastic Scatt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Bologna, Italy, April 27- May 1,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pril 28,  2001</a:t>
            </a:r>
            <a:r>
              <a:rPr b="0" lang="ja-JP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35240"/>
            <a:ext cx="510516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8400" y="88502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7 or 9 parameters for 309 data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76640" y="4224240"/>
            <a:ext cx="317520" cy="444600"/>
            <a:chOff x="4076640" y="4224240"/>
            <a:chExt cx="317520" cy="444600"/>
          </a:xfrm>
        </p:grpSpPr>
        <p:sp>
          <p:nvSpPr>
            <p:cNvPr id="91" name=""/>
            <p:cNvSpPr/>
            <p:nvPr/>
          </p:nvSpPr>
          <p:spPr>
            <a:xfrm flipH="1">
              <a:off x="4076640" y="422424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076640" y="435132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6320" y="3695760"/>
            <a:ext cx="317520" cy="444600"/>
            <a:chOff x="2416320" y="3695760"/>
            <a:chExt cx="317520" cy="444600"/>
          </a:xfrm>
        </p:grpSpPr>
        <p:sp>
          <p:nvSpPr>
            <p:cNvPr id="94" name=""/>
            <p:cNvSpPr/>
            <p:nvPr/>
          </p:nvSpPr>
          <p:spPr>
            <a:xfrm flipH="1">
              <a:off x="2416320" y="369576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416320" y="382284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081240" y="3683160"/>
            <a:ext cx="317520" cy="443880"/>
            <a:chOff x="3081240" y="3683160"/>
            <a:chExt cx="317520" cy="443880"/>
          </a:xfrm>
        </p:grpSpPr>
        <p:sp>
          <p:nvSpPr>
            <p:cNvPr id="97" name=""/>
            <p:cNvSpPr/>
            <p:nvPr/>
          </p:nvSpPr>
          <p:spPr>
            <a:xfrm flipH="1">
              <a:off x="3081240" y="3683160"/>
              <a:ext cx="317520" cy="317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81240" y="3809880"/>
              <a:ext cx="317520" cy="317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2120" y="4940280"/>
            <a:ext cx="317520" cy="444600"/>
            <a:chOff x="762120" y="4940280"/>
            <a:chExt cx="317520" cy="444600"/>
          </a:xfrm>
        </p:grpSpPr>
        <p:sp>
          <p:nvSpPr>
            <p:cNvPr id="100" name=""/>
            <p:cNvSpPr/>
            <p:nvPr/>
          </p:nvSpPr>
          <p:spPr>
            <a:xfrm flipH="1">
              <a:off x="762120" y="494028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62120" y="506736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93760" y="4978440"/>
            <a:ext cx="474984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7640" y="3651120"/>
            <a:ext cx="59943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36560" y="5549760"/>
            <a:ext cx="317520" cy="317520"/>
            <a:chOff x="736560" y="5549760"/>
            <a:chExt cx="317520" cy="317520"/>
          </a:xfrm>
        </p:grpSpPr>
        <p:sp>
          <p:nvSpPr>
            <p:cNvPr id="105" name=""/>
            <p:cNvSpPr/>
            <p:nvPr/>
          </p:nvSpPr>
          <p:spPr>
            <a:xfrm flipH="1">
              <a:off x="736560" y="55497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60" y="55497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03840" y="3720960"/>
            <a:ext cx="317520" cy="317520"/>
            <a:chOff x="4803840" y="3720960"/>
            <a:chExt cx="317520" cy="317520"/>
          </a:xfrm>
        </p:grpSpPr>
        <p:sp>
          <p:nvSpPr>
            <p:cNvPr id="108" name=""/>
            <p:cNvSpPr/>
            <p:nvPr/>
          </p:nvSpPr>
          <p:spPr>
            <a:xfrm flipH="1">
              <a:off x="4803840" y="37209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3840" y="37209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52800" y="4268880"/>
            <a:ext cx="317520" cy="317520"/>
            <a:chOff x="3052800" y="4268880"/>
            <a:chExt cx="317520" cy="317520"/>
          </a:xfrm>
        </p:grpSpPr>
        <p:sp>
          <p:nvSpPr>
            <p:cNvPr id="111" name=""/>
            <p:cNvSpPr/>
            <p:nvPr/>
          </p:nvSpPr>
          <p:spPr>
            <a:xfrm flipH="1">
              <a:off x="305280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280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62720" y="4268880"/>
            <a:ext cx="317520" cy="317520"/>
            <a:chOff x="5562720" y="4268880"/>
            <a:chExt cx="317520" cy="317520"/>
          </a:xfrm>
        </p:grpSpPr>
        <p:sp>
          <p:nvSpPr>
            <p:cNvPr id="114" name=""/>
            <p:cNvSpPr/>
            <p:nvPr/>
          </p:nvSpPr>
          <p:spPr>
            <a:xfrm flipH="1">
              <a:off x="556272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81160" y="6792840"/>
            <a:ext cx="5460840" cy="825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711360" y="685332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0800" y="792792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46360" y="425124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72120" y="425448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45000" y="425124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06360" y="7859880"/>
            <a:ext cx="5131080" cy="82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39560" y="525600"/>
            <a:ext cx="5969160" cy="1473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222200" y="6134040"/>
            <a:ext cx="293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198440" y="5549760"/>
            <a:ext cx="46227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4760" y="609480"/>
            <a:ext cx="46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perimental data on 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2160" y="1727280"/>
            <a:ext cx="507888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He, Li, C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LA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He, Be, C, Al, Ca, Fe, Ag,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C, Ca, Cu, 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665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, Ca, Xe,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BCDMS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N,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5520" y="4465800"/>
            <a:ext cx="500400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45880" y="8421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19800" y="581760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Ge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5960" y="471600"/>
            <a:ext cx="595620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4000" y="51768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4680" y="1733400"/>
            <a:ext cx="405288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3560" y="4572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nalysi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9880" y="1287360"/>
            <a:ext cx="5892840" cy="83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0720" y="852480"/>
            <a:ext cx="5959440" cy="83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835200"/>
            <a:ext cx="6030720" cy="85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74640" y="474840"/>
            <a:ext cx="42958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w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i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(x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or He, Ca,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50760" y="2050920"/>
            <a:ext cx="5234040" cy="7191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34080" y="11476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ubic f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4640" y="474840"/>
            <a:ext cx="569916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 for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1320" y="1754280"/>
            <a:ext cx="5141880" cy="79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2760" y="425520"/>
            <a:ext cx="19810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65200" y="1322280"/>
            <a:ext cx="595620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8960" y="74304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Contents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1679400"/>
            <a:ext cx="6210360" cy="76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arton distributions 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</a:t>
            </a:r>
            <a:r>
              <a:rPr b="0" lang="ja-JP" sz="2800" spc="-1" strike="noStrike">
                <a:solidFill>
                  <a:srgbClr val="800080"/>
                </a:solidFill>
                <a:latin typeface="Times New Roman"/>
                <a:ea typeface="ＭＳ 明朝"/>
              </a:rPr>
              <a:t>EMC effect,  shad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arametriz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nuclear 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.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unctional form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.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constraints: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 depend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nservation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.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ja-JP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ittin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to experiment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. results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optimum nuclear pa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7480" y="2422440"/>
            <a:ext cx="264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0280" y="992160"/>
            <a:ext cx="595620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080" y="709560"/>
            <a:ext cx="481068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1851120"/>
            <a:ext cx="60134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ll known in electron/muon sc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27160" y="3025800"/>
            <a:ext cx="4965840" cy="5461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37960" y="4276800"/>
            <a:ext cx="6431040" cy="4920480"/>
            <a:chOff x="237960" y="4276800"/>
            <a:chExt cx="6431040" cy="49204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69720" y="4276800"/>
              <a:ext cx="5786280" cy="38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37960" y="8094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2040" y="848376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shad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298240" y="6997680"/>
              <a:ext cx="5716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89040" y="6083280"/>
              <a:ext cx="1587240" cy="95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63960" y="6045120"/>
              <a:ext cx="799920" cy="93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686120" y="6997320"/>
              <a:ext cx="45720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1640" y="840744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original EMC 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3440" y="8737560"/>
              <a:ext cx="29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(binding, subnucleon?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00760" y="3733920"/>
            <a:ext cx="1852560" cy="2730240"/>
            <a:chOff x="4100760" y="3733920"/>
            <a:chExt cx="1852560" cy="2730240"/>
          </a:xfrm>
        </p:grpSpPr>
        <p:sp>
          <p:nvSpPr>
            <p:cNvPr id="61" name=""/>
            <p:cNvSpPr/>
            <p:nvPr/>
          </p:nvSpPr>
          <p:spPr>
            <a:xfrm>
              <a:off x="5283360" y="5359320"/>
              <a:ext cx="419040" cy="110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0" y="4152960"/>
              <a:ext cx="19044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0760" y="3733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Fermi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85720" y="1957320"/>
            <a:ext cx="58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ametriz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uclear 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without relying on mode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98720" y="974880"/>
            <a:ext cx="5181480" cy="725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01720" y="95256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0040" y="48988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71160" y="577440"/>
            <a:ext cx="59878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20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49440" y="1924200"/>
            <a:ext cx="3809520" cy="1898280"/>
            <a:chOff x="1549440" y="1924200"/>
            <a:chExt cx="3809520" cy="1898280"/>
          </a:xfrm>
        </p:grpSpPr>
        <p:grpSp>
          <p:nvGrpSpPr>
            <p:cNvPr id="70" name=""/>
            <p:cNvGrpSpPr/>
            <p:nvPr/>
          </p:nvGrpSpPr>
          <p:grpSpPr>
            <a:xfrm>
              <a:off x="1930320" y="1924200"/>
              <a:ext cx="3428640" cy="1898280"/>
              <a:chOff x="1930320" y="1924200"/>
              <a:chExt cx="3428640" cy="1898280"/>
            </a:xfrm>
          </p:grpSpPr>
          <p:sp>
            <p:nvSpPr>
              <p:cNvPr id="71" name=""/>
              <p:cNvSpPr/>
              <p:nvPr/>
            </p:nvSpPr>
            <p:spPr>
              <a:xfrm>
                <a:off x="1930320" y="1924200"/>
                <a:ext cx="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30320" y="3822480"/>
                <a:ext cx="34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30320" y="23454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66480" y="2286360"/>
                <a:ext cx="1369800" cy="1536120"/>
              </a:xfrm>
              <a:custGeom>
                <a:avLst/>
                <a:gdLst/>
                <a:ahLst/>
                <a:rect l="l" t="t" r="r" b="b"/>
                <a:pathLst>
                  <a:path w="633" h="699">
                    <a:moveTo>
                      <a:pt x="0" y="27"/>
                    </a:moveTo>
                    <a:cubicBezTo>
                      <a:pt x="33" y="36"/>
                      <a:pt x="139" y="0"/>
                      <a:pt x="201" y="84"/>
                    </a:cubicBezTo>
                    <a:cubicBezTo>
                      <a:pt x="263" y="168"/>
                      <a:pt x="303" y="429"/>
                      <a:pt x="375" y="531"/>
                    </a:cubicBezTo>
                    <a:cubicBezTo>
                      <a:pt x="447" y="633"/>
                      <a:pt x="579" y="664"/>
                      <a:pt x="633" y="6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549440" y="2171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82960" y="28321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=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032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7824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66680" y="1346040"/>
            <a:ext cx="543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ef.   I. Sick and D. Day,  Phys. Lett. B 274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7480" y="4229280"/>
            <a:ext cx="4317840" cy="1473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4408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olu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73240" y="2298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urf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31680" y="2743200"/>
            <a:ext cx="792360" cy="59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4280" y="5843520"/>
            <a:ext cx="56293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8600" y="681120"/>
            <a:ext cx="5956200" cy="4838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9880" y="6143760"/>
            <a:ext cx="6045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556272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1:17:36Z</dcterms:created>
  <dc:creator>平井正紀</dc:creator>
  <dc:description/>
  <dc:language>en-US</dc:language>
  <cp:lastModifiedBy>S. Kumano</cp:lastModifiedBy>
  <cp:lastPrinted>2001-04-24T08:48:21Z</cp:lastPrinted>
  <dcterms:modified xsi:type="dcterms:W3CDTF">2001-05-15T02:02:29Z</dcterms:modified>
  <cp:revision>797</cp:revision>
  <dc:subject/>
  <dc:title>Determination of polarized parton distribution functions</dc:title>
</cp:coreProperties>
</file>