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jpeg" ContentType="image/jpeg"/>
  <Override PartName="/ppt/media/image2.pct" ContentType="image/x-pict"/>
  <Override PartName="/ppt/media/image25.pct" ContentType="image/x-pict"/>
  <Override PartName="/ppt/media/image26.pct" ContentType="image/x-pict"/>
  <Override PartName="/ppt/media/image1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.pct" ContentType="image/x-pict"/>
  <Override PartName="/ppt/media/image24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907588"/>
  <p:notesSz cx="9831388" cy="6721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5AC-0158-47EF-98B7-9524EA5D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117-47FA-404C-B708-1B014C18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E4E-F3B5-4C8F-9256-C8283580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A79-61A0-4158-A293-89013495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BA4-9E72-40EC-9070-C31ED29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1BA-019E-432E-B7A2-CD1DDB9E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BEB-CCC2-4968-A2D5-E456711C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161-0C02-4C8B-AFC3-EC141723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930-3689-447E-9587-305ABD8B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860-09D8-4725-998B-F0E9CEA5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66F-8703-4B87-89DB-205333E5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0CC-F4E6-4CDB-BDF4-F1AE1304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50F1-3B94-4A99-8365-3EC860991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15.pct"/><Relationship Id="rId7" Type="http://schemas.openxmlformats.org/officeDocument/2006/relationships/image" Target="../media/image16.pct"/><Relationship Id="rId8" Type="http://schemas.openxmlformats.org/officeDocument/2006/relationships/image" Target="../media/image17.pct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040" y="393480"/>
            <a:ext cx="583704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Osaka−等幅"/>
              </a:rPr>
              <a:t>Parton distribution functions </a:t>
            </a:r>
            <a:br>
              <a:rPr sz="3200"/>
            </a:b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Osaka−等幅"/>
              </a:rPr>
              <a:t> in nu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9440" y="2349000"/>
            <a:ext cx="61340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80"/>
                </a:solidFill>
                <a:latin typeface="Times New Roman"/>
              </a:rPr>
              <a:t>Shunzo K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8080"/>
                </a:solidFill>
                <a:latin typeface="Times New Roman"/>
              </a:rPr>
              <a:t>Saga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Collaborators: </a:t>
            </a: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M. Hirai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 (Riken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                               </a:t>
            </a:r>
            <a:r>
              <a:rPr b="1" lang="ja-JP" sz="2800" spc="-1" strike="noStrike">
                <a:solidFill>
                  <a:srgbClr val="008000"/>
                </a:solidFill>
                <a:latin typeface="Times New Roman"/>
              </a:rPr>
              <a:t>M. Miyama</a:t>
            </a:r>
            <a:r>
              <a:rPr b="0" lang="ja-JP" sz="2800" spc="-1" strike="noStrike">
                <a:solidFill>
                  <a:srgbClr val="008000"/>
                </a:solidFill>
                <a:latin typeface="Times New Roman"/>
              </a:rPr>
              <a:t> (Toky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8080"/>
                </a:solidFill>
                <a:latin typeface="Times New Roman"/>
              </a:rPr>
              <a:t>      </a:t>
            </a:r>
            <a:r>
              <a:rPr b="0" lang="ja-JP" sz="2000" spc="-1" strike="noStrike">
                <a:solidFill>
                  <a:srgbClr val="008080"/>
                </a:solidFill>
                <a:latin typeface="Times New Roman"/>
              </a:rPr>
              <a:t>Ref. hep-ph/0103208, to be published in Phys. Rev.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kumanos@cc.saga-u.ac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Osaka−等幅"/>
              </a:rPr>
              <a:t>http://www-hs.phys.saga-u.ac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1822cd"/>
                </a:solidFill>
                <a:latin typeface="Times New Roman"/>
              </a:rPr>
              <a:t>9th International Worksh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0" lang="ja-JP" sz="2200" spc="-1" strike="noStrike">
                <a:solidFill>
                  <a:srgbClr val="1822cd"/>
                </a:solidFill>
                <a:latin typeface="Times New Roman"/>
              </a:rPr>
              <a:t>on Deep Inelastic Scatt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1822cd"/>
                </a:solidFill>
                <a:latin typeface="Times New Roman"/>
              </a:rPr>
              <a:t>Bologna, Italy, April 27- May 1,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April 28,  2001</a:t>
            </a:r>
            <a:r>
              <a:rPr b="0" lang="ja-JP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01800" y="2235240"/>
            <a:ext cx="510516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98400" y="885024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7 or 9 parameters for 309 data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76640" y="4224240"/>
            <a:ext cx="317520" cy="444600"/>
            <a:chOff x="4076640" y="4224240"/>
            <a:chExt cx="317520" cy="444600"/>
          </a:xfrm>
        </p:grpSpPr>
        <p:sp>
          <p:nvSpPr>
            <p:cNvPr id="91" name=""/>
            <p:cNvSpPr/>
            <p:nvPr/>
          </p:nvSpPr>
          <p:spPr>
            <a:xfrm flipH="1">
              <a:off x="4076640" y="422424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076640" y="435132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6320" y="3695760"/>
            <a:ext cx="317520" cy="444600"/>
            <a:chOff x="2416320" y="3695760"/>
            <a:chExt cx="317520" cy="444600"/>
          </a:xfrm>
        </p:grpSpPr>
        <p:sp>
          <p:nvSpPr>
            <p:cNvPr id="94" name=""/>
            <p:cNvSpPr/>
            <p:nvPr/>
          </p:nvSpPr>
          <p:spPr>
            <a:xfrm flipH="1">
              <a:off x="2416320" y="369576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416320" y="382284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081240" y="3683160"/>
            <a:ext cx="317520" cy="443880"/>
            <a:chOff x="3081240" y="3683160"/>
            <a:chExt cx="317520" cy="443880"/>
          </a:xfrm>
        </p:grpSpPr>
        <p:sp>
          <p:nvSpPr>
            <p:cNvPr id="97" name=""/>
            <p:cNvSpPr/>
            <p:nvPr/>
          </p:nvSpPr>
          <p:spPr>
            <a:xfrm flipH="1">
              <a:off x="3081240" y="3683160"/>
              <a:ext cx="317520" cy="317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081240" y="3809880"/>
              <a:ext cx="317520" cy="317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62120" y="4940280"/>
            <a:ext cx="317520" cy="444600"/>
            <a:chOff x="762120" y="4940280"/>
            <a:chExt cx="317520" cy="444600"/>
          </a:xfrm>
        </p:grpSpPr>
        <p:sp>
          <p:nvSpPr>
            <p:cNvPr id="100" name=""/>
            <p:cNvSpPr/>
            <p:nvPr/>
          </p:nvSpPr>
          <p:spPr>
            <a:xfrm flipH="1">
              <a:off x="762120" y="494028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62120" y="5067360"/>
              <a:ext cx="317520" cy="317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93760" y="4978440"/>
            <a:ext cx="4749840" cy="38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47640" y="3651120"/>
            <a:ext cx="5994360" cy="100332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736560" y="5549760"/>
            <a:ext cx="317520" cy="317520"/>
            <a:chOff x="736560" y="5549760"/>
            <a:chExt cx="317520" cy="317520"/>
          </a:xfrm>
        </p:grpSpPr>
        <p:sp>
          <p:nvSpPr>
            <p:cNvPr id="105" name=""/>
            <p:cNvSpPr/>
            <p:nvPr/>
          </p:nvSpPr>
          <p:spPr>
            <a:xfrm flipH="1">
              <a:off x="736560" y="554976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560" y="554976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803840" y="3720960"/>
            <a:ext cx="317520" cy="317520"/>
            <a:chOff x="4803840" y="3720960"/>
            <a:chExt cx="317520" cy="317520"/>
          </a:xfrm>
        </p:grpSpPr>
        <p:sp>
          <p:nvSpPr>
            <p:cNvPr id="108" name=""/>
            <p:cNvSpPr/>
            <p:nvPr/>
          </p:nvSpPr>
          <p:spPr>
            <a:xfrm flipH="1">
              <a:off x="4803840" y="372096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3840" y="372096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52800" y="4268880"/>
            <a:ext cx="317520" cy="317520"/>
            <a:chOff x="3052800" y="4268880"/>
            <a:chExt cx="317520" cy="317520"/>
          </a:xfrm>
        </p:grpSpPr>
        <p:sp>
          <p:nvSpPr>
            <p:cNvPr id="111" name=""/>
            <p:cNvSpPr/>
            <p:nvPr/>
          </p:nvSpPr>
          <p:spPr>
            <a:xfrm flipH="1">
              <a:off x="3052800" y="426888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2800" y="426888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562720" y="4268880"/>
            <a:ext cx="317520" cy="317520"/>
            <a:chOff x="5562720" y="4268880"/>
            <a:chExt cx="317520" cy="317520"/>
          </a:xfrm>
        </p:grpSpPr>
        <p:sp>
          <p:nvSpPr>
            <p:cNvPr id="114" name=""/>
            <p:cNvSpPr/>
            <p:nvPr/>
          </p:nvSpPr>
          <p:spPr>
            <a:xfrm flipH="1">
              <a:off x="5562720" y="426888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4268880"/>
              <a:ext cx="317520" cy="317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181160" y="6792840"/>
            <a:ext cx="5460840" cy="825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711360" y="685332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0800" y="792792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546360" y="425124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72120" y="425448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45000" y="4251240"/>
            <a:ext cx="317520" cy="3175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06360" y="7859880"/>
            <a:ext cx="5131080" cy="82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39560" y="525600"/>
            <a:ext cx="5969160" cy="1473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1222200" y="6134040"/>
            <a:ext cx="293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1198440" y="5549760"/>
            <a:ext cx="46227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4760" y="609480"/>
            <a:ext cx="46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xperimental data on 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/F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2160" y="1727280"/>
            <a:ext cx="507888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NM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He, Li, C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SLA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He, Be, C, Al, Ca, Fe, Ag,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MC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C, Ca, Cu, 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E665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, Ca, Xe,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BCDMS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N,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25520" y="4465800"/>
            <a:ext cx="500400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45880" y="8421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19800" y="581760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(Ge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5960" y="471600"/>
            <a:ext cx="5956200" cy="90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74000" y="517680"/>
            <a:ext cx="277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44680" y="1733400"/>
            <a:ext cx="405288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73560" y="45720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Analysis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9880" y="1287360"/>
            <a:ext cx="5892840" cy="830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0720" y="852480"/>
            <a:ext cx="5959440" cy="83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835200"/>
            <a:ext cx="6030720" cy="85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74640" y="474840"/>
            <a:ext cx="429588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Weight functions w</a:t>
            </a:r>
            <a:r>
              <a:rPr b="1" lang="ja-JP" sz="2800" spc="-1" strike="noStrike" baseline="-25000">
                <a:solidFill>
                  <a:srgbClr val="0000ff"/>
                </a:solidFill>
                <a:latin typeface="Times New Roman"/>
                <a:ea typeface="ＭＳ 明朝"/>
              </a:rPr>
              <a:t>i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(x,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or He, Ca, 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50760" y="2050920"/>
            <a:ext cx="5234040" cy="7191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34080" y="114768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ubic fi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74640" y="474840"/>
            <a:ext cx="569916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Weight function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</a:t>
            </a:r>
            <a:r>
              <a:rPr b="1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ton distributions for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1320" y="1754280"/>
            <a:ext cx="5141880" cy="79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82760" y="425520"/>
            <a:ext cx="19810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65200" y="1322280"/>
            <a:ext cx="595620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8960" y="74304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Contents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1679400"/>
            <a:ext cx="6210360" cy="76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arton distributions in the nuc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arton distributions in nuc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</a:t>
            </a:r>
            <a:r>
              <a:rPr b="0" lang="ja-JP" sz="2800" spc="-1" strike="noStrike">
                <a:solidFill>
                  <a:srgbClr val="800080"/>
                </a:solidFill>
                <a:latin typeface="Times New Roman"/>
                <a:ea typeface="ＭＳ 明朝"/>
              </a:rPr>
              <a:t>EMC effect,  shad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Parametriz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     </a:t>
            </a: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nuclear parton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1.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unctional form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of 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i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.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constraints: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A dependen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                   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onservation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3. </a:t>
            </a:r>
            <a:r>
              <a:rPr b="0" lang="ja-JP" sz="2800" spc="-1" strike="noStrike">
                <a:solidFill>
                  <a:srgbClr val="0000ff"/>
                </a:solidFill>
                <a:latin typeface="Symbol"/>
                <a:ea typeface="Symbol"/>
              </a:rPr>
              <a:t></a:t>
            </a:r>
            <a:r>
              <a:rPr b="0" lang="ja-JP" sz="2800" spc="-1" strike="noStrike" baseline="30000">
                <a:solidFill>
                  <a:srgbClr val="0000ff"/>
                </a:solidFill>
                <a:latin typeface="Times New Roman"/>
                <a:ea typeface="ＭＳ 明朝"/>
              </a:rPr>
              <a:t>2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fitting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to experiment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4. results: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optimum nuclear par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                </a:t>
            </a:r>
            <a:r>
              <a:rPr b="0" lang="ja-JP" sz="28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Times New Roman"/>
                <a:ea typeface="ＭＳ 明朝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7480" y="2422440"/>
            <a:ext cx="2646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0280" y="992160"/>
            <a:ext cx="595620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4080" y="709560"/>
            <a:ext cx="4810680" cy="5814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 </a:t>
            </a:r>
            <a:r>
              <a:rPr b="0" lang="ja-JP" sz="30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parton distributions in nucle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360" y="1851120"/>
            <a:ext cx="60134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uclear modification of 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A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/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</a:t>
            </a:r>
            <a:r>
              <a:rPr b="0" lang="ja-JP" sz="2800" spc="-1" strike="noStrike" baseline="-25000">
                <a:solidFill>
                  <a:srgbClr val="000000"/>
                </a:solidFill>
                <a:latin typeface="Times New Roman"/>
                <a:ea typeface="ＭＳ 明朝"/>
              </a:rPr>
              <a:t>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D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well known in electron/muon scat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27160" y="3025800"/>
            <a:ext cx="4965840" cy="5461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237960" y="4276800"/>
            <a:ext cx="6431040" cy="4920480"/>
            <a:chOff x="237960" y="4276800"/>
            <a:chExt cx="6431040" cy="492048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69720" y="4276800"/>
              <a:ext cx="5786280" cy="38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37960" y="80946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62040" y="848376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shadow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298240" y="6997680"/>
              <a:ext cx="571680" cy="148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89040" y="6083280"/>
              <a:ext cx="1587240" cy="952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63960" y="6045120"/>
              <a:ext cx="799920" cy="939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686120" y="6997320"/>
              <a:ext cx="457200" cy="13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01640" y="8407440"/>
              <a:ext cx="282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original EMC 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73440" y="8737560"/>
              <a:ext cx="29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(binding, subnucleon?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100760" y="3733920"/>
            <a:ext cx="1852560" cy="2730240"/>
            <a:chOff x="4100760" y="3733920"/>
            <a:chExt cx="1852560" cy="2730240"/>
          </a:xfrm>
        </p:grpSpPr>
        <p:sp>
          <p:nvSpPr>
            <p:cNvPr id="61" name=""/>
            <p:cNvSpPr/>
            <p:nvPr/>
          </p:nvSpPr>
          <p:spPr>
            <a:xfrm>
              <a:off x="5283360" y="5359320"/>
              <a:ext cx="419040" cy="110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70400" y="4152960"/>
              <a:ext cx="19044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00760" y="3733920"/>
              <a:ext cx="18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  <a:ea typeface="ＭＳ 明朝"/>
                </a:rPr>
                <a:t>Fermi 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85720" y="1957320"/>
            <a:ext cx="58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Parametrization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      </a:t>
            </a:r>
            <a:r>
              <a:rPr b="1" lang="ja-JP" sz="32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nuclear parton dis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Times New Roman"/>
                <a:ea typeface="ＭＳ 明朝"/>
              </a:rPr>
              <a:t>without relying on model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98720" y="974880"/>
            <a:ext cx="5181480" cy="7251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01720" y="95256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0040" y="489888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ltaSymbol"/>
                <a:ea typeface="DeltaSymbol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71160" y="577440"/>
            <a:ext cx="59878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20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49440" y="1924200"/>
            <a:ext cx="3809520" cy="1898280"/>
            <a:chOff x="1549440" y="1924200"/>
            <a:chExt cx="3809520" cy="1898280"/>
          </a:xfrm>
        </p:grpSpPr>
        <p:grpSp>
          <p:nvGrpSpPr>
            <p:cNvPr id="70" name=""/>
            <p:cNvGrpSpPr/>
            <p:nvPr/>
          </p:nvGrpSpPr>
          <p:grpSpPr>
            <a:xfrm>
              <a:off x="1930320" y="1924200"/>
              <a:ext cx="3428640" cy="1898280"/>
              <a:chOff x="1930320" y="1924200"/>
              <a:chExt cx="3428640" cy="1898280"/>
            </a:xfrm>
          </p:grpSpPr>
          <p:sp>
            <p:nvSpPr>
              <p:cNvPr id="71" name=""/>
              <p:cNvSpPr/>
              <p:nvPr/>
            </p:nvSpPr>
            <p:spPr>
              <a:xfrm>
                <a:off x="1930320" y="1924200"/>
                <a:ext cx="0" cy="18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30320" y="3822480"/>
                <a:ext cx="34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30320" y="234540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66480" y="2286360"/>
                <a:ext cx="1369800" cy="1536120"/>
              </a:xfrm>
              <a:custGeom>
                <a:avLst/>
                <a:gdLst/>
                <a:ahLst/>
                <a:rect l="l" t="t" r="r" b="b"/>
                <a:pathLst>
                  <a:path w="633" h="699">
                    <a:moveTo>
                      <a:pt x="0" y="27"/>
                    </a:moveTo>
                    <a:cubicBezTo>
                      <a:pt x="33" y="36"/>
                      <a:pt x="139" y="0"/>
                      <a:pt x="201" y="84"/>
                    </a:cubicBezTo>
                    <a:cubicBezTo>
                      <a:pt x="263" y="168"/>
                      <a:pt x="303" y="429"/>
                      <a:pt x="375" y="531"/>
                    </a:cubicBezTo>
                    <a:cubicBezTo>
                      <a:pt x="447" y="633"/>
                      <a:pt x="579" y="664"/>
                      <a:pt x="633" y="6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549440" y="2171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82960" y="283212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=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0320" y="3079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78240" y="3079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066680" y="1346040"/>
            <a:ext cx="5435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Ref.   I. Sick and D. Day,  Phys. Lett. B 274 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7480" y="4229280"/>
            <a:ext cx="4317840" cy="1473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44080" y="23623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volu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73240" y="2298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surf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31680" y="2743200"/>
            <a:ext cx="792360" cy="590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84280" y="5843520"/>
            <a:ext cx="562932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98600" y="681120"/>
            <a:ext cx="5956200" cy="4838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9880" y="6143760"/>
            <a:ext cx="6045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7960" y="736560"/>
            <a:ext cx="5562720" cy="72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1:17:36Z</dcterms:created>
  <dc:creator>平井正紀</dc:creator>
  <dc:description/>
  <dc:language>en-US</dc:language>
  <cp:lastModifiedBy>S. Kumano</cp:lastModifiedBy>
  <cp:lastPrinted>2001-04-24T08:48:21Z</cp:lastPrinted>
  <dcterms:modified xsi:type="dcterms:W3CDTF">2001-05-15T02:02:29Z</dcterms:modified>
  <cp:revision>797</cp:revision>
  <dc:subject/>
  <dc:title>Determination of polarized parton distribution functions</dc:title>
</cp:coreProperties>
</file>